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6A6-AAB7-4533-966D-BDCC708A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C73-5BDC-4A2C-A28D-C8DB5E48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509-0D72-4B72-8FA0-168F33EA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405-0857-4956-BE9B-13AC7B6E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AB9-443E-47A7-8700-B0481C11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87A6-89D0-4695-B841-3D1F7110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D1C1-1109-4C2A-B987-E2EACD6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74E-2EF0-4B0F-9CA6-1E754766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BE47-71C6-4DB5-B3F3-9D3FE521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4C2B-EBCF-4AD6-A285-12CA55B9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500C-133B-4D79-9E50-2713B1F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28B-50BB-48EA-8204-D9B8D7BC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45A-E0AD-42B6-820D-2616EBB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7C5-1F65-40CB-BE96-B69A230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F9C8-9DB1-4287-BA87-19D82F39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ABD5-A3A1-4BFD-8978-CCFD0C91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A16-47F6-44FD-A78E-6EAC5890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B263-1EF4-48FC-A719-6190AF9A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090-7EB2-4D83-BB0E-4A4D1349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1BF-9F2A-4266-8766-2DCF3019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B94-F423-46CE-9FD4-3FDAD45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237-D5C4-4348-8BF3-BF3E190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A31-FFF6-4BB0-ADA3-A46E7245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A4D-E6DE-4F96-8F7D-D1BA4795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A8AB-19D8-46D0-B626-A55234FD55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C40-999C-4D55-88DE-DF1A0A2F0D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удоку своими рукам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педагог-психоло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арчук Г.В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ра «Судоку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вивает мышление, логику, сообразительность, внимание, память, восприятие, цветовую и предметную дифференциацию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нам потребует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ст бума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ные карандаш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фломаст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IMG_20200423_163421_resized_20200423_053038800"/>
          <p:cNvPicPr/>
          <p:nvPr/>
        </p:nvPicPr>
        <p:blipFill>
          <a:blip r:embed="rId1"/>
          <a:stretch/>
        </p:blipFill>
        <p:spPr>
          <a:xfrm>
            <a:off x="5424480" y="1828800"/>
            <a:ext cx="3129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 1. Циф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начала рису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е для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 3 кле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жно также взя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ист в крупную клет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IMG_20200423_163455_resized_20200423_053039998"/>
          <p:cNvPicPr/>
          <p:nvPr/>
        </p:nvPicPr>
        <p:blipFill>
          <a:blip r:embed="rId1"/>
          <a:stretch/>
        </p:blipFill>
        <p:spPr>
          <a:xfrm>
            <a:off x="5562720" y="1752480"/>
            <a:ext cx="3181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котор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я заполняем цифра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 1 до 3 так, что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столбц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ли строке цифры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пада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личество используем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ля игры элем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сегда соответству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личеству клеток в стро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нашем случае – 3 клет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оэтому и цифр – 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IMG_20200423_163522_resized_20200423_053039132"/>
          <p:cNvPicPr/>
          <p:nvPr/>
        </p:nvPicPr>
        <p:blipFill>
          <a:blip r:embed="rId1"/>
          <a:stretch/>
        </p:blipFill>
        <p:spPr>
          <a:xfrm>
            <a:off x="5638680" y="990720"/>
            <a:ext cx="31910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914040"/>
            <a:ext cx="392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ель игр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: заполнить цифрами пустые клетки, чтобы ни в столбце, ни в строке цифры не совпад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4" descr="IMG_20200423_163538_resized_20200423_053036815"/>
          <p:cNvPicPr/>
          <p:nvPr/>
        </p:nvPicPr>
        <p:blipFill>
          <a:blip r:embed="rId1"/>
          <a:stretch/>
        </p:blipFill>
        <p:spPr>
          <a:xfrm>
            <a:off x="5181480" y="1066680"/>
            <a:ext cx="33530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ариант 2. Цвета и фиг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ебенок не знает цифры или вы хотите разнообразить игру можно использовать в клетках различные знаки, фигуры, рисунки или цве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омнит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, что количество используемых элементов должно соответствовать количеству клеток в стро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066680" y="3532320"/>
            <a:ext cx="3343320" cy="306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3009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сложнение иг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целью усложнения игры можно просто увеличивать количество клеток на поле, например, делать поля 4х4 клетки или 5х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3270240" cy="350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724280" y="2971800"/>
            <a:ext cx="38386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жнение иг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можно сыграть наоборот, чтобы ребенок сам придумал для вас задание. От родителя потом потребуется проверить правильно ли он придумал задание и соблюдал ли при этом правила игры. Но всегда заполняем клетки так, чтобы играющий мог догадаться, какая цифра, фигура или цвет должна находиться в пустой клетк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Желаю вам успехов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4T06:48:37Z</dcterms:created>
  <dc:creator>км</dc:creator>
  <dc:description/>
  <dc:language>en-US</dc:language>
  <cp:lastModifiedBy>user</cp:lastModifiedBy>
  <dcterms:modified xsi:type="dcterms:W3CDTF">2023-11-12T17:36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