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678-B424-41D9-AAF4-763C978C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555-4C56-4A4A-AAD7-AA8BC1BD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C60-2F93-4E17-9310-66673B29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3F8-130E-4EC1-B44E-8B4AB1A5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2180-4840-46CA-B9E2-2BCE10F2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5F53-2FED-42F7-BF13-D3E895FD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2B08-4632-4D05-94BD-CD707B61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1690-3A09-4519-847D-E3B1F6DB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E3CF-C423-48A1-A848-BEBAEB48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632C-4934-4343-84A3-75ABE1AD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6973-7A94-4B6B-9E1B-97FCF981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67D-C2CE-4873-ACE0-D99E2C17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9E72-DF1D-44F0-9CED-5BE6A1BB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880A-99AA-4EA4-A254-DB3C71EB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C2B9-B08F-4AEB-92B0-A9B56422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3BF8-793E-4650-B589-6A918C2D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6E1C-B3C7-4371-9AEF-1A70CE85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4AE-76A3-47FB-8BC6-E5051FB8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47B-4527-42CB-8569-6FD16169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946-F898-4158-86F5-E6E54593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450-142E-41FE-82CC-09A33B6A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E3D-9241-4614-BA28-F30B8F84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666-EC92-46A8-94E6-4748C89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1B5-3FA3-4423-95EC-3E65C8D7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416C-136F-4479-8609-9793253B5A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5716-A236-4335-94C1-289BAF8CFD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удоку своими рукам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педагог-психоло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арчук Г.В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ра «Судоку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вивает мышление, логику, сообразительность, внимание, память, восприятие, цветовую и предметную дифференциацию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нам потребует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ст бума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ные карандаш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 фломаст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IMG_20200423_163421_resized_20200423_053038800"/>
          <p:cNvPicPr/>
          <p:nvPr/>
        </p:nvPicPr>
        <p:blipFill>
          <a:blip r:embed="rId1"/>
          <a:stretch/>
        </p:blipFill>
        <p:spPr>
          <a:xfrm>
            <a:off x="5424480" y="1828800"/>
            <a:ext cx="31291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ариант 1. Циф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начала рису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е для иг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 3 кле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жно также взя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ист в крупную клет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IMG_20200423_163455_resized_20200423_053039998"/>
          <p:cNvPicPr/>
          <p:nvPr/>
        </p:nvPicPr>
        <p:blipFill>
          <a:blip r:embed="rId1"/>
          <a:stretch/>
        </p:blipFill>
        <p:spPr>
          <a:xfrm>
            <a:off x="5562720" y="1752480"/>
            <a:ext cx="3181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8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я заполняем цифр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1 до 3 так, чт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столб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и строке цифры 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пад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личество используем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ля игры элемен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сегда соответству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личеству клеток в стро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нашем случае – 3 клет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этому и цифр – 3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IMG_20200423_163522_resized_20200423_053039132"/>
          <p:cNvPicPr/>
          <p:nvPr/>
        </p:nvPicPr>
        <p:blipFill>
          <a:blip r:embed="rId1"/>
          <a:stretch/>
        </p:blipFill>
        <p:spPr>
          <a:xfrm>
            <a:off x="5638680" y="990720"/>
            <a:ext cx="31910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914040"/>
            <a:ext cx="392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ль игр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: заполнить цифрами пустые клетки, чтобы ни в столбце, ни в строке цифры не совпада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IMG_20200423_163538_resized_20200423_053036815"/>
          <p:cNvPicPr/>
          <p:nvPr/>
        </p:nvPicPr>
        <p:blipFill>
          <a:blip r:embed="rId1"/>
          <a:stretch/>
        </p:blipFill>
        <p:spPr>
          <a:xfrm>
            <a:off x="5181480" y="1066680"/>
            <a:ext cx="3353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ариант 2. Цвета и фиг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енок не знает цифры или вы хотите разнообразить игру можно использовать в клетках различные знаки, фигуры, рисунки или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мните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что количество используемых элементов должно соответствовать количеству клеток в стро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066680" y="3532320"/>
            <a:ext cx="3343320" cy="3068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3009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сложнение иг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целью усложнения игры можно просто увеличивать количество клеток на поле, например, делать поля 4х4 клетки или 5х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270240" cy="350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83868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жнение иг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же можно сыграть наоборот, чтобы ребенок сам придумал для вас задание. От родителя потом потребуется проверить правильно ли он придумал задание и соблюдал ли при этом правила игры. Но всегда заполняем клетки так, чтобы играющий мог догадаться, какая цифра, фигура или цвет должна находиться в пустой клетк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Желаю вам успехо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4T06:48:37Z</dcterms:created>
  <dc:creator>км</dc:creator>
  <dc:description/>
  <dc:language>en-US</dc:language>
  <cp:lastModifiedBy>user</cp:lastModifiedBy>
  <dcterms:modified xsi:type="dcterms:W3CDTF">2023-11-12T17:36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