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AE6-1265-4D50-A11F-1B1BD339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91E-ECA6-4C0F-BC0F-ED2C62B2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41B-5E66-42CF-8F25-8134E13C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E40-75B4-4D84-A110-BC208ADA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FA4D-0358-4471-9B37-422F828B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FB81-2438-46BE-A1DE-082B420D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F54B-7F07-44BB-9238-B8DFE79D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B9B6-4DDB-4179-B37D-EB952CFC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F39E-4317-4755-B7AB-40E80677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21EE-B594-4F53-9930-90D00066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F200-F6F2-49FB-B1D8-AB02A114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FB8-EC03-4DE1-A0C0-59AC8D43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7078-4162-4CD9-96CD-0918B1E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1F64-3DFB-4C8B-84B2-9191BF5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FDA9-A485-42F9-A196-FC072927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4AE4-0BBB-40B5-BCC8-E55A19E0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8A23-E3B8-43BB-BC05-6BA0D561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59F-0D16-4D0D-B9E2-244FAB0F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78C-4CBC-4464-A53A-02040C62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0F0-C02F-415C-8EA6-13F29BEB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011-FBA4-47A9-9365-40F6AD0B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BDC-C237-4D24-A48D-1AACBFF7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CF6-ECEB-4522-A619-7F934861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075-1C5E-4B23-9895-ADC75E55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0792-07B6-47A8-8956-2B46EB0F6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C085-E951-43D0-83F8-F8998A5884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5500" spc="-1" strike="noStrike">
                <a:solidFill>
                  <a:srgbClr val="ff9900"/>
                </a:solidFill>
                <a:latin typeface="Times New Roman"/>
              </a:rPr>
              <a:t>ЧТО ТАКОЕ ДОБРОТА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17584043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82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im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ffcc"/>
                </a:solidFill>
                <a:uFillTx/>
                <a:latin typeface="Times New Roman"/>
              </a:rPr>
              <a:t>В  гостях  у  сказки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17" descr="fairy-tales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261046_kartinki-skazki-zolotoi-kluchik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9" descr="eksmo_64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skz33868"/>
          <p:cNvPicPr/>
          <p:nvPr/>
        </p:nvPicPr>
        <p:blipFill>
          <a:blip r:embed="rId1"/>
          <a:stretch/>
        </p:blipFill>
        <p:spPr>
          <a:xfrm>
            <a:off x="826920" y="115920"/>
            <a:ext cx="7488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10140409_0"/>
          <p:cNvPicPr/>
          <p:nvPr/>
        </p:nvPicPr>
        <p:blipFill>
          <a:blip r:embed="rId1"/>
          <a:stretch/>
        </p:blipFill>
        <p:spPr>
          <a:xfrm>
            <a:off x="1619280" y="189000"/>
            <a:ext cx="5689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452146_62703953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12:55:28Z</dcterms:created>
  <dc:creator>Петр</dc:creator>
  <dc:description/>
  <dc:language>en-US</dc:language>
  <cp:lastModifiedBy>user0001</cp:lastModifiedBy>
  <dcterms:modified xsi:type="dcterms:W3CDTF">2023-11-21T20:16:37Z</dcterms:modified>
  <cp:revision>6</cp:revision>
  <dc:subject/>
  <dc:title>В  гостях  у  сказки</dc:title>
</cp:coreProperties>
</file>