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ECF-CB05-4A7D-A7F4-036B1F51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8DB-668B-4389-B2AB-4A98AB99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959-359E-4970-BDC0-0BB23365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4C5-7483-44F7-ABF0-9D7FD7D4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9F69-B971-4DBB-8AD3-0394FF60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E5F5-8E47-403A-9A6F-F96A988F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0EF5-B88F-4F57-9AE2-9AF459CC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EDC4-7197-48A8-A163-370D6D54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9F8E-9BA1-4261-87ED-279FD5AD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8660-7D49-481A-8E14-61D34F44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E8EF-6193-4ADE-B09C-3B94CC68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057-0AA6-409B-A89D-CB3A390C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24B8-59B5-45D7-8C80-6776580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B80E-BCB8-41A3-B318-30E9FE3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7659-FC7F-4366-8118-B75844CE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D226-BCFA-40CA-80F7-2298CCE0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6072-53DA-4AD7-9530-7F90E119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A01-AA5A-4B61-86AB-9620341C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C6A-B6E0-4A07-BF55-D5A93EC9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160-AC9F-4D14-819F-DEE97E6F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25D-6A67-4C99-AA30-6FA180B1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491-7BA3-4416-A960-716BC3D1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4B2-5CD9-44E4-8F72-644FE6C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D5F-03BD-4E1E-80CB-A9219FCF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FE8C-8558-4CB5-A954-8EDC20669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0AC0-26C7-4D1A-B56B-8D0963ED89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5500" spc="-1" strike="noStrike">
                <a:solidFill>
                  <a:srgbClr val="ff9900"/>
                </a:solidFill>
                <a:latin typeface="Times New Roman"/>
              </a:rPr>
              <a:t>ЧТО ТАКОЕ ДОБРОТА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17584043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82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im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ffcc"/>
                </a:solidFill>
                <a:uFillTx/>
                <a:latin typeface="Times New Roman"/>
              </a:rPr>
              <a:t>В  гостях  у  сказки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17" descr="fairy-tales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261046_kartinki-skazki-zolotoi-kluchik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9" descr="eksmo_64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skz33868"/>
          <p:cNvPicPr/>
          <p:nvPr/>
        </p:nvPicPr>
        <p:blipFill>
          <a:blip r:embed="rId1"/>
          <a:stretch/>
        </p:blipFill>
        <p:spPr>
          <a:xfrm>
            <a:off x="826920" y="115920"/>
            <a:ext cx="748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10140409_0"/>
          <p:cNvPicPr/>
          <p:nvPr/>
        </p:nvPicPr>
        <p:blipFill>
          <a:blip r:embed="rId1"/>
          <a:stretch/>
        </p:blipFill>
        <p:spPr>
          <a:xfrm>
            <a:off x="1619280" y="189000"/>
            <a:ext cx="5689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452146_62703953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2:55:28Z</dcterms:created>
  <dc:creator>Петр</dc:creator>
  <dc:description/>
  <dc:language>en-US</dc:language>
  <cp:lastModifiedBy>user0001</cp:lastModifiedBy>
  <dcterms:modified xsi:type="dcterms:W3CDTF">2023-11-21T20:16:37Z</dcterms:modified>
  <cp:revision>6</cp:revision>
  <dc:subject/>
  <dc:title>В  гостях  у  сказки</dc:title>
</cp:coreProperties>
</file>