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C0AF-6FEB-4591-AF77-BA8E43B34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3309-5F88-4CC8-A4DB-07E70269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6DD1-CDF9-4F7B-97C9-7EA8D4BA2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C93E-4082-45CC-8207-6AFD9B70A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3B4A-6B78-45EF-8D3B-AE60B318F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9B2DF-F771-42E4-AB39-A60CA038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759CE-9D87-4A0F-BB72-1DFBB4DB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41841-3CCF-4D82-BA71-063161AA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6A9E-6673-452D-8599-33562622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0476-EF9F-4983-8203-ECF77A73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A3FB-9A07-4DE5-8216-937162D8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02A8-A6B3-4CDE-9394-0E2834BB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448A-84DD-4005-9FD7-3E553F1B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9037-F679-4174-BD49-CA46E218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8083-82DF-4500-A284-EF6903C8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74E9-A42D-435E-B45E-098918008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AD3F-4A47-42E2-BEA4-0EB25B109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B021-EB27-4A88-A9C3-DEB5C9AC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EA15-F24E-4BE0-8382-8166C199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41E1-65DC-44D2-9A06-6151F58C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732B-985C-4260-898C-3FFEC161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10A5-E7BB-400B-A4B6-D4F945E5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480C-05EB-48E7-8FA1-50B8A2D8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0510-64BB-4160-A5B2-8C77B665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4206-25B9-4409-B5E0-B9468BC13D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832A-1647-4281-B1BE-1F7C13EE036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ru-RU" sz="5500" spc="-1" strike="noStrike">
                <a:solidFill>
                  <a:srgbClr val="ff9900"/>
                </a:solidFill>
                <a:latin typeface="Times New Roman"/>
              </a:rPr>
              <a:t>ЧТО ТАКОЕ ДОБРОТА</a:t>
            </a:r>
            <a:endParaRPr b="0" lang="en-US" sz="55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Picture 5" descr="17584043"/>
          <p:cNvPicPr/>
          <p:nvPr/>
        </p:nvPicPr>
        <p:blipFill>
          <a:blip r:embed="rId1"/>
          <a:stretch/>
        </p:blipFill>
        <p:spPr>
          <a:xfrm>
            <a:off x="539640" y="1628640"/>
            <a:ext cx="8136000" cy="4824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" descr="img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ffcc"/>
                </a:solidFill>
                <a:uFillTx/>
                <a:latin typeface="Times New Roman"/>
              </a:rPr>
              <a:t>В  гостях  у  сказки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5" name="Picture 17" descr="fairy-tales"/>
          <p:cNvPicPr/>
          <p:nvPr/>
        </p:nvPicPr>
        <p:blipFill>
          <a:blip r:embed="rId1"/>
          <a:stretch/>
        </p:blipFill>
        <p:spPr>
          <a:xfrm>
            <a:off x="395280" y="1700280"/>
            <a:ext cx="8209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5" descr="261046_kartinki-skazki-zolotoi-kluchik"/>
          <p:cNvPicPr/>
          <p:nvPr/>
        </p:nvPicPr>
        <p:blipFill>
          <a:blip r:embed="rId1"/>
          <a:stretch/>
        </p:blipFill>
        <p:spPr>
          <a:xfrm>
            <a:off x="324000" y="404640"/>
            <a:ext cx="849600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9" descr="eksmo_64"/>
          <p:cNvPicPr/>
          <p:nvPr/>
        </p:nvPicPr>
        <p:blipFill>
          <a:blip r:embed="rId1"/>
          <a:stretch/>
        </p:blipFill>
        <p:spPr>
          <a:xfrm>
            <a:off x="900000" y="0"/>
            <a:ext cx="73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5" descr="skz33868"/>
          <p:cNvPicPr/>
          <p:nvPr/>
        </p:nvPicPr>
        <p:blipFill>
          <a:blip r:embed="rId1"/>
          <a:stretch/>
        </p:blipFill>
        <p:spPr>
          <a:xfrm>
            <a:off x="826920" y="115920"/>
            <a:ext cx="74883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8" descr="10140409_0"/>
          <p:cNvPicPr/>
          <p:nvPr/>
        </p:nvPicPr>
        <p:blipFill>
          <a:blip r:embed="rId1"/>
          <a:stretch/>
        </p:blipFill>
        <p:spPr>
          <a:xfrm>
            <a:off x="1619280" y="189000"/>
            <a:ext cx="56894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5" descr="img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7" descr="452146_62703953"/>
          <p:cNvPicPr/>
          <p:nvPr/>
        </p:nvPicPr>
        <p:blipFill>
          <a:blip r:embed="rId1"/>
          <a:stretch/>
        </p:blipFill>
        <p:spPr>
          <a:xfrm>
            <a:off x="1692360" y="0"/>
            <a:ext cx="561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3T12:55:28Z</dcterms:created>
  <dc:creator>Петр</dc:creator>
  <dc:description/>
  <dc:language>en-US</dc:language>
  <cp:lastModifiedBy>user0001</cp:lastModifiedBy>
  <dcterms:modified xsi:type="dcterms:W3CDTF">2023-11-21T20:16:37Z</dcterms:modified>
  <cp:revision>6</cp:revision>
  <dc:subject/>
  <dc:title>В  гостях  у  сказки</dc:title>
</cp:coreProperties>
</file>