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87C-AB0B-4DB3-AEDC-36084D08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38B-7C8A-4CEE-B208-575E5AE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6FF-4242-4935-8C75-089D0F0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2B3-CBE2-4F96-B67A-6C702E2E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E79-1F6C-482F-ADED-8799A0E5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87FF-D99A-4383-AF51-28DB051A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B08B-D3E8-4CAB-A53B-79562342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81E-F851-48B1-9A80-5FEFE61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9BFA-0D15-432D-802A-647FD49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CFE2-D53E-48C6-8C92-2B8C095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A812-FF82-4292-883F-A35E7B1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666-BE96-424F-8927-595189C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EFC7-C4FA-414B-9BA8-DC6CD46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965B-B53F-4395-9C75-8140C07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7C66-A67A-436C-A300-9C4E818D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9E34-CB0F-4374-BE2F-F2FB6DE8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8E08-569C-462F-BAA2-D1196A70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4AD-1BAC-4C2B-A12B-DEFB916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87F-4313-482F-B4B6-EF2DBDC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68-E27D-420F-AFEC-3F59D72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1CA-15EA-41E1-82B1-8A0BC61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DD0-8B5C-4C1F-837A-69316C8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415-BFC3-4376-87D3-7AEC0B7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88A-DC9C-4427-8F3C-194B8E7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B60-7710-4550-9612-4DDCF600D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0BA-44C5-4C20-94F6-BF2A946B6B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4104101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i325240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95280" y="47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</a:rPr>
              <a:t>ЧТО  ТАКОЕ  ДОБР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8e8dff4ca1a6ebf2f74c5868e350fb8c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8:34Z</dcterms:modified>
  <cp:revision>5</cp:revision>
  <dc:subject/>
  <dc:title>В  гостях  у  сказки</dc:title>
</cp:coreProperties>
</file>