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39E-D8CE-4284-A265-016E4210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23A-CAA2-4DDC-8209-234042B9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8A9-BB92-4604-B74A-0E7C4FE5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1DC-E81A-4882-BBF7-F00A8441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95C4-A6D9-44AE-92DA-336CC6E6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5AC5-5F70-463F-AF15-4D48A545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4EB1-AD3E-48A6-A2F0-09B5C081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C655-D4C3-4044-855A-572C0B3A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0105-92CC-405C-A6AD-972E0BCB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8609-F689-478A-B4E1-9EAEFFC7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6D67-5C79-4F69-80BB-FE4CDD2F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D68-0DDA-4103-B561-A6455C76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BEA3-0549-486B-B46A-1ECB5DC4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C826-A109-45A8-A169-E6C1F31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E8AB-CF33-47F7-BEC9-453FDA6F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E1F5-71C7-4218-ACC6-CC95E198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C71B-5578-4DA7-86C9-904FE0A8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969-7801-421B-9CBD-7F3B0D96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C02-06D3-42F5-9AF5-9352DDEA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7D8-29B0-4A00-AEDD-2A18E84E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02F-E9AA-437D-9DF1-06B2247B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A03-8310-4323-B765-C58D21A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C13-5D6D-4EB8-83E3-0CC91DA4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B67-5EFD-413E-AE73-48CD85C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415C-56CD-48B9-A388-1F19166B3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2FF-3A7A-467E-AE23-54CEB5F8AA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452146_62703953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4104101"/>
          <p:cNvPicPr/>
          <p:nvPr/>
        </p:nvPicPr>
        <p:blipFill>
          <a:blip r:embed="rId1"/>
          <a:stretch/>
        </p:blipFill>
        <p:spPr>
          <a:xfrm>
            <a:off x="468360" y="907920"/>
            <a:ext cx="8136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2" descr="i325240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17584043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824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395280" y="476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</a:rPr>
              <a:t>ЧТО  ТАКОЕ  ДОБРО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8e8dff4ca1a6ebf2f74c5868e350fb8c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12:55:28Z</dcterms:created>
  <dc:creator>Петр</dc:creator>
  <dc:description/>
  <dc:language>en-US</dc:language>
  <cp:lastModifiedBy>user0001</cp:lastModifiedBy>
  <dcterms:modified xsi:type="dcterms:W3CDTF">2023-11-21T20:18:34Z</dcterms:modified>
  <cp:revision>5</cp:revision>
  <dc:subject/>
  <dc:title>В  гостях  у  сказки</dc:title>
</cp:coreProperties>
</file>