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gif" ContentType="image/gi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11AE-7EBC-49C4-9319-62F22237A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E69F-1EB4-4590-860F-1DD06EAE5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70AA-66C2-4286-9A7E-7ABF694C2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2EDC-1963-4DC7-8229-D9A1B4613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61F36-7C0A-420E-9399-9272D5891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F145C-5BC7-4F05-8D50-79FB19790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3AEAF-A98C-47ED-8ADA-7836B3DC6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2DE19-5AF4-4923-8F5F-9A3CF7E32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BEB4D-B167-4D49-B060-4DCC524CE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0E47E-06FC-47CC-9876-61D62C57E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E6804-F787-4140-9326-5CC80EC6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DCE1-FC36-4578-9EDF-14EBDDF98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2E15E-6579-4BB2-9884-AF7C5778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1FEA0-4A3C-4E36-9A9A-25E38FC4F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48928-D3F2-412B-945B-8847732BF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6C070-AA84-493D-B316-256CC82F7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91E46-D20C-41C4-ACB7-77588D65D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3C7D-859D-4F25-B202-90F50275D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B779-113D-42CD-8EDA-04AEAEBAD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8B85-1793-46C6-865A-08A4C7D53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5481-1C4A-49D3-AC92-12F6E8314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E1BF-8419-4C4D-946F-99D83D8D5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B2DA-E46F-47C1-9C35-110A325F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B0F5-0B7D-412C-B224-8FD409AA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7FF2C-13D6-4C9F-96DE-5ADF32772A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4B6D0-1C18-4152-BD13-46C82A71E6A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5" descr="img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7" descr="452146_62703953"/>
          <p:cNvPicPr/>
          <p:nvPr/>
        </p:nvPicPr>
        <p:blipFill>
          <a:blip r:embed="rId1"/>
          <a:stretch/>
        </p:blipFill>
        <p:spPr>
          <a:xfrm>
            <a:off x="1692360" y="0"/>
            <a:ext cx="561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5" descr="4104101"/>
          <p:cNvPicPr/>
          <p:nvPr/>
        </p:nvPicPr>
        <p:blipFill>
          <a:blip r:embed="rId1"/>
          <a:stretch/>
        </p:blipFill>
        <p:spPr>
          <a:xfrm>
            <a:off x="468360" y="907920"/>
            <a:ext cx="813600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AutoShape 1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22" descr="i325240"/>
          <p:cNvPicPr/>
          <p:nvPr/>
        </p:nvPicPr>
        <p:blipFill>
          <a:blip r:embed="rId1"/>
          <a:stretch/>
        </p:blipFill>
        <p:spPr>
          <a:xfrm>
            <a:off x="1835280" y="260280"/>
            <a:ext cx="518472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4" descr="17584043"/>
          <p:cNvPicPr/>
          <p:nvPr/>
        </p:nvPicPr>
        <p:blipFill>
          <a:blip r:embed="rId1"/>
          <a:stretch/>
        </p:blipFill>
        <p:spPr>
          <a:xfrm>
            <a:off x="539640" y="1628640"/>
            <a:ext cx="8136000" cy="482472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5"/>
          <p:cNvSpPr/>
          <p:nvPr/>
        </p:nvSpPr>
        <p:spPr>
          <a:xfrm>
            <a:off x="395280" y="476280"/>
            <a:ext cx="84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9900"/>
                </a:solidFill>
                <a:latin typeface="Times New Roman"/>
              </a:rPr>
              <a:t>ЧТО  ТАКОЕ  ДОБРОТ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5" descr="8e8dff4ca1a6ebf2f74c5868e350fb8c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3T12:55:28Z</dcterms:created>
  <dc:creator>Петр</dc:creator>
  <dc:description/>
  <dc:language>en-US</dc:language>
  <cp:lastModifiedBy>user0001</cp:lastModifiedBy>
  <dcterms:modified xsi:type="dcterms:W3CDTF">2023-11-21T20:18:34Z</dcterms:modified>
  <cp:revision>5</cp:revision>
  <dc:subject/>
  <dc:title>В  гостях  у  сказки</dc:title>
</cp:coreProperties>
</file>