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7BC-D823-4620-9AD6-1AB27878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5E1-FD42-44A0-87D4-D2FCDFDB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74C-0960-4926-B8BA-86018E3C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D35-B93B-42C3-B56B-D4DE7BE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643-8339-4BFD-ADF1-268ECE70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1A8-D8B7-46EA-9538-92AFBF5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E80-E85E-490F-A0F6-D299D7E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058-5BD2-4D82-80EF-09F52D4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474-9597-4F66-9AB0-87F3C85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07C-F8F7-4F17-A178-1E40BA8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C96-F8EC-4CC1-838C-C91C7BE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C54-F144-4691-8F24-8E37B231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9816-9376-4A43-B828-D14C3A3CD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622440" y="-60480"/>
            <a:ext cx="10375920" cy="31575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calendar.jpeg"/>
          <p:cNvPicPr/>
          <p:nvPr/>
        </p:nvPicPr>
        <p:blipFill>
          <a:blip r:embed="rId2"/>
          <a:stretch/>
        </p:blipFill>
        <p:spPr>
          <a:xfrm>
            <a:off x="2556000" y="3141720"/>
            <a:ext cx="36115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716840" y="189000"/>
            <a:ext cx="52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м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2600" y="12859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МА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71680" y="1285920"/>
            <a:ext cx="0" cy="92376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714680" y="1285920"/>
            <a:ext cx="0" cy="92376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108000" y="2060640"/>
            <a:ext cx="21600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324000" y="2060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785880" y="2071800"/>
            <a:ext cx="216000" cy="2156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3"/>
          <p:cNvSpPr/>
          <p:nvPr/>
        </p:nvSpPr>
        <p:spPr>
          <a:xfrm>
            <a:off x="1285920" y="207180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153160" y="128592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3939480" y="128592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722920" y="128592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4320" y="2349360"/>
            <a:ext cx="31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ЕТО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8"/>
          <p:cNvSpPr/>
          <p:nvPr/>
        </p:nvSpPr>
        <p:spPr>
          <a:xfrm>
            <a:off x="1357200" y="2500200"/>
            <a:ext cx="0" cy="9241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9"/>
          <p:cNvSpPr/>
          <p:nvPr/>
        </p:nvSpPr>
        <p:spPr>
          <a:xfrm>
            <a:off x="2643120" y="2500200"/>
            <a:ext cx="0" cy="9241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0"/>
          <p:cNvSpPr/>
          <p:nvPr/>
        </p:nvSpPr>
        <p:spPr>
          <a:xfrm>
            <a:off x="285840" y="3357720"/>
            <a:ext cx="215640" cy="21564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1"/>
          <p:cNvSpPr/>
          <p:nvPr/>
        </p:nvSpPr>
        <p:spPr>
          <a:xfrm>
            <a:off x="857160" y="335772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500120" y="3357720"/>
            <a:ext cx="216000" cy="2156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4"/>
          <p:cNvSpPr/>
          <p:nvPr/>
        </p:nvSpPr>
        <p:spPr>
          <a:xfrm>
            <a:off x="2143080" y="3357720"/>
            <a:ext cx="21600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3080880" y="257184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4939560" y="257184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6722280" y="25718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14400" y="3789360"/>
            <a:ext cx="34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ИСУЕМ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9"/>
          <p:cNvSpPr/>
          <p:nvPr/>
        </p:nvSpPr>
        <p:spPr>
          <a:xfrm>
            <a:off x="1071720" y="378612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30"/>
          <p:cNvSpPr/>
          <p:nvPr/>
        </p:nvSpPr>
        <p:spPr>
          <a:xfrm>
            <a:off x="1979640" y="378936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1"/>
          <p:cNvSpPr/>
          <p:nvPr/>
        </p:nvSpPr>
        <p:spPr>
          <a:xfrm>
            <a:off x="3044880" y="379080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2"/>
          <p:cNvSpPr/>
          <p:nvPr/>
        </p:nvSpPr>
        <p:spPr>
          <a:xfrm>
            <a:off x="142920" y="4572000"/>
            <a:ext cx="21744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3"/>
          <p:cNvSpPr/>
          <p:nvPr/>
        </p:nvSpPr>
        <p:spPr>
          <a:xfrm>
            <a:off x="684360" y="458136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4"/>
          <p:cNvSpPr/>
          <p:nvPr/>
        </p:nvSpPr>
        <p:spPr>
          <a:xfrm>
            <a:off x="1187280" y="458136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5"/>
          <p:cNvSpPr/>
          <p:nvPr/>
        </p:nvSpPr>
        <p:spPr>
          <a:xfrm>
            <a:off x="1619280" y="458136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6"/>
          <p:cNvSpPr/>
          <p:nvPr/>
        </p:nvSpPr>
        <p:spPr>
          <a:xfrm>
            <a:off x="1979640" y="4581360"/>
            <a:ext cx="21600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7"/>
          <p:cNvSpPr/>
          <p:nvPr/>
        </p:nvSpPr>
        <p:spPr>
          <a:xfrm>
            <a:off x="2195640" y="458136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8"/>
          <p:cNvSpPr/>
          <p:nvPr/>
        </p:nvSpPr>
        <p:spPr>
          <a:xfrm>
            <a:off x="2544840" y="458136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3358080" y="37893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0"/>
          <p:cNvSpPr/>
          <p:nvPr/>
        </p:nvSpPr>
        <p:spPr>
          <a:xfrm>
            <a:off x="5302440" y="378936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7172280" y="378936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9720" y="5084640"/>
            <a:ext cx="26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ЪЕЛ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3"/>
          <p:cNvSpPr/>
          <p:nvPr/>
        </p:nvSpPr>
        <p:spPr>
          <a:xfrm>
            <a:off x="2195640" y="5086440"/>
            <a:ext cx="0" cy="92232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4"/>
          <p:cNvSpPr/>
          <p:nvPr/>
        </p:nvSpPr>
        <p:spPr>
          <a:xfrm>
            <a:off x="179280" y="5877000"/>
            <a:ext cx="21600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5"/>
          <p:cNvSpPr/>
          <p:nvPr/>
        </p:nvSpPr>
        <p:spPr>
          <a:xfrm>
            <a:off x="1116000" y="5877000"/>
            <a:ext cx="217440" cy="21600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6"/>
          <p:cNvSpPr/>
          <p:nvPr/>
        </p:nvSpPr>
        <p:spPr>
          <a:xfrm>
            <a:off x="1332000" y="587700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7"/>
          <p:cNvSpPr/>
          <p:nvPr/>
        </p:nvSpPr>
        <p:spPr>
          <a:xfrm>
            <a:off x="1692360" y="5877000"/>
            <a:ext cx="215640" cy="21600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2554560" y="509256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сл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0"/>
          <p:cNvSpPr/>
          <p:nvPr/>
        </p:nvSpPr>
        <p:spPr>
          <a:xfrm>
            <a:off x="4463280" y="5092560"/>
            <a:ext cx="18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зв.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6348240" y="50846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8000" y="189000"/>
            <a:ext cx="90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оял жаркий день. Игорь и Сергей пошли в лес. Они сели под ель. Там была тень. Какой зверь в густых ветвях? Да это рыжая бел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scrn_big_1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000040" y="135720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о  кар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2:50Z</dcterms:created>
  <dc:creator>Синецкая Г.Г.</dc:creator>
  <dc:description/>
  <dc:language>en-US</dc:language>
  <cp:lastModifiedBy>User</cp:lastModifiedBy>
  <dcterms:modified xsi:type="dcterms:W3CDTF">2016-03-01T15:40:42Z</dcterms:modified>
  <cp:revision>419</cp:revision>
  <dc:subject>Звуко-буквенный разбор слов</dc:subject>
  <dc:title>1 класс. Обучение письму</dc:title>
</cp:coreProperties>
</file>