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932-A1C2-474C-B9EA-B9CB53A6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E61-83AD-4CE5-AFE2-3EDA03B4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5A6-7071-4DDE-995F-75CB3C51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139-6E4A-4DE0-8F2B-212AC3BB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4A3-856F-44CD-8C9F-30A6BD2E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20C-E0D8-448E-9803-117A6A40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08F-DF56-4D1F-941B-EB58F640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3B3-A7F3-456C-A00C-04E9DAF5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803-F615-46A4-A23D-86345D7D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B71-3D04-4615-8203-DE618B2C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FB4-D90F-426F-87CA-06BBE79F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644-1025-4B97-A5A3-B2EE4CDF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3744-6703-4308-9659-082029BD5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76520" y="609480"/>
            <a:ext cx="6553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4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олотая хохло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451400" y="5516640"/>
            <a:ext cx="446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и у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я начальных клас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арёва Т.А, Черняева Л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015"/>
          <p:cNvPicPr/>
          <p:nvPr/>
        </p:nvPicPr>
        <p:blipFill>
          <a:blip r:embed="rId1"/>
          <a:stretch/>
        </p:blipFill>
        <p:spPr>
          <a:xfrm>
            <a:off x="4519440" y="2286000"/>
            <a:ext cx="4167360" cy="3110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9e4382d4bee3"/>
          <p:cNvPicPr/>
          <p:nvPr/>
        </p:nvPicPr>
        <p:blipFill>
          <a:blip r:embed="rId2"/>
          <a:stretch/>
        </p:blipFill>
        <p:spPr>
          <a:xfrm>
            <a:off x="228600" y="2590920"/>
            <a:ext cx="40384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Desktop\х6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USER\Desktop\х5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ownloads\20221111_163343.jpg"/>
          <p:cNvPicPr/>
          <p:nvPr/>
        </p:nvPicPr>
        <p:blipFill>
          <a:blip r:embed="rId1"/>
          <a:stretch/>
        </p:blipFill>
        <p:spPr>
          <a:xfrm>
            <a:off x="2743200" y="380880"/>
            <a:ext cx="368136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USER\Desktop\тб.jpg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609480" y="152280"/>
            <a:ext cx="80773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деревянную основу  приложить трафарет так, чтобы концы трафарета совпали с концами основы и плотно закреп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куратно намокнуть губку в жёлтый цвет и отпечатать ею листья и стеб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асить в красный оттенок все орнаменты  я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брать трафар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кой кистью дорисовать зелёные завитки, листочки и прожи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означить границы узоров и обвести их пожирнее чёрным цв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USER\Downloads\20221111_163343.jpg"/>
          <p:cNvPicPr/>
          <p:nvPr/>
        </p:nvPicPr>
        <p:blipFill>
          <a:blip r:embed="rId1"/>
          <a:stretch/>
        </p:blipFill>
        <p:spPr>
          <a:xfrm>
            <a:off x="2743200" y="380880"/>
            <a:ext cx="368136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авка рабо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USER\Desktop\хк.jpg"/>
          <p:cNvPicPr/>
          <p:nvPr/>
        </p:nvPicPr>
        <p:blipFill>
          <a:blip r:embed="rId1"/>
          <a:stretch/>
        </p:blipFill>
        <p:spPr>
          <a:xfrm>
            <a:off x="1066680" y="1235160"/>
            <a:ext cx="708660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USER\Downloads\20221111_163343.jpg"/>
          <p:cNvPicPr/>
          <p:nvPr/>
        </p:nvPicPr>
        <p:blipFill>
          <a:blip r:embed="rId1"/>
          <a:stretch/>
        </p:blipFill>
        <p:spPr>
          <a:xfrm>
            <a:off x="2743200" y="380880"/>
            <a:ext cx="368136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USER\Desktop\ит.jpg"/>
          <p:cNvPicPr/>
          <p:nvPr/>
        </p:nvPicPr>
        <p:blipFill>
          <a:blip r:embed="rId1"/>
          <a:stretch/>
        </p:blipFill>
        <p:spPr>
          <a:xfrm>
            <a:off x="533520" y="57168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USER\Desktop\те.jpg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USER\Desktop\х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Downloads\2022-11-20_11-28-26.png"/>
          <p:cNvPicPr/>
          <p:nvPr/>
        </p:nvPicPr>
        <p:blipFill>
          <a:blip r:embed="rId1"/>
          <a:stretch/>
        </p:blipFill>
        <p:spPr>
          <a:xfrm>
            <a:off x="282600" y="762120"/>
            <a:ext cx="8701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2.jpeg"/>
          <p:cNvPicPr/>
          <p:nvPr/>
        </p:nvPicPr>
        <p:blipFill>
          <a:blip r:embed="rId1"/>
          <a:stretch/>
        </p:blipFill>
        <p:spPr>
          <a:xfrm>
            <a:off x="2133720" y="457200"/>
            <a:ext cx="510516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USER\Downloads\2022-11-20_11-57-37.png"/>
          <p:cNvPicPr/>
          <p:nvPr/>
        </p:nvPicPr>
        <p:blipFill>
          <a:blip r:embed="rId1"/>
          <a:stretch/>
        </p:blipFill>
        <p:spPr>
          <a:xfrm>
            <a:off x="1295280" y="1623960"/>
            <a:ext cx="6845400" cy="4970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уд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6840" y="2590920"/>
            <a:ext cx="12193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esktop\х1.jpg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USER\Desktop\х=о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09480" y="205740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99ff33"/>
                </a:solidFill>
                <a:latin typeface="Arial"/>
              </a:rPr>
              <a:t>Процесс изготовления хохломы сложен и интересен. Дерево рубили, распиливали, обтёсывали, выдалбливали углубление и до конца доделывали ножом, шлифовали. Вытачивали посуду также на станке, приходящем в движение силой воды или лошад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2057400" y="380880"/>
            <a:ext cx="5715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4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ff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готовлени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ff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6" descr="22976243_Hohloma"/>
          <p:cNvPicPr/>
          <p:nvPr/>
        </p:nvPicPr>
        <p:blipFill>
          <a:blip r:embed="rId1"/>
          <a:stretch/>
        </p:blipFill>
        <p:spPr>
          <a:xfrm>
            <a:off x="762120" y="3809880"/>
            <a:ext cx="3759120" cy="281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331509"/>
          <p:cNvPicPr/>
          <p:nvPr/>
        </p:nvPicPr>
        <p:blipFill>
          <a:blip r:embed="rId2"/>
          <a:stretch/>
        </p:blipFill>
        <p:spPr>
          <a:xfrm>
            <a:off x="5029200" y="3733920"/>
            <a:ext cx="31240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имма</dc:creator>
  <dc:description/>
  <dc:language>en-US</dc:language>
  <cp:lastModifiedBy>user</cp:lastModifiedBy>
  <cp:lastPrinted>2022-11-21T14:58:52Z</cp:lastPrinted>
  <dcterms:modified xsi:type="dcterms:W3CDTF">2022-11-23T10:24:3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