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AC3-FEB0-4628-8605-CCE1EAF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C79-38D1-46B1-A68A-12A8D0FF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459-13DA-4D7C-BDD2-EB79561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B6B-2C42-40DE-9F13-01288A33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CBF-2DF6-4A4E-9DAC-2DB5F1B1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35B-F428-455A-9675-57DE297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F86-8AAE-44AB-8CC7-FE132A1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81D-A362-4D1A-9F9C-28036467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EAA-EF78-464A-9DD2-F387C2BF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046-FF53-4D0C-94A8-175911F4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46C-082B-4AE0-95A8-CFD9644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525-BCC9-4F69-A1A5-12A29D59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F7A-3B74-474B-8000-22986559B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609480"/>
            <a:ext cx="6553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ая хохло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451400" y="5516640"/>
            <a:ext cx="446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 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 начальных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арёва Т.А, Черняева Л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15"/>
          <p:cNvPicPr/>
          <p:nvPr/>
        </p:nvPicPr>
        <p:blipFill>
          <a:blip r:embed="rId1"/>
          <a:stretch/>
        </p:blipFill>
        <p:spPr>
          <a:xfrm>
            <a:off x="4519440" y="2286000"/>
            <a:ext cx="4167360" cy="311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9e4382d4bee3"/>
          <p:cNvPicPr/>
          <p:nvPr/>
        </p:nvPicPr>
        <p:blipFill>
          <a:blip r:embed="rId2"/>
          <a:stretch/>
        </p:blipFill>
        <p:spPr>
          <a:xfrm>
            <a:off x="228600" y="2590920"/>
            <a:ext cx="4038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х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Desktop\х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тб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609480" y="152280"/>
            <a:ext cx="8077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еревянную основу  приложить трафарет так, чтобы концы трафарета совпали с концами основы и плотно закреп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куратно намокнуть губку в жёлтый цвет и отпечатать ею листья и стеб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ить в красный оттенок все орнаменты  я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рать трафа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й кистью дорисовать зелёные завитки, листочки и прожи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значить границы узоров и обвести их пожирнее чёрным цв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а рабо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хк.jpg"/>
          <p:cNvPicPr/>
          <p:nvPr/>
        </p:nvPicPr>
        <p:blipFill>
          <a:blip r:embed="rId1"/>
          <a:stretch/>
        </p:blipFill>
        <p:spPr>
          <a:xfrm>
            <a:off x="1066680" y="1235160"/>
            <a:ext cx="7086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ownloads\20221111_163343.jpg"/>
          <p:cNvPicPr/>
          <p:nvPr/>
        </p:nvPicPr>
        <p:blipFill>
          <a:blip r:embed="rId1"/>
          <a:stretch/>
        </p:blipFill>
        <p:spPr>
          <a:xfrm>
            <a:off x="2743200" y="380880"/>
            <a:ext cx="368136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ит.jpg"/>
          <p:cNvPicPr/>
          <p:nvPr/>
        </p:nvPicPr>
        <p:blipFill>
          <a:blip r:embed="rId1"/>
          <a:stretch/>
        </p:blipFill>
        <p:spPr>
          <a:xfrm>
            <a:off x="533520" y="57168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те.jpg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х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ownloads\2022-11-20_11-28-26.png"/>
          <p:cNvPicPr/>
          <p:nvPr/>
        </p:nvPicPr>
        <p:blipFill>
          <a:blip r:embed="rId1"/>
          <a:stretch/>
        </p:blipFill>
        <p:spPr>
          <a:xfrm>
            <a:off x="282600" y="762120"/>
            <a:ext cx="8701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2.jpeg"/>
          <p:cNvPicPr/>
          <p:nvPr/>
        </p:nvPicPr>
        <p:blipFill>
          <a:blip r:embed="rId1"/>
          <a:stretch/>
        </p:blipFill>
        <p:spPr>
          <a:xfrm>
            <a:off x="2133720" y="457200"/>
            <a:ext cx="51051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USER\Downloads\2022-11-20_11-57-37.png"/>
          <p:cNvPicPr/>
          <p:nvPr/>
        </p:nvPicPr>
        <p:blipFill>
          <a:blip r:embed="rId1"/>
          <a:stretch/>
        </p:blipFill>
        <p:spPr>
          <a:xfrm>
            <a:off x="1295280" y="1623960"/>
            <a:ext cx="6845400" cy="497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у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6840" y="2590920"/>
            <a:ext cx="12193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х1.jpg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USER\Desktop\х=о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20574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Процесс изготовления хохломы сложен и интересен. Дерево рубили, распиливали, обтёсывали, выдалбливали углубление и до конца доделывали ножом, шлифовали. Вытачивали посуду также на станке, приходящем в движение силой воды или лошад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057400" y="3808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6" descr="22976243_Hohloma"/>
          <p:cNvPicPr/>
          <p:nvPr/>
        </p:nvPicPr>
        <p:blipFill>
          <a:blip r:embed="rId1"/>
          <a:stretch/>
        </p:blipFill>
        <p:spPr>
          <a:xfrm>
            <a:off x="762120" y="38098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331509"/>
          <p:cNvPicPr/>
          <p:nvPr/>
        </p:nvPicPr>
        <p:blipFill>
          <a:blip r:embed="rId2"/>
          <a:stretch/>
        </p:blipFill>
        <p:spPr>
          <a:xfrm>
            <a:off x="5029200" y="3733920"/>
            <a:ext cx="31240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ма</dc:creator>
  <dc:description/>
  <dc:language>en-US</dc:language>
  <cp:lastModifiedBy>user</cp:lastModifiedBy>
  <cp:lastPrinted>2022-11-21T14:58:52Z</cp:lastPrinted>
  <dcterms:modified xsi:type="dcterms:W3CDTF">2022-11-23T10:24:3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