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465-B609-47CA-AA2C-7ED5AEF3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BC2-0A8E-4776-BF11-54117B8A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2E9-2EDD-4356-8A3F-91682676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419-3D8F-4A2C-8D51-83836710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C0D-E7FE-44D9-997B-65046BAD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70C-DFE7-4E65-AAA9-4E053DF1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977-B73F-416F-BCE7-260B2638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6FF-FDDB-4728-982B-B0CAF5C8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F76-E9DE-4336-99EF-BB1DB51B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0FC-4B52-4694-8CF0-659BB2F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DE84-065B-4DDC-8C4D-7BAA902A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AB0-AB82-4986-B092-3C96789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64E4-4D46-40D3-B3F2-8BE276103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76520" y="609480"/>
            <a:ext cx="6553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отая хохло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451400" y="5516640"/>
            <a:ext cx="446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и 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 начальных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арёва Т.А, Черняева Л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15"/>
          <p:cNvPicPr/>
          <p:nvPr/>
        </p:nvPicPr>
        <p:blipFill>
          <a:blip r:embed="rId1"/>
          <a:stretch/>
        </p:blipFill>
        <p:spPr>
          <a:xfrm>
            <a:off x="4519440" y="2286000"/>
            <a:ext cx="4167360" cy="311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9e4382d4bee3"/>
          <p:cNvPicPr/>
          <p:nvPr/>
        </p:nvPicPr>
        <p:blipFill>
          <a:blip r:embed="rId2"/>
          <a:stretch/>
        </p:blipFill>
        <p:spPr>
          <a:xfrm>
            <a:off x="228600" y="2590920"/>
            <a:ext cx="40384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esktop\х6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USER\Desktop\х5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ownloads\20221111_163343.jpg"/>
          <p:cNvPicPr/>
          <p:nvPr/>
        </p:nvPicPr>
        <p:blipFill>
          <a:blip r:embed="rId1"/>
          <a:stretch/>
        </p:blipFill>
        <p:spPr>
          <a:xfrm>
            <a:off x="2743200" y="380880"/>
            <a:ext cx="368136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USER\Desktop\тб.jpg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609480" y="152280"/>
            <a:ext cx="80773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деревянную основу  приложить трафарет так, чтобы концы трафарета совпали с концами основы и плотно закреп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куратно намокнуть губку в жёлтый цвет и отпечатать ею листья и стеб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ить в красный оттенок все орнаменты  я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брать трафа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й кистью дорисовать зелёные завитки, листочки и прожи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означить границы узоров и обвести их пожирнее чёрным цв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USER\Downloads\20221111_163343.jpg"/>
          <p:cNvPicPr/>
          <p:nvPr/>
        </p:nvPicPr>
        <p:blipFill>
          <a:blip r:embed="rId1"/>
          <a:stretch/>
        </p:blipFill>
        <p:spPr>
          <a:xfrm>
            <a:off x="2743200" y="380880"/>
            <a:ext cx="368136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авка раб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USER\Desktop\хк.jpg"/>
          <p:cNvPicPr/>
          <p:nvPr/>
        </p:nvPicPr>
        <p:blipFill>
          <a:blip r:embed="rId1"/>
          <a:stretch/>
        </p:blipFill>
        <p:spPr>
          <a:xfrm>
            <a:off x="1066680" y="1235160"/>
            <a:ext cx="70866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ownloads\20221111_163343.jpg"/>
          <p:cNvPicPr/>
          <p:nvPr/>
        </p:nvPicPr>
        <p:blipFill>
          <a:blip r:embed="rId1"/>
          <a:stretch/>
        </p:blipFill>
        <p:spPr>
          <a:xfrm>
            <a:off x="2743200" y="380880"/>
            <a:ext cx="368136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USER\Desktop\ит.jpg"/>
          <p:cNvPicPr/>
          <p:nvPr/>
        </p:nvPicPr>
        <p:blipFill>
          <a:blip r:embed="rId1"/>
          <a:stretch/>
        </p:blipFill>
        <p:spPr>
          <a:xfrm>
            <a:off x="533520" y="57168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USER\Desktop\те.jpg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USER\Desktop\х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ownloads\2022-11-20_11-28-26.png"/>
          <p:cNvPicPr/>
          <p:nvPr/>
        </p:nvPicPr>
        <p:blipFill>
          <a:blip r:embed="rId1"/>
          <a:stretch/>
        </p:blipFill>
        <p:spPr>
          <a:xfrm>
            <a:off x="282600" y="762120"/>
            <a:ext cx="8701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2.jpeg"/>
          <p:cNvPicPr/>
          <p:nvPr/>
        </p:nvPicPr>
        <p:blipFill>
          <a:blip r:embed="rId1"/>
          <a:stretch/>
        </p:blipFill>
        <p:spPr>
          <a:xfrm>
            <a:off x="2133720" y="457200"/>
            <a:ext cx="51051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USER\Downloads\2022-11-20_11-57-37.png"/>
          <p:cNvPicPr/>
          <p:nvPr/>
        </p:nvPicPr>
        <p:blipFill>
          <a:blip r:embed="rId1"/>
          <a:stretch/>
        </p:blipFill>
        <p:spPr>
          <a:xfrm>
            <a:off x="1295280" y="1623960"/>
            <a:ext cx="6845400" cy="4970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уд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6840" y="2590920"/>
            <a:ext cx="12193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х1.jpg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USER\Desktop\х=о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09480" y="205740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99ff33"/>
                </a:solidFill>
                <a:latin typeface="Arial"/>
              </a:rPr>
              <a:t>Процесс изготовления хохломы сложен и интересен. Дерево рубили, распиливали, обтёсывали, выдалбливали углубление и до конца доделывали ножом, шлифовали. Вытачивали посуду также на станке, приходящем в движение силой воды или лошад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2057400" y="380880"/>
            <a:ext cx="5715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готовле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6" descr="22976243_Hohloma"/>
          <p:cNvPicPr/>
          <p:nvPr/>
        </p:nvPicPr>
        <p:blipFill>
          <a:blip r:embed="rId1"/>
          <a:stretch/>
        </p:blipFill>
        <p:spPr>
          <a:xfrm>
            <a:off x="762120" y="380988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331509"/>
          <p:cNvPicPr/>
          <p:nvPr/>
        </p:nvPicPr>
        <p:blipFill>
          <a:blip r:embed="rId2"/>
          <a:stretch/>
        </p:blipFill>
        <p:spPr>
          <a:xfrm>
            <a:off x="5029200" y="3733920"/>
            <a:ext cx="31240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имма</dc:creator>
  <dc:description/>
  <dc:language>en-US</dc:language>
  <cp:lastModifiedBy>user</cp:lastModifiedBy>
  <cp:lastPrinted>2022-11-21T14:58:52Z</cp:lastPrinted>
  <dcterms:modified xsi:type="dcterms:W3CDTF">2022-11-23T10:24:3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