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4CF-B6A7-4ED7-AD7E-FD729DFB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EFF-EA3A-40B5-BF1D-85452E06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E76-C5F6-4440-9A6B-CCEFBA6B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522-14CA-467B-8958-A3B5028E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31E-6C88-4BAB-AB51-FF194343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51B-BF33-4F61-94A7-A5BDBB31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460-4127-4C89-9E93-71AEC8F1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9B6-4434-498C-97C2-40E3AB67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0F5-D794-471A-8F7D-40D5AE2A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498-8571-43B4-9672-38DCA9E1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6C2-A8C9-4142-A8D7-A70D7F88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A9C-325E-4833-B593-4EEE5302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9CF6-18AF-4BB8-903A-B7A182998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hyperlink" Target="mailto:schoolsk@list.ru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hyperlink" Target="mailto:schoolsk@list.ru" TargetMode="External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hyperlink" Target="mailto:schoolsk@list.ru" TargetMode="Externa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choolsk@rambler.ru" TargetMode="External"/><Relationship Id="rId2" Type="http://schemas.openxmlformats.org/officeDocument/2006/relationships/hyperlink" Target="mailto:schoolsk@rambler.ru" TargetMode="External"/><Relationship Id="rId3" Type="http://schemas.openxmlformats.org/officeDocument/2006/relationships/hyperlink" Target="mailto:schoolsk@rambler.ru" TargetMode="External"/><Relationship Id="rId4" Type="http://schemas.openxmlformats.org/officeDocument/2006/relationships/hyperlink" Target="mailto:schoolsk@rambler.ru" TargetMode="External"/><Relationship Id="rId5" Type="http://schemas.openxmlformats.org/officeDocument/2006/relationships/hyperlink" Target="mailto:schoolsk@rambler.ru" TargetMode="External"/><Relationship Id="rId6" Type="http://schemas.openxmlformats.org/officeDocument/2006/relationships/hyperlink" Target="mailto:schoolsk@list.ru" TargetMode="External"/><Relationship Id="rId7" Type="http://schemas.openxmlformats.org/officeDocument/2006/relationships/hyperlink" Target="mailto:schoolsk@list.ru" TargetMode="External"/><Relationship Id="rId8" Type="http://schemas.openxmlformats.org/officeDocument/2006/relationships/hyperlink" Target="mailto:schoolsk@list.ru" TargetMode="External"/><Relationship Id="rId9" Type="http://schemas.openxmlformats.org/officeDocument/2006/relationships/hyperlink" Target="mailto:schoolsk@list.ru" TargetMode="External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, тел 89195392868 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br>
              <a:rPr sz="2800"/>
            </a:br>
            <a:br>
              <a:rPr sz="2800"/>
            </a:br>
            <a:br>
              <a:rPr sz="1200"/>
            </a:br>
            <a:br>
              <a:rPr sz="1200"/>
            </a:br>
            <a:br>
              <a:rPr sz="4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ема урока: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лнце во все времена года, его значение для природы и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ир природы и человека 3 класс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ариант 1;8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ушкарева Татьяна Александровн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USER\Desktop\урок солнце\22_3-800x800.jpg"/>
          <p:cNvPicPr/>
          <p:nvPr/>
        </p:nvPicPr>
        <p:blipFill>
          <a:blip r:embed="rId11"/>
          <a:stretch/>
        </p:blipFill>
        <p:spPr>
          <a:xfrm>
            <a:off x="611280" y="4581360"/>
            <a:ext cx="2276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ru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урока важно  уделить вре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й посадке и психологическо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ро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USER\Downloads\20211117_142330.jpg"/>
          <p:cNvPicPr/>
          <p:nvPr/>
        </p:nvPicPr>
        <p:blipFill>
          <a:blip r:embed="rId11"/>
          <a:stretch/>
        </p:blipFill>
        <p:spPr>
          <a:xfrm>
            <a:off x="250920" y="1844640"/>
            <a:ext cx="46450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USER\Downloads\20211117_142425.jpg"/>
          <p:cNvPicPr/>
          <p:nvPr/>
        </p:nvPicPr>
        <p:blipFill>
          <a:blip r:embed="rId12"/>
          <a:stretch/>
        </p:blipFill>
        <p:spPr>
          <a:xfrm>
            <a:off x="4356000" y="3284640"/>
            <a:ext cx="478800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USER\Downloads\20211117_142550.jpg"/>
          <p:cNvPicPr/>
          <p:nvPr/>
        </p:nvPicPr>
        <p:blipFill>
          <a:blip r:embed="rId11"/>
          <a:stretch/>
        </p:blipFill>
        <p:spPr>
          <a:xfrm>
            <a:off x="395280" y="1773360"/>
            <a:ext cx="4549680" cy="20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250920" y="5229360"/>
          <a:ext cx="5646600" cy="438120"/>
        </p:xfrm>
        <a:graphic>
          <a:graphicData uri="http://schemas.openxmlformats.org/drawingml/2006/table">
            <a:tbl>
              <a:tblPr/>
              <a:tblGrid>
                <a:gridCol w="247680"/>
                <a:gridCol w="264960"/>
                <a:gridCol w="266760"/>
                <a:gridCol w="257040"/>
                <a:gridCol w="266760"/>
                <a:gridCol w="255600"/>
                <a:gridCol w="203400"/>
                <a:gridCol w="253800"/>
                <a:gridCol w="176400"/>
                <a:gridCol w="203040"/>
                <a:gridCol w="203040"/>
                <a:gridCol w="203400"/>
                <a:gridCol w="203040"/>
                <a:gridCol w="203400"/>
                <a:gridCol w="203040"/>
                <a:gridCol w="203400"/>
                <a:gridCol w="203040"/>
                <a:gridCol w="203400"/>
                <a:gridCol w="203040"/>
                <a:gridCol w="203040"/>
                <a:gridCol w="203400"/>
                <a:gridCol w="203040"/>
                <a:gridCol w="203400"/>
                <a:gridCol w="203040"/>
                <a:gridCol w="203400"/>
                <a:gridCol w="20304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3"/>
          <p:cNvSpPr/>
          <p:nvPr/>
        </p:nvSpPr>
        <p:spPr>
          <a:xfrm>
            <a:off x="0" y="304920"/>
            <a:ext cx="46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324000" y="4797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ЦНЛОС                 ОВ       ЕСВ            АНЕМЕРВ           АД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35640" y="191628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те надпис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каждое слово справа налево и запишите что получилось. Попробуйте сделать предположение, о чем будем говорить на уро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rambler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schoolsk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@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lis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ownloads\20211117_143053.jpg"/>
          <p:cNvPicPr/>
          <p:nvPr/>
        </p:nvPicPr>
        <p:blipFill>
          <a:blip r:embed="rId10"/>
          <a:stretch/>
        </p:blipFill>
        <p:spPr>
          <a:xfrm>
            <a:off x="0" y="1700280"/>
            <a:ext cx="425124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USER\Downloads\20211117_143235.jpg"/>
          <p:cNvPicPr/>
          <p:nvPr/>
        </p:nvPicPr>
        <p:blipFill>
          <a:blip r:embed="rId11"/>
          <a:stretch/>
        </p:blipFill>
        <p:spPr>
          <a:xfrm>
            <a:off x="4508640" y="4005360"/>
            <a:ext cx="38401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4356000" y="19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дня мы будем работать в трёх лабораториях, мы перемещаемся 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лабораторию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Роль солнца в природ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0" y="414972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работой проведем гимнасти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глаз, так как нам нужно сейчас изуч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ownloads\20211117_143400.jpg"/>
          <p:cNvPicPr/>
          <p:nvPr/>
        </p:nvPicPr>
        <p:blipFill>
          <a:blip r:embed="rId1"/>
          <a:stretch/>
        </p:blipFill>
        <p:spPr>
          <a:xfrm>
            <a:off x="179280" y="1916280"/>
            <a:ext cx="291636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USER\Downloads\20211117_143522.jpg"/>
          <p:cNvPicPr/>
          <p:nvPr/>
        </p:nvPicPr>
        <p:blipFill>
          <a:blip r:embed="rId2"/>
          <a:stretch/>
        </p:blipFill>
        <p:spPr>
          <a:xfrm>
            <a:off x="3348000" y="1916280"/>
            <a:ext cx="2592360" cy="19443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6227640" y="191628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предложений, выберете то, которое подходит к теме нашего урока и повесьте его на дос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USER\Downloads\20211117_143750.jpg"/>
          <p:cNvPicPr/>
          <p:nvPr/>
        </p:nvPicPr>
        <p:blipFill>
          <a:blip r:embed="rId3"/>
          <a:stretch/>
        </p:blipFill>
        <p:spPr>
          <a:xfrm>
            <a:off x="5003640" y="4508640"/>
            <a:ext cx="3635640" cy="1636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539640" y="45813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ой стороне Земли, которая поворачивается к Солнцу, наступает день, а на противоположной ночь. Полный оборот вокруг своей оси Земля делает за 24 часа – су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USER\Downloads\20211117_144011.jpg"/>
          <p:cNvPicPr/>
          <p:nvPr/>
        </p:nvPicPr>
        <p:blipFill>
          <a:blip r:embed="rId1"/>
          <a:stretch/>
        </p:blipFill>
        <p:spPr>
          <a:xfrm>
            <a:off x="684360" y="1844640"/>
            <a:ext cx="2233440" cy="125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USER\Downloads\20211117_144039.jpg"/>
          <p:cNvPicPr/>
          <p:nvPr/>
        </p:nvPicPr>
        <p:blipFill>
          <a:blip r:embed="rId2"/>
          <a:stretch/>
        </p:blipFill>
        <p:spPr>
          <a:xfrm>
            <a:off x="3132000" y="1844640"/>
            <a:ext cx="269892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USER\Downloads\20211117_144652.jpg"/>
          <p:cNvPicPr/>
          <p:nvPr/>
        </p:nvPicPr>
        <p:blipFill>
          <a:blip r:embed="rId3"/>
          <a:stretch/>
        </p:blipFill>
        <p:spPr>
          <a:xfrm>
            <a:off x="6084720" y="1844640"/>
            <a:ext cx="2795760" cy="1258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1042920" y="378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0" y="3500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нем с нашего любимого времени год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ета. Нашли картинку с изображением л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акая погода летом? (жарка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к летом светит солнце? (ярко). Нашли и приложили к картинке солнце, у которого много ярких больших луч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Где находится солнце на небосводе летом? (высоко; над головой)- поместили солнце прямо над дерев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Летом ночь длиннее или день? (день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йдите длинную желтую полоску в виде буквы П и сделайте из нее рамочку сверху нашей карт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начит ночь будет короч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йдите синюю полоску в виде короткой П и подставьте ее внизу нашей карт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USER\Downloads\20211117_144923.jpg"/>
          <p:cNvPicPr/>
          <p:nvPr/>
        </p:nvPicPr>
        <p:blipFill>
          <a:blip r:embed="rId1"/>
          <a:stretch/>
        </p:blipFill>
        <p:spPr>
          <a:xfrm>
            <a:off x="324000" y="1844640"/>
            <a:ext cx="2890800" cy="13003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3276720" y="1628640"/>
            <a:ext cx="338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: Кристины Завернуть лист зелёного растения в чёрную бумагу. После нескольких дней под бумагой  зелёный листок стал бесцвет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USER\Downloads\20211117_145027.jpg"/>
          <p:cNvPicPr/>
          <p:nvPr/>
        </p:nvPicPr>
        <p:blipFill>
          <a:blip r:embed="rId2"/>
          <a:stretch/>
        </p:blipFill>
        <p:spPr>
          <a:xfrm>
            <a:off x="6372360" y="1844640"/>
            <a:ext cx="2555640" cy="1150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250920" y="3286440"/>
            <a:ext cx="86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доказали, что растениям нужен свет, чтобы производить зеленые клетки.  В темноте растения погибаю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C:\Users\USER\Downloads\20211117_145430.jpg"/>
          <p:cNvPicPr/>
          <p:nvPr/>
        </p:nvPicPr>
        <p:blipFill>
          <a:blip r:embed="rId3"/>
          <a:stretch/>
        </p:blipFill>
        <p:spPr>
          <a:xfrm>
            <a:off x="324000" y="3860640"/>
            <a:ext cx="2952720" cy="1328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USER\Downloads\20211117_145122.jpg"/>
          <p:cNvPicPr/>
          <p:nvPr/>
        </p:nvPicPr>
        <p:blipFill>
          <a:blip r:embed="rId4"/>
          <a:stretch/>
        </p:blipFill>
        <p:spPr>
          <a:xfrm>
            <a:off x="6080040" y="5479920"/>
            <a:ext cx="3063960" cy="1378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1"/>
          <p:cNvSpPr/>
          <p:nvPr/>
        </p:nvSpPr>
        <p:spPr>
          <a:xfrm>
            <a:off x="3348000" y="4005360"/>
            <a:ext cx="54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лнечных ча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е батареи в экспериментальном производстве автомобилей, самолетов, в космической станции и освещении ули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 «Солнышко встал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8" descr="C:\Users\USER\Downloads\20211117_145801.jpg"/>
          <p:cNvPicPr/>
          <p:nvPr/>
        </p:nvPicPr>
        <p:blipFill>
          <a:blip r:embed="rId5"/>
          <a:stretch/>
        </p:blipFill>
        <p:spPr>
          <a:xfrm>
            <a:off x="250920" y="5229360"/>
            <a:ext cx="28810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:\Users\USER\Downloads\20211117_145857.jpg"/>
          <p:cNvPicPr/>
          <p:nvPr/>
        </p:nvPicPr>
        <p:blipFill>
          <a:blip r:embed="rId1"/>
          <a:stretch/>
        </p:blipFill>
        <p:spPr>
          <a:xfrm>
            <a:off x="539640" y="1700280"/>
            <a:ext cx="3549600" cy="1596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175280" y="1916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йте глаза, расслабьтесь, вытяните руки. Представьте, что на ладошках у вас лежит маленькое солнышко. Через пальчики, как лучики солнышка, идет тепло по рукам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Users\USER\Downloads\20211117_150400.jpg"/>
          <p:cNvPicPr/>
          <p:nvPr/>
        </p:nvPicPr>
        <p:blipFill>
          <a:blip r:embed="rId2"/>
          <a:stretch/>
        </p:blipFill>
        <p:spPr>
          <a:xfrm>
            <a:off x="0" y="3500280"/>
            <a:ext cx="3564000" cy="160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Users\USER\Downloads\20211117_150516.jpg"/>
          <p:cNvPicPr/>
          <p:nvPr/>
        </p:nvPicPr>
        <p:blipFill>
          <a:blip r:embed="rId3"/>
          <a:stretch/>
        </p:blipFill>
        <p:spPr>
          <a:xfrm>
            <a:off x="7308720" y="3068640"/>
            <a:ext cx="154152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708360" y="3357720"/>
            <a:ext cx="345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рослушали советы профессора Бодрячка. Я раздаю вам памятки с его советами, но они разные. У кого-то в них говорится о пользе солнца, у кого-то о вреде. Ваше задание: определить, о чем эта памятка  и прикрепить сигнальный знак (приклеить солнышко и из пластилина вылепить ему радостное или хмурое лицо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ЕННОЕ ОБЩЕ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ОГО АВТОНОМНОГО ОКРУГА – ЮГР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ГИОНСКАЯ ШКОЛА ДЛЯ ОБУЧАЮЩИХСЯ С ОГРАНИЧЕННЫ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8681, Ханты-Мансийский автономный округ – Югра, г. Мегион, ул. Ленина 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/факс (34643) 2-44-84, 2-64-84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bl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8605013296, ОКОНХ 92310,71300,  ОКПО 47858836, ОГРН 1028601356343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П  860501001, БИК 0471620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, учитель начальных классов, тел 89195392868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ya.789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и систематизация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ощение.mp4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964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03:49:06Z</dcterms:created>
  <dc:creator>RePack by Diakov</dc:creator>
  <dc:description/>
  <dc:language>en-US</dc:language>
  <cp:lastModifiedBy>RePack by SPecialiST</cp:lastModifiedBy>
  <dcterms:modified xsi:type="dcterms:W3CDTF">2021-11-19T06:44:58Z</dcterms:modified>
  <cp:revision>29</cp:revision>
  <dc:subject/>
  <dc:title>Презентация PowerPoint</dc:title>
</cp:coreProperties>
</file>