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BDB-AE7B-423F-8C9B-879B9CA9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1ED-A7FF-4A8B-BFBF-8C2DBFA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4BD-DD8B-4420-BB9A-0D23F8D2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77B-F381-4563-B6F3-7769FB64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5A9-FB06-4257-BA40-0973FB24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43A-DB8B-48C1-A345-E7AA835A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5DF-3BAF-4003-9A0D-8EA13C5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C76-3DD2-4077-8E5B-D27A6D0E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170-5E97-402D-B4DD-B945B6F7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2DB-6D27-47F3-ADED-DD8756D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B90-1A8B-4123-8765-EBDE81E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78C-BDE9-4B6D-9491-31881CD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57A1-8992-480A-AFFF-18C691FA8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, тел 89195392868 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br>
              <a:rPr sz="2800"/>
            </a:br>
            <a:br>
              <a:rPr sz="2800"/>
            </a:br>
            <a:br>
              <a:rPr sz="1200"/>
            </a:br>
            <a:br>
              <a:rPr sz="1200"/>
            </a:br>
            <a:br>
              <a:rPr sz="4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ема урока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лнце во все времена года, его значение для природы и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ир природы и человека 3 класс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ариант 1;8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ушкарева Татьяна Александровн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USER\Desktop\урок солнце\22_3-800x800.jpg"/>
          <p:cNvPicPr/>
          <p:nvPr/>
        </p:nvPicPr>
        <p:blipFill>
          <a:blip r:embed="rId11"/>
          <a:stretch/>
        </p:blipFill>
        <p:spPr>
          <a:xfrm>
            <a:off x="611280" y="4581360"/>
            <a:ext cx="2276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урока важно  уделить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й посадке и психологическ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USER\Downloads\20211117_142330.jpg"/>
          <p:cNvPicPr/>
          <p:nvPr/>
        </p:nvPicPr>
        <p:blipFill>
          <a:blip r:embed="rId11"/>
          <a:stretch/>
        </p:blipFill>
        <p:spPr>
          <a:xfrm>
            <a:off x="250920" y="1844640"/>
            <a:ext cx="46450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ownloads\20211117_142425.jpg"/>
          <p:cNvPicPr/>
          <p:nvPr/>
        </p:nvPicPr>
        <p:blipFill>
          <a:blip r:embed="rId12"/>
          <a:stretch/>
        </p:blipFill>
        <p:spPr>
          <a:xfrm>
            <a:off x="4356000" y="3284640"/>
            <a:ext cx="47880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USER\Downloads\20211117_142550.jpg"/>
          <p:cNvPicPr/>
          <p:nvPr/>
        </p:nvPicPr>
        <p:blipFill>
          <a:blip r:embed="rId11"/>
          <a:stretch/>
        </p:blipFill>
        <p:spPr>
          <a:xfrm>
            <a:off x="395280" y="1773360"/>
            <a:ext cx="4549680" cy="20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50920" y="5229360"/>
          <a:ext cx="5646600" cy="438120"/>
        </p:xfrm>
        <a:graphic>
          <a:graphicData uri="http://schemas.openxmlformats.org/drawingml/2006/table">
            <a:tbl>
              <a:tblPr/>
              <a:tblGrid>
                <a:gridCol w="247680"/>
                <a:gridCol w="264960"/>
                <a:gridCol w="266760"/>
                <a:gridCol w="257040"/>
                <a:gridCol w="266760"/>
                <a:gridCol w="255600"/>
                <a:gridCol w="203400"/>
                <a:gridCol w="253800"/>
                <a:gridCol w="176400"/>
                <a:gridCol w="20304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3"/>
          <p:cNvSpPr/>
          <p:nvPr/>
        </p:nvSpPr>
        <p:spPr>
          <a:xfrm>
            <a:off x="0" y="304920"/>
            <a:ext cx="46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324000" y="479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ЦНЛОС                 ОВ       ЕСВ            АНЕМЕРВ           АД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35640" y="191628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те надпи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каждое слово справа налево и запишите что получилось. Попробуйте сделать предположение, о чем будем говорить на уро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ownloads\20211117_143053.jpg"/>
          <p:cNvPicPr/>
          <p:nvPr/>
        </p:nvPicPr>
        <p:blipFill>
          <a:blip r:embed="rId10"/>
          <a:stretch/>
        </p:blipFill>
        <p:spPr>
          <a:xfrm>
            <a:off x="0" y="1700280"/>
            <a:ext cx="425124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ownloads\20211117_143235.jpg"/>
          <p:cNvPicPr/>
          <p:nvPr/>
        </p:nvPicPr>
        <p:blipFill>
          <a:blip r:embed="rId11"/>
          <a:stretch/>
        </p:blipFill>
        <p:spPr>
          <a:xfrm>
            <a:off x="4508640" y="4005360"/>
            <a:ext cx="38401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435600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дня мы будем работать в трёх лабораториях, мы перемещаемся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лаборатори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Роль солнца в природ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0" y="41497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аботой проведем гимнасти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лаз, так как нам нужно сейчас изуч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ownloads\20211117_143400.jpg"/>
          <p:cNvPicPr/>
          <p:nvPr/>
        </p:nvPicPr>
        <p:blipFill>
          <a:blip r:embed="rId1"/>
          <a:stretch/>
        </p:blipFill>
        <p:spPr>
          <a:xfrm>
            <a:off x="179280" y="1916280"/>
            <a:ext cx="291636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USER\Downloads\20211117_143522.jpg"/>
          <p:cNvPicPr/>
          <p:nvPr/>
        </p:nvPicPr>
        <p:blipFill>
          <a:blip r:embed="rId2"/>
          <a:stretch/>
        </p:blipFill>
        <p:spPr>
          <a:xfrm>
            <a:off x="3348000" y="1916280"/>
            <a:ext cx="2592360" cy="1944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6227640" y="191628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предложений, выберете то, которое подходит к теме нашего урока и повесьте его на дос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USER\Downloads\20211117_143750.jpg"/>
          <p:cNvPicPr/>
          <p:nvPr/>
        </p:nvPicPr>
        <p:blipFill>
          <a:blip r:embed="rId3"/>
          <a:stretch/>
        </p:blipFill>
        <p:spPr>
          <a:xfrm>
            <a:off x="5003640" y="4508640"/>
            <a:ext cx="3635640" cy="1636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539640" y="4581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ой стороне Земли, которая поворачивается к Солнцу, наступает день, а на противоположной ночь. Полный оборот вокруг своей оси Земля делает за 24 часа – су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USER\Downloads\20211117_144011.jpg"/>
          <p:cNvPicPr/>
          <p:nvPr/>
        </p:nvPicPr>
        <p:blipFill>
          <a:blip r:embed="rId1"/>
          <a:stretch/>
        </p:blipFill>
        <p:spPr>
          <a:xfrm>
            <a:off x="684360" y="1844640"/>
            <a:ext cx="2233440" cy="125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USER\Downloads\20211117_144039.jpg"/>
          <p:cNvPicPr/>
          <p:nvPr/>
        </p:nvPicPr>
        <p:blipFill>
          <a:blip r:embed="rId2"/>
          <a:stretch/>
        </p:blipFill>
        <p:spPr>
          <a:xfrm>
            <a:off x="3132000" y="1844640"/>
            <a:ext cx="269892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Downloads\20211117_144652.jpg"/>
          <p:cNvPicPr/>
          <p:nvPr/>
        </p:nvPicPr>
        <p:blipFill>
          <a:blip r:embed="rId3"/>
          <a:stretch/>
        </p:blipFill>
        <p:spPr>
          <a:xfrm>
            <a:off x="6084720" y="1844640"/>
            <a:ext cx="2795760" cy="1258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1042920" y="378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0" y="3500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нем с нашего любимого времени год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ета. Нашли картинку с изображением л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акая погода летом? (жарка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 летом светит солнце? (ярко). Нашли и приложили к картинке солнце, у которого много ярких больших луч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Где находится солнце на небосводе летом? (высоко; над головой)- поместили солнце прямо над дерев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Летом ночь длиннее или день? (день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йдите длинную желтую полоску в виде буквы П и сделайте из нее рамочку сверху нашей карт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начит ночь будет короч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йдите синюю полоску в виде короткой П и подставьте ее внизу нашей карт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ownloads\20211117_144923.jpg"/>
          <p:cNvPicPr/>
          <p:nvPr/>
        </p:nvPicPr>
        <p:blipFill>
          <a:blip r:embed="rId1"/>
          <a:stretch/>
        </p:blipFill>
        <p:spPr>
          <a:xfrm>
            <a:off x="324000" y="1844640"/>
            <a:ext cx="2890800" cy="13003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3276720" y="1628640"/>
            <a:ext cx="338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: Кристины Завернуть лист зелёного растения в чёрную бумагу. После нескольких дней под бумагой  зелёный листок стал бесцвет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USER\Downloads\20211117_145027.jpg"/>
          <p:cNvPicPr/>
          <p:nvPr/>
        </p:nvPicPr>
        <p:blipFill>
          <a:blip r:embed="rId2"/>
          <a:stretch/>
        </p:blipFill>
        <p:spPr>
          <a:xfrm>
            <a:off x="6372360" y="1844640"/>
            <a:ext cx="2555640" cy="1150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250920" y="3286440"/>
            <a:ext cx="86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оказали, что растениям нужен свет, чтобы производить зеленые клетки.  В темноте растения погибаю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C:\Users\USER\Downloads\20211117_145430.jpg"/>
          <p:cNvPicPr/>
          <p:nvPr/>
        </p:nvPicPr>
        <p:blipFill>
          <a:blip r:embed="rId3"/>
          <a:stretch/>
        </p:blipFill>
        <p:spPr>
          <a:xfrm>
            <a:off x="324000" y="3860640"/>
            <a:ext cx="2952720" cy="132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USER\Downloads\20211117_145122.jpg"/>
          <p:cNvPicPr/>
          <p:nvPr/>
        </p:nvPicPr>
        <p:blipFill>
          <a:blip r:embed="rId4"/>
          <a:stretch/>
        </p:blipFill>
        <p:spPr>
          <a:xfrm>
            <a:off x="6080040" y="5479920"/>
            <a:ext cx="3063960" cy="1378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3348000" y="400536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лнечных ча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е батареи в экспериментальном производстве автомобилей, самолетов, в космической станции и освещении ули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«Солнышко встал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C:\Users\USER\Downloads\20211117_145801.jpg"/>
          <p:cNvPicPr/>
          <p:nvPr/>
        </p:nvPicPr>
        <p:blipFill>
          <a:blip r:embed="rId5"/>
          <a:stretch/>
        </p:blipFill>
        <p:spPr>
          <a:xfrm>
            <a:off x="250920" y="5229360"/>
            <a:ext cx="2881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Users\USER\Downloads\20211117_145857.jpg"/>
          <p:cNvPicPr/>
          <p:nvPr/>
        </p:nvPicPr>
        <p:blipFill>
          <a:blip r:embed="rId1"/>
          <a:stretch/>
        </p:blipFill>
        <p:spPr>
          <a:xfrm>
            <a:off x="539640" y="1700280"/>
            <a:ext cx="3549600" cy="1596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175280" y="1916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, расслабьтесь, вытяните руки. Представьте, что на ладошках у вас лежит маленькое солнышко. Через пальчики, как лучики солнышка, идет тепло по рукам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USER\Downloads\20211117_150400.jpg"/>
          <p:cNvPicPr/>
          <p:nvPr/>
        </p:nvPicPr>
        <p:blipFill>
          <a:blip r:embed="rId2"/>
          <a:stretch/>
        </p:blipFill>
        <p:spPr>
          <a:xfrm>
            <a:off x="0" y="3500280"/>
            <a:ext cx="3564000" cy="160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Users\USER\Downloads\20211117_150516.jpg"/>
          <p:cNvPicPr/>
          <p:nvPr/>
        </p:nvPicPr>
        <p:blipFill>
          <a:blip r:embed="rId3"/>
          <a:stretch/>
        </p:blipFill>
        <p:spPr>
          <a:xfrm>
            <a:off x="7308720" y="3068640"/>
            <a:ext cx="154152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708360" y="335772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ослушали советы профессора Бодрячка. Я раздаю вам памятки с его советами, но они разные. У кого-то в них говорится о пользе солнца, у кого-то о вреде. Ваше задание: определить, о чем эта памятка  и прикрепить сигнальный знак (приклеить солнышко и из пластилина вылепить ему радостное или хмурое лицо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ощение.mp4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964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03:49:06Z</dcterms:created>
  <dc:creator>RePack by Diakov</dc:creator>
  <dc:description/>
  <dc:language>en-US</dc:language>
  <cp:lastModifiedBy>RePack by SPecialiST</cp:lastModifiedBy>
  <dcterms:modified xsi:type="dcterms:W3CDTF">2021-11-19T06:44:58Z</dcterms:modified>
  <cp:revision>29</cp:revision>
  <dc:subject/>
  <dc:title>Презентация PowerPoint</dc:title>
</cp:coreProperties>
</file>