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89EE-B26D-4770-9C4B-707B6D2B7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88EF-74CF-4EA4-8FE7-CDEA0FD8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DA3B-E9BB-4EF0-88AD-5BCB0655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3E36-D62A-43A9-916F-601D8034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AE68-0D01-46BB-9321-22D17F2A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E8D6-F233-4E3A-90EF-D2B04D34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88B0-3266-49CC-96D6-A5B28A58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589B-C0A9-4170-8414-2BDCFD62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5EFD-F0B4-423F-8181-15EC898A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82AD-BB8D-4BA4-8257-EFFFCDF2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B3A7-5B77-4C7B-B81A-2ADFA326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1FAA-8EE1-4938-A06E-8CB4E3C2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A297-DA45-47C1-9EDF-1C5898C8EC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choolsk@rambler.ru" TargetMode="External"/><Relationship Id="rId2" Type="http://schemas.openxmlformats.org/officeDocument/2006/relationships/hyperlink" Target="mailto:schoolsk@rambler.ru" TargetMode="External"/><Relationship Id="rId3" Type="http://schemas.openxmlformats.org/officeDocument/2006/relationships/hyperlink" Target="mailto:schoolsk@rambler.ru" TargetMode="External"/><Relationship Id="rId4" Type="http://schemas.openxmlformats.org/officeDocument/2006/relationships/hyperlink" Target="mailto:schoolsk@rambler.ru" TargetMode="External"/><Relationship Id="rId5" Type="http://schemas.openxmlformats.org/officeDocument/2006/relationships/hyperlink" Target="mailto:schoolsk@rambler.ru" TargetMode="External"/><Relationship Id="rId6" Type="http://schemas.openxmlformats.org/officeDocument/2006/relationships/hyperlink" Target="mailto:schoolsk@list.ru" TargetMode="External"/><Relationship Id="rId7" Type="http://schemas.openxmlformats.org/officeDocument/2006/relationships/hyperlink" Target="mailto:schoolsk@list.ru" TargetMode="External"/><Relationship Id="rId8" Type="http://schemas.openxmlformats.org/officeDocument/2006/relationships/hyperlink" Target="mailto:schoolsk@list.ru" TargetMode="External"/><Relationship Id="rId9" Type="http://schemas.openxmlformats.org/officeDocument/2006/relationships/hyperlink" Target="mailto:schoolsk@list.ru" TargetMode="External"/><Relationship Id="rId10" Type="http://schemas.openxmlformats.org/officeDocument/2006/relationships/hyperlink" Target="mailto:schoolsk@list.ru" TargetMode="External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choolsk@rambler.ru" TargetMode="External"/><Relationship Id="rId2" Type="http://schemas.openxmlformats.org/officeDocument/2006/relationships/hyperlink" Target="mailto:schoolsk@rambler.ru" TargetMode="External"/><Relationship Id="rId3" Type="http://schemas.openxmlformats.org/officeDocument/2006/relationships/hyperlink" Target="mailto:schoolsk@rambler.ru" TargetMode="External"/><Relationship Id="rId4" Type="http://schemas.openxmlformats.org/officeDocument/2006/relationships/hyperlink" Target="mailto:schoolsk@rambler.ru" TargetMode="External"/><Relationship Id="rId5" Type="http://schemas.openxmlformats.org/officeDocument/2006/relationships/hyperlink" Target="mailto:schoolsk@rambler.ru" TargetMode="External"/><Relationship Id="rId6" Type="http://schemas.openxmlformats.org/officeDocument/2006/relationships/hyperlink" Target="mailto:schoolsk@list.ru" TargetMode="External"/><Relationship Id="rId7" Type="http://schemas.openxmlformats.org/officeDocument/2006/relationships/hyperlink" Target="mailto:schoolsk@list.ru" TargetMode="External"/><Relationship Id="rId8" Type="http://schemas.openxmlformats.org/officeDocument/2006/relationships/hyperlink" Target="mailto:schoolsk@list.ru" TargetMode="External"/><Relationship Id="rId9" Type="http://schemas.openxmlformats.org/officeDocument/2006/relationships/hyperlink" Target="mailto:schoolsk@list.ru" TargetMode="External"/><Relationship Id="rId10" Type="http://schemas.openxmlformats.org/officeDocument/2006/relationships/hyperlink" Target="mailto:schoolsk@list.ru" TargetMode="External"/><Relationship Id="rId11" Type="http://schemas.openxmlformats.org/officeDocument/2006/relationships/image" Target="../media/image3.jpe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schoolsk@rambler.ru" TargetMode="External"/><Relationship Id="rId2" Type="http://schemas.openxmlformats.org/officeDocument/2006/relationships/hyperlink" Target="mailto:schoolsk@rambler.ru" TargetMode="External"/><Relationship Id="rId3" Type="http://schemas.openxmlformats.org/officeDocument/2006/relationships/hyperlink" Target="mailto:schoolsk@rambler.ru" TargetMode="External"/><Relationship Id="rId4" Type="http://schemas.openxmlformats.org/officeDocument/2006/relationships/hyperlink" Target="mailto:schoolsk@rambler.ru" TargetMode="External"/><Relationship Id="rId5" Type="http://schemas.openxmlformats.org/officeDocument/2006/relationships/hyperlink" Target="mailto:schoolsk@rambler.ru" TargetMode="External"/><Relationship Id="rId6" Type="http://schemas.openxmlformats.org/officeDocument/2006/relationships/hyperlink" Target="mailto:schoolsk@list.ru" TargetMode="External"/><Relationship Id="rId7" Type="http://schemas.openxmlformats.org/officeDocument/2006/relationships/hyperlink" Target="mailto:schoolsk@list.ru" TargetMode="External"/><Relationship Id="rId8" Type="http://schemas.openxmlformats.org/officeDocument/2006/relationships/hyperlink" Target="mailto:schoolsk@list.ru" TargetMode="External"/><Relationship Id="rId9" Type="http://schemas.openxmlformats.org/officeDocument/2006/relationships/hyperlink" Target="mailto:schoolsk@list.ru" TargetMode="External"/><Relationship Id="rId10" Type="http://schemas.openxmlformats.org/officeDocument/2006/relationships/hyperlink" Target="mailto:schoolsk@list.ru" TargetMode="External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schoolsk@rambler.ru" TargetMode="External"/><Relationship Id="rId2" Type="http://schemas.openxmlformats.org/officeDocument/2006/relationships/hyperlink" Target="mailto:schoolsk@rambler.ru" TargetMode="External"/><Relationship Id="rId3" Type="http://schemas.openxmlformats.org/officeDocument/2006/relationships/hyperlink" Target="mailto:schoolsk@rambler.ru" TargetMode="External"/><Relationship Id="rId4" Type="http://schemas.openxmlformats.org/officeDocument/2006/relationships/hyperlink" Target="mailto:schoolsk@rambler.ru" TargetMode="External"/><Relationship Id="rId5" Type="http://schemas.openxmlformats.org/officeDocument/2006/relationships/hyperlink" Target="mailto:schoolsk@rambler.ru" TargetMode="External"/><Relationship Id="rId6" Type="http://schemas.openxmlformats.org/officeDocument/2006/relationships/hyperlink" Target="mailto:schoolsk@list.ru" TargetMode="External"/><Relationship Id="rId7" Type="http://schemas.openxmlformats.org/officeDocument/2006/relationships/hyperlink" Target="mailto:schoolsk@list.ru" TargetMode="External"/><Relationship Id="rId8" Type="http://schemas.openxmlformats.org/officeDocument/2006/relationships/hyperlink" Target="mailto:schoolsk@list.ru" TargetMode="External"/><Relationship Id="rId9" Type="http://schemas.openxmlformats.org/officeDocument/2006/relationships/hyperlink" Target="mailto:schoolsk@list.ru" TargetMode="External"/><Relationship Id="rId10" Type="http://schemas.openxmlformats.org/officeDocument/2006/relationships/image" Target="../media/image6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ЕННОЕ ОБЩЕОБРАЗОВАТЕЛЬНОЕ УЧРЕЖДЕНИ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НТЫ-МАНСИЙСКОГО АВТОНОМНОГО ОКРУГА – ЮГРЫ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ГИОНСКАЯ ШКОЛА ДЛЯ ОБУЧАЮЩИХСЯ С ОГРАНИЧЕННЫМИ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ЯМИ ЗДОРОВЬЯ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8681, Ханты-Мансийский автономный округ – Югра, г. Мегион, ул. Ленина 9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/факс (34643) 2-44-84, 2-64-84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schoolsk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@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rambler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.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ru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schoolsk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@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list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.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ru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 8605013296, ОКОНХ 92310,71300,  ОКПО 47858836, ОГРН 1028601356343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ПП  860501001, БИК 047162000</a:t>
            </a:r>
            <a:br>
              <a:rPr sz="12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арева Татьяна Александровна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, тел 89195392868 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ya.789@mail.ru</a:t>
            </a:r>
            <a:br>
              <a:rPr sz="2800"/>
            </a:br>
            <a:br>
              <a:rPr sz="2800"/>
            </a:br>
            <a:br>
              <a:rPr sz="1200"/>
            </a:br>
            <a:br>
              <a:rPr sz="1200"/>
            </a:br>
            <a:br>
              <a:rPr sz="48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707920"/>
            <a:ext cx="914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Тема урока: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олнце во все времена года, его значение для природы и челове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Мир природы и человека 3 класс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ариант 1;8.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ушкарева Татьяна Александровна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C:\Users\USER\Desktop\урок солнце\22_3-800x800.jpg"/>
          <p:cNvPicPr/>
          <p:nvPr/>
        </p:nvPicPr>
        <p:blipFill>
          <a:blip r:embed="rId11"/>
          <a:stretch/>
        </p:blipFill>
        <p:spPr>
          <a:xfrm>
            <a:off x="611280" y="4581360"/>
            <a:ext cx="22762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ЕННОЕ ОБЩЕОБРАЗОВАТЕЛЬНОЕ УЧРЕЖДЕНИЕ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НТЫ-МАНСИЙСКОГО АВТОНОМНОГО ОКРУГА – ЮГРЫ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ГИОНСКАЯ ШКОЛА ДЛЯ ОБУЧАЮЩИХСЯ С ОГРАНИЧЕННЫМИ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ЯМИ ЗДОРОВЬЯ»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8681, Ханты-Мансийский автономный округ – Югра, г. Мегион, ул. Ленина 9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/факс (34643) 2-44-84, 2-64-84;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schoolsk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@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rambler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.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ru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schoolsk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@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list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.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ru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 8605013296, ОКОНХ 92310,71300,  ОКПО 47858836, ОГРН 1028601356343,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ПП  860501001, БИК 047162000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арева Татьяна Александровна, учитель начальных классов, тел 89195392868 ,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ya.789@mail.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2781360"/>
            <a:ext cx="91440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В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урока важно  уделить врем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й посадке и психологическом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ро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USER\Downloads\20211117_142330.jpg"/>
          <p:cNvPicPr/>
          <p:nvPr/>
        </p:nvPicPr>
        <p:blipFill>
          <a:blip r:embed="rId11"/>
          <a:stretch/>
        </p:blipFill>
        <p:spPr>
          <a:xfrm>
            <a:off x="250920" y="1844640"/>
            <a:ext cx="464508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Users\USER\Downloads\20211117_142425.jpg"/>
          <p:cNvPicPr/>
          <p:nvPr/>
        </p:nvPicPr>
        <p:blipFill>
          <a:blip r:embed="rId12"/>
          <a:stretch/>
        </p:blipFill>
        <p:spPr>
          <a:xfrm>
            <a:off x="4356000" y="3284640"/>
            <a:ext cx="478800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ЕННОЕ ОБЩЕОБРАЗОВАТЕЛЬНОЕ УЧРЕЖД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НТЫ-МАНСИЙСКОГО АВТОНОМНОГО ОКРУГА – ЮГРЫ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ГИОНСКАЯ ШКОЛА ДЛЯ ОБУЧАЮЩИХСЯ С ОГРАНИЧЕННЫМ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ЯМИ ЗДОРОВЬЯ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8681, Ханты-Мансийский автономный округ – Югра, г. Мегион, ул. Ленина 9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/факс (34643) 2-44-84, 2-64-84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schoolsk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@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rambler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schoolsk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@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list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 8605013296, ОКОНХ 92310,71300,  ОКПО 47858836, ОГРН 1028601356343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ПП  860501001, БИК 04716200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арева Татьяна Александровна, учитель начальных классов, тел 89195392868 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ya.789@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USER\Downloads\20211117_142550.jpg"/>
          <p:cNvPicPr/>
          <p:nvPr/>
        </p:nvPicPr>
        <p:blipFill>
          <a:blip r:embed="rId11"/>
          <a:stretch/>
        </p:blipFill>
        <p:spPr>
          <a:xfrm>
            <a:off x="395280" y="1773360"/>
            <a:ext cx="4549680" cy="20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250920" y="5229360"/>
          <a:ext cx="5646600" cy="438120"/>
        </p:xfrm>
        <a:graphic>
          <a:graphicData uri="http://schemas.openxmlformats.org/drawingml/2006/table">
            <a:tbl>
              <a:tblPr/>
              <a:tblGrid>
                <a:gridCol w="247680"/>
                <a:gridCol w="264960"/>
                <a:gridCol w="266760"/>
                <a:gridCol w="257040"/>
                <a:gridCol w="266760"/>
                <a:gridCol w="255600"/>
                <a:gridCol w="203400"/>
                <a:gridCol w="253800"/>
                <a:gridCol w="176400"/>
                <a:gridCol w="203040"/>
                <a:gridCol w="203040"/>
                <a:gridCol w="203400"/>
                <a:gridCol w="203040"/>
                <a:gridCol w="203400"/>
                <a:gridCol w="203040"/>
                <a:gridCol w="203400"/>
                <a:gridCol w="203040"/>
                <a:gridCol w="203400"/>
                <a:gridCol w="203040"/>
                <a:gridCol w="203040"/>
                <a:gridCol w="203400"/>
                <a:gridCol w="203040"/>
                <a:gridCol w="203400"/>
                <a:gridCol w="203040"/>
                <a:gridCol w="203400"/>
                <a:gridCol w="203040"/>
              </a:tblGrid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3"/>
          <p:cNvSpPr/>
          <p:nvPr/>
        </p:nvSpPr>
        <p:spPr>
          <a:xfrm>
            <a:off x="0" y="304920"/>
            <a:ext cx="4608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7"/>
          <p:cNvSpPr/>
          <p:nvPr/>
        </p:nvSpPr>
        <p:spPr>
          <a:xfrm>
            <a:off x="324000" y="479736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ЦНЛОС                 ОВ       ЕСВ            АНЕМЕРВ           АДО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435640" y="1916280"/>
            <a:ext cx="331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гадайте надпис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каждое слово справа налево и запишите что получилось. Попробуйте сделать предположение, о чем будем говорить на урок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ЕННОЕ ОБЩЕОБРАЗОВАТЕЛЬНОЕ УЧРЕЖД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НТЫ-МАНСИЙСКОГО АВТОНОМНОГО ОКРУГА – ЮГРЫ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ГИОНСКАЯ ШКОЛА ДЛЯ ОБУЧАЮЩИХСЯ С ОГРАНИЧЕННЫМ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ЯМИ ЗДОРОВЬЯ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8681, Ханты-Мансийский автономный округ – Югра, г. Мегион, ул. Ленина 9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/факс (34643) 2-44-84, 2-64-84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schoolsk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@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rambler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schoolsk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@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list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 8605013296, ОКОНХ 92310,71300,  ОКПО 47858836, ОГРН 1028601356343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ПП  860501001, БИК 04716200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арева Татьяна Александровна, учитель начальных классов, тел 89195392868 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ya.789@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USER\Downloads\20211117_143053.jpg"/>
          <p:cNvPicPr/>
          <p:nvPr/>
        </p:nvPicPr>
        <p:blipFill>
          <a:blip r:embed="rId10"/>
          <a:stretch/>
        </p:blipFill>
        <p:spPr>
          <a:xfrm>
            <a:off x="0" y="1700280"/>
            <a:ext cx="4251240" cy="1914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USER\Downloads\20211117_143235.jpg"/>
          <p:cNvPicPr/>
          <p:nvPr/>
        </p:nvPicPr>
        <p:blipFill>
          <a:blip r:embed="rId11"/>
          <a:stretch/>
        </p:blipFill>
        <p:spPr>
          <a:xfrm>
            <a:off x="4508640" y="4005360"/>
            <a:ext cx="3840120" cy="23032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5"/>
          <p:cNvSpPr/>
          <p:nvPr/>
        </p:nvSpPr>
        <p:spPr>
          <a:xfrm>
            <a:off x="4356000" y="1916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дня мы будем работать в трёх лабораториях, мы перемещаемся в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ую лабораторию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Роль солнца в природ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0" y="4149720"/>
            <a:ext cx="44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работой проведем гимнастику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глаз, так как нам нужно сейчас изуч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информ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ЕННОЕ ОБЩЕОБРАЗОВАТЕЛЬНОЕ УЧРЕЖД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НТЫ-МАНСИЙСКОГО АВТОНОМНОГО ОКРУГА – ЮГРЫ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ГИОНСКАЯ ШКОЛА ДЛЯ ОБУЧАЮЩИХСЯ С ОГРАНИЧЕННЫМ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ЯМИ ЗДОРОВЬЯ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8681, Ханты-Мансийский автономный округ – Югра, г. Мегион, ул. Ленина 9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/факс (34643) 2-44-84, 2-64-84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sk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bl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sk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 8605013296, ОКОНХ 92310,71300,  ОКПО 47858836, ОГРН 1028601356343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ПП  860501001, БИК 04716200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арева Татьяна Александровна, учитель начальных классов, тел 89195392868 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ya.789@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USER\Downloads\20211117_143400.jpg"/>
          <p:cNvPicPr/>
          <p:nvPr/>
        </p:nvPicPr>
        <p:blipFill>
          <a:blip r:embed="rId1"/>
          <a:stretch/>
        </p:blipFill>
        <p:spPr>
          <a:xfrm>
            <a:off x="179280" y="1916280"/>
            <a:ext cx="2916360" cy="198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Users\USER\Downloads\20211117_143522.jpg"/>
          <p:cNvPicPr/>
          <p:nvPr/>
        </p:nvPicPr>
        <p:blipFill>
          <a:blip r:embed="rId2"/>
          <a:stretch/>
        </p:blipFill>
        <p:spPr>
          <a:xfrm>
            <a:off x="3348000" y="1916280"/>
            <a:ext cx="2592360" cy="194436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6"/>
          <p:cNvSpPr/>
          <p:nvPr/>
        </p:nvSpPr>
        <p:spPr>
          <a:xfrm>
            <a:off x="6227640" y="1916280"/>
            <a:ext cx="2592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ескольких предложений, выберете то, которое подходит к теме нашего урока и повесьте его на доск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C:\Users\USER\Downloads\20211117_143750.jpg"/>
          <p:cNvPicPr/>
          <p:nvPr/>
        </p:nvPicPr>
        <p:blipFill>
          <a:blip r:embed="rId3"/>
          <a:stretch/>
        </p:blipFill>
        <p:spPr>
          <a:xfrm>
            <a:off x="5003640" y="4508640"/>
            <a:ext cx="3635640" cy="16365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0"/>
          <p:cNvSpPr/>
          <p:nvPr/>
        </p:nvSpPr>
        <p:spPr>
          <a:xfrm>
            <a:off x="539640" y="458136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ой стороне Земли, которая поворачивается к Солнцу, наступает день, а на противоположной ночь. Полный оборот вокруг своей оси Земля делает за 24 часа – сут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ЕННОЕ ОБЩЕОБРАЗОВАТЕЛЬНОЕ УЧРЕЖД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НТЫ-МАНСИЙСКОГО АВТОНОМНОГО ОКРУГА – ЮГРЫ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ГИОНСКАЯ ШКОЛА ДЛЯ ОБУЧАЮЩИХСЯ С ОГРАНИЧЕННЫМ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ЯМИ ЗДОРОВЬЯ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8681, Ханты-Мансийский автономный округ – Югра, г. Мегион, ул. Ленина 9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/факс (34643) 2-44-84, 2-64-84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sk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bl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sk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 8605013296, ОКОНХ 92310,71300,  ОКПО 47858836, ОГРН 1028601356343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ПП  860501001, БИК 04716200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арева Татьяна Александровна, учитель начальных классов, тел 89195392868 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ya.789@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USER\Downloads\20211117_144011.jpg"/>
          <p:cNvPicPr/>
          <p:nvPr/>
        </p:nvPicPr>
        <p:blipFill>
          <a:blip r:embed="rId1"/>
          <a:stretch/>
        </p:blipFill>
        <p:spPr>
          <a:xfrm>
            <a:off x="684360" y="1844640"/>
            <a:ext cx="2233440" cy="125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USER\Downloads\20211117_144039.jpg"/>
          <p:cNvPicPr/>
          <p:nvPr/>
        </p:nvPicPr>
        <p:blipFill>
          <a:blip r:embed="rId2"/>
          <a:stretch/>
        </p:blipFill>
        <p:spPr>
          <a:xfrm>
            <a:off x="3132000" y="1844640"/>
            <a:ext cx="2698920" cy="1214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Users\USER\Downloads\20211117_144652.jpg"/>
          <p:cNvPicPr/>
          <p:nvPr/>
        </p:nvPicPr>
        <p:blipFill>
          <a:blip r:embed="rId3"/>
          <a:stretch/>
        </p:blipFill>
        <p:spPr>
          <a:xfrm>
            <a:off x="6084720" y="1844640"/>
            <a:ext cx="2795760" cy="125892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1042920" y="378936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1"/>
          <p:cNvSpPr/>
          <p:nvPr/>
        </p:nvSpPr>
        <p:spPr>
          <a:xfrm>
            <a:off x="0" y="35002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чнем с нашего любимого времени год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лета. Нашли картинку с изображением ле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Какая погода летом? (жарка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Как летом светит солнце? (ярко). Нашли и приложили к картинке солнце, у которого много ярких больших луч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Где находится солнце на небосводе летом? (высоко; над головой)- поместили солнце прямо над дерев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Летом ночь длиннее или день? (день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йдите длинную желтую полоску в виде буквы П и сделайте из нее рамочку сверху нашей карти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Значит ночь будет короче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йдите синюю полоску в виде короткой П и подставьте ее внизу нашей карти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ЕННОЕ ОБЩЕОБРАЗОВАТЕЛЬНОЕ УЧРЕЖД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НТЫ-МАНСИЙСКОГО АВТОНОМНОГО ОКРУГА – ЮГРЫ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ГИОНСКАЯ ШКОЛА ДЛЯ ОБУЧАЮЩИХСЯ С ОГРАНИЧЕННЫМ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ЯМИ ЗДОРОВЬЯ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8681, Ханты-Мансийский автономный округ – Югра, г. Мегион, ул. Ленина 9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/факс (34643) 2-44-84, 2-64-84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sk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bl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sk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 8605013296, ОКОНХ 92310,71300,  ОКПО 47858836, ОГРН 1028601356343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ПП  860501001, БИК 04716200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арева Татьяна Александровна, учитель начальных классов, тел 89195392868 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ya.789@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Users\USER\Downloads\20211117_144923.jpg"/>
          <p:cNvPicPr/>
          <p:nvPr/>
        </p:nvPicPr>
        <p:blipFill>
          <a:blip r:embed="rId1"/>
          <a:stretch/>
        </p:blipFill>
        <p:spPr>
          <a:xfrm>
            <a:off x="324000" y="1844640"/>
            <a:ext cx="2890800" cy="130032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4"/>
          <p:cNvSpPr/>
          <p:nvPr/>
        </p:nvSpPr>
        <p:spPr>
          <a:xfrm>
            <a:off x="3276720" y="1628640"/>
            <a:ext cx="338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: Кристины Завернуть лист зелёного растения в чёрную бумагу. После нескольких дней под бумагой  зелёный листок стал бесцветны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C:\Users\USER\Downloads\20211117_145027.jpg"/>
          <p:cNvPicPr/>
          <p:nvPr/>
        </p:nvPicPr>
        <p:blipFill>
          <a:blip r:embed="rId2"/>
          <a:stretch/>
        </p:blipFill>
        <p:spPr>
          <a:xfrm>
            <a:off x="6372360" y="1844640"/>
            <a:ext cx="2555640" cy="11509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250920" y="3286440"/>
            <a:ext cx="864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доказали, что растениям нужен свет, чтобы производить зеленые клетки.  В темноте растения погибают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6" descr="C:\Users\USER\Downloads\20211117_145430.jpg"/>
          <p:cNvPicPr/>
          <p:nvPr/>
        </p:nvPicPr>
        <p:blipFill>
          <a:blip r:embed="rId3"/>
          <a:stretch/>
        </p:blipFill>
        <p:spPr>
          <a:xfrm>
            <a:off x="324000" y="3860640"/>
            <a:ext cx="2952720" cy="1328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C:\Users\USER\Downloads\20211117_145122.jpg"/>
          <p:cNvPicPr/>
          <p:nvPr/>
        </p:nvPicPr>
        <p:blipFill>
          <a:blip r:embed="rId4"/>
          <a:stretch/>
        </p:blipFill>
        <p:spPr>
          <a:xfrm>
            <a:off x="6080040" y="5479920"/>
            <a:ext cx="3063960" cy="1378080"/>
          </a:xfrm>
          <a:prstGeom prst="rect">
            <a:avLst/>
          </a:prstGeom>
          <a:ln w="0">
            <a:noFill/>
          </a:ln>
        </p:spPr>
      </p:pic>
      <p:sp>
        <p:nvSpPr>
          <p:cNvPr id="78" name="TextBox 11"/>
          <p:cNvSpPr/>
          <p:nvPr/>
        </p:nvSpPr>
        <p:spPr>
          <a:xfrm>
            <a:off x="3348000" y="4005360"/>
            <a:ext cx="54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олнечных час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ечные батареи в экспериментальном производстве автомобилей, самолетов, в космической станции и освещении улиц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минутка «Солнышко встало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8" descr="C:\Users\USER\Downloads\20211117_145801.jpg"/>
          <p:cNvPicPr/>
          <p:nvPr/>
        </p:nvPicPr>
        <p:blipFill>
          <a:blip r:embed="rId5"/>
          <a:stretch/>
        </p:blipFill>
        <p:spPr>
          <a:xfrm>
            <a:off x="250920" y="5229360"/>
            <a:ext cx="288108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ЕННОЕ ОБЩЕОБРАЗОВАТЕЛЬНОЕ УЧРЕЖД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НТЫ-МАНСИЙСКОГО АВТОНОМНОГО ОКРУГА – ЮГРЫ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ГИОНСКАЯ ШКОЛА ДЛЯ ОБУЧАЮЩИХСЯ С ОГРАНИЧЕННЫМ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ЯМИ ЗДОРОВЬЯ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8681, Ханты-Мансийский автономный округ – Югра, г. Мегион, ул. Ленина 9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/факс (34643) 2-44-84, 2-64-84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sk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bl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sk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 8605013296, ОКОНХ 92310,71300,  ОКПО 47858836, ОГРН 1028601356343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ПП  860501001, БИК 04716200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арева Татьяна Александровна, учитель начальных классов, тел 89195392868 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ya.789@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C:\Users\USER\Downloads\20211117_145857.jpg"/>
          <p:cNvPicPr/>
          <p:nvPr/>
        </p:nvPicPr>
        <p:blipFill>
          <a:blip r:embed="rId1"/>
          <a:stretch/>
        </p:blipFill>
        <p:spPr>
          <a:xfrm>
            <a:off x="539640" y="1700280"/>
            <a:ext cx="3549600" cy="159696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4175280" y="191628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ойте глаза, расслабьтесь, вытяните руки. Представьте, что на ладошках у вас лежит маленькое солнышко. Через пальчики, как лучики солнышка, идет тепло по рукам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C:\Users\USER\Downloads\20211117_150400.jpg"/>
          <p:cNvPicPr/>
          <p:nvPr/>
        </p:nvPicPr>
        <p:blipFill>
          <a:blip r:embed="rId2"/>
          <a:stretch/>
        </p:blipFill>
        <p:spPr>
          <a:xfrm>
            <a:off x="0" y="3500280"/>
            <a:ext cx="3564000" cy="1605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C:\Users\USER\Downloads\20211117_150516.jpg"/>
          <p:cNvPicPr/>
          <p:nvPr/>
        </p:nvPicPr>
        <p:blipFill>
          <a:blip r:embed="rId3"/>
          <a:stretch/>
        </p:blipFill>
        <p:spPr>
          <a:xfrm>
            <a:off x="7308720" y="3068640"/>
            <a:ext cx="1541520" cy="3429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8"/>
          <p:cNvSpPr/>
          <p:nvPr/>
        </p:nvSpPr>
        <p:spPr>
          <a:xfrm>
            <a:off x="3708360" y="3357720"/>
            <a:ext cx="345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прослушали советы профессора Бодрячка. Я раздаю вам памятки с его советами, но они разные. У кого-то в них говорится о пользе солнца, у кого-то о вреде. Ваше задание: определить, о чем эта памятка  и прикрепить сигнальный знак (приклеить солнышко и из пластилина вылепить ему радостное или хмурое лицо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ЕННОЕ ОБЩЕОБРАЗОВАТЕЛЬНОЕ УЧРЕЖД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НТЫ-МАНСИЙСКОГО АВТОНОМНОГО ОКРУГА – ЮГРЫ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ГИОНСКАЯ ШКОЛА ДЛЯ ОБУЧАЮЩИХСЯ С ОГРАНИЧЕННЫМ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ЯМИ ЗДОРОВЬЯ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8681, Ханты-Мансийский автономный округ – Югра, г. Мегион, ул. Ленина 9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/факс (34643) 2-44-84, 2-64-84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sk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bl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sk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 8605013296, ОКОНХ 92310,71300,  ОКПО 47858836, ОГРН 1028601356343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ПП  860501001, БИК 04716200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арева Татьяна Александровна, учитель начальных классов, тел 89195392868 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ya.789@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 и систематизация зн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обощение.mp4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89647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4T03:49:06Z</dcterms:created>
  <dc:creator>RePack by Diakov</dc:creator>
  <dc:description/>
  <dc:language>en-US</dc:language>
  <cp:lastModifiedBy>RePack by SPecialiST</cp:lastModifiedBy>
  <dcterms:modified xsi:type="dcterms:W3CDTF">2021-11-19T06:44:58Z</dcterms:modified>
  <cp:revision>29</cp:revision>
  <dc:subject/>
  <dc:title>Презентация PowerPoint</dc:title>
</cp:coreProperties>
</file>