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chimes.wav" ContentType="audio/x-wav"/>
  <Override PartName="/ppt/media/image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DE66-B43C-45E6-B829-FF5363E8A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8BC4-64A1-4C00-A2E4-EBEAD0702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46EEBD-0F1C-45C8-9373-9CAD4342D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8D5997-A88C-4CA9-8024-3A8E44B06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47EEB2-A446-4C00-ABCD-871D592BF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D6A5F8-3E9B-432B-A0ED-7E479B2A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BAC2D0-9929-4C30-81D1-653582132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AB23E5-6B34-4C38-AC10-8900421F4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398B20-67B7-40D8-A0E3-528A515ED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4316F9-7455-4AA5-9305-883D345BF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1B8830-3E5C-47F3-9D1C-7EF6DE91D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8B6079-7A6F-4C33-9C4E-D693E7802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AE33-4F33-470E-BB12-C1F8DB66C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DE5957-6DD4-4B6A-B808-06850C362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95D0AE-64A0-4CEF-BDB5-2ADDB4E94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F3669C-C2DE-42E7-B86F-856C1878D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B30B98-A627-471B-BA42-85F71A6CB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3EBF56-8E44-4110-BE3D-94F33166D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3236E8-B651-4FF3-9BA3-9E15A0FAA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97D860-6A3C-4D18-B428-5D74656CE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FA15C2-444E-4CC2-B553-7D67C675A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1470BB-2B75-4349-8EEC-3D762DB53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5EE68F-0EBF-4EA2-9813-C7A47E87B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71A0-8138-426D-B4FE-3E8AA3A8D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8693C3-B422-4274-ADBE-E58B2ABA0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2C4AF3-F2CC-4B5B-872E-66E40A52F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D92353-F385-4FFB-B842-A40E28EAC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E89398-226A-4471-ABCE-1FCF2504F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965D25-0524-456C-A4E6-7B5D9A630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169766-1DF5-4340-9921-317F1235A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12A0BA-74CA-4BA2-AF5E-E179EBA7B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898242-F74F-4B29-AE84-A5748ECE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A930AD-07CC-49BD-BFE8-CC6E9CA0D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42C64E-0AE4-46DA-B219-7A525BB9E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707FA-3B67-47A9-BB83-15EC6CE3A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67B4B3-3BE4-42FC-AAEB-915750345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3590EC-67DC-4881-B0DA-97A941886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EAEE37-F30B-4DD5-8D25-3EBA8F0EC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F2CC85-EB9C-482B-AF50-9AD5007E4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4F0F77-6618-4608-BC06-0D2205142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356724-9971-4880-B581-B849A70C9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69C2A3-87EC-4A9A-A4EE-1C9B7EB72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6E537A-1709-4035-9112-2D5EE52A3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8C9935-9BAA-430B-9E73-7277F1CED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AD805D-C0DD-4EA2-9B7B-37685B5D1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B2C8D-D3B5-4223-822C-B4AE02C15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CF8ADB-1F91-4AE5-BE02-C127BD24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7F4F8E-0117-4904-B923-D4DB7907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635E22-138F-4AE4-8BDB-E2D474FF8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9781D7-51E1-4166-BD5D-82E154653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453732-8485-45D1-806F-E77D692E4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2AA010-4824-4DDD-92D1-E38D498AA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28FC97-6AD8-431A-AD9E-5CA7098FC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40926B-AF1D-4078-A5A2-B54AEC3DE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5983DB-CA73-4B88-BA1B-40059F5D7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07A9F6-0622-42D0-8554-61F3152A6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82AE5-9EB1-4D5A-B691-C0FCF799D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91BCA9-ACCA-481A-8951-FCF9BE4D6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E4F676-C659-4032-9CED-23A55CE64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B2B4B2-DF05-4053-A6DF-27317FB8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142259-21B6-4808-9902-A396B80D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E8FE09-DF59-4CF0-97E4-E5C5DC03D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2F15DC-5F9F-417A-BA7B-762DC6D58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85E53A-CB10-4ACB-AE8C-181FDAC7E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76008-EA7C-4D96-85F8-E55428B02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426B8-3420-4299-A313-6485DEF75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123E7-4594-48F5-B0C4-C2D80B44A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A70D0-8BB3-4DC1-9BB5-AA7179273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1DEE-5B9D-4433-B6D2-4C5F7B2C4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D9A2B-1310-4139-81A8-D20A2F601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CEFDE-C22E-4B9B-927E-4814143BD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4DDA2-8AA9-4257-90BA-FD2CC4D05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94541-7A1D-4D53-8F63-868D967B4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5779A-852C-4FB1-AD76-1DB63CA61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6D685-3624-47C9-A420-CEC0C1627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14FCE-22CD-4D81-975C-5CB427CA7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825FF-2069-4EE8-B274-0DC58B7C2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5FF0F-184D-43A8-8EF9-0C3073ADB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DEEF2-03F9-416C-8F3F-B9A0867C5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C49C-3AFC-4249-9495-CE17CEFAA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41EB5-230E-47A8-B0B9-9586D23B3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B335A-D3D3-42A1-999C-5C2EB3A25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334DC-AB04-4EFB-A37A-70DB14EA2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83DD7-5A31-4E10-AC96-F6D0CDD8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AEB7F-71CC-496E-8DE8-25E596C74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941D8-86F0-4749-8EBA-71C056BD2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415BE-6335-4016-BA68-3CE88F5BA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EE316-5A61-413F-A55D-7453412D3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32700-EC0B-4EC6-942F-942DF8A80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C13CB-FFBB-4E50-A932-1A29A9F7C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9BF1-294D-4F99-A0C8-84A2AA423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212E1-727D-43D7-A0DD-79E9AB8B8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8D694-F440-4CFB-BEE6-4F4BD0B85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C693D-39EC-44BE-8F2A-9D5B62ABB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6BE93-920E-4894-BAAC-87253BC07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9F28E-755C-420C-B3E5-CE59BA40A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4BDB3-8782-45E7-BF46-2832590DD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46F91-44A0-42B3-BE10-8A96597E8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8940A-558D-482C-A5E0-46A70677F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FF2FE-7487-40F8-A300-270A789D1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299733-43A7-4E8F-8D15-E79B3EA2A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F698-D1CB-4DC5-BD7D-00BAE709A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788899-C51B-4C48-9EF6-E7F32BA22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03D64-134F-4DC2-B20D-4C114BA5B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281234-2230-4BF5-9A06-93B0D7659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193D2-72DF-4B53-8D91-8E5CF3685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BE54C9-CA5E-4385-8610-375F081A8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D5937E-42E8-4BD0-B226-A34D472C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6EE15-A35B-40EC-A248-7F8992406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F26775-E507-418E-BB7E-DACBE87BF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F5278-842D-4F95-8D69-B9BAAAF9E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0782FF-B690-473D-819C-0DA181378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0775-D816-4668-9412-EC28801C1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072F37-E6EF-43B9-B143-E97C0F625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D27B5B-7126-4120-8052-C0A38BABF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8C38A3-0539-4284-84AA-3F01A4717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37C280-69A4-4BB4-8190-CF038CE46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9CA8B8-14D0-4A34-BCE5-C8C63AD9F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7FBC6D-FE02-4C63-86BE-6AA633D12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76BC1C-E642-415F-8885-807E9A41F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6BE6A2-7D9A-4DD8-9883-EE9CA584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74BB26-EF56-4030-91A6-79C22BD5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0A473F-7EEA-461C-B115-6D026BF8B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74D2-F714-441A-BB41-D4D0D22BB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9AF6FF-286E-4DC3-931E-C94947ED1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6A3B67-6803-4BA3-96C3-859C8EA4F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8FFFB0-5C72-4EA0-8BFC-8CE461210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DD5CF4-EFCD-494A-BCB5-D3BF8974C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CC3B15-F3CD-4DA5-801B-CEC1FD1C9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E8BE50-609E-4911-B746-D56887892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B086E4-29FB-464A-8D15-EE8B390C8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B1ED4E-32CF-4884-8301-236F21CD9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B414FE-888D-4CF0-97D9-637C394A8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F81A3B-F41B-4C25-A609-3D7902E89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5BCB-14FC-490D-BFEC-4BF6D9DD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F11E63-8265-4284-ABD5-11E9E3F6D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58BCAA-A302-4646-8F11-414D247D6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903A35-99C5-4E2E-8FE1-8963F7DB8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022AFF-F332-4F51-A921-089866A0A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CDFD63-3B38-4C71-99B4-E0DAE14E5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F868D6-173E-468D-9C43-F0670A000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90F3D5-859F-484E-A663-E362B71B1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051FC0-304A-4037-B7D1-8D78435AA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25B37C-3AD0-4A56-BB4B-B595184EE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382F8D-4E40-4215-8CE9-821F9BA67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7BAF-6696-4860-BA0F-86876209A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E49E2E-071F-435B-9216-D2E4AE68C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B50AA4-01A6-44F9-BA8F-A63A758F8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9F31B6-6A45-44D2-AE96-33D91EFC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6F5AEB-F3B9-4356-A534-B162607F3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B0DEFC-3517-407E-85E2-16F4F6F06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A0F1F5-F526-4550-8AD5-4B5AEC6A6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D0F48B-FCBE-45D4-8EA4-408B50701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AE02E8-F0EF-4D0A-85FB-5FC93C218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50A8DE-5806-493F-BAA5-C142F82C8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C9B597-04EC-4C0B-98DA-0655D9E0E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DCB20-2917-47B9-9941-F86D0E23A98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17340-A80F-4E1E-874B-95E511DAA87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C1FC8-08FF-4D9A-8FEF-3782374E611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8119B-4C21-488D-B766-C78180F012D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962CD-6F2C-4A15-AF7A-DC39D894BDE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0D5C5-F924-445C-8D6B-D0F1DC5F4D2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A9E60-22FD-402A-92AB-BFFDD58EDC6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E08C0-D905-44F0-BFB0-F3F001E7F36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2BF01-533B-4961-95D0-979C2420022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F3078-8274-4E9F-A132-9016F2198C5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9BD93-AAD1-4E42-9D86-3A72BFCCD1C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C6A06-73D6-4D68-AE86-D91AEA37BFE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AEE04-CFA5-4F03-A136-D25BC6003DB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5" descr="850_ff2d44cca69875f6baddb9e74cffa1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6"/>
          <p:cNvSpPr/>
          <p:nvPr/>
        </p:nvSpPr>
        <p:spPr>
          <a:xfrm>
            <a:off x="304920" y="304920"/>
            <a:ext cx="861048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Тема: «Классическая музыка как основа художественно-эстетического воспитания детей дошкольного возраста 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cc"/>
                </a:solidFill>
                <a:latin typeface="Arial"/>
              </a:rPr>
              <a:t>Музыкальные руководители: Иванюк С. 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cc"/>
                </a:solidFill>
                <a:latin typeface="Arial"/>
              </a:rPr>
              <a:t>МДОУ Детский сад № 10 «Серебряное копытц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5" descr="90fad93bf438d89a6a1b07aad814e9e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5" descr="0013-015-Budto-rebjonok-vygljanul-v-okno-i-uvidel-zasypannuju-snegom-ulitsu-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2" name="Text Box 6"/>
          <p:cNvSpPr/>
          <p:nvPr/>
        </p:nvSpPr>
        <p:spPr>
          <a:xfrm>
            <a:off x="2993040" y="5410080"/>
            <a:ext cx="372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«Зимнее утро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5" descr="36862bf2c6a67be4bb065a1b6d24be9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5" descr="805207_anton_lomaev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5" name="Text Box 6"/>
          <p:cNvSpPr/>
          <p:nvPr/>
        </p:nvSpPr>
        <p:spPr>
          <a:xfrm>
            <a:off x="5646960" y="171360"/>
            <a:ext cx="34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«Игра в лошадк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5" descr="32535fc0af0ce76d146a95d2a692cb7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7" name="Text Box 6"/>
          <p:cNvSpPr/>
          <p:nvPr/>
        </p:nvSpPr>
        <p:spPr>
          <a:xfrm>
            <a:off x="1465560" y="304920"/>
            <a:ext cx="70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«Марш деревянных солдатиков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5" descr="850_ff2d44cca69875f6baddb9e74cffa1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9" name="Text Box 6"/>
          <p:cNvSpPr/>
          <p:nvPr/>
        </p:nvSpPr>
        <p:spPr>
          <a:xfrm>
            <a:off x="228600" y="457200"/>
            <a:ext cx="8686800" cy="45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6600"/>
                </a:solidFill>
                <a:latin typeface="Arial"/>
              </a:rPr>
              <a:t>Всё вокруг звучит, кроме тишины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cc"/>
                </a:solidFill>
                <a:latin typeface="Arial"/>
              </a:rPr>
              <a:t>Музыка вокруг нас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cc"/>
                </a:solidFill>
                <a:latin typeface="Arial"/>
              </a:rPr>
              <a:t>Надо только уметь её слыша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cc"/>
                </a:solidFill>
                <a:latin typeface="Arial"/>
              </a:rPr>
              <a:t>И наша задача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6600cc"/>
                </a:solidFill>
                <a:latin typeface="Arial"/>
              </a:rPr>
              <a:t>научить её СЛУША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cc"/>
                </a:solidFill>
                <a:latin typeface="Arial"/>
              </a:rPr>
              <a:t>наших воспитанников</a:t>
            </a:r>
            <a:r>
              <a:rPr b="1" i="1" lang="ru-RU" sz="1800" spc="-1" strike="noStrike">
                <a:solidFill>
                  <a:srgbClr val="6600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5" descr="5584_html_m344f404e (1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6" name="Text Box 6"/>
          <p:cNvSpPr/>
          <p:nvPr/>
        </p:nvSpPr>
        <p:spPr>
          <a:xfrm>
            <a:off x="304920" y="685800"/>
            <a:ext cx="8458200" cy="36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c00cc"/>
                </a:solidFill>
                <a:latin typeface="Arial"/>
              </a:rPr>
              <a:t>Вид</a:t>
            </a: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c00cc"/>
                </a:solidFill>
                <a:latin typeface="Arial"/>
              </a:rPr>
              <a:t>деятельности- слушание музы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9999"/>
                </a:solidFill>
                <a:uFillTx/>
                <a:latin typeface="Arial"/>
              </a:rPr>
              <a:t>Слушание музыки развива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cc6600"/>
                </a:solidFill>
                <a:latin typeface="Arial"/>
              </a:rPr>
              <a:t>- интерес, любовь к не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6600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cc6600"/>
                </a:solidFill>
                <a:latin typeface="Arial"/>
              </a:rPr>
              <a:t>расширяет музыкальный кругозор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6600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cc6600"/>
                </a:solidFill>
                <a:latin typeface="Arial"/>
              </a:rPr>
              <a:t>повышает музыкальную восприимчивость дете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6600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cc6600"/>
                </a:solidFill>
                <a:latin typeface="Arial"/>
              </a:rPr>
              <a:t>воспитывает музыкальный вку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5" descr="81702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8" name="Text Box 6"/>
          <p:cNvSpPr/>
          <p:nvPr/>
        </p:nvSpPr>
        <p:spPr>
          <a:xfrm>
            <a:off x="1371600" y="152280"/>
            <a:ext cx="7543800" cy="65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З а д а ч 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знакомить детей с художественными   образцами современной, классическо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музы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развивать музыкальную восприимчивость,  способствовать эмоционально откликаться на чувства, выраженные в музык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дать первоначальные сведения о классической музыке, подводить к запоминанию музыкальных произведений, различению их содержания, характера, средств выразительности, формировать оценочное отно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ознакомить дошкольников с композиторами классической музы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4"/>
          <p:cNvSpPr/>
          <p:nvPr/>
        </p:nvSpPr>
        <p:spPr>
          <a:xfrm>
            <a:off x="5165640" y="2855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6" descr="aHR0cDovL25lZWQ0c29mdC5ydS91cGxvYWRzL3RhZ2luYXRvci9Ob3YtMjAxMi9mb255LWRseWEtcHJlemVudGFjaWouanB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1" name="Text Box 7"/>
          <p:cNvSpPr/>
          <p:nvPr/>
        </p:nvSpPr>
        <p:spPr>
          <a:xfrm>
            <a:off x="304920" y="2057400"/>
            <a:ext cx="861048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При слушании музыки необходимо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Учитывать возрастные особенности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Правильно подобрать методический и музыкальный реперту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Заинтересовать и привлечь детей к прослушиванию музыкального произвед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5" descr="desktopwallpaper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6"/>
          <p:cNvSpPr/>
          <p:nvPr/>
        </p:nvSpPr>
        <p:spPr>
          <a:xfrm>
            <a:off x="457200" y="457200"/>
            <a:ext cx="8305920" cy="44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нализ с детьми прослушанного произведен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акие чувства передаёт музык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 чём рассказывает музы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3) Как рассказывает музы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5" descr="MusicMaster (1)"/>
          <p:cNvPicPr/>
          <p:nvPr/>
        </p:nvPicPr>
        <p:blipFill>
          <a:blip r:embed="rId1"/>
          <a:stretch/>
        </p:blipFill>
        <p:spPr>
          <a:xfrm>
            <a:off x="0" y="0"/>
            <a:ext cx="9144000" cy="6126120"/>
          </a:xfrm>
          <a:prstGeom prst="rect">
            <a:avLst/>
          </a:prstGeom>
          <a:ln w="0">
            <a:noFill/>
          </a:ln>
        </p:spPr>
      </p:pic>
      <p:sp>
        <p:nvSpPr>
          <p:cNvPr id="545" name="Text Box 6"/>
          <p:cNvSpPr/>
          <p:nvPr/>
        </p:nvSpPr>
        <p:spPr>
          <a:xfrm>
            <a:off x="228600" y="228600"/>
            <a:ext cx="8763120" cy="45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 концу пребывания в детском сад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ребёнок способен узнават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изведение в цел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дельные его ча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(вступление, запев, припев, заключение, часть  и т.д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анры (марш, танец, песн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вать характеристику произведен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5" descr="img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5" descr="da388805d72915b428bc7670a13b37e3_XL"/>
          <p:cNvPicPr/>
          <p:nvPr/>
        </p:nvPicPr>
        <p:blipFill>
          <a:blip r:embed="rId1"/>
          <a:stretch/>
        </p:blipFill>
        <p:spPr>
          <a:xfrm>
            <a:off x="685800" y="0"/>
            <a:ext cx="7848720" cy="685800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6"/>
          <p:cNvSpPr/>
          <p:nvPr/>
        </p:nvSpPr>
        <p:spPr>
          <a:xfrm>
            <a:off x="3456720" y="0"/>
            <a:ext cx="269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«П о л ь к 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5" descr="img4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22-01-02T10:19:08Z</dcterms:modified>
  <cp:revision>4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