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816-425E-4867-93BE-81D7CD5D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F08-61F7-4C09-A8A4-8D9445F3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AB6E4-D18A-4029-9DE9-8B76A6E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7C8C-6DF0-4C13-85D0-E41BC5D1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C478A-53B3-410F-8C19-0569B417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CE6F-1700-4558-92A4-7E1AB18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77CAB-347D-4833-95E6-2CF3D22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6F798-E33F-45A8-A8A8-07C0F97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D5A3A-8E95-404E-B728-79E89053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D316-0095-4880-8C9D-D48EB0C4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BDC30-9752-41DD-9F7B-2123D24C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39552-4E05-4644-BB78-8860721E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F03-97C2-4B0B-A73E-1D94F5CB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57BB0-F1D4-4807-ABD9-2B0CB90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5818B-95BE-475B-9F60-285681D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2456F-F85B-4742-8080-D8A6B34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13D3-C900-4374-8471-782AB986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4C9A5-05CB-4313-821B-C4F863DC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4D5D9-19BE-49BF-9554-9D0BAE2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4D802-9F27-450A-A43A-F484F48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AF2D-B76D-4B04-8EBD-CDCF6F1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A3C33-DA04-4260-AF0E-161AF053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8B0FF-3609-489D-9B3D-418D1542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500-B7BD-41DC-8FDA-A1A35D68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140B-FBB9-487D-A4D8-6BFBF72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8F494-4549-4530-AC66-0DA825CD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18648-7041-4D33-A4D8-5EF6DD45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081C5-CF22-4935-BE2C-548393D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B76E9-4B7C-4CC7-9106-91B0E2F4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3260-B5D9-4181-96C3-14C24190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47433-BFA4-4773-AF81-541AE64D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B6E80-03E7-49BF-B0E4-046A0B4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A6DDD-F530-4310-AD6F-5D2FDA9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4B43-E40F-4916-91EA-4972396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F2F1-7A53-4385-87D1-9F75AD03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B97B-91F2-406A-8646-EE90799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E5BF4-F1CB-489F-B99B-7C86DF10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41FF-1C6D-4311-BF90-F93E981B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9562F-3441-448C-9AB8-922E1CEE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F91EF-99DE-40BB-A29E-C6777A4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1E721-EDA4-49EF-903A-13F8BB8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8B5F7-1ECE-4389-B370-0C0C9A01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80C03-585B-444D-8E04-13FE7BD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121E0-38AE-4318-912A-BE3F6A8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CD9A7-A88B-445B-A31B-487BB09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4B9-ECEB-4400-811E-D8D0BAD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39C28-2819-4FD3-BF37-412BB3C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9E14-2264-4549-9E89-29B7766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82F07-28C4-4EBA-A9F7-88B5E97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CC6E8-2CB2-485E-AE78-3C4A8845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03D9C-5965-45C0-B432-D1697F65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426CF-9455-498F-9356-3DA7633C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6800D-394C-43B5-8087-6593816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567AF-A692-4E2D-BF1E-BBE156E1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0E466-674C-48FC-BC0D-6CA43D3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1A555-3756-46F7-92D1-F6BF51D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6972-778D-43BF-A5FF-270A8BC5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A118A-CBFA-4427-BB7A-C1222ED5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A9C83-44AE-47F2-B73F-E172A1C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C60AA-B493-4B9C-9856-4CF18DC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6BF30-8D68-4BF9-930E-31A7839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DEC7A-DCA8-405A-8067-4B1A20B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B8514-323B-4A8C-9795-E487CFB0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FF127-9AC5-4AA8-BCCA-575EEF0D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2041-C4A2-4F4D-A2FD-EDCCEFE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54A0-73F7-42A0-ABA4-C92BCC7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32BB-4B7D-4CD2-BC09-CA799490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2E3C-507B-4EFA-9D58-180FCCA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F59-B887-4CB4-A2D2-13D8054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D2D-1C2D-4045-93E6-580E258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541-988B-4AAE-824B-7DE752E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A58-E32A-4C47-A729-CB54900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D04-0EC9-4CF1-A261-1F9C7D7E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B436-0856-4AC3-9A53-F378E1EA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F1CA-A271-42A7-9763-B18EABC0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8A11-DAFC-40DB-8162-9405971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3521-8997-46A3-B3BA-BF486A5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8DBA-03FC-4674-A8CD-D798B7D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328F-6A3B-4969-BEEB-6E8B074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B1B-AE65-402A-BC4C-5204916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4749-12B4-422E-A875-E2C1B5C4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2E21-8566-4436-9422-F9A9FE7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7D73-3AEC-42D3-8580-DAFB3DB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F573-554B-4A95-90E0-A678543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F482-5612-425E-A2D0-4DF7A912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FEA4-CA9C-44DD-AF11-75B12D3F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E14C-3976-4A49-AB8E-E8D233D7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32A0-1F1C-4B0F-B8A6-D683B777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6C8F-4DEB-4A97-8524-481D386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26C6-DFD3-4467-AD20-71BCD4EC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7D8-30F2-4339-A5B0-D6D85E8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3D49-9677-4CFD-8E75-FAAA8FE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E9C3-9DF7-473E-83B1-229D7FA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A88D-2F20-4D12-9A58-057A621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C10C-87F1-4D68-B973-078C6B5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4173-AD12-4806-B290-4289E77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DDD4-B828-4949-94C8-3EB3791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A04D-FE1E-4950-943F-B9B59708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DF9B-9EE9-4D54-9379-E94E99F2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045D-F06F-43B8-83C1-C4DB4E17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CFC6-EE8B-4846-82FC-6CF04F5B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29D-838F-41F8-9A15-A05A802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7789-F09E-40A2-A2EF-75BD7AE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CD1C-4DED-487A-A94E-AE3D45E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3069-4B67-4112-9EE4-3F8E671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3205B-7437-4DD0-B01D-D389B09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AE41-A815-4908-B379-834D748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D782-A26C-48E8-BA1B-BFED7E7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5ED5-3E81-40B5-9D04-E90644B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4337-4138-4CB4-ABCF-31A9279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BFF6-DFF3-46AC-8F05-87C5F64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DD28-427C-4980-8DF7-5A589A9C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695-7594-40B0-9F67-B8FE9497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D530-1641-4B62-9847-D8411009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077ED-9327-48C6-8E3F-91682F50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AAFC-C94A-4844-BB51-13781C49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BE10-781B-4FFA-A047-948CBAD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A8F0-0E4A-4E2B-8666-4E675BF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656EA-8555-42B8-8B24-77361BF1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E266-3BF6-431D-B15F-A7D2531D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6502-A877-419C-B889-9FDC000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9176-4AD7-4B81-BC19-55B9AF65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C3CD-DAFC-438B-A2A9-C315002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07D-9D43-4A78-BD61-FE61051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82FD-C885-4E8B-A1F2-6036F937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DA3CA-D4A7-4A18-AA5F-92A063A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64E8-2E09-4C82-A441-36B885D6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90AF-3350-4D04-B2FF-AAC4F260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BD53-8215-4266-A394-8FC876BF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1050-B566-4F80-A37A-6D8CE06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2F67C-C844-442A-A213-7E4348D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4059-9657-4145-874E-B33DE48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1742-3096-41A7-982D-95FF333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9715-6D47-442A-8B23-A5CB57F9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FC0-6461-4912-9B0D-23CC6C3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08AD-19DC-413C-A7B3-F3E8AD96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3A14-9805-4D98-8F9E-5E27EF9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DF3B-6376-4788-8ED7-81FB641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6D0F-218C-4AAB-802C-E6CE9EEE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1E7D-F69F-47A5-BBB7-EC374D6B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4882C-27EA-4B89-B079-5402893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A5D3-084E-4589-B1DB-6F59B6E2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47B19-8C8E-4D0E-B0B4-8D0AC8B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5CFAC-9440-4214-8258-E503DCFF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5C649-997D-4CA8-91F2-A6FDC31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EE4-E762-4ACB-84D2-89DC9F4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682C-3FFF-42CC-943F-7E5C7142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A945-176B-4267-97D2-D973415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53B56-20D4-4B29-AAF4-3923063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225E-04DD-4864-BA2C-8B08268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523F-5DE1-4D95-BF3F-7E8D6C3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FCBE-E34A-4AAD-B5DA-C54E4F5A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559A-9186-488C-AF57-C333E639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85F43-15F4-41A8-97C3-BC43AD2A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BD237-7F71-42C3-9CA5-8FC7924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5FF36-6ADE-4A77-BD92-F019554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ED7-E0A1-44B3-B840-352A240D2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577-DC38-4EF1-86DE-0B755FAC20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5D28-71E3-4C1E-AF2A-071CEC3B49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4C2-8168-4A15-B070-0F314C8B4F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3D72-2027-4D43-B46D-2031BF137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AEB-B7EA-4E4E-BAEC-F5DF618FD4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CEA-1779-4ABC-8586-AA0102D0D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13BF-4129-47E0-B25D-7446720E6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901C-BD82-418A-88A2-02F167016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1FF-BF5C-4DF5-B500-9E28F8927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8545-4765-4A77-8A7D-9C9AC3B5A0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42CF-FECD-403C-9F7E-85F23D7D9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328E-945C-4319-A966-D05219547C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>
            <a:off x="304920" y="304920"/>
            <a:ext cx="86104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Тема: «Классическая музыка как основа художественно-эстетического воспитания детей дошкольного возраста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узыкальные руководители: Иванюк С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ДОУ Детский сад № 10 «Серебряное копыт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90fad93bf438d89a6a1b07aad814e9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013-015-Budto-rebjonok-vygljanul-v-okno-i-uvidel-zasypannuju-snegom-ulitsu-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993040" y="5410080"/>
            <a:ext cx="37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Зимнее ут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36862bf2c6a67be4bb065a1b6d24be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805207_anton_loma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5646960" y="1713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Игра в лоша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32535fc0af0ce76d146a95d2a692c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1465560" y="304920"/>
            <a:ext cx="70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«Марш деревянных солдат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228600" y="45720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Всё вокруг звучит, кроме тишин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Музыка вокруг на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до только уметь её слыш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И наша задач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учить её СЛУ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ших воспитанников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5584_html_m344f404e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304920" y="685800"/>
            <a:ext cx="8458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Вид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еятельности- слушание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Слушание музыки разв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- интерес, любовь к н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расширяет музыкальный круго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повышает музыкальную восприимчивость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оспитывает музыкальный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8170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1371600" y="152280"/>
            <a:ext cx="75438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З а д а ч 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комить детей с художественными   образцами современной, классиче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уз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звивать музыкальную восприимчивость,  способствовать эмоционально откликаться на чувства, выраженные в му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ать первоначальные сведения о классической музыке, подводить к запоминанию музыкальных произведений, различению их содержания, характера, средств выразительности, формировать оценочное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знакомить дошкольников с композиторами классической муз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5165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aHR0cDovL25lZWQ0c29mdC5ydS91cGxvYWRzL3RhZ2luYXRvci9Ob3YtMjAxMi9mb255LWRseWEtcHJlemVudGFjaWouanB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304920" y="2057400"/>
            <a:ext cx="8610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и слушании музыки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Учитывать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авильно подобрать методический и музыкальный реперт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Заинтересовать и привлечь детей к прослушиванию музыкаль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57200" y="457200"/>
            <a:ext cx="8305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с детьми прослушанного произ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чувства передаёт музы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ём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Как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MusicMaster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228600" y="228600"/>
            <a:ext cx="8763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концу пребывания в детском са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ебёнок способен узна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е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ьные его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вступление, запев, припев, заключение, часть 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ры (марш, танец, пес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ть характеристику произве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da388805d72915b428bc7670a13b37e3_XL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3456720" y="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П о л ь к 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im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1-02T10:19:0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