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3DB-A878-4DCF-8860-D7B898F5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1B2-3261-4A08-8F91-81252294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07DD9-E042-46F6-882F-3EA429E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835BB-79E4-408D-BF4B-B28B5DF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F2E0A-CD61-4A48-815D-9CF0568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7A46-8684-4310-A553-FC85E3B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DA194-104E-4C7D-A42A-9C802D2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1E4C-94F7-457B-8E67-E7028D0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0B189-A882-4992-B6E7-03A2C15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C5384-32F2-470D-801D-E28B794E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C348E-9FA4-4FD0-A91D-6E72ACA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E09F-8B0A-4D08-A2E4-65E70F0D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7B3-CFFC-47D2-BEF7-60B71E5E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0B317-B3AB-4033-9ABF-7DCBBDC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C30D7-B7C8-4DF4-A058-444759C7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5D780-6B07-4448-A3E5-179A2CB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4F13B-A846-4C6C-9ACE-40DAB97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8920-F204-499D-A57C-D44CD9F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89A34-EB66-4D48-93C7-746608A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40AEB-4558-400E-80EE-037ABE1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633D5-984D-4D31-822E-486E540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9C550-1846-404A-B2C9-8222148D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0B5B-7F0F-4377-BF3C-8B4F7AFB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537-A37B-434F-BFE8-41650383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16C54-BD40-4C8D-95E8-A8368AF5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0FA98-74FE-489A-A805-25EB50F2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5B70-4E6A-45B0-9A9D-C83DBF5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98DF5-4A72-482C-AA30-2C5CB19B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5B554-F233-4A93-8B9B-B9D00AC1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9E962-5F2B-4F1A-ABB2-2250245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11C8B-77C2-4508-AEA3-8662359D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50EEB-BB9D-4AE5-85D8-F014A37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483F-1EB7-4EA7-B7BF-BF5F2E9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F2CF-4395-4997-93E9-E96CFEE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5F5B-7494-432B-97B3-11165BB8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5765-5EB0-4E40-9C48-CFCDFCA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8003B-9194-43DF-A2E9-4FAC1686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8BB1F-0E91-4818-BA7F-982662E5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71620-332B-4FAE-8840-F56A9675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C9375-18D2-4451-ABD9-76A7F391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BDA42-9648-4938-A1B4-B8B690B4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DD434-D55B-410A-BEDE-8C054D1B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9C4CD-AE41-4016-8793-5C7C671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34382-7D21-4921-B5BE-EF2E3E3D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6B8D2-A669-494D-B45F-E0E5AE7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B38-EDA0-4E48-B470-1882EB2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2462D-432C-4A57-8723-790AD1D8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D3B9-1A20-45D9-A2AD-9AD19A19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88876-48F0-4F71-8D40-47D05E5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7E6BC-0F94-4104-BFF3-D959F8D6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ABE15-EA51-48CA-AA8E-D26DA24B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E2462-4209-4BB3-B257-FD853063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01965-C0F1-4B5B-8CCD-288C788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6C67D-41EF-4A0C-ACAA-BE3EFF5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AB1C5-2DB6-4968-929E-9640D55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531E6-79A7-4382-A735-1C081C79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926-0C97-4F1B-BB30-E180052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34B48-6079-44AB-919A-2D68A58A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DFDAD-6BC8-4825-8247-7AF4EBF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BED99-A0AB-4F5C-A880-4DE8515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6C2DF-09A9-4C6E-AF54-40958AF0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4FBF8-7BFA-4137-AEF1-E741C367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FD427-2410-4FE0-BEDB-0FAA2EEE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9EF87-9BE6-4C5B-A83B-C72E3848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7E0E-A94C-4250-9ACB-85E02ACE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EEB-7BFF-474A-9CF3-6C19381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37A3-9BCB-4D7E-AF1C-E7BF354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64C-056A-4CF6-94F1-0488F6A2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FC7-7E37-42FF-B875-31CACA6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12E-C793-4EB1-A4A6-22FDA56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945-1686-41B9-AE66-500EEB31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DE33-01D0-4D15-9A84-9B6F234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D46-D6FA-4D1F-8311-136E04B3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FF85-63E5-4E3D-8B36-DE151A45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94CD-6523-466B-8F6E-ED4F697A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904F-20C0-4B0A-B455-D8B57BA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C1EA-1DF8-4B6D-8AF1-7D3E6BDE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610B-B7C7-472B-B21B-7939301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AA4D-1357-4325-ACFD-251D938B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DD6-06C2-4D57-AE4C-192D5A8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AD08-6E66-43D8-8A39-68E00D6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D0CB-F4C1-42AB-9922-2D94EAF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EA2B-F13D-485C-8FE6-B0C4228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0735-78F9-4770-9FD2-CD0F428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F7AC-A36E-4D2F-8645-3E606C7C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B140-57A0-441B-813A-570FD92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60E0-9CA4-4FFF-891D-03F50E91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F257-EDD7-46FE-B027-644CE1A6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DC49-2CC5-41B6-B673-64454B8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069B-154F-4C44-8986-890ACBA4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071-A1A1-48F0-AEDC-A7B3859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91C1-EFA1-446F-A63F-F1570C7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5DB7-0955-4BC8-80E8-557B76D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5820-3DFD-4C3C-831D-3327CF1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B7A7-C932-47E3-BBB5-5E4184A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4614-6886-4BD7-A190-91AE0F9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9252-47B1-4C3A-AA69-0CDD19C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6056-64FA-4863-B282-6034F65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FDB0-5D85-4D17-9D66-35F0D19A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71AF-949F-408C-9AC2-A1549A2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2276-BE09-4A2C-B773-4CB87C66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29A-04F6-4592-9535-35D76B0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2835-DE24-4090-B363-9B7D93A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EAC0-FBC2-452C-AD9E-6E663FF4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5B47-B7B5-4CFC-B1B4-E9737938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3972-FAF5-43DD-B029-350EA4E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9440-A7F4-429B-AC17-6C47C421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577C-2418-4A80-AFF2-850DD78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F3DD-C040-4FFD-9613-3EBD7901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2E8F-6709-42B9-AD6C-B8A14D1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2237B-DBD7-4CF6-9B28-0F82CBF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D57D-791F-4A42-9026-CCF962E4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0CA-81EA-4C01-8488-F0191C60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0ABF-3B31-4BAE-B1A6-2E101728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5856-F793-47EA-BCF8-13AC3AD4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EC1D-A281-4C0F-AC2B-A5A09A9F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01AD-F769-4A2A-810F-BE512E9D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FA5D-95D0-49DF-AE1F-2FCDD4E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BF63-358D-4B25-B2C3-5CF8843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0FEE-750C-44CD-9C6A-982A670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7CA6-559B-4487-8D92-06CFC66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267C-4DC6-4C28-ACF6-D1EED2D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A074-865A-4566-AD06-77B60F4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AC0-2DE5-4EF7-BA2E-D6DB751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48650-9A56-4183-8239-63FB0E53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85BC-A352-4701-A62F-06C3FD00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5CB0-3CA6-4E75-9D52-635B1FEE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FC14-B30F-4802-900C-8348868E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CEF5-0370-404C-9B6C-2CA223A3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E865-7D68-4DA5-9830-165B7D0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1C01-A099-432D-869E-C79C74EE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1D7C-136F-47C4-A0FC-7055AF0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83D9-F562-4B27-BB45-10779A0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026F-0A38-4857-AF67-50DCFC8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B16-32FC-4663-9A7F-0CA872F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8D19-69B9-4907-AA40-AD92A7F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4EA7-0304-472B-A398-E7BAA34E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92AA-482E-4A36-A7C3-B320DA5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66C7C-B9EB-4F82-96E6-4A18B53E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4824-3E89-4BA1-8A61-2A7773BD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8875-13D1-4C58-BDA1-B1F2D4B4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AD17-1805-4C4C-A509-2DC9434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D6997-000C-4466-9BCB-54CCE1A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BAA9-F970-46FC-A4EC-E6C69F8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0A3A2-02F2-4F72-953E-EDD1039C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CDE-7602-4552-99D5-6B2EF88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754DD-3C29-49A5-AB58-114FDF3F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42A0-BE01-43EF-B77B-CFE016D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8C3E-145B-452C-A174-8CB4BD8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9CF3-D97D-4100-A1BE-69BDFD1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4EC4-CD7C-4626-8ECF-FBA6644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E010-95C9-4000-9081-41662DEA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FDA0-15A4-417D-83FC-D57669E9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F6A47-D76F-48CC-BDB2-2F5EAE79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6A52-A677-41DD-8ED9-3A18F8AD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11B9D-1AF5-4C4B-B835-2A96D4B2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3010-5D03-4EF6-ABB4-7DBB0AB35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AAA-66A2-4C3C-BDC6-7AAFA4183C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6A3-AC18-4B3B-8532-7F8E293A8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7B5-E630-431F-9AC6-425A10E003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DE5-020B-4AAA-BFB4-D1D0BCC11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D8A-B29B-447B-ADED-E1C2E7A529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D6E9-0672-4E1E-81EA-A359AC0235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F90-6486-4E53-9739-1CE9DEC2BD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B7E-B03C-4FCE-ABD6-3C9FB002F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93A-F03D-4581-928A-6CA57E4C53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1AF-5E98-4137-84ED-845C02DF1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3D6-DAB1-4D95-8B78-F4161DE5F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9DF-D8A8-411D-B6EA-9093F6F8B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>
            <a:off x="304920" y="304920"/>
            <a:ext cx="86104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Тема: «Классическая музыка как основа художественно-эстетического воспитания детей дошкольного возраста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узыкальные руководители: Иванюк С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МДОУ Детский сад № 10 «Серебряное копыт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90fad93bf438d89a6a1b07aad814e9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013-015-Budto-rebjonok-vygljanul-v-okno-i-uvidel-zasypannuju-snegom-ulitsu-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993040" y="5410080"/>
            <a:ext cx="37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Зимнее ут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5" descr="36862bf2c6a67be4bb065a1b6d24be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805207_anton_loma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5646960" y="1713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Игра в лоша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32535fc0af0ce76d146a95d2a692c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1465560" y="304920"/>
            <a:ext cx="70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«Марш деревянных солдат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850_ff2d44cca69875f6baddb9e74cffa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228600" y="45720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Всё вокруг звучит, кроме тишин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Музыка вокруг на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до только уметь её слыш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И наша задач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учить её СЛУ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аших воспитанников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5584_html_m344f404e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304920" y="685800"/>
            <a:ext cx="8458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Вид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еятельности- слушание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Слушание музыки разв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- интерес, любовь к н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расширяет музыкальный круго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повышает музыкальную восприимчивость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оспитывает музыкальный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8170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6"/>
          <p:cNvSpPr/>
          <p:nvPr/>
        </p:nvSpPr>
        <p:spPr>
          <a:xfrm>
            <a:off x="1371600" y="152280"/>
            <a:ext cx="75438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З а д а ч 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накомить детей с художественными   образцами современной, классиче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уз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звивать музыкальную восприимчивость,  способствовать эмоционально откликаться на чувства, выраженные в му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ать первоначальные сведения о классической музыке, подводить к запоминанию музыкальных произведений, различению их содержания, характера, средств выразительности, формировать оценочное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знакомить дошкольников с композиторами классической муз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5165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aHR0cDovL25lZWQ0c29mdC5ydS91cGxvYWRzL3RhZ2luYXRvci9Ob3YtMjAxMi9mb255LWRseWEtcHJlemVudGFjaWouanB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304920" y="2057400"/>
            <a:ext cx="8610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и слушании музыки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Учитывать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авильно подобрать методический и музыкальный реперт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Заинтересовать и привлечь детей к прослушиванию музыкаль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57200" y="457200"/>
            <a:ext cx="8305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с детьми прослушанного произ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чувства передаёт музы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чём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Как рассказывает му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MusicMaster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228600" y="228600"/>
            <a:ext cx="8763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концу пребывания в детском са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ебёнок способен узна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е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ьные его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вступление, запев, припев, заключение, часть 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ры (марш, танец, пес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ть характеристику произве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da388805d72915b428bc7670a13b37e3_XL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3456720" y="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П о л ь к 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im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1-02T10:19:0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