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3644-6ECD-487B-8E51-59D1BD2E0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9FE3-4788-43D3-ADC9-AE11D1E46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A529-280E-4E54-80C9-4DD01EB55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E628-A421-456D-A112-F297E3608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33DFD-4189-42E3-8AF1-1C2365234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02334-36C4-441A-A512-4FC07B9EF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9795E-74BC-48A7-A982-52177451A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70447-096D-4F27-8FDD-B8D9277C2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A5D2C-D71D-46E4-9F68-3EE11F642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14D7D-FEB4-4C00-B3CA-104081614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757BF-42FD-47D7-B834-69D1C9AF9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50D7-D809-43FC-A96C-DF7C3A526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60F6D-7601-4593-A5EC-AED8CC9BB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220D3-8DD7-486B-9652-FCF3B1C2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FE799-8D03-4067-970E-8E2F80E00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8BB0D-45DA-456B-852C-6EA83A463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07002-9E29-43FF-B21A-D1E04AA07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9418-8F8D-43EE-A4EF-F35D73D6F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79F5-D789-4E69-BEB1-E25520DA7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54CC-D296-4893-A6E6-E71B47F25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D13B-4443-498E-9AA6-D435FC4F7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5082-8706-421A-8C12-0B909C8DA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18BC-8F48-4F9A-A45C-D5EBFE2CD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9D51-CF28-4978-A14E-2265E6979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CB242-7FF8-425E-A1ED-F27BEB40A16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F80EB-9090-4DAD-8525-84392E060A7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539640" y="3789000"/>
            <a:ext cx="784872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частье всего мира не стоит одно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лезы на щеке невинного ребён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Ф.М. Достоевск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WordArt 4"/>
          <p:cNvSpPr txBox="1"/>
          <p:nvPr/>
        </p:nvSpPr>
        <p:spPr>
          <a:xfrm>
            <a:off x="826920" y="404640"/>
            <a:ext cx="745992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latin typeface="Arial Black"/>
              </a:rPr>
              <a:t>Права ребёнка 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latin typeface="Arial Black"/>
              </a:rPr>
              <a:t>в семье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WordArt 4"/>
          <p:cNvSpPr txBox="1"/>
          <p:nvPr/>
        </p:nvSpPr>
        <p:spPr>
          <a:xfrm>
            <a:off x="250920" y="1268280"/>
            <a:ext cx="871380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1"/>
                </a:solidFill>
                <a:latin typeface="Times New Roman"/>
              </a:rPr>
              <a:t>Спасибо за внимание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61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68000" y="260280"/>
            <a:ext cx="821844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ahoma"/>
              </a:rPr>
              <a:t>Основные документы, в которых записаны права ребенка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екларация прав ребёнка принята Генеральной ассамблеей ООН (20.11.1959 г.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онвенция о правах ребенка принята Генеральной ассамблеей ООН (20.11.1989 г.) в нашей стране вступила в силу 02.09.1990 г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онституция РФ (Глава 2 Права и свободы человека и гражданина принята 12.12.1993г.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емейный кодекс РФ (принят 15.11.1997г.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Федеральный закон от 24 июля 1998 г. N 124-ФЗ "Об основных гарантиях прав ребенка в РФ"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611280" y="5877000"/>
            <a:ext cx="7715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WordArt 7"/>
          <p:cNvSpPr txBox="1"/>
          <p:nvPr/>
        </p:nvSpPr>
        <p:spPr>
          <a:xfrm>
            <a:off x="108000" y="260280"/>
            <a:ext cx="8856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latin typeface="Arial Black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1"/>
                </a:solidFill>
                <a:latin typeface="Arial"/>
              </a:rPr>
              <a:t>Международные документы о правах детей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3964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ahoma"/>
              </a:rPr>
              <a:t>Декларация прав ребенка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то международный документ, который определяет основные права и принципы, которые должны быть обеспечены для ребенка во всем мире. Декларация была принята 20 ноября 1959 года Генеральной Ассамблеей Организации Объединенных Наций и с тех пор стала главным источником международного права, касающегося защиты прав ребен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ffff61"/>
                </a:solidFill>
                <a:latin typeface="Arial"/>
              </a:rPr>
              <a:t>Конвенция о правах ребенка </a:t>
            </a:r>
            <a:br>
              <a:rPr sz="32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3964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международный договор, в котором оговорены права ребенка. Конвенция в переводе с латинского – договор, соглашение по специальному вопросу, имеющее обязательную силу для тех государств, которые ее подписали. Она содержит три части, 54 стать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0 ноября 1989 года Генеральная Ассамблея ООН приняла Конвенцию о правах ребенка, которая сегодня является международным закон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нвенция о правах ребенка закрепляет равные права детей и подростков, не достигших 18 лет. Право на жизнь и развитие. Право на спокойное детство и на защиту от насилия. Право быть уважаемым за свой образ мыслей. В первую очередь всегда должны учитываться интересы ребен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62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1"/>
                </a:solidFill>
                <a:latin typeface="Arial Black"/>
              </a:rPr>
              <a:t>Основные права ребёнка, сформулированные в Конвенции:</a:t>
            </a:r>
            <a:r>
              <a:rPr b="0" lang="ru-RU" sz="4000" spc="-1" strike="noStrike">
                <a:solidFill>
                  <a:srgbClr val="ffff6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2803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раво на жизнь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а гражданство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а образовани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а отдых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а заботу родителе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а защиту от физического и психического насил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а развитие личных талантов, умственных и физических способносте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охранение своей индивидуальност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а общение, которое развивает достоинство и значимость лич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9152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61"/>
                </a:solidFill>
                <a:latin typeface="Arial Black"/>
              </a:rPr>
              <a:t>Права родителей: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569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любить ребёнк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давать совет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контролировать поступки ребёнка, исполнение ими обязанностей (частично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оощрять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ысказывать недовольство в  корретной форме, не унижая достоинство ребёнк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убеждать и т. 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Arial Black"/>
              </a:rPr>
              <a:t>Права  детей: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5802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роявлять заботу о родителях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ринимать и не принимать совет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ыражать своё мнение в корректной форм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ыбирать свой имидж и способ времяпрепровождения с учётом требований и норм общественной морали, финансовых возможностей родителей и без риска для здоровь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иметь право выбора друз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6058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 Black"/>
              </a:rPr>
              <a:t>Правила поведения в семье: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4250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Уметь слушать своего ребёнка всегда и везде, отдаваясь этому слушанию целиком и полностью, не перебивая ребёнка, не отмахиваясь от него, как от назойливой мухи, проявляя терпение и такт. Необходимо чаще разговаривать с ребёнком. Помните, что ни телевизор, ни компьютер не заменят ему вас. Организуйте свой быт так, чтобы ребёнок в семье не чувствовал себя «жертвой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36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63600" indent="-3636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Уметь говорить со своим ребенком так, как если бы вам хотелось, чтобы говорили с вами, проявляя мягкость, уважительность, исключая назидательность, грубость и хамств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36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63600" indent="-3636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есмотря ни на что, сохраняйте положительное представление о своём ребёнке. Наказывайте, не унижая, а сохраняя достоинство ребёнка, вселяя надежду на исправлени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18:58:09Z</dcterms:created>
  <dc:creator>XXX</dc:creator>
  <dc:description/>
  <dc:language>en-US</dc:language>
  <cp:lastModifiedBy>Са</cp:lastModifiedBy>
  <dcterms:modified xsi:type="dcterms:W3CDTF">2023-11-20T17:58:55Z</dcterms:modified>
  <cp:revision>19</cp:revision>
  <dc:subject/>
  <dc:title>«Права ребёнка в семье»</dc:title>
</cp:coreProperties>
</file>