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5AE-FDD6-4AFF-80C2-C8E251DD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D2D-F12A-43FA-9884-1787D0E6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4CA-ED2F-493C-A728-A0ADB548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2B8-F50D-4BA9-BC53-39B1B294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606F-DBB4-4FB2-8940-03C7DA2E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9E14-B18F-4198-9BA7-7EFE7202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E550-ADB6-40C1-BB4A-2D2A88D6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21AD-C9FC-4AF8-A19A-0AB115FD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993D-829E-4855-8AB8-39482535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33ED-727B-4129-963C-2C6BF426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131C-527F-4D4A-84D2-94A1C761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BD3-5823-44B3-AF06-8DE51949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6FB4-6FA9-482E-A957-19F5A328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1516-F56C-4A57-99AF-3CE59CB6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1DFF-CA0C-4FCB-B276-0F3C10B9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B69A-9FCE-4621-94C7-124ADD0E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4983-14D7-4676-BCCE-46A0530B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82B-46DD-492C-8A8A-D316FC4F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4DB4-043F-4114-8283-FB448DE5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49E-8423-425A-B0EE-8A3A2F1A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292-CEAF-4843-B0B9-D196530A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129-069D-482E-8470-1310225D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887-6299-4D80-8740-7D650288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BAF-FAC8-4E02-B597-8290F5F1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D581-834D-4417-B521-224F876627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3BE3-6309-44AE-95D4-07626E38F0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9640" y="3789000"/>
            <a:ext cx="7848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частье всего мира не стоит одн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лезы на щеке невинного ребё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.М. Достое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826920" y="404640"/>
            <a:ext cx="74599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Права ребёнка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в семье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4"/>
          <p:cNvSpPr txBox="1"/>
          <p:nvPr/>
        </p:nvSpPr>
        <p:spPr>
          <a:xfrm>
            <a:off x="250920" y="1268280"/>
            <a:ext cx="87138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1"/>
                </a:solidFill>
                <a:latin typeface="Times New Roman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1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Основные документы, в которых записаны права ребенк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кларация прав ребёнка принята Генеральной ассамблеей ООН (20.11.1959 г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венция о правах ребенка принята Генеральной ассамблеей ООН (20.11.1989 г.) в нашей стране вступила в силу 02.09.1990 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ституция РФ (Глава 2 Права и свободы человека и гражданина принята 12.12.1993г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емейный кодекс РФ (принят 15.11.1997г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едеральный закон от 24 июля 1998 г. N 124-ФЗ "Об основных гарантиях прав ребенка в РФ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5877000"/>
            <a:ext cx="771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108000" y="260280"/>
            <a:ext cx="885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1"/>
                </a:solidFill>
                <a:latin typeface="Arial"/>
              </a:rPr>
              <a:t>Международные документы о правах дете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964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Декларация прав ребенка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международный документ, который определяет основные права и принципы, которые должны быть обеспечены для ребенка во всем мире. Декларация была принята 20 ноября 1959 года Генеральной Ассамблеей Организации Объединенных Наций и с тех пор стала главным источником международного права, касающегося защиты прав ребе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61"/>
                </a:solidFill>
                <a:latin typeface="Arial"/>
              </a:rPr>
              <a:t>Конвенция о правах ребенка 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еждународный договор, в котором оговорены права ребенка. Конвенция в переводе с латинского – договор, соглашение по специальному вопросу, имеющее обязательную силу для тех государств, которые ее подписали. Она содержит три части, 54 стать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 ноября 1989 года Генеральная Ассамблея ООН приняла Конвенцию о правах ребенка, которая сегодня является международным зако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венция о правах ребенка закрепляет равные права детей и подростков, не достигших 18 лет. Право на жизнь и развитие. Право на спокойное детство и на защиту от насилия. Право быть уважаемым за свой образ мыслей. В первую очередь всегда должны учитываться интересы ребен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1"/>
                </a:solidFill>
                <a:latin typeface="Arial Black"/>
              </a:rPr>
              <a:t>Основные права ребёнка, сформулированные в Конвенции:</a:t>
            </a:r>
            <a:r>
              <a:rPr b="0" lang="ru-RU" sz="4000" spc="-1" strike="noStrike">
                <a:solidFill>
                  <a:srgbClr val="ffff6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о на жизн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граждан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бразов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тд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заботу роди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защиту от физического и психического насил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развитие личных талантов, умственных и физических способнос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хранение своей индивидуа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бщение, которое развивает достоинство и значимость лич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91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1"/>
                </a:solidFill>
                <a:latin typeface="Arial Black"/>
              </a:rPr>
              <a:t>Права родителей: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юбить ребён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авать сове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нтролировать поступки ребёнка, исполнение ими обязанностей (частично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ощря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сказывать недовольство в  корретной форме, не унижая достоинство ребён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беждать и т. 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 Black"/>
              </a:rPr>
              <a:t>Права  детей: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580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являть заботу о родител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нимать и не принимать сове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ражать своё мнение в корректной форм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бирать свой имидж и способ времяпрепровождения с учётом требований и норм общественной морали, финансовых возможностей родителей и без риска для здоров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меть право выбора друз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605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Правила поведения в семье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42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меть слушать своего ребёнка всегда и везде, отдаваясь этому слушанию целиком и полностью, не перебивая ребёнка, не отмахиваясь от него, как от назойливой мухи, проявляя терпение и такт. Необходимо чаще разговаривать с ребёнком. Помните, что ни телевизор, ни компьютер не заменят ему вас. Организуйте свой быт так, чтобы ребёнок в семье не чувствовал себя «жертвой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3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меть говорить со своим ребенком так, как если бы вам хотелось, чтобы говорили с вами, проявляя мягкость, уважительность, исключая назидательность, грубость и хам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3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смотря ни на что, сохраняйте положительное представление о своём ребёнке. Наказывайте, не унижая, а сохраняя достоинство ребёнка, вселяя надежду на исправл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8:58:09Z</dcterms:created>
  <dc:creator>XXX</dc:creator>
  <dc:description/>
  <dc:language>en-US</dc:language>
  <cp:lastModifiedBy>Са</cp:lastModifiedBy>
  <dcterms:modified xsi:type="dcterms:W3CDTF">2023-11-20T17:58:55Z</dcterms:modified>
  <cp:revision>19</cp:revision>
  <dc:subject/>
  <dc:title>«Права ребёнка в семье»</dc:title>
</cp:coreProperties>
</file>