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95EC8-8A6B-4169-BB0C-6969C2260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DAC00-A260-419D-B5F0-3D410EF6E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EF5C1-42FD-49D6-BE97-B712B26BC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621E7-BCFB-4DC4-BA1E-2F128D8F9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C69D6-D074-4D57-8BFA-EC014CA94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23C6B-0D01-4E5F-98E1-08B1C27D9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3F838-852C-49F7-8D9A-35A284229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D4345-E24F-4A1D-BD88-256643E6B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B5782-A4F9-4843-BF57-32A3E7752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6325B-EA67-4835-BB4E-DE4B7566E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F8314-E940-4030-833F-EE1711F68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BC366-6929-4D36-9F50-5D999B197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D9F60-34AF-44E6-A5E2-E6737A314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281CB-BD9D-4251-81F6-E37D160A3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67B9C-D88F-4C8E-AB4F-1CA52BD08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2F714-522E-4C31-91A4-00968AFFE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52AB5-1409-4DC7-9538-5B8AEA9F7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DA4EE-B4EB-49E9-A924-92FD77FF6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3CE50-E5F7-4A87-80BA-2A24EE447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4A4F5-A7B3-4ADA-B604-771F60E15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B96ED-E3F9-46C5-931F-7732817B5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0ED27-C90E-40A0-ADEF-01474A7B6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CCD9D-EB65-4C4F-BACA-A82C957B9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B7C6F-2BDC-4EFB-A3E0-62E18436C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ECC28-B0A5-4C5C-B354-F165F9C47AE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6BAA9-6A70-4697-A187-F0A996966A06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539640" y="3789000"/>
            <a:ext cx="784872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Счастье всего мира не стоит одной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слезы на щеке невинного ребёнк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  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Ф.М. Достоевски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WordArt 4"/>
          <p:cNvSpPr txBox="1"/>
          <p:nvPr/>
        </p:nvSpPr>
        <p:spPr>
          <a:xfrm>
            <a:off x="826920" y="404640"/>
            <a:ext cx="7459920" cy="216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00"/>
                </a:solidFill>
                <a:latin typeface="Arial Black"/>
              </a:rPr>
              <a:t>Права ребёнка </a:t>
            </a:r>
            <a:endParaRPr b="0" lang="en-US" sz="1800" spc="1" strike="noStrike">
              <a:ln w="0">
                <a:noFill/>
              </a:ln>
              <a:solidFill>
                <a:srgbClr val="ffff00"/>
              </a:solidFill>
              <a:latin typeface="Arial Black"/>
              <a:ea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00"/>
                </a:solidFill>
                <a:latin typeface="Arial Black"/>
              </a:rPr>
              <a:t>в семье</a:t>
            </a:r>
            <a:endParaRPr b="0" lang="en-US" sz="1800" spc="1" strike="noStrike">
              <a:ln w="0">
                <a:noFill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WordArt 4"/>
          <p:cNvSpPr txBox="1"/>
          <p:nvPr/>
        </p:nvSpPr>
        <p:spPr>
          <a:xfrm>
            <a:off x="250920" y="1268280"/>
            <a:ext cx="8713800" cy="302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61"/>
                </a:solidFill>
                <a:latin typeface="Times New Roman"/>
              </a:rPr>
              <a:t>Спасибо за внимание!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61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0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7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68000" y="260280"/>
            <a:ext cx="821844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66"/>
                </a:solidFill>
                <a:latin typeface="Tahoma"/>
              </a:rPr>
              <a:t>Основные документы, в которых записаны права ребенка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Декларация прав ребёнка принята Генеральной ассамблеей ООН (20.11.1959 г.)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Конвенция о правах ребенка принята Генеральной ассамблеей ООН (20.11.1989 г.) в нашей стране вступила в силу 02.09.1990 г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Конституция РФ (Глава 2 Права и свободы человека и гражданина принята 12.12.1993г.)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Семейный кодекс РФ (принят 15.11.1997г.)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Федеральный закон от 24 июля 1998 г. N 124-ФЗ "Об основных гарантиях прав ребенка в РФ"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Rectangle 5"/>
          <p:cNvSpPr/>
          <p:nvPr/>
        </p:nvSpPr>
        <p:spPr>
          <a:xfrm>
            <a:off x="611280" y="5877000"/>
            <a:ext cx="77151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WordArt 7"/>
          <p:cNvSpPr txBox="1"/>
          <p:nvPr/>
        </p:nvSpPr>
        <p:spPr>
          <a:xfrm>
            <a:off x="108000" y="260280"/>
            <a:ext cx="885672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00"/>
                </a:solidFill>
                <a:latin typeface="Arial Black"/>
              </a:rPr>
              <a:t> </a:t>
            </a:r>
            <a:endParaRPr b="0" lang="en-US" sz="1800" spc="1" strike="noStrike">
              <a:ln w="0">
                <a:noFill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0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" dur="5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" dur="5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" dur="500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" dur="500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" dur="500"/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1"/>
                </a:solidFill>
                <a:latin typeface="Arial"/>
              </a:rPr>
              <a:t>Международные документы о правах детей</a:t>
            </a:r>
            <a:endParaRPr b="0" lang="en-US" sz="2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39640" y="1483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66"/>
                </a:solidFill>
                <a:latin typeface="Tahoma"/>
              </a:rPr>
              <a:t>Декларация прав ребенка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–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это международный документ, который определяет основные права и принципы, которые должны быть обеспечены для ребенка во всем мире. Декларация была принята 20 ноября 1959 года Генеральной Ассамблеей Организации Объединенных Наций и с тех пор стала главным источником международного права, касающегося защиты прав ребенк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3200" spc="-1" strike="noStrike">
                <a:solidFill>
                  <a:srgbClr val="ffff61"/>
                </a:solidFill>
                <a:latin typeface="Arial"/>
              </a:rPr>
              <a:t>Конвенция о правах ребенка </a:t>
            </a:r>
            <a:br>
              <a:rPr sz="3200"/>
            </a:b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539640" y="836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- международный договор, в котором оговорены права ребенка. Конвенция в переводе с латинского – договор, соглашение по специальному вопросу, имеющее обязательную силу для тех государств, которые ее подписали. Она содержит три части, 54 стать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20 ноября 1989 года Генеральная Ассамблея ООН приняла Конвенцию о правах ребенка, которая сегодня является международным законо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онвенция о правах ребенка закрепляет равные права детей и подростков, не достигших 18 лет. Право на жизнь и развитие. Право на спокойное детство и на защиту от насилия. Право быть уважаемым за свой образ мыслей. В первую очередь всегда должны учитываться интересы ребенк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162" name="Объект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61"/>
                </a:solidFill>
                <a:latin typeface="Arial Black"/>
              </a:rPr>
              <a:t>Основные права ребёнка, сформулированные в Конвенции:</a:t>
            </a:r>
            <a:r>
              <a:rPr b="0" lang="ru-RU" sz="4000" spc="-1" strike="noStrike">
                <a:solidFill>
                  <a:srgbClr val="ffff61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68000" y="1557000"/>
            <a:ext cx="828036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право на жизнь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на гражданство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на образование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на отдых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на заботу родителей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на защиту от физического и психического насилия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на развитие личных талантов, умственных и физических способностей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сохранение своей индивидуальности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на общение, которое развивает достоинство и значимость личност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6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7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7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8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8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9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1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9152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61"/>
                </a:solidFill>
                <a:latin typeface="Arial Black"/>
              </a:rPr>
              <a:t>Права родителей: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23640" y="1484280"/>
            <a:ext cx="8569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любить ребёнка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давать советы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контролировать поступки ребёнка, исполнение ими обязанностей (частично)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поощрять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высказывать недовольство в  корретной форме, не унижая достоинство ребёнка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убеждать и т. д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0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00"/>
                </a:solidFill>
                <a:latin typeface="Arial Black"/>
              </a:rPr>
              <a:t>Права  детей: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50920" y="1557360"/>
            <a:ext cx="858024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проявлять заботу о родителях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принимать и не принимать советы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выражать своё мнение в корректной форме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выбирать свой имидж и способ времяпрепровождения с учётом требований и норм общественной морали, финансовых возможностей родителей и без риска для здоровья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иметь право выбора друзе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0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4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50560" y="333360"/>
            <a:ext cx="860580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Arial Black"/>
              </a:rPr>
              <a:t>Правила поведения в семье: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78920" y="1413000"/>
            <a:ext cx="842508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Уметь слушать своего ребёнка всегда и везде, отдаваясь этому слушанию целиком и полностью, не перебивая ребёнка, не отмахиваясь от него, как от назойливой мухи, проявляя терпение и такт. Необходимо чаще разговаривать с ребёнком. Помните, что ни телевизор, ни компьютер не заменят ему вас. Организуйте свой быт так, чтобы ребёнок в семье не чувствовал себя «жертвой»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636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63600" indent="-36360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Уметь говорить со своим ребенком так, как если бы вам хотелось, чтобы говорили с вами, проявляя мягкость, уважительность, исключая назидательность, грубость и хамство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636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63600" indent="-36360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Несмотря ни на что, сохраняйте положительное представление о своём ребёнке. Наказывайте, не унижая, а сохраняя достоинство ребёнка, вселяя надежду на исправление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0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18:58:09Z</dcterms:created>
  <dc:creator>XXX</dc:creator>
  <dc:description/>
  <dc:language>en-US</dc:language>
  <cp:lastModifiedBy>Са</cp:lastModifiedBy>
  <dcterms:modified xsi:type="dcterms:W3CDTF">2023-11-20T17:58:55Z</dcterms:modified>
  <cp:revision>19</cp:revision>
  <dc:subject/>
  <dc:title>«Права ребёнка в семье»</dc:title>
</cp:coreProperties>
</file>