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022E-4E14-4A6C-A986-ADA88C25C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BBB0-FD59-4C73-9D29-894471BFC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1ECA-8756-4CBA-B79E-191D776D8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78A5-F42D-42E6-BA75-02BA0B2D0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79B1B-C0B5-4ECF-9731-C680069CD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A013B-13D4-4A9C-955E-BDC8EAB65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2074F-5FF2-4F62-A18D-289F8C27F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03929-3BE6-4E10-8E62-5D471DC52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2D9D0-579F-493B-B18A-A9D8B8DDE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F7362-C0B9-421D-B132-680949AFD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6FF91-A347-441B-B42D-D227CF7B5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8392-75CF-43EB-B359-A5E97BAF2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ABC8F-1105-450D-9636-73AE399B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7E870-4A23-4058-B595-805277BEC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87678-7F23-4EE2-AB36-D190363B4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6FDD3-8DAE-4938-8FBF-0E37A9F6A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F0049-93FF-4C72-9F6B-0F1E70D55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ABE4-5F6B-408D-9F14-2164A6062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790F-76F3-4B4C-80FA-D8C0A1740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9E65-A3AA-45C7-9581-49B2C8EE0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5318-DAEE-4903-93B8-124A19D92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C830-C203-4289-BC82-2BE326261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4D22-13B0-426F-8FDF-060AB9504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144E-A7F4-4CF4-89E1-D6286E31C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ffb8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AC3F6-A0EB-4778-AA2B-166675C5F14B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ffb8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3DEAA-B059-4F29-B803-79350C33E456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WordArt 7"/>
          <p:cNvSpPr txBox="1"/>
          <p:nvPr/>
        </p:nvSpPr>
        <p:spPr>
          <a:xfrm>
            <a:off x="611280" y="1989000"/>
            <a:ext cx="759600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лияние удобрений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а рост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 развитие фасоли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915840" y="692280"/>
            <a:ext cx="69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Тема исследовательской работы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TextBox 1"/>
          <p:cNvSpPr/>
          <p:nvPr/>
        </p:nvSpPr>
        <p:spPr>
          <a:xfrm>
            <a:off x="4959360" y="5373720"/>
            <a:ext cx="35989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Макарова Мария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mic Sans MS"/>
              </a:rPr>
              <a:t>МБОУ «СШ №10»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mic Sans MS"/>
              </a:rPr>
              <a:t>4 А класс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920" y="335736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 Unicode MS"/>
              </a:rPr>
              <a:t>Удобрения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 - 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</a:rPr>
              <a:t>вещества, вносимые в почву для улучшения питания растений и повышения урожаев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.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(Современный толковый словарь русского языка под редакцией С.А. Кузнецова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Прямоугольник 1"/>
          <p:cNvSpPr/>
          <p:nvPr/>
        </p:nvSpPr>
        <p:spPr>
          <a:xfrm>
            <a:off x="2124000" y="5229360"/>
            <a:ext cx="66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первые предложил использовать удобрения в земледелии немецкий химик Юстус Либих.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Удобрения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16000" y="1916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рганические: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авоз, перегной, компост, зола, торф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инеральные: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азотными, фосфорными, калиевыми, сложными и микроудобрениями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омплексны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31640" y="-360"/>
            <a:ext cx="687060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рактическая часть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Picture 4" descr="DSC03808"/>
          <p:cNvPicPr/>
          <p:nvPr/>
        </p:nvPicPr>
        <p:blipFill>
          <a:blip r:embed="rId1"/>
          <a:stretch/>
        </p:blipFill>
        <p:spPr>
          <a:xfrm>
            <a:off x="2595600" y="1341360"/>
            <a:ext cx="5816520" cy="39164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175" name="Text Box 5"/>
          <p:cNvSpPr/>
          <p:nvPr/>
        </p:nvSpPr>
        <p:spPr>
          <a:xfrm>
            <a:off x="2124000" y="5594400"/>
            <a:ext cx="2448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онтрольно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растени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5178600" y="5589720"/>
            <a:ext cx="28494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Экспериментально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растени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Прямоугольник 1"/>
          <p:cNvSpPr/>
          <p:nvPr/>
        </p:nvSpPr>
        <p:spPr>
          <a:xfrm>
            <a:off x="179280" y="1314360"/>
            <a:ext cx="228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актическая часть исследования началась с проращивания семян фасоли и подготовки почвы  к посеву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8136000" cy="55296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7775280" cy="540072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180" name="TextBox 2"/>
          <p:cNvSpPr/>
          <p:nvPr/>
        </p:nvSpPr>
        <p:spPr>
          <a:xfrm>
            <a:off x="1981440" y="4792680"/>
            <a:ext cx="7660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e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23.1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TextBox 4"/>
          <p:cNvSpPr/>
          <p:nvPr/>
        </p:nvSpPr>
        <p:spPr>
          <a:xfrm>
            <a:off x="3565800" y="4807080"/>
            <a:ext cx="7660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e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30.1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TextBox 5"/>
          <p:cNvSpPr/>
          <p:nvPr/>
        </p:nvSpPr>
        <p:spPr>
          <a:xfrm>
            <a:off x="5508720" y="4792680"/>
            <a:ext cx="86364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e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05.1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TextBox 6"/>
          <p:cNvSpPr/>
          <p:nvPr/>
        </p:nvSpPr>
        <p:spPr>
          <a:xfrm>
            <a:off x="7057800" y="4824360"/>
            <a:ext cx="7660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e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3.1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TextBox 3"/>
          <p:cNvSpPr/>
          <p:nvPr/>
        </p:nvSpPr>
        <p:spPr>
          <a:xfrm>
            <a:off x="1979640" y="3209760"/>
            <a:ext cx="504720" cy="368280"/>
          </a:xfrm>
          <a:prstGeom prst="rect">
            <a:avLst/>
          </a:prstGeom>
          <a:solidFill>
            <a:srgbClr val="ff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TextBox 8"/>
          <p:cNvSpPr/>
          <p:nvPr/>
        </p:nvSpPr>
        <p:spPr>
          <a:xfrm>
            <a:off x="3697200" y="2660760"/>
            <a:ext cx="503280" cy="368280"/>
          </a:xfrm>
          <a:prstGeom prst="rect">
            <a:avLst/>
          </a:prstGeom>
          <a:solidFill>
            <a:srgbClr val="ff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TextBox 9"/>
          <p:cNvSpPr/>
          <p:nvPr/>
        </p:nvSpPr>
        <p:spPr>
          <a:xfrm>
            <a:off x="5446800" y="3065400"/>
            <a:ext cx="504720" cy="368280"/>
          </a:xfrm>
          <a:prstGeom prst="rect">
            <a:avLst/>
          </a:prstGeom>
          <a:solidFill>
            <a:srgbClr val="ff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TextBox 10"/>
          <p:cNvSpPr/>
          <p:nvPr/>
        </p:nvSpPr>
        <p:spPr>
          <a:xfrm>
            <a:off x="7188120" y="3860640"/>
            <a:ext cx="408240" cy="368280"/>
          </a:xfrm>
          <a:prstGeom prst="rect">
            <a:avLst/>
          </a:prstGeom>
          <a:solidFill>
            <a:srgbClr val="ff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87280" y="765000"/>
            <a:ext cx="6870960" cy="75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Мой урожай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9" name="Picture 4" descr="DSC04369"/>
          <p:cNvPicPr/>
          <p:nvPr/>
        </p:nvPicPr>
        <p:blipFill>
          <a:blip r:embed="rId1"/>
          <a:stretch/>
        </p:blipFill>
        <p:spPr>
          <a:xfrm>
            <a:off x="4500720" y="1989000"/>
            <a:ext cx="4105080" cy="309564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190" name="Picture 5" descr="DSC04371"/>
          <p:cNvPicPr/>
          <p:nvPr/>
        </p:nvPicPr>
        <p:blipFill>
          <a:blip r:embed="rId2"/>
          <a:stretch/>
        </p:blipFill>
        <p:spPr>
          <a:xfrm>
            <a:off x="324000" y="1989000"/>
            <a:ext cx="4032000" cy="309744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191" name="Text Box 6"/>
          <p:cNvSpPr/>
          <p:nvPr/>
        </p:nvSpPr>
        <p:spPr>
          <a:xfrm>
            <a:off x="684360" y="5157720"/>
            <a:ext cx="33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онтрольное растени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4643280" y="5157720"/>
            <a:ext cx="39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Экспериментальное растени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За время моего исследования я 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9280" y="1052640"/>
            <a:ext cx="7985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зучила различные взгляды на вопрос: «Откуда взялась фасоль?»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знакомилась с различными сортами фасоли, узнала, что полезней и чаще всего используется в пищу фасоль обыкновенная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знала, что фасоль можно использовать не только в пищу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знакомилась с классификацией удобрений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училась проводить эксперимент, делать измерения и вести дневник наблюдения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9280" y="1844640"/>
            <a:ext cx="8209080" cy="194472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omic Sans MS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025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Цель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: выявить влияние удобрений на рост и развитие фасол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4360" y="2781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Гипотеза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: могу предположить, что применение удобрений положительно влияет на рост, развитие фасоли, а также поможет повысить урожайность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Прямоугольник 3"/>
          <p:cNvSpPr/>
          <p:nvPr/>
        </p:nvSpPr>
        <p:spPr>
          <a:xfrm>
            <a:off x="684360" y="907920"/>
            <a:ext cx="7343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Задачи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дбор и изучение литературы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оведение эксперимента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блюдение за ростом и развитием фасоли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опоставление полученных результатов (контрольное и экспериментальное растение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Родина фасоли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55640" y="1484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ревняя Греция и Ри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мери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ревняя Индия, Китай, Цейлон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755640" y="1052280"/>
            <a:ext cx="769608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Фасоль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– однолетнее растение семейства бобовых с длинными стручками и зернами продолговатой формы, употребляемое в пищу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(Современный толковый словарь русского языка под редакцией С.А. Кузнецова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1"/>
          <p:cNvSpPr/>
          <p:nvPr/>
        </p:nvSpPr>
        <p:spPr>
          <a:xfrm>
            <a:off x="826920" y="476280"/>
            <a:ext cx="6481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Две разновидности обыкновенной фасоли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1. Высокорастущая вьющаяся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2. Низкорастущая кустова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Picture 2" descr="https://pro-dachnikov.com/uploads/posts/2021-11/1638103555_63-pro-dachnikov-com-p-fasol-krasnaya-vyushchayasya-foto-68.jpg"/>
          <p:cNvPicPr/>
          <p:nvPr/>
        </p:nvPicPr>
        <p:blipFill>
          <a:blip r:embed="rId1"/>
          <a:stretch/>
        </p:blipFill>
        <p:spPr>
          <a:xfrm>
            <a:off x="5724360" y="1363680"/>
            <a:ext cx="2892600" cy="21686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" descr="https://ogorodbezzabot.ru/wp-content/uploads/2016/03/kustovaya-fasol.jpg"/>
          <p:cNvPicPr/>
          <p:nvPr/>
        </p:nvPicPr>
        <p:blipFill>
          <a:blip r:embed="rId2"/>
          <a:stretch/>
        </p:blipFill>
        <p:spPr>
          <a:xfrm>
            <a:off x="1547640" y="3112920"/>
            <a:ext cx="2284560" cy="17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Прямоугольник 1"/>
          <p:cNvSpPr/>
          <p:nvPr/>
        </p:nvSpPr>
        <p:spPr>
          <a:xfrm>
            <a:off x="1486080" y="549360"/>
            <a:ext cx="619272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omic Sans MS"/>
              </a:rPr>
              <a:t>Кроме фасоли обыкновенной, есть и другие виды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. Декоративная фасоль –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турецкие бобы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2. Ф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асоль золотистая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или маш.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Picture 6" descr="http://vsegda-pomnim.com/uploads/posts/2022-04/1650566330_8-vsegda-pomnim-com-p-kak-tsvetut-bobi-foto-8.jpg"/>
          <p:cNvPicPr/>
          <p:nvPr/>
        </p:nvPicPr>
        <p:blipFill>
          <a:blip r:embed="rId1"/>
          <a:stretch/>
        </p:blipFill>
        <p:spPr>
          <a:xfrm>
            <a:off x="6084720" y="1844640"/>
            <a:ext cx="2487960" cy="21128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" descr="https://avatars.mds.yandex.net/i?id=2433e74a6754fb8a3726d640cc16896caf03aff0-9867831-images-thumbs&amp;n=13"/>
          <p:cNvPicPr/>
          <p:nvPr/>
        </p:nvPicPr>
        <p:blipFill>
          <a:blip r:embed="rId2"/>
          <a:stretch/>
        </p:blipFill>
        <p:spPr>
          <a:xfrm>
            <a:off x="1763640" y="2708280"/>
            <a:ext cx="2521080" cy="19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рименение фасоли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лебопекарная отрасль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акаронная отрасль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ондитерская и другие отрасли пищевой промышленности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ля изготовления косметического средств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Прямоугольник 1"/>
          <p:cNvSpPr/>
          <p:nvPr/>
        </p:nvSpPr>
        <p:spPr>
          <a:xfrm>
            <a:off x="382680" y="765000"/>
            <a:ext cx="856908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Фасоль применяется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и сахарном диабете;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и ревматизме;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очечно-каменной болезни;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и гастрите с пониженной кислотностью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и атеросклерозе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рушениях ритма сердца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4T07:18:21Z</dcterms:created>
  <dc:creator>наталья</dc:creator>
  <dc:description/>
  <dc:language>en-US</dc:language>
  <cp:lastModifiedBy>Култышева А Л</cp:lastModifiedBy>
  <dcterms:modified xsi:type="dcterms:W3CDTF">2023-10-24T08:42:15Z</dcterms:modified>
  <cp:revision>17</cp:revision>
  <dc:subject/>
  <dc:title>Автор:  Смук Кристина, 2 В класс, МОСШ № 17</dc:title>
</cp:coreProperties>
</file>