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119-419A-435E-8FAF-2ED1B562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F8E4-94CB-432E-AF9E-C0BECFB1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635-B2D1-4E20-9D30-6D2433D1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ACD-5C7A-425D-ABC8-1C0D5E22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D1EB-8A52-4AFB-B1B1-BC895DEF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DBBD-F4AF-4C8C-8BDB-466CA7AC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4F82-00B7-423F-96AD-2C389477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6B18-0F16-42CF-8A8C-CDB9E726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0B74-58B9-41B0-930F-7C24E18E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123E-9198-4065-8973-A5C40D27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9211-60B8-4C07-98D8-8F2BAA17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AAF-8A5D-49E4-8AE5-C31A5E52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8F91-CFB8-4844-991C-35FED38F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6C35-DF28-446D-9DEC-A08E3618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54E2-57B6-41D9-8DE4-EFA4BB67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8824-9FC4-4808-92E5-8A04235D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06CE-CD7A-4D22-9A71-9DED00DF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2008-6797-4814-AEDD-C4780374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DA32-D539-44C9-A39F-C362E988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D3A-6349-4E62-81DB-72187BD8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A3C-33CC-4C2E-8EA8-9265FDB6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293-CC01-4684-8765-A460E3B6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42D-9D3B-4905-B625-41EB7600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FF5-D260-4A09-B9A7-0FC90167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3C02-6FE8-46E5-A6EB-7601722B37A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8E05-4C7A-472F-BA9B-D6C5BE6C4A4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7"/>
          <p:cNvSpPr txBox="1"/>
          <p:nvPr/>
        </p:nvSpPr>
        <p:spPr>
          <a:xfrm>
            <a:off x="611280" y="1989000"/>
            <a:ext cx="75960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лияние удобрений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рост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развитие фасол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915840" y="692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ема исследовательской работ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4959360" y="5373720"/>
            <a:ext cx="35989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акарова Мар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МБОУ «СШ №10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4 А клас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3357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Удобрения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вещества, вносимые в почву для улучшения питания растений и повышения урожаев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.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Современный толковый словарь русского языка под редакцией С.А. Кузнецова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Прямоугольник 1"/>
          <p:cNvSpPr/>
          <p:nvPr/>
        </p:nvSpPr>
        <p:spPr>
          <a:xfrm>
            <a:off x="2124000" y="522936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первые предложил использовать удобрения в земледелии немецкий химик Юстус Либих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добре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рганическ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воз, перегной, компост, зола, торф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инеральны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зотными, фосфорными, калиевыми, сложными и микроудобрениям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мплексны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68706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актическая част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DSC03808"/>
          <p:cNvPicPr/>
          <p:nvPr/>
        </p:nvPicPr>
        <p:blipFill>
          <a:blip r:embed="rId1"/>
          <a:stretch/>
        </p:blipFill>
        <p:spPr>
          <a:xfrm>
            <a:off x="2595600" y="1341360"/>
            <a:ext cx="5816520" cy="39164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75" name="Text Box 5"/>
          <p:cNvSpPr/>
          <p:nvPr/>
        </p:nvSpPr>
        <p:spPr>
          <a:xfrm>
            <a:off x="2124000" y="5594400"/>
            <a:ext cx="244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нтрольно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т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178600" y="5589720"/>
            <a:ext cx="2849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кспериментально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т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Прямоугольник 1"/>
          <p:cNvSpPr/>
          <p:nvPr/>
        </p:nvSpPr>
        <p:spPr>
          <a:xfrm>
            <a:off x="179280" y="131436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актическая часть исследования началась с проращивания семян фасоли и подготовки почвы  к посеву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529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75280" cy="5400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80" name="TextBox 2"/>
          <p:cNvSpPr/>
          <p:nvPr/>
        </p:nvSpPr>
        <p:spPr>
          <a:xfrm>
            <a:off x="1981440" y="4792680"/>
            <a:ext cx="766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3.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3565800" y="4807080"/>
            <a:ext cx="766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0.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5508720" y="4792680"/>
            <a:ext cx="86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5.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7057800" y="4824360"/>
            <a:ext cx="766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.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979640" y="3209760"/>
            <a:ext cx="504720" cy="36828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3697200" y="2660760"/>
            <a:ext cx="503280" cy="36828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5446800" y="3065400"/>
            <a:ext cx="504720" cy="36828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7188120" y="3860640"/>
            <a:ext cx="408240" cy="36828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7280" y="765000"/>
            <a:ext cx="687096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ой урожай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DSC04369"/>
          <p:cNvPicPr/>
          <p:nvPr/>
        </p:nvPicPr>
        <p:blipFill>
          <a:blip r:embed="rId1"/>
          <a:stretch/>
        </p:blipFill>
        <p:spPr>
          <a:xfrm>
            <a:off x="4500720" y="1989000"/>
            <a:ext cx="4105080" cy="3095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90" name="Picture 5" descr="DSC04371"/>
          <p:cNvPicPr/>
          <p:nvPr/>
        </p:nvPicPr>
        <p:blipFill>
          <a:blip r:embed="rId2"/>
          <a:stretch/>
        </p:blipFill>
        <p:spPr>
          <a:xfrm>
            <a:off x="324000" y="1989000"/>
            <a:ext cx="4032000" cy="3097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91" name="Text Box 6"/>
          <p:cNvSpPr/>
          <p:nvPr/>
        </p:nvSpPr>
        <p:spPr>
          <a:xfrm>
            <a:off x="684360" y="51577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нтрольное раст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4643280" y="515772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кспериментальное раст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 время моего исследования я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7985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учила различные взгляды на вопрос: «Откуда взялась фасоль?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знакомилась с различными сортами фасоли, узнала, что полезней и чаще всего используется в пищу фасоль обыкновенна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знала, что фасоль можно использовать не только в пищу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знакомилась с классификацией удобре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училась проводить эксперимент, делать измерения и вести дневник наблюд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1844640"/>
            <a:ext cx="8209080" cy="1944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выявить влияние удобрений на рост и развитие фасо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278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ипотез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могу предположить, что применение удобрений положительно влияет на рост, развитие фасоли, а также поможет повысить урожайн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3"/>
          <p:cNvSpPr/>
          <p:nvPr/>
        </p:nvSpPr>
        <p:spPr>
          <a:xfrm>
            <a:off x="684360" y="90792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бор и изучение литератур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едение эксперимен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блюдение за ростом и развитием фасол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поставление полученных результатов (контрольное и экспериментальное растени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одина фасол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ревняя Греция и Ри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мер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ревняя Индия, Китай, Цейло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7696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Фасол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однолетнее растение семейства бобовых с длинными стручками и зернами продолговатой формы, употребляемое в пищ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Современный толковый словарь русского языка под редакцией С.А. Кузнецова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"/>
          <p:cNvSpPr/>
          <p:nvPr/>
        </p:nvSpPr>
        <p:spPr>
          <a:xfrm>
            <a:off x="826920" y="476280"/>
            <a:ext cx="648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Две разновидности обыкновенной фасол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. Высокорастущая вьющаяс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 Низкорастущая кустов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2" descr="https://pro-dachnikov.com/uploads/posts/2021-11/1638103555_63-pro-dachnikov-com-p-fasol-krasnaya-vyushchayasya-foto-68.jpg"/>
          <p:cNvPicPr/>
          <p:nvPr/>
        </p:nvPicPr>
        <p:blipFill>
          <a:blip r:embed="rId1"/>
          <a:stretch/>
        </p:blipFill>
        <p:spPr>
          <a:xfrm>
            <a:off x="5724360" y="1363680"/>
            <a:ext cx="2892600" cy="2168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s://ogorodbezzabot.ru/wp-content/uploads/2016/03/kustovaya-fasol.jpg"/>
          <p:cNvPicPr/>
          <p:nvPr/>
        </p:nvPicPr>
        <p:blipFill>
          <a:blip r:embed="rId2"/>
          <a:stretch/>
        </p:blipFill>
        <p:spPr>
          <a:xfrm>
            <a:off x="1547640" y="3112920"/>
            <a:ext cx="228456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1486080" y="549360"/>
            <a:ext cx="6192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Кроме фасоли обыкновенной, есть и другие вид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 Декоративная фасоль –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урецкие бобы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 Ф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соль золотиста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ли маш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6" descr="http://vsegda-pomnim.com/uploads/posts/2022-04/1650566330_8-vsegda-pomnim-com-p-kak-tsvetut-bobi-foto-8.jpg"/>
          <p:cNvPicPr/>
          <p:nvPr/>
        </p:nvPicPr>
        <p:blipFill>
          <a:blip r:embed="rId1"/>
          <a:stretch/>
        </p:blipFill>
        <p:spPr>
          <a:xfrm>
            <a:off x="6084720" y="1844640"/>
            <a:ext cx="2487960" cy="211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ttps://avatars.mds.yandex.net/i?id=2433e74a6754fb8a3726d640cc16896caf03aff0-9867831-images-thumbs&amp;n=13"/>
          <p:cNvPicPr/>
          <p:nvPr/>
        </p:nvPicPr>
        <p:blipFill>
          <a:blip r:embed="rId2"/>
          <a:stretch/>
        </p:blipFill>
        <p:spPr>
          <a:xfrm>
            <a:off x="1763640" y="2708280"/>
            <a:ext cx="25210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менение фасо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лебопекарная отрасл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каронная отрасл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ндитерская и другие отрасли пищевой промышлен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изготовления косметического сред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382680" y="765000"/>
            <a:ext cx="85690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Фасоль применяетс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сахарном диабете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ревматизме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чечно-каменной болезни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гастрите с пониженной кислотностью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атеросклерозе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рушениях ритма сердц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07:18:21Z</dcterms:created>
  <dc:creator>наталья</dc:creator>
  <dc:description/>
  <dc:language>en-US</dc:language>
  <cp:lastModifiedBy>Култышева А Л</cp:lastModifiedBy>
  <dcterms:modified xsi:type="dcterms:W3CDTF">2023-10-24T08:42:15Z</dcterms:modified>
  <cp:revision>17</cp:revision>
  <dc:subject/>
  <dc:title>Автор:  Смук Кристина, 2 В класс, МОСШ № 17</dc:title>
</cp:coreProperties>
</file>