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B27-C67A-4E82-B30B-1A81C865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B9D-8C15-43C9-9E79-F4681CE1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9D4-84CF-44E2-A8DF-8C722B22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E29-F2C6-4505-8FFC-7A9521C5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621D-AA16-4D1C-9BDF-819ACF67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4C51-16FF-4FD3-B997-E075C1B7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03A5-A202-4FA7-9ED7-BCDE9C5C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D365-1ABC-49EE-8545-F87B30B0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CF22-721F-40F7-B27F-6AD44DA1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879E-687E-4348-BC47-07FC7DBB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CA2F-6678-4698-A401-2EEAA80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795-7E86-4EB7-AB6D-03984AFE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9002-3713-43A1-9EE2-76CB000E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418D-45AD-4A59-9800-DF3FE84F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0806-3F0C-4CC5-A04F-FA0F31D4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4CF6-B424-4281-B89D-6449A646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353-C5A7-464B-A698-496653C9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D25-7DC5-41D3-91CC-9CD0D1F8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E9A-A628-4B60-91C4-173CCAE3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38A-3DE5-43A4-B879-3065931C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AA6-5ED0-4DB7-AC89-2BF291E7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526-3938-4CE3-8467-CF04B2CD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D46-D055-4E53-A461-99012870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A70-0E22-44B2-BBEA-D514F1A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FE58-59E1-4BE1-BB45-7DB6C68ACD0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F5C9-D4E6-49DD-BFF6-5448F5BCC79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7"/>
          <p:cNvSpPr txBox="1"/>
          <p:nvPr/>
        </p:nvSpPr>
        <p:spPr>
          <a:xfrm>
            <a:off x="611280" y="1989000"/>
            <a:ext cx="7596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ияние удобрен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рос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развитие фасо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15840" y="692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ма исследовательской работ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959360" y="5373720"/>
            <a:ext cx="3598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карова Мар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МБОУ «СШ №10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4 А клас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3357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Удобрени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вещества, вносимые в почву для улучшения питания растений и повышения урожаев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Современный толковый словарь русского языка под редакцией С.А. Кузнецо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2124000" y="5229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первые предложил использовать удобрения в земледелии немецкий химик Юстус Либих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добре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ганическ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воз, перегной, компост, зола, торф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неральны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зотными, фосфорными, калиевыми, сложными и микроудобрения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лексны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ктическая час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DSC03808"/>
          <p:cNvPicPr/>
          <p:nvPr/>
        </p:nvPicPr>
        <p:blipFill>
          <a:blip r:embed="rId1"/>
          <a:stretch/>
        </p:blipFill>
        <p:spPr>
          <a:xfrm>
            <a:off x="2595600" y="1341360"/>
            <a:ext cx="5816520" cy="3916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75" name="Text Box 5"/>
          <p:cNvSpPr/>
          <p:nvPr/>
        </p:nvSpPr>
        <p:spPr>
          <a:xfrm>
            <a:off x="2124000" y="5594400"/>
            <a:ext cx="244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о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178600" y="5589720"/>
            <a:ext cx="284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сперимента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Прямоугольник 1"/>
          <p:cNvSpPr/>
          <p:nvPr/>
        </p:nvSpPr>
        <p:spPr>
          <a:xfrm>
            <a:off x="179280" y="131436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ктическая часть исследования началась с проращивания семян фасоли и подготовки почвы  к посев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529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40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80" name="TextBox 2"/>
          <p:cNvSpPr/>
          <p:nvPr/>
        </p:nvSpPr>
        <p:spPr>
          <a:xfrm>
            <a:off x="1981440" y="4792680"/>
            <a:ext cx="76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3.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3565800" y="4807080"/>
            <a:ext cx="76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0.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5508720" y="4792680"/>
            <a:ext cx="86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5.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7057800" y="4824360"/>
            <a:ext cx="76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.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979640" y="3209760"/>
            <a:ext cx="50472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3697200" y="2660760"/>
            <a:ext cx="50328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5446800" y="3065400"/>
            <a:ext cx="50472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7188120" y="3860640"/>
            <a:ext cx="40824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687096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ой урожа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DSC04369"/>
          <p:cNvPicPr/>
          <p:nvPr/>
        </p:nvPicPr>
        <p:blipFill>
          <a:blip r:embed="rId1"/>
          <a:stretch/>
        </p:blipFill>
        <p:spPr>
          <a:xfrm>
            <a:off x="4500720" y="1989000"/>
            <a:ext cx="4105080" cy="3095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90" name="Picture 5" descr="DSC04371"/>
          <p:cNvPicPr/>
          <p:nvPr/>
        </p:nvPicPr>
        <p:blipFill>
          <a:blip r:embed="rId2"/>
          <a:stretch/>
        </p:blipFill>
        <p:spPr>
          <a:xfrm>
            <a:off x="324000" y="1989000"/>
            <a:ext cx="4032000" cy="3097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91" name="Text Box 6"/>
          <p:cNvSpPr/>
          <p:nvPr/>
        </p:nvSpPr>
        <p:spPr>
          <a:xfrm>
            <a:off x="684360" y="51577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ольное 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643280" y="51577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спериментальное 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время моего исследования я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7985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ила различные взгляды на вопрос: «Откуда взялась фасоль?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лась с различными сортами фасоли, узнала, что полезней и чаще всего используется в пищу фасоль обыкновенна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знала, что фасоль можно использовать не только в пищу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лась с классификацией удобр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чилась проводить эксперимент, делать измерения и вести дневник наблюд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09080" cy="1944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выявить влияние удобрений на рост и развитие фасо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ипотез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могу предположить, что применение удобрений положительно влияет на рост, развитие фасоли, а также поможет повысить урожай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684360" y="90792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бор и изучение литерату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дение эксперимен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блюдение за ростом и развитием фасол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оставление полученных результатов (контрольное и экспериментальное растени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одина фасол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евняя Греция и Р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мер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евняя Индия, Китай, Цейло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со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однолетнее растение семейства бобовых с длинными стручками и зернами продолговатой формы, употребляемое в пищ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Современный толковый словарь русского языка под редакцией С.А. Кузнецов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826920" y="476280"/>
            <a:ext cx="64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Две разновидности обыкновенной фасол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. Высокорастущая вьющаяс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Низкорастущая кустов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https://pro-dachnikov.com/uploads/posts/2021-11/1638103555_63-pro-dachnikov-com-p-fasol-krasnaya-vyushchayasya-foto-68.jpg"/>
          <p:cNvPicPr/>
          <p:nvPr/>
        </p:nvPicPr>
        <p:blipFill>
          <a:blip r:embed="rId1"/>
          <a:stretch/>
        </p:blipFill>
        <p:spPr>
          <a:xfrm>
            <a:off x="5724360" y="1363680"/>
            <a:ext cx="2892600" cy="2168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s://ogorodbezzabot.ru/wp-content/uploads/2016/03/kustovaya-fasol.jpg"/>
          <p:cNvPicPr/>
          <p:nvPr/>
        </p:nvPicPr>
        <p:blipFill>
          <a:blip r:embed="rId2"/>
          <a:stretch/>
        </p:blipFill>
        <p:spPr>
          <a:xfrm>
            <a:off x="1547640" y="3112920"/>
            <a:ext cx="228456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1486080" y="549360"/>
            <a:ext cx="6192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Кроме фасоли обыкновенной, есть и другие ви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Декоративная фасоль –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урецкие боб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Ф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соль золотиста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ли маш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6" descr="http://vsegda-pomnim.com/uploads/posts/2022-04/1650566330_8-vsegda-pomnim-com-p-kak-tsvetut-bobi-foto-8.jpg"/>
          <p:cNvPicPr/>
          <p:nvPr/>
        </p:nvPicPr>
        <p:blipFill>
          <a:blip r:embed="rId1"/>
          <a:stretch/>
        </p:blipFill>
        <p:spPr>
          <a:xfrm>
            <a:off x="6084720" y="1844640"/>
            <a:ext cx="2487960" cy="211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s://avatars.mds.yandex.net/i?id=2433e74a6754fb8a3726d640cc16896caf03aff0-9867831-images-thumbs&amp;n=13"/>
          <p:cNvPicPr/>
          <p:nvPr/>
        </p:nvPicPr>
        <p:blipFill>
          <a:blip r:embed="rId2"/>
          <a:stretch/>
        </p:blipFill>
        <p:spPr>
          <a:xfrm>
            <a:off x="1763640" y="2708280"/>
            <a:ext cx="2521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менение фасо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лебопекарная отрасл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каронная отрасл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дитерская и другие отрасли пищевой промышлен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изготовления косметического сред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382680" y="765000"/>
            <a:ext cx="8569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соль применяе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сахарном диабет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ревматизм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чечно-каменной болезн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гастрите с пониженной кислотностью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атеросклероз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ушениях ритма сердц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7:18:21Z</dcterms:created>
  <dc:creator>наталья</dc:creator>
  <dc:description/>
  <dc:language>en-US</dc:language>
  <cp:lastModifiedBy>Култышева А Л</cp:lastModifiedBy>
  <dcterms:modified xsi:type="dcterms:W3CDTF">2023-10-24T08:42:15Z</dcterms:modified>
  <cp:revision>17</cp:revision>
  <dc:subject/>
  <dc:title>Автор:  Смук Кристина, 2 В класс, МОСШ № 17</dc:title>
</cp:coreProperties>
</file>