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C4E5-8F7B-46A7-A602-8B1852D0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1DA5-F59C-4F45-AD02-6AF073E8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DC33-DD36-4B08-9650-35D4E847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5F11-73F5-4367-AAC4-D14F27BC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DCCA2-4F42-467B-AD73-55DB6725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A68BD-DE33-41A1-AF86-22EFA795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F13E0-871B-4BB9-AC3E-D4F91581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32BB-7B86-4232-BBF9-95C5CE7F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8ACD7-4FA9-4594-B463-5F0774E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F9190-5EE8-4FDD-A516-D6EA1A2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9C32-5768-46C2-963A-848C55C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53FA-94BF-41BF-9BC0-D9970761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0F7A7-7833-4C94-8435-B336092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1D271-0883-4617-83D0-842ADF4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03896-1E46-4093-9B4A-0C56D80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7489D-7DF4-4D53-B75A-7193B322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7DC2B-8593-4CD1-A958-1BFD19F0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8DEDC-B2C3-4E81-991A-1B8F0479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13603-5748-41E3-A18B-D7DCDC15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CBAFA-0EA4-4AC9-A973-715336D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071EB-6774-4C01-A3B5-9461364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38DD4-6E36-4F35-9986-3145FB7A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06F9-3E23-4600-A416-74B21EA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376BE-D86C-4521-8F2E-0F6F2CC1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8454D-952F-4635-9583-AF7C96C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55021-04BF-4FF4-8737-6D851FE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46548-346C-47C2-957E-D9F125E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AE7F8-B06F-430E-9A93-F88D7C33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BD329-569C-4F78-9024-EC98FA71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70044-52E5-49D6-8751-E7C06A5D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E136-61B3-4A87-9A8C-843A02F3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CB1F-D168-4C57-ABFD-7D498DCC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E9E8-5D99-4756-B0C2-85BDB8B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BC4F-59C3-4FFF-B41B-48E85D8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DFD4-AB29-42B5-B836-ED0074F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AEB3-B9AB-463B-824C-87AB678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B4BE-8017-44B1-BD50-41A3B4B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24EC-F891-4306-AF71-FFD1E1A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27DF-8D5B-4CBB-9D34-FE25BF12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9DCD-9FE4-4FA2-81D9-FEDDB62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B697-A123-4AEB-A2FB-89C3A89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9B4F-40C9-434F-8ED5-27B005A6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4D53-F89A-4079-BF32-9DC4BD28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0969-B398-4D2D-8C58-8EE50F97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EC0F-8AB7-4B22-AE64-087889C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9853-CB71-41D4-9BA6-7F48C539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FF39-B02B-410D-B377-E4765E90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6DEF-EC51-4A5A-9F25-5CE3AA1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1AD6-C0BA-4EE8-A260-8CD4BFDD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B0BD-712D-4564-B03A-30AE007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9467-6F47-469D-83DE-77FCD2B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EDF8-B957-437B-AA67-B1F32E1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C409-28E1-4B8B-AE34-AF080641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8D461-B98A-4A6C-8371-C9A432DA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E549-F70A-4072-B17A-E12E9EF4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0DBE-4F68-48A5-8855-C361278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B795-CBC5-4A87-9249-E2796FBA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D178-07BD-4A8F-A8ED-2F6003DB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B472-1707-468D-BA90-F893C48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0E9C-219F-485F-9EE3-692716BE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0A4FD-3615-43A9-B838-586D5815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CCA17-4CDE-412C-A74B-0E44846C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8B4D8-18A7-4E6A-8749-641149EC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FD45-BD22-4C18-BEBA-BEE05787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5C0E-AAA8-4C53-BC24-30DF5F6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3435-1453-48F1-BE18-E73EC67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1F36-9DDF-4B20-A4B1-7DF6B1B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8166-1AC3-4063-A790-0D75877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7DA22-DC55-49B6-A541-AD7B0545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B88B1-2D77-40CF-8C12-32ABCADA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99DD-62E7-4177-935A-78D00DC0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F025-55E0-4D12-A81C-314133F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F6749F-5429-4FF2-B14C-B6598536EBC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89109A-B8B5-4396-B110-BE4C8A00604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FF340C-D0B1-4998-9C3C-FE6695D365D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54C917C-E4A2-46C0-9826-1FD29DE829B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6C75B4-3BB5-4271-9338-D751ABB8FAE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09A7E3-E495-445C-8824-7C1D4CAC95C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Группа 4"/>
          <p:cNvGrpSpPr/>
          <p:nvPr/>
        </p:nvGrpSpPr>
        <p:grpSpPr>
          <a:xfrm>
            <a:off x="0" y="6286680"/>
            <a:ext cx="9143640" cy="570960"/>
            <a:chOff x="0" y="6286680"/>
            <a:chExt cx="9143640" cy="570960"/>
          </a:xfrm>
        </p:grpSpPr>
        <p:grpSp>
          <p:nvGrpSpPr>
            <p:cNvPr id="252" name="Группа 9"/>
            <p:cNvGrpSpPr/>
            <p:nvPr/>
          </p:nvGrpSpPr>
          <p:grpSpPr>
            <a:xfrm>
              <a:off x="0" y="6286680"/>
              <a:ext cx="4687200" cy="570960"/>
              <a:chOff x="0" y="6286680"/>
              <a:chExt cx="4687200" cy="570960"/>
            </a:xfrm>
          </p:grpSpPr>
          <p:pic>
            <p:nvPicPr>
              <p:cNvPr id="253" name="Picture 2" descr="C:\Documents and Settings\Дмитрий\Рабочий стол\узоры\7.JPG"/>
              <p:cNvPicPr/>
              <p:nvPr/>
            </p:nvPicPr>
            <p:blipFill>
              <a:blip r:embed="rId1"/>
              <a:stretch/>
            </p:blipFill>
            <p:spPr>
              <a:xfrm>
                <a:off x="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2" descr="C:\Documents and Settings\Дмитрий\Рабочий стол\узоры\7.JPG"/>
              <p:cNvPicPr/>
              <p:nvPr/>
            </p:nvPicPr>
            <p:blipFill>
              <a:blip r:embed="rId2"/>
              <a:stretch/>
            </p:blipFill>
            <p:spPr>
              <a:xfrm>
                <a:off x="22356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Группа 10"/>
            <p:cNvGrpSpPr/>
            <p:nvPr/>
          </p:nvGrpSpPr>
          <p:grpSpPr>
            <a:xfrm>
              <a:off x="4456800" y="6286680"/>
              <a:ext cx="4686840" cy="570960"/>
              <a:chOff x="4456800" y="6286680"/>
              <a:chExt cx="4686840" cy="570960"/>
            </a:xfrm>
          </p:grpSpPr>
          <p:pic>
            <p:nvPicPr>
              <p:cNvPr id="256" name="Picture 2" descr="C:\Documents and Settings\Дмитрий\Рабочий стол\узоры\7.JPG"/>
              <p:cNvPicPr/>
              <p:nvPr/>
            </p:nvPicPr>
            <p:blipFill>
              <a:blip r:embed="rId3"/>
              <a:stretch/>
            </p:blipFill>
            <p:spPr>
              <a:xfrm>
                <a:off x="44568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2" descr="C:\Documents and Settings\Дмитрий\Рабочий стол\узоры\7.JPG"/>
              <p:cNvPicPr/>
              <p:nvPr/>
            </p:nvPicPr>
            <p:blipFill>
              <a:blip r:embed="rId4"/>
              <a:stretch/>
            </p:blipFill>
            <p:spPr>
              <a:xfrm>
                <a:off x="669204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8" name="Группа 12"/>
          <p:cNvGrpSpPr/>
          <p:nvPr/>
        </p:nvGrpSpPr>
        <p:grpSpPr>
          <a:xfrm>
            <a:off x="142920" y="0"/>
            <a:ext cx="9000720" cy="476280"/>
            <a:chOff x="142920" y="0"/>
            <a:chExt cx="9000720" cy="476280"/>
          </a:xfrm>
        </p:grpSpPr>
        <p:grpSp>
          <p:nvGrpSpPr>
            <p:cNvPr id="259" name="Группа 9"/>
            <p:cNvGrpSpPr/>
            <p:nvPr/>
          </p:nvGrpSpPr>
          <p:grpSpPr>
            <a:xfrm>
              <a:off x="142920" y="0"/>
              <a:ext cx="4613400" cy="476280"/>
              <a:chOff x="142920" y="0"/>
              <a:chExt cx="4613400" cy="476280"/>
            </a:xfrm>
          </p:grpSpPr>
          <p:pic>
            <p:nvPicPr>
              <p:cNvPr id="260" name="Picture 2" descr="C:\Documents and Settings\Дмитрий\Рабочий стол\узоры\7.JPG"/>
              <p:cNvPicPr/>
              <p:nvPr/>
            </p:nvPicPr>
            <p:blipFill>
              <a:blip r:embed="rId5"/>
              <a:stretch/>
            </p:blipFill>
            <p:spPr>
              <a:xfrm>
                <a:off x="14292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2" descr="C:\Documents and Settings\Дмитрий\Рабочий стол\узоры\7.JPG"/>
              <p:cNvPicPr/>
              <p:nvPr/>
            </p:nvPicPr>
            <p:blipFill>
              <a:blip r:embed="rId6"/>
              <a:stretch/>
            </p:blipFill>
            <p:spPr>
              <a:xfrm>
                <a:off x="234324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2" name="Группа 10"/>
            <p:cNvGrpSpPr/>
            <p:nvPr/>
          </p:nvGrpSpPr>
          <p:grpSpPr>
            <a:xfrm>
              <a:off x="4529880" y="0"/>
              <a:ext cx="4613760" cy="476280"/>
              <a:chOff x="4529880" y="0"/>
              <a:chExt cx="4613760" cy="476280"/>
            </a:xfrm>
          </p:grpSpPr>
          <p:pic>
            <p:nvPicPr>
              <p:cNvPr id="263" name="Picture 2" descr="C:\Documents and Settings\Дмитрий\Рабочий стол\узоры\7.JPG"/>
              <p:cNvPicPr/>
              <p:nvPr/>
            </p:nvPicPr>
            <p:blipFill>
              <a:blip r:embed="rId7"/>
              <a:stretch/>
            </p:blipFill>
            <p:spPr>
              <a:xfrm>
                <a:off x="452988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2" descr="C:\Documents and Settings\Дмитрий\Рабочий стол\узоры\7.JPG"/>
              <p:cNvPicPr/>
              <p:nvPr/>
            </p:nvPicPr>
            <p:blipFill>
              <a:blip r:embed="rId8"/>
              <a:stretch/>
            </p:blipFill>
            <p:spPr>
              <a:xfrm>
                <a:off x="6730560" y="0"/>
                <a:ext cx="2413080" cy="476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5" name="Прямоугольник 19"/>
          <p:cNvSpPr txBox="1"/>
          <p:nvPr/>
        </p:nvSpPr>
        <p:spPr>
          <a:xfrm>
            <a:off x="407520" y="186840"/>
            <a:ext cx="8416080" cy="768960"/>
          </a:xfrm>
          <a:prstGeom prst="rect">
            <a:avLst/>
          </a:prstGeom>
        </p:spPr>
        <p:txBody>
          <a:bodyPr wrap="none" anchor="t">
            <a:prstTxWarp prst="textArchDown">
              <a:avLst>
                <a:gd name="adj" fmla="val 0"/>
              </a:avLst>
            </a:prstTxWarp>
            <a:noAutofit/>
            <a:scene3d>
              <a:camera prst="perspectiveLeft"/>
              <a:lightRig dir="t" rig="threePt"/>
            </a:scene3d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ln w="0">
                  <a:noFill/>
                </a:ln>
                <a:solidFill>
                  <a:srgbClr val="729fcf"/>
                </a:solidFill>
                <a:latin typeface="Arial"/>
              </a:rPr>
              <a:t>Хантыйская кукла «Клюквинка»</a:t>
            </a:r>
            <a:endParaRPr b="0" lang="en-US" sz="20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ln w="0">
                  <a:noFill/>
                </a:ln>
                <a:solidFill>
                  <a:srgbClr val="729fcf"/>
                </a:solidFill>
                <a:latin typeface="Arial"/>
              </a:rPr>
              <a:t>По сказке  Еремея Даниловича Айпина</a:t>
            </a:r>
            <a:endParaRPr b="0" lang="en-US" sz="20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pic>
        <p:nvPicPr>
          <p:cNvPr id="266" name="Рисунок 20" descr="http://babiki.ru/uploads/images/02/28/04/2014/08/22/accb2c.jpg"/>
          <p:cNvPicPr/>
          <p:nvPr/>
        </p:nvPicPr>
        <p:blipFill>
          <a:blip r:embed="rId9"/>
          <a:stretch/>
        </p:blipFill>
        <p:spPr>
          <a:xfrm>
            <a:off x="2272680" y="1865520"/>
            <a:ext cx="4968360" cy="3349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122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2. Кладём в серединку кусочек ваты и плотно обжав, вложенную вату, затягиваем нитью, фиксируя ее двойным узлом, концы нити не убираются, на них в конце, можно будет повесить бусинки. В головку можно положить мох, маленькую шишку или большую клюквинку. Может быть поэтому ее и прозвали «клюквинка»- Пан сэмэли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2" descr="C:\Users\DN\Desktop\фтоНовая папка\20170226_214956.jpg"/>
          <p:cNvPicPr/>
          <p:nvPr/>
        </p:nvPicPr>
        <p:blipFill>
          <a:blip r:embed="rId1"/>
          <a:stretch/>
        </p:blipFill>
        <p:spPr>
          <a:xfrm>
            <a:off x="467640" y="1968120"/>
            <a:ext cx="3919680" cy="3007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DN\Desktop\фтоНовая папка\20170226_215429.jpg"/>
          <p:cNvPicPr/>
          <p:nvPr/>
        </p:nvPicPr>
        <p:blipFill>
          <a:blip r:embed="rId2"/>
          <a:stretch/>
        </p:blipFill>
        <p:spPr>
          <a:xfrm>
            <a:off x="4644000" y="1989000"/>
            <a:ext cx="3816000" cy="2986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200" spc="-100" strike="noStrike">
                <a:solidFill>
                  <a:srgbClr val="f9f9f9"/>
                </a:solidFill>
                <a:latin typeface="Constantia"/>
              </a:rPr>
              <a:t>3</a:t>
            </a:r>
            <a:r>
              <a:rPr b="0" lang="ru-RU" sz="2200" spc="-100" strike="noStrike">
                <a:solidFill>
                  <a:srgbClr val="144309"/>
                </a:solidFill>
                <a:latin typeface="Constantia"/>
              </a:rPr>
              <a:t>. Теперь берём красный треугольник, кладём его на головку клюковки и завязываем, полностью закрывая «лицо».</a:t>
            </a:r>
            <a:br>
              <a:rPr sz="2200"/>
            </a:b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2" descr="C:\Users\DN\Desktop\фтоНовая папка\20170226_215728.jpg"/>
          <p:cNvPicPr/>
          <p:nvPr/>
        </p:nvPicPr>
        <p:blipFill>
          <a:blip r:embed="rId1"/>
          <a:stretch/>
        </p:blipFill>
        <p:spPr>
          <a:xfrm>
            <a:off x="683640" y="2277000"/>
            <a:ext cx="3816000" cy="3600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Users\DN\Desktop\фтоНовая папка\20170226_215842.jpg"/>
          <p:cNvPicPr/>
          <p:nvPr/>
        </p:nvPicPr>
        <p:blipFill>
          <a:blip r:embed="rId2"/>
          <a:stretch/>
        </p:blipFill>
        <p:spPr>
          <a:xfrm>
            <a:off x="4788000" y="2277000"/>
            <a:ext cx="3888000" cy="360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4. </a:t>
            </a: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Обкручиваем длинные концы треугольника вокруг головки, «сзади», с той стороны, где торчит задний краешек косынки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2" descr="C:\Users\DN\Desktop\фтоНовая папка\20170226_220337.jpg"/>
          <p:cNvPicPr/>
          <p:nvPr/>
        </p:nvPicPr>
        <p:blipFill>
          <a:blip r:embed="rId1"/>
          <a:stretch/>
        </p:blipFill>
        <p:spPr>
          <a:xfrm>
            <a:off x="1979640" y="2061000"/>
            <a:ext cx="4680000" cy="4034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5. </a:t>
            </a: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И наконец, завязываем концы косынки на 2 узла со стороны «переда», то есть «лица» закрытого тканью. Так же можно и не закрывать лицо, завязать как платочек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Picture 3" descr="C:\Users\DN\Desktop\фтоНовая папка\20170226_220455.jpg"/>
          <p:cNvPicPr/>
          <p:nvPr/>
        </p:nvPicPr>
        <p:blipFill>
          <a:blip r:embed="rId1"/>
          <a:stretch/>
        </p:blipFill>
        <p:spPr>
          <a:xfrm>
            <a:off x="4872600" y="1772640"/>
            <a:ext cx="3515400" cy="4752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Picture 2" descr="C:\Users\DN\Desktop\фтоНовая папка\20170226_215842.jpg"/>
          <p:cNvPicPr/>
          <p:nvPr/>
        </p:nvPicPr>
        <p:blipFill>
          <a:blip r:embed="rId2"/>
          <a:stretch/>
        </p:blipFill>
        <p:spPr>
          <a:xfrm>
            <a:off x="395640" y="1772640"/>
            <a:ext cx="3672000" cy="475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144309"/>
                </a:solidFill>
                <a:latin typeface="Constantia"/>
              </a:rPr>
              <a:t>6. </a:t>
            </a: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Затем расправляем зелёные и жёлтые края ягоды, что бы посадить её на «болото».</a:t>
            </a:r>
            <a:br>
              <a:rPr sz="2000"/>
            </a:br>
            <a:r>
              <a:rPr b="1" lang="ru-RU" sz="2000" spc="-100" strike="noStrike">
                <a:solidFill>
                  <a:srgbClr val="144309"/>
                </a:solidFill>
                <a:latin typeface="Constantia"/>
              </a:rPr>
              <a:t>Вот такая куколка – Клюквинка у нас получилась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Объект 5" descr=""/>
          <p:cNvPicPr/>
          <p:nvPr/>
        </p:nvPicPr>
        <p:blipFill>
          <a:blip r:embed="rId1"/>
          <a:stretch/>
        </p:blipFill>
        <p:spPr>
          <a:xfrm>
            <a:off x="1403640" y="1456200"/>
            <a:ext cx="6696360" cy="4925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Кто написал сказку «Клюквинка и Травяная Косичка»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О чем говорится в сказке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По сказке Клюквинка самая трудолюбивая ягода. Так ли это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На какую русскую народную сказку похожа это сказка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Почему нужно брать ткань желтого и зеленого цвета для изготовления куклы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Что означает красный цвет на кукле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Какие куклы – растения вы знаете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450000" indent="-450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AutoNum type="arabicPeriod"/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Чем похожи и в чем различия в куклах русского народа и народов ханты и манси?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333a1c"/>
                </a:solidFill>
                <a:latin typeface="Constantia"/>
              </a:rPr>
              <a:t>Ответьте на вопросы: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Группа 8"/>
          <p:cNvGrpSpPr/>
          <p:nvPr/>
        </p:nvGrpSpPr>
        <p:grpSpPr>
          <a:xfrm>
            <a:off x="0" y="6429240"/>
            <a:ext cx="9143640" cy="428400"/>
            <a:chOff x="0" y="6429240"/>
            <a:chExt cx="9143640" cy="428400"/>
          </a:xfrm>
        </p:grpSpPr>
        <p:grpSp>
          <p:nvGrpSpPr>
            <p:cNvPr id="321" name="Группа 4"/>
            <p:cNvGrpSpPr/>
            <p:nvPr/>
          </p:nvGrpSpPr>
          <p:grpSpPr>
            <a:xfrm>
              <a:off x="0" y="6429240"/>
              <a:ext cx="4713120" cy="428400"/>
              <a:chOff x="0" y="6429240"/>
              <a:chExt cx="4713120" cy="428400"/>
            </a:xfrm>
          </p:grpSpPr>
          <p:pic>
            <p:nvPicPr>
              <p:cNvPr id="322" name="Picture 2" descr="C:\Documents and Settings\Дмитрий\Рабочий стол\узоры\2.JPG"/>
              <p:cNvPicPr/>
              <p:nvPr/>
            </p:nvPicPr>
            <p:blipFill>
              <a:blip r:embed="rId1"/>
              <a:stretch/>
            </p:blipFill>
            <p:spPr>
              <a:xfrm>
                <a:off x="226260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2" descr="C:\Documents and Settings\Дмитрий\Рабочий стол\узоры\2.JPG"/>
              <p:cNvPicPr/>
              <p:nvPr/>
            </p:nvPicPr>
            <p:blipFill>
              <a:blip r:embed="rId2"/>
              <a:stretch/>
            </p:blipFill>
            <p:spPr>
              <a:xfrm>
                <a:off x="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Группа 5"/>
            <p:cNvGrpSpPr/>
            <p:nvPr/>
          </p:nvGrpSpPr>
          <p:grpSpPr>
            <a:xfrm>
              <a:off x="4430520" y="6429240"/>
              <a:ext cx="4713120" cy="428400"/>
              <a:chOff x="4430520" y="6429240"/>
              <a:chExt cx="4713120" cy="428400"/>
            </a:xfrm>
          </p:grpSpPr>
          <p:pic>
            <p:nvPicPr>
              <p:cNvPr id="325" name="Picture 2" descr="C:\Documents and Settings\Дмитрий\Рабочий стол\узоры\2.JPG"/>
              <p:cNvPicPr/>
              <p:nvPr/>
            </p:nvPicPr>
            <p:blipFill>
              <a:blip r:embed="rId3"/>
              <a:stretch/>
            </p:blipFill>
            <p:spPr>
              <a:xfrm>
                <a:off x="669312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Picture 2" descr="C:\Documents and Settings\Дмитрий\Рабочий стол\узоры\2.JPG"/>
              <p:cNvPicPr/>
              <p:nvPr/>
            </p:nvPicPr>
            <p:blipFill>
              <a:blip r:embed="rId4"/>
              <a:stretch/>
            </p:blipFill>
            <p:spPr>
              <a:xfrm>
                <a:off x="4430520" y="642924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7" name="Группа 9"/>
          <p:cNvGrpSpPr/>
          <p:nvPr/>
        </p:nvGrpSpPr>
        <p:grpSpPr>
          <a:xfrm>
            <a:off x="0" y="0"/>
            <a:ext cx="9143640" cy="428400"/>
            <a:chOff x="0" y="0"/>
            <a:chExt cx="9143640" cy="428400"/>
          </a:xfrm>
        </p:grpSpPr>
        <p:grpSp>
          <p:nvGrpSpPr>
            <p:cNvPr id="328" name="Группа 10"/>
            <p:cNvGrpSpPr/>
            <p:nvPr/>
          </p:nvGrpSpPr>
          <p:grpSpPr>
            <a:xfrm>
              <a:off x="0" y="0"/>
              <a:ext cx="4713120" cy="428400"/>
              <a:chOff x="0" y="0"/>
              <a:chExt cx="4713120" cy="428400"/>
            </a:xfrm>
          </p:grpSpPr>
          <p:pic>
            <p:nvPicPr>
              <p:cNvPr id="329" name="Picture 2" descr="C:\Documents and Settings\Дмитрий\Рабочий стол\узоры\2.JPG"/>
              <p:cNvPicPr/>
              <p:nvPr/>
            </p:nvPicPr>
            <p:blipFill>
              <a:blip r:embed="rId5"/>
              <a:stretch/>
            </p:blipFill>
            <p:spPr>
              <a:xfrm>
                <a:off x="226260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2" descr="C:\Documents and Settings\Дмитрий\Рабочий стол\узоры\2.JPG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Группа 11"/>
            <p:cNvGrpSpPr/>
            <p:nvPr/>
          </p:nvGrpSpPr>
          <p:grpSpPr>
            <a:xfrm>
              <a:off x="4430520" y="0"/>
              <a:ext cx="4713120" cy="428400"/>
              <a:chOff x="4430520" y="0"/>
              <a:chExt cx="4713120" cy="428400"/>
            </a:xfrm>
          </p:grpSpPr>
          <p:pic>
            <p:nvPicPr>
              <p:cNvPr id="332" name="Picture 2" descr="C:\Documents and Settings\Дмитрий\Рабочий стол\узоры\2.JPG"/>
              <p:cNvPicPr/>
              <p:nvPr/>
            </p:nvPicPr>
            <p:blipFill>
              <a:blip r:embed="rId7"/>
              <a:stretch/>
            </p:blipFill>
            <p:spPr>
              <a:xfrm>
                <a:off x="669312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Picture 2" descr="C:\Documents and Settings\Дмитрий\Рабочий стол\узоры\2.JPG"/>
              <p:cNvPicPr/>
              <p:nvPr/>
            </p:nvPicPr>
            <p:blipFill>
              <a:blip r:embed="rId8"/>
              <a:stretch/>
            </p:blipFill>
            <p:spPr>
              <a:xfrm>
                <a:off x="4430520" y="0"/>
                <a:ext cx="245052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4" name="Прямоугольник 1"/>
          <p:cNvSpPr/>
          <p:nvPr/>
        </p:nvSpPr>
        <p:spPr>
          <a:xfrm>
            <a:off x="1050120" y="2967480"/>
            <a:ext cx="7043400" cy="91404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90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Проживая на многонациональной Северной Земле, где коренными народами являются ханты и манси, мы должны знать и уважать культуру этого народа, сохранять их традиции. А сохранять традиции можно, если приобщать ребёнка с раннего возраста к ценностям духовной культуры, выбрать нужные ориентиры для его воспитания. С помощью куклы мы надеемся обратить внимание жителей на воспитание подрастающего поколения. Сегодня жестокость и насилие вытесняют из российского характера такие нравственные качества, как милосердие, терпимость, любовь к окружающим. Именно кукла, как в древние времена, так и в нынешний техногенный век поможет взрослым и детям осознать себя, как личность, растопить в каждой душе лед ожесточенности и недоверия, распахнуть ее навстречу добру, радости и творчеству. Куклы, полны магии древности. Однажды увидевшие их, непременно захотят иметь в доме эту забавную и очень милую игрушку.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уклы-растения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 выполнены из ниток и ткани. Растения представлены различными видами деревьев и кустарников-ягод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уклы-деревья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(юх-пакыт) изготавливают из ткани, сложенной в 2-3 слоя. Скрученный валик складывают пополам так, нижняя часть образует «ноги» и делает фигуру устойчивой. Характерной чертой этой группы кукол является наличие длинных распущенных волос из ниток, по цвету напоминающих крону дерев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уклы-ягоды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(канэк-пакыт) – также выполнены из ткани. Такая кукла малоподвижна, в основном она находится в сидячем положении. Среди всех кукол-ягод выделяется «Морошка» и «Клюковка»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уклы, сделанные из травы (пом савэли). Их изготавливают из сложенных пополам длинных стеблей пырея. Такая кукла изображала растущую траву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00" strike="noStrike">
                <a:solidFill>
                  <a:srgbClr val="002060"/>
                </a:solidFill>
                <a:latin typeface="Constantia"/>
              </a:rPr>
              <a:t>У каждой хантыйской куклы имеется свое уникальное предназначение. Одни куклы изображают человека, другие – растени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 игре куклы-деревья всегда неподвижны, они могут только стоять и выполнять функцию декорации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уклы-ягоды в игровом пространстве малоподвижны, в основном они находятся в сидячем положении – сидят, «расправив вокруг себя подол платья». Эти куклы не имеют волос, их головы покрыты платками, соответствующими цвету созревшей ягоды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Ярким персонажем является кукла-ягода «Клюква» (Пансэмэли). Клюква болотная ягода. Эту ягоду ханты предпочитают собирать весной, потому что она становится более сладкой, чем осенью. Согласно хантыйской сказке, «Клюква» – самая трудолюбивая ягодка. Она занимается рукоделием, готовит, следит за хозяйством и, вообще, без дела сидеть не привыкла. Её постоянной соседкой является травяная куколка –  «Травы пырея косичка» (Помсавэли), это парные персонажи одной сказк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6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buNone/>
            </a:pPr>
            <a:endParaRPr b="1" lang="en-US" sz="1800" spc="-52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74" name="Рисунок 4" descr="hello_html_414f7dd6.jpg"/>
          <p:cNvPicPr/>
          <p:nvPr/>
        </p:nvPicPr>
        <p:blipFill>
          <a:blip r:embed="rId1"/>
          <a:stretch/>
        </p:blipFill>
        <p:spPr>
          <a:xfrm>
            <a:off x="6876360" y="3645000"/>
            <a:ext cx="1656000" cy="2030040"/>
          </a:xfrm>
          <a:prstGeom prst="rect">
            <a:avLst/>
          </a:prstGeom>
          <a:ln w="9525">
            <a:noFill/>
          </a:ln>
        </p:spPr>
      </p:pic>
      <p:pic>
        <p:nvPicPr>
          <p:cNvPr id="275" name="Рисунок 5" descr="Мастер-класс"/>
          <p:cNvPicPr/>
          <p:nvPr/>
        </p:nvPicPr>
        <p:blipFill>
          <a:blip r:embed="rId2"/>
          <a:stretch/>
        </p:blipFill>
        <p:spPr>
          <a:xfrm>
            <a:off x="6876360" y="116640"/>
            <a:ext cx="1656000" cy="1656000"/>
          </a:xfrm>
          <a:prstGeom prst="rect">
            <a:avLst/>
          </a:prstGeom>
          <a:ln w="9525">
            <a:noFill/>
          </a:ln>
        </p:spPr>
      </p:pic>
      <p:pic>
        <p:nvPicPr>
          <p:cNvPr id="276" name="Рисунок 6" descr="hello_html_m7898867.jpg"/>
          <p:cNvPicPr/>
          <p:nvPr/>
        </p:nvPicPr>
        <p:blipFill>
          <a:blip r:embed="rId3"/>
          <a:stretch/>
        </p:blipFill>
        <p:spPr>
          <a:xfrm>
            <a:off x="6876360" y="1850400"/>
            <a:ext cx="1656000" cy="1722240"/>
          </a:xfrm>
          <a:prstGeom prst="rect">
            <a:avLst/>
          </a:prstGeom>
          <a:ln w="9525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Группа 4"/>
          <p:cNvGrpSpPr/>
          <p:nvPr/>
        </p:nvGrpSpPr>
        <p:grpSpPr>
          <a:xfrm>
            <a:off x="0" y="6286680"/>
            <a:ext cx="9143640" cy="570960"/>
            <a:chOff x="0" y="6286680"/>
            <a:chExt cx="9143640" cy="570960"/>
          </a:xfrm>
        </p:grpSpPr>
        <p:grpSp>
          <p:nvGrpSpPr>
            <p:cNvPr id="278" name="Группа 9"/>
            <p:cNvGrpSpPr/>
            <p:nvPr/>
          </p:nvGrpSpPr>
          <p:grpSpPr>
            <a:xfrm>
              <a:off x="0" y="6286680"/>
              <a:ext cx="4687200" cy="570960"/>
              <a:chOff x="0" y="6286680"/>
              <a:chExt cx="4687200" cy="570960"/>
            </a:xfrm>
          </p:grpSpPr>
          <p:pic>
            <p:nvPicPr>
              <p:cNvPr id="279" name="Picture 2" descr="C:\Documents and Settings\Дмитрий\Рабочий стол\узоры\7.JPG"/>
              <p:cNvPicPr/>
              <p:nvPr/>
            </p:nvPicPr>
            <p:blipFill>
              <a:blip r:embed="rId1"/>
              <a:stretch/>
            </p:blipFill>
            <p:spPr>
              <a:xfrm>
                <a:off x="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2" descr="C:\Documents and Settings\Дмитрий\Рабочий стол\узоры\7.JPG"/>
              <p:cNvPicPr/>
              <p:nvPr/>
            </p:nvPicPr>
            <p:blipFill>
              <a:blip r:embed="rId2"/>
              <a:stretch/>
            </p:blipFill>
            <p:spPr>
              <a:xfrm>
                <a:off x="22356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Группа 10"/>
            <p:cNvGrpSpPr/>
            <p:nvPr/>
          </p:nvGrpSpPr>
          <p:grpSpPr>
            <a:xfrm>
              <a:off x="4456800" y="6286680"/>
              <a:ext cx="4686840" cy="570960"/>
              <a:chOff x="4456800" y="6286680"/>
              <a:chExt cx="4686840" cy="570960"/>
            </a:xfrm>
          </p:grpSpPr>
          <p:pic>
            <p:nvPicPr>
              <p:cNvPr id="282" name="Picture 2" descr="C:\Documents and Settings\Дмитрий\Рабочий стол\узоры\7.JPG"/>
              <p:cNvPicPr/>
              <p:nvPr/>
            </p:nvPicPr>
            <p:blipFill>
              <a:blip r:embed="rId3"/>
              <a:stretch/>
            </p:blipFill>
            <p:spPr>
              <a:xfrm>
                <a:off x="445680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2" descr="C:\Documents and Settings\Дмитрий\Рабочий стол\узоры\7.JPG"/>
              <p:cNvPicPr/>
              <p:nvPr/>
            </p:nvPicPr>
            <p:blipFill>
              <a:blip r:embed="rId4"/>
              <a:stretch/>
            </p:blipFill>
            <p:spPr>
              <a:xfrm>
                <a:off x="6692040" y="6286680"/>
                <a:ext cx="2451600" cy="57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4" name="Группа 12"/>
          <p:cNvGrpSpPr/>
          <p:nvPr/>
        </p:nvGrpSpPr>
        <p:grpSpPr>
          <a:xfrm>
            <a:off x="113400" y="0"/>
            <a:ext cx="9000720" cy="570960"/>
            <a:chOff x="113400" y="0"/>
            <a:chExt cx="9000720" cy="570960"/>
          </a:xfrm>
        </p:grpSpPr>
        <p:grpSp>
          <p:nvGrpSpPr>
            <p:cNvPr id="285" name="Группа 9"/>
            <p:cNvGrpSpPr/>
            <p:nvPr/>
          </p:nvGrpSpPr>
          <p:grpSpPr>
            <a:xfrm>
              <a:off x="113400" y="0"/>
              <a:ext cx="4613760" cy="570960"/>
              <a:chOff x="113400" y="0"/>
              <a:chExt cx="4613760" cy="570960"/>
            </a:xfrm>
          </p:grpSpPr>
          <p:pic>
            <p:nvPicPr>
              <p:cNvPr id="286" name="Picture 2" descr="C:\Documents and Settings\Дмитрий\Рабочий стол\узоры\7.JPG"/>
              <p:cNvPicPr/>
              <p:nvPr/>
            </p:nvPicPr>
            <p:blipFill>
              <a:blip r:embed="rId5"/>
              <a:stretch/>
            </p:blipFill>
            <p:spPr>
              <a:xfrm>
                <a:off x="11340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2" descr="C:\Documents and Settings\Дмитрий\Рабочий стол\узоры\7.JPG"/>
              <p:cNvPicPr/>
              <p:nvPr/>
            </p:nvPicPr>
            <p:blipFill>
              <a:blip r:embed="rId6"/>
              <a:stretch/>
            </p:blipFill>
            <p:spPr>
              <a:xfrm>
                <a:off x="231408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Группа 10"/>
            <p:cNvGrpSpPr/>
            <p:nvPr/>
          </p:nvGrpSpPr>
          <p:grpSpPr>
            <a:xfrm>
              <a:off x="4500720" y="0"/>
              <a:ext cx="4613400" cy="570960"/>
              <a:chOff x="4500720" y="0"/>
              <a:chExt cx="4613400" cy="570960"/>
            </a:xfrm>
          </p:grpSpPr>
          <p:pic>
            <p:nvPicPr>
              <p:cNvPr id="289" name="Picture 2" descr="C:\Documents and Settings\Дмитрий\Рабочий стол\узоры\7.JPG"/>
              <p:cNvPicPr/>
              <p:nvPr/>
            </p:nvPicPr>
            <p:blipFill>
              <a:blip r:embed="rId7"/>
              <a:stretch/>
            </p:blipFill>
            <p:spPr>
              <a:xfrm>
                <a:off x="450072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2" descr="C:\Documents and Settings\Дмитрий\Рабочий стол\узоры\7.JPG"/>
              <p:cNvPicPr/>
              <p:nvPr/>
            </p:nvPicPr>
            <p:blipFill>
              <a:blip r:embed="rId8"/>
              <a:stretch/>
            </p:blipFill>
            <p:spPr>
              <a:xfrm>
                <a:off x="6701040" y="0"/>
                <a:ext cx="2413080" cy="57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91" name="Объект 4" descr=""/>
          <p:cNvPicPr/>
          <p:nvPr/>
        </p:nvPicPr>
        <p:blipFill>
          <a:blip r:embed="rId9"/>
          <a:stretch/>
        </p:blipFill>
        <p:spPr>
          <a:xfrm>
            <a:off x="0" y="57132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2286000" y="2967480"/>
            <a:ext cx="45716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По тайге летают сказки, 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По тайге легенды бродя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1640" y="1052640"/>
            <a:ext cx="8229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Клюквинка и Травяная Косичка вместе  живут. Каждое утро первой Клюквинка поднимается. Она огонь в чувале разводит и пищу готовит.  А Травяная Косичка другими домашними делами занимается. Так они и живут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Однажды утром Клюквинка говорит подруге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- Я каждое утро первая встаю. Сегодня ты первая вставай, огонь разведи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Встающий первым всегда огонь разжигает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У меня же косичка,  - тихо напомнила Травяная Косичк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- Ничего с твоей косичкой не случится, если один раз огонь разведешь!- сказала Клюквинк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Ладно, огонь разведу,- согласилась Травяная Косичк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Травяная Косичка встала, оделась и начала огонь в чувале разводить. Береста- растопка загорелась, дрова загорелись. Тут порыв ветра пламя подхватил и вспыхнула травяная коса Травяной Косички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Увидела это сидевшая на постели Клюквинка, увидела и так расхохоталась, что подчас лопнула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144309"/>
                </a:solidFill>
                <a:latin typeface="Constantia"/>
              </a:rPr>
              <a:t>Тут и сказке конец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894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00" strike="noStrike" cap="all">
                <a:solidFill>
                  <a:srgbClr val="7030a0"/>
                </a:solidFill>
                <a:latin typeface="Constantia"/>
              </a:rPr>
              <a:t>Сказка</a:t>
            </a:r>
            <a:br>
              <a:rPr sz="2000"/>
            </a:br>
            <a:r>
              <a:rPr b="1" lang="ru-RU" sz="2000" spc="-100" strike="noStrike" cap="all">
                <a:solidFill>
                  <a:srgbClr val="7030a0"/>
                </a:solidFill>
                <a:latin typeface="Constantia"/>
              </a:rPr>
              <a:t>«Клюквинка и   травяная косичка»</a:t>
            </a:r>
            <a:br>
              <a:rPr sz="2000"/>
            </a:br>
            <a:r>
              <a:rPr b="1" lang="ru-RU" sz="1800" spc="-1" strike="noStrike" cap="all">
                <a:solidFill>
                  <a:srgbClr val="333a1c"/>
                </a:solidFill>
                <a:latin typeface="Constantia"/>
              </a:rPr>
              <a:t>Еремей Данилович Айпин</a:t>
            </a:r>
            <a:br>
              <a:rPr sz="2000"/>
            </a:br>
            <a:r>
              <a:rPr b="1" lang="ru-RU" sz="2000" spc="-1" strike="noStrike" cap="all">
                <a:solidFill>
                  <a:srgbClr val="7030a0"/>
                </a:solidFill>
                <a:latin typeface="Constantia"/>
              </a:rPr>
              <a:t>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формировать навыки работы с тканью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звивать у детей мелкую моторику пальцев рук при обучении изготовления куклы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звивать у воспитанников творческие способности, логическое мышление и эстетический вкус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оспитывать эстетический вкус, чувство уважения к коренным народам Севера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44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ff0000"/>
                </a:solidFill>
                <a:latin typeface="Constantia"/>
              </a:rPr>
              <a:t>Цель:</a:t>
            </a:r>
            <a:r>
              <a:rPr b="0" lang="ru-RU" sz="2000" spc="-100" strike="noStrike">
                <a:solidFill>
                  <a:srgbClr val="f9f9f9"/>
                </a:solidFill>
                <a:latin typeface="Constantia"/>
              </a:rPr>
              <a:t> </a:t>
            </a:r>
            <a:r>
              <a:rPr b="0" lang="ru-RU" sz="2000" spc="-100" strike="noStrike">
                <a:solidFill>
                  <a:srgbClr val="0d0d0d"/>
                </a:solidFill>
                <a:latin typeface="Constantia"/>
              </a:rPr>
              <a:t>пробудить интерес  детей к традиционной игрушке народов Севера, научить мастерить  куклу  ягоду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144309"/>
                </a:solidFill>
                <a:latin typeface="Constantia"/>
              </a:rPr>
              <a:t>Чтобы сделать куклу-ягоду Клюквинку, потребуется: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1) Лоскут ткани желтого или коричневого цвета — что будет символизировать цвет почвы севера (там песка много).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2) Лоскут зелёного цвета, это болото, на котором растёт клюква. 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3) Треугольный лоскут красного цвета, цвета спелой ягодки. 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4) Кусочек ватки для головы куклы</a:t>
            </a:r>
            <a:br>
              <a:rPr sz="2600"/>
            </a:br>
            <a:r>
              <a:rPr b="1" lang="ru-RU" sz="2600" spc="-1" strike="noStrike">
                <a:solidFill>
                  <a:srgbClr val="dfcf04"/>
                </a:solidFill>
                <a:latin typeface="Constantia"/>
              </a:rPr>
              <a:t>5) нить коричневого цвета, вата, 2 бусинки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Объект 6" descr="hello_html_m7898867.jpg"/>
          <p:cNvPicPr/>
          <p:nvPr/>
        </p:nvPicPr>
        <p:blipFill>
          <a:blip r:embed="rId1"/>
          <a:stretch/>
        </p:blipFill>
        <p:spPr>
          <a:xfrm>
            <a:off x="7020360" y="476640"/>
            <a:ext cx="1872000" cy="2664000"/>
          </a:xfrm>
          <a:prstGeom prst="rect">
            <a:avLst/>
          </a:prstGeom>
          <a:ln w="9525">
            <a:noFill/>
          </a:ln>
        </p:spPr>
      </p:pic>
      <p:pic>
        <p:nvPicPr>
          <p:cNvPr id="300" name="Picture 2" descr="C:\Users\DN\Desktop\фтоНовая папка\20170226_214811.jpg"/>
          <p:cNvPicPr/>
          <p:nvPr/>
        </p:nvPicPr>
        <p:blipFill>
          <a:blip r:embed="rId2"/>
          <a:stretch/>
        </p:blipFill>
        <p:spPr>
          <a:xfrm>
            <a:off x="4572000" y="3213000"/>
            <a:ext cx="3960000" cy="3301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1</a:t>
            </a:r>
            <a:r>
              <a:rPr b="0" lang="ru-RU" sz="2700" spc="-100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0" lang="ru-RU" sz="2700" spc="-100" strike="noStrike">
                <a:solidFill>
                  <a:srgbClr val="144309"/>
                </a:solidFill>
                <a:latin typeface="Constantia"/>
              </a:rPr>
              <a:t>Берём зелёный лоскут и кладём его перед собой как квадрат, а на него кладём желтый, но уже ромбом.</a:t>
            </a:r>
            <a:br>
              <a:rPr sz="2700"/>
            </a:br>
            <a:endParaRPr b="0" lang="ru-RU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Picture 14" descr="C:\Users\DN\Desktop\фтоНовая папка\шш70226_214840.jpg"/>
          <p:cNvPicPr/>
          <p:nvPr/>
        </p:nvPicPr>
        <p:blipFill>
          <a:blip r:embed="rId1"/>
          <a:stretch/>
        </p:blipFill>
        <p:spPr>
          <a:xfrm>
            <a:off x="755640" y="1268640"/>
            <a:ext cx="6480360" cy="453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2020</TotalTime>
  <Application>LibreOffice/7.4.7.2$Linux_X86_64 LibreOffice_project/40$Build-2</Application>
  <AppVersion>15.0000</AppVersion>
  <Words>1039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3:28:26Z</dcterms:created>
  <dc:creator>Дмитрий</dc:creator>
  <dc:description/>
  <dc:language>en-US</dc:language>
  <cp:lastModifiedBy>Ольга Третьякова</cp:lastModifiedBy>
  <dcterms:modified xsi:type="dcterms:W3CDTF">2021-05-22T04:17:42Z</dcterms:modified>
  <cp:revision>2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