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355C9-5EF6-4BB1-BD09-6F657D40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984B-F474-4AE1-AB69-4D96B3B0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CFE0-D392-45F8-B491-677376A4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DAE2-F13B-4CA1-9EFA-B8C7834A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D87DA-943A-4C6D-AACA-8C2A0DAF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11C88-4662-421D-AB50-D7BCEE6D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6C6FB-95D7-4710-ABCB-9C9EEFA2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70A62-6A20-4492-A51C-7BD715CA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1DCDC-D086-484F-922E-990F94F1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AE197-5391-48D9-93B9-C6169162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BC001-522A-4C88-B06B-D1A39239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58E54-3BB2-43BB-84DA-C423FB2A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5A431-D73C-4D90-95D6-D91A1D9E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016B0-F52E-4033-A613-9A1A4A8B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B76E0-FDA7-4749-9A46-729795DA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23A67-8921-4B25-80CD-A9CBECE3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8CEE5-CECA-4E0C-9E24-7AF1A205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987FE-1CA9-42FB-92B5-8437AC91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AB6F1-1378-485D-B8E9-57EB75BF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2B697-9553-40B3-9810-756EFF81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AE958-050C-4DBC-B360-E50F18D8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44466-0509-46C0-BDC1-4C2EFA71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F334-3085-4F3F-904E-E5C69313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818F6-A6F8-4186-9E4A-35DF78C3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610B9-5D6F-4592-805E-D54E98DB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BFCA2-9E1B-4A43-AAC7-3E6B1C73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722D2-E9DB-4ACC-8489-99A947DA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282B1-3DA8-4DCE-BE0B-4548EF36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2B7A2-E76D-4C8E-ABDE-D3B32EA4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A49F2-EF68-471B-A72D-9AC12095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AE6A-9BF6-4D09-8451-C7B22378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8C644-1E21-4EEB-A14F-CC1F4C16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C94EE-5254-42A4-8775-F2D48612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D93B-1518-44FE-9FD6-F7EB130F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E915C-B3A5-483C-9205-903B88C1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FD35C-FE45-403D-B567-8734638A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2D1F-6827-45C1-A25E-F3EAD063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35C4A-E7B3-4457-9056-ADDDA46D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B6E40-45B0-41F8-8427-E5F1F2A3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9102C-EE24-4958-9A24-3CF2694A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87789-090A-499E-8445-7E908916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BECE1-3B34-4810-840E-D97EA3AE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39D80-1C91-4050-846F-AC57BADE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AD9E1-D138-4311-93BF-916E069A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616A-0AF6-4FBA-8611-03C292E6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A585C-7815-4943-92C7-B410B05E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F5D0C-2F9E-47A7-A564-BFD2632D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EC49C-37E6-4F5C-9924-FCBB024A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2FC68-F090-4405-AA04-26E42372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615D2-D601-4F12-BE9D-C6C36135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CEACA-A735-46BC-8E77-CC8CBEA2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87954-76A4-4250-94DA-A295F1EC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1577A-244A-45C0-ADC5-466F223D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3DFE2-568E-4E7A-B31E-87745073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1BE14-DD51-4B87-824A-8B56A4A3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165A-BD36-41E4-B40A-990C4E31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90CAD-0B46-474C-AE30-6DC3C395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E830B-9A63-4DB1-AFDF-BABB5665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6BF88-1EC8-4CD8-BB78-C4C9A4F5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8F79C-59CE-474A-8EBD-FCE498B6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25252-1659-454F-8FF2-B16BEE65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8DC45-78EE-4F9E-959F-22AAEE99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5E593-19DF-4CA1-895C-96CF8623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6BCE8-5661-49DC-8817-9A1B9358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DEA93-B18E-4D4A-9FB5-CE662968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0F0C-32F8-4777-83B8-1227B57E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BAF3-4537-4D4F-9852-C559722E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4D642-9A3E-429A-85ED-56369126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930D2-3678-4D0A-AE51-6621B30E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61CB-CCF4-4BFC-88B8-A7A60E31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7FB5-D8E5-47E2-8101-10867179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4583-F9DD-428A-9865-9433806A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5C84E94-A418-4E6F-8732-0633641F7D7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A11EC29-ABCA-467F-A48A-E20C3CFB92C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457200"/>
            <a:ext cx="62481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81680" y="1600200"/>
            <a:ext cx="1983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6781680" y="457200"/>
            <a:ext cx="198072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52" strike="noStrike">
                <a:solidFill>
                  <a:srgbClr val="fefac9"/>
                </a:solidFill>
                <a:latin typeface="Constantia"/>
              </a:rPr>
              <a:t>Образец заголовка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B4A0385-8D0A-44EF-ACE5-33E16BB8830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18A3CBB-84F0-4B4D-9722-E3608F0B978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8C16477-6B4F-41F2-8835-85B684E763E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8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74AA85-5EB3-4658-8A91-E1A3215A639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Группа 4"/>
          <p:cNvGrpSpPr/>
          <p:nvPr/>
        </p:nvGrpSpPr>
        <p:grpSpPr>
          <a:xfrm>
            <a:off x="0" y="6286680"/>
            <a:ext cx="9143640" cy="570960"/>
            <a:chOff x="0" y="6286680"/>
            <a:chExt cx="9143640" cy="570960"/>
          </a:xfrm>
        </p:grpSpPr>
        <p:grpSp>
          <p:nvGrpSpPr>
            <p:cNvPr id="252" name="Группа 9"/>
            <p:cNvGrpSpPr/>
            <p:nvPr/>
          </p:nvGrpSpPr>
          <p:grpSpPr>
            <a:xfrm>
              <a:off x="0" y="6286680"/>
              <a:ext cx="4687200" cy="570960"/>
              <a:chOff x="0" y="6286680"/>
              <a:chExt cx="4687200" cy="570960"/>
            </a:xfrm>
          </p:grpSpPr>
          <p:pic>
            <p:nvPicPr>
              <p:cNvPr id="253" name="Picture 2" descr="C:\Documents and Settings\Дмитрий\Рабочий стол\узоры\7.JPG"/>
              <p:cNvPicPr/>
              <p:nvPr/>
            </p:nvPicPr>
            <p:blipFill>
              <a:blip r:embed="rId1"/>
              <a:stretch/>
            </p:blipFill>
            <p:spPr>
              <a:xfrm>
                <a:off x="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2" descr="C:\Documents and Settings\Дмитрий\Рабочий стол\узоры\7.JPG"/>
              <p:cNvPicPr/>
              <p:nvPr/>
            </p:nvPicPr>
            <p:blipFill>
              <a:blip r:embed="rId2"/>
              <a:stretch/>
            </p:blipFill>
            <p:spPr>
              <a:xfrm>
                <a:off x="223560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" name="Группа 10"/>
            <p:cNvGrpSpPr/>
            <p:nvPr/>
          </p:nvGrpSpPr>
          <p:grpSpPr>
            <a:xfrm>
              <a:off x="4456800" y="6286680"/>
              <a:ext cx="4686840" cy="570960"/>
              <a:chOff x="4456800" y="6286680"/>
              <a:chExt cx="4686840" cy="570960"/>
            </a:xfrm>
          </p:grpSpPr>
          <p:pic>
            <p:nvPicPr>
              <p:cNvPr id="256" name="Picture 2" descr="C:\Documents and Settings\Дмитрий\Рабочий стол\узоры\7.JPG"/>
              <p:cNvPicPr/>
              <p:nvPr/>
            </p:nvPicPr>
            <p:blipFill>
              <a:blip r:embed="rId3"/>
              <a:stretch/>
            </p:blipFill>
            <p:spPr>
              <a:xfrm>
                <a:off x="445680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Picture 2" descr="C:\Documents and Settings\Дмитрий\Рабочий стол\узоры\7.JPG"/>
              <p:cNvPicPr/>
              <p:nvPr/>
            </p:nvPicPr>
            <p:blipFill>
              <a:blip r:embed="rId4"/>
              <a:stretch/>
            </p:blipFill>
            <p:spPr>
              <a:xfrm>
                <a:off x="669204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8" name="Группа 12"/>
          <p:cNvGrpSpPr/>
          <p:nvPr/>
        </p:nvGrpSpPr>
        <p:grpSpPr>
          <a:xfrm>
            <a:off x="142920" y="0"/>
            <a:ext cx="9000720" cy="476280"/>
            <a:chOff x="142920" y="0"/>
            <a:chExt cx="9000720" cy="476280"/>
          </a:xfrm>
        </p:grpSpPr>
        <p:grpSp>
          <p:nvGrpSpPr>
            <p:cNvPr id="259" name="Группа 9"/>
            <p:cNvGrpSpPr/>
            <p:nvPr/>
          </p:nvGrpSpPr>
          <p:grpSpPr>
            <a:xfrm>
              <a:off x="142920" y="0"/>
              <a:ext cx="4613400" cy="476280"/>
              <a:chOff x="142920" y="0"/>
              <a:chExt cx="4613400" cy="476280"/>
            </a:xfrm>
          </p:grpSpPr>
          <p:pic>
            <p:nvPicPr>
              <p:cNvPr id="260" name="Picture 2" descr="C:\Documents and Settings\Дмитрий\Рабочий стол\узоры\7.JPG"/>
              <p:cNvPicPr/>
              <p:nvPr/>
            </p:nvPicPr>
            <p:blipFill>
              <a:blip r:embed="rId5"/>
              <a:stretch/>
            </p:blipFill>
            <p:spPr>
              <a:xfrm>
                <a:off x="142920" y="0"/>
                <a:ext cx="24130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Picture 2" descr="C:\Documents and Settings\Дмитрий\Рабочий стол\узоры\7.JPG"/>
              <p:cNvPicPr/>
              <p:nvPr/>
            </p:nvPicPr>
            <p:blipFill>
              <a:blip r:embed="rId6"/>
              <a:stretch/>
            </p:blipFill>
            <p:spPr>
              <a:xfrm>
                <a:off x="2343240" y="0"/>
                <a:ext cx="2413080" cy="476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2" name="Группа 10"/>
            <p:cNvGrpSpPr/>
            <p:nvPr/>
          </p:nvGrpSpPr>
          <p:grpSpPr>
            <a:xfrm>
              <a:off x="4529880" y="0"/>
              <a:ext cx="4613760" cy="476280"/>
              <a:chOff x="4529880" y="0"/>
              <a:chExt cx="4613760" cy="476280"/>
            </a:xfrm>
          </p:grpSpPr>
          <p:pic>
            <p:nvPicPr>
              <p:cNvPr id="263" name="Picture 2" descr="C:\Documents and Settings\Дмитрий\Рабочий стол\узоры\7.JPG"/>
              <p:cNvPicPr/>
              <p:nvPr/>
            </p:nvPicPr>
            <p:blipFill>
              <a:blip r:embed="rId7"/>
              <a:stretch/>
            </p:blipFill>
            <p:spPr>
              <a:xfrm>
                <a:off x="4529880" y="0"/>
                <a:ext cx="24130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Picture 2" descr="C:\Documents and Settings\Дмитрий\Рабочий стол\узоры\7.JPG"/>
              <p:cNvPicPr/>
              <p:nvPr/>
            </p:nvPicPr>
            <p:blipFill>
              <a:blip r:embed="rId8"/>
              <a:stretch/>
            </p:blipFill>
            <p:spPr>
              <a:xfrm>
                <a:off x="6730560" y="0"/>
                <a:ext cx="2413080" cy="476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5" name="Прямоугольник 19"/>
          <p:cNvSpPr txBox="1"/>
          <p:nvPr/>
        </p:nvSpPr>
        <p:spPr>
          <a:xfrm>
            <a:off x="407520" y="186840"/>
            <a:ext cx="8416080" cy="768960"/>
          </a:xfrm>
          <a:prstGeom prst="rect">
            <a:avLst/>
          </a:prstGeom>
        </p:spPr>
        <p:txBody>
          <a:bodyPr wrap="none" anchor="t">
            <a:prstTxWarp prst="textArchDown">
              <a:avLst>
                <a:gd name="adj" fmla="val 0"/>
              </a:avLst>
            </a:prstTxWarp>
            <a:noAutofit/>
            <a:scene3d>
              <a:camera prst="perspectiveLeft"/>
              <a:lightRig dir="t" rig="threePt"/>
            </a:scene3d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ln w="0">
                  <a:noFill/>
                </a:ln>
                <a:solidFill>
                  <a:srgbClr val="729fcf"/>
                </a:solidFill>
                <a:latin typeface="Arial"/>
              </a:rPr>
              <a:t>Хантыйская кукла «Клюквинка»</a:t>
            </a:r>
            <a:endParaRPr b="0" lang="en-US" sz="20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ln w="0">
                  <a:noFill/>
                </a:ln>
                <a:solidFill>
                  <a:srgbClr val="729fcf"/>
                </a:solidFill>
                <a:latin typeface="Arial"/>
              </a:rPr>
              <a:t>По сказке  Еремея Даниловича Айпина</a:t>
            </a:r>
            <a:endParaRPr b="0" lang="en-US" sz="20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pic>
        <p:nvPicPr>
          <p:cNvPr id="266" name="Рисунок 20" descr="http://babiki.ru/uploads/images/02/28/04/2014/08/22/accb2c.jpg"/>
          <p:cNvPicPr/>
          <p:nvPr/>
        </p:nvPicPr>
        <p:blipFill>
          <a:blip r:embed="rId9"/>
          <a:stretch/>
        </p:blipFill>
        <p:spPr>
          <a:xfrm>
            <a:off x="2272680" y="1865520"/>
            <a:ext cx="4968360" cy="3349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240" cy="1223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r>
              <a:rPr b="0" lang="ru-RU" sz="2000" spc="-100" strike="noStrike">
                <a:solidFill>
                  <a:srgbClr val="144309"/>
                </a:solidFill>
                <a:latin typeface="Constantia"/>
              </a:rPr>
              <a:t>2. Кладём в серединку кусочек ваты и плотно обжав, вложенную вату, затягиваем нитью, фиксируя ее двойным узлом, концы нити не убираются, на них в конце, можно будет повесить бусинки. В головку можно положить мох, маленькую шишку или большую клюквинку. Может быть поэтому ее и прозвали «клюквинка»- Пан сэмэли.</a:t>
            </a:r>
            <a:br>
              <a:rPr sz="2000"/>
            </a:b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Picture 2" descr="C:\Users\DN\Desktop\фтоНовая папка\20170226_214956.jpg"/>
          <p:cNvPicPr/>
          <p:nvPr/>
        </p:nvPicPr>
        <p:blipFill>
          <a:blip r:embed="rId1"/>
          <a:stretch/>
        </p:blipFill>
        <p:spPr>
          <a:xfrm>
            <a:off x="467640" y="1968120"/>
            <a:ext cx="3919680" cy="3007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C:\Users\DN\Desktop\фтоНовая папка\20170226_215429.jpg"/>
          <p:cNvPicPr/>
          <p:nvPr/>
        </p:nvPicPr>
        <p:blipFill>
          <a:blip r:embed="rId2"/>
          <a:stretch/>
        </p:blipFill>
        <p:spPr>
          <a:xfrm>
            <a:off x="4644000" y="1989000"/>
            <a:ext cx="3816000" cy="2986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200" spc="-100" strike="noStrike">
                <a:solidFill>
                  <a:srgbClr val="f9f9f9"/>
                </a:solidFill>
                <a:latin typeface="Constantia"/>
              </a:rPr>
              <a:t>3</a:t>
            </a:r>
            <a:r>
              <a:rPr b="0" lang="ru-RU" sz="2200" spc="-100" strike="noStrike">
                <a:solidFill>
                  <a:srgbClr val="144309"/>
                </a:solidFill>
                <a:latin typeface="Constantia"/>
              </a:rPr>
              <a:t>. Теперь берём красный треугольник, кладём его на головку клюковки и завязываем, полностью закрывая «лицо».</a:t>
            </a:r>
            <a:br>
              <a:rPr sz="2200"/>
            </a:b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8" name="Picture 2" descr="C:\Users\DN\Desktop\фтоНовая папка\20170226_215728.jpg"/>
          <p:cNvPicPr/>
          <p:nvPr/>
        </p:nvPicPr>
        <p:blipFill>
          <a:blip r:embed="rId1"/>
          <a:stretch/>
        </p:blipFill>
        <p:spPr>
          <a:xfrm>
            <a:off x="683640" y="2277000"/>
            <a:ext cx="3816000" cy="3600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C:\Users\DN\Desktop\фтоНовая папка\20170226_215842.jpg"/>
          <p:cNvPicPr/>
          <p:nvPr/>
        </p:nvPicPr>
        <p:blipFill>
          <a:blip r:embed="rId2"/>
          <a:stretch/>
        </p:blipFill>
        <p:spPr>
          <a:xfrm>
            <a:off x="4788000" y="2277000"/>
            <a:ext cx="3888000" cy="360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00" strike="noStrike">
                <a:solidFill>
                  <a:srgbClr val="144309"/>
                </a:solidFill>
                <a:latin typeface="Constantia"/>
              </a:rPr>
              <a:t>4. </a:t>
            </a:r>
            <a:r>
              <a:rPr b="1" lang="ru-RU" sz="2000" spc="-100" strike="noStrike">
                <a:solidFill>
                  <a:srgbClr val="144309"/>
                </a:solidFill>
                <a:latin typeface="Constantia"/>
              </a:rPr>
              <a:t>Обкручиваем длинные концы треугольника вокруг головки, «сзади», с той стороны, где торчит задний краешек косынки.</a:t>
            </a:r>
            <a:br>
              <a:rPr sz="2000"/>
            </a:b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Picture 2" descr="C:\Users\DN\Desktop\фтоНовая папка\20170226_220337.jpg"/>
          <p:cNvPicPr/>
          <p:nvPr/>
        </p:nvPicPr>
        <p:blipFill>
          <a:blip r:embed="rId1"/>
          <a:stretch/>
        </p:blipFill>
        <p:spPr>
          <a:xfrm>
            <a:off x="1979640" y="2061000"/>
            <a:ext cx="4680000" cy="4034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00" strike="noStrike">
                <a:solidFill>
                  <a:srgbClr val="144309"/>
                </a:solidFill>
                <a:latin typeface="Constantia"/>
              </a:rPr>
              <a:t>5. </a:t>
            </a:r>
            <a:r>
              <a:rPr b="1" lang="ru-RU" sz="2000" spc="-100" strike="noStrike">
                <a:solidFill>
                  <a:srgbClr val="144309"/>
                </a:solidFill>
                <a:latin typeface="Constantia"/>
              </a:rPr>
              <a:t>И наконец, завязываем концы косынки на 2 узла со стороны «переда», то есть «лица» закрытого тканью. Так же можно и не закрывать лицо, завязать как платочек.</a:t>
            </a:r>
            <a:br>
              <a:rPr sz="2000"/>
            </a:b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Picture 3" descr="C:\Users\DN\Desktop\фтоНовая папка\20170226_220455.jpg"/>
          <p:cNvPicPr/>
          <p:nvPr/>
        </p:nvPicPr>
        <p:blipFill>
          <a:blip r:embed="rId1"/>
          <a:stretch/>
        </p:blipFill>
        <p:spPr>
          <a:xfrm>
            <a:off x="4872600" y="1772640"/>
            <a:ext cx="3515400" cy="4752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Picture 2" descr="C:\Users\DN\Desktop\фтоНовая папка\20170226_215842.jpg"/>
          <p:cNvPicPr/>
          <p:nvPr/>
        </p:nvPicPr>
        <p:blipFill>
          <a:blip r:embed="rId2"/>
          <a:stretch/>
        </p:blipFill>
        <p:spPr>
          <a:xfrm>
            <a:off x="395640" y="1772640"/>
            <a:ext cx="3672000" cy="475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00" strike="noStrike">
                <a:solidFill>
                  <a:srgbClr val="144309"/>
                </a:solidFill>
                <a:latin typeface="Constantia"/>
              </a:rPr>
              <a:t>6. </a:t>
            </a:r>
            <a:r>
              <a:rPr b="1" lang="ru-RU" sz="2000" spc="-100" strike="noStrike">
                <a:solidFill>
                  <a:srgbClr val="144309"/>
                </a:solidFill>
                <a:latin typeface="Constantia"/>
              </a:rPr>
              <a:t>Затем расправляем зелёные и жёлтые края ягоды, что бы посадить её на «болото».</a:t>
            </a:r>
            <a:br>
              <a:rPr sz="2000"/>
            </a:br>
            <a:r>
              <a:rPr b="1" lang="ru-RU" sz="2000" spc="-100" strike="noStrike">
                <a:solidFill>
                  <a:srgbClr val="144309"/>
                </a:solidFill>
                <a:latin typeface="Constantia"/>
              </a:rPr>
              <a:t>Вот такая куколка – Клюквинка у нас получилась.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Объект 5" descr=""/>
          <p:cNvPicPr/>
          <p:nvPr/>
        </p:nvPicPr>
        <p:blipFill>
          <a:blip r:embed="rId1"/>
          <a:stretch/>
        </p:blipFill>
        <p:spPr>
          <a:xfrm>
            <a:off x="1403640" y="1456200"/>
            <a:ext cx="6696360" cy="4925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Кто написал сказку «Клюквинка и Травяная Косичка»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О чем говорится в сказке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По сказке Клюквинка самая трудолюбивая ягода. Так ли это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На какую русскую народную сказку похожа это сказка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Почему нужно брать ткань желтого и зеленого цвета для изготовления куклы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Что означает красный цвет на кукле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Какие куклы – растения вы знаете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Чем похожи и в чем различия в куклах русского народа и народов ханты и манси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333a1c"/>
                </a:solidFill>
                <a:latin typeface="Constantia"/>
              </a:rPr>
              <a:t>Ответьте на вопросы: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Группа 8"/>
          <p:cNvGrpSpPr/>
          <p:nvPr/>
        </p:nvGrpSpPr>
        <p:grpSpPr>
          <a:xfrm>
            <a:off x="0" y="6429240"/>
            <a:ext cx="9143640" cy="428400"/>
            <a:chOff x="0" y="6429240"/>
            <a:chExt cx="9143640" cy="428400"/>
          </a:xfrm>
        </p:grpSpPr>
        <p:grpSp>
          <p:nvGrpSpPr>
            <p:cNvPr id="321" name="Группа 4"/>
            <p:cNvGrpSpPr/>
            <p:nvPr/>
          </p:nvGrpSpPr>
          <p:grpSpPr>
            <a:xfrm>
              <a:off x="0" y="6429240"/>
              <a:ext cx="4713120" cy="428400"/>
              <a:chOff x="0" y="6429240"/>
              <a:chExt cx="4713120" cy="428400"/>
            </a:xfrm>
          </p:grpSpPr>
          <p:pic>
            <p:nvPicPr>
              <p:cNvPr id="322" name="Picture 2" descr="C:\Documents and Settings\Дмитрий\Рабочий стол\узоры\2.JPG"/>
              <p:cNvPicPr/>
              <p:nvPr/>
            </p:nvPicPr>
            <p:blipFill>
              <a:blip r:embed="rId1"/>
              <a:stretch/>
            </p:blipFill>
            <p:spPr>
              <a:xfrm>
                <a:off x="2262600" y="642924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Picture 2" descr="C:\Documents and Settings\Дмитрий\Рабочий стол\узоры\2.JPG"/>
              <p:cNvPicPr/>
              <p:nvPr/>
            </p:nvPicPr>
            <p:blipFill>
              <a:blip r:embed="rId2"/>
              <a:stretch/>
            </p:blipFill>
            <p:spPr>
              <a:xfrm>
                <a:off x="0" y="642924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4" name="Группа 5"/>
            <p:cNvGrpSpPr/>
            <p:nvPr/>
          </p:nvGrpSpPr>
          <p:grpSpPr>
            <a:xfrm>
              <a:off x="4430520" y="6429240"/>
              <a:ext cx="4713120" cy="428400"/>
              <a:chOff x="4430520" y="6429240"/>
              <a:chExt cx="4713120" cy="428400"/>
            </a:xfrm>
          </p:grpSpPr>
          <p:pic>
            <p:nvPicPr>
              <p:cNvPr id="325" name="Picture 2" descr="C:\Documents and Settings\Дмитрий\Рабочий стол\узоры\2.JPG"/>
              <p:cNvPicPr/>
              <p:nvPr/>
            </p:nvPicPr>
            <p:blipFill>
              <a:blip r:embed="rId3"/>
              <a:stretch/>
            </p:blipFill>
            <p:spPr>
              <a:xfrm>
                <a:off x="6693120" y="642924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Picture 2" descr="C:\Documents and Settings\Дмитрий\Рабочий стол\узоры\2.JPG"/>
              <p:cNvPicPr/>
              <p:nvPr/>
            </p:nvPicPr>
            <p:blipFill>
              <a:blip r:embed="rId4"/>
              <a:stretch/>
            </p:blipFill>
            <p:spPr>
              <a:xfrm>
                <a:off x="4430520" y="642924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7" name="Группа 9"/>
          <p:cNvGrpSpPr/>
          <p:nvPr/>
        </p:nvGrpSpPr>
        <p:grpSpPr>
          <a:xfrm>
            <a:off x="0" y="0"/>
            <a:ext cx="9143640" cy="428400"/>
            <a:chOff x="0" y="0"/>
            <a:chExt cx="9143640" cy="428400"/>
          </a:xfrm>
        </p:grpSpPr>
        <p:grpSp>
          <p:nvGrpSpPr>
            <p:cNvPr id="328" name="Группа 10"/>
            <p:cNvGrpSpPr/>
            <p:nvPr/>
          </p:nvGrpSpPr>
          <p:grpSpPr>
            <a:xfrm>
              <a:off x="0" y="0"/>
              <a:ext cx="4713120" cy="428400"/>
              <a:chOff x="0" y="0"/>
              <a:chExt cx="4713120" cy="428400"/>
            </a:xfrm>
          </p:grpSpPr>
          <p:pic>
            <p:nvPicPr>
              <p:cNvPr id="329" name="Picture 2" descr="C:\Documents and Settings\Дмитрий\Рабочий стол\узоры\2.JPG"/>
              <p:cNvPicPr/>
              <p:nvPr/>
            </p:nvPicPr>
            <p:blipFill>
              <a:blip r:embed="rId5"/>
              <a:stretch/>
            </p:blipFill>
            <p:spPr>
              <a:xfrm>
                <a:off x="2262600" y="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Picture 2" descr="C:\Documents and Settings\Дмитрий\Рабочий стол\узоры\2.JPG"/>
              <p:cNvPicPr/>
              <p:nvPr/>
            </p:nvPicPr>
            <p:blipFill>
              <a:blip r:embed="rId6"/>
              <a:stretch/>
            </p:blipFill>
            <p:spPr>
              <a:xfrm>
                <a:off x="0" y="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1" name="Группа 11"/>
            <p:cNvGrpSpPr/>
            <p:nvPr/>
          </p:nvGrpSpPr>
          <p:grpSpPr>
            <a:xfrm>
              <a:off x="4430520" y="0"/>
              <a:ext cx="4713120" cy="428400"/>
              <a:chOff x="4430520" y="0"/>
              <a:chExt cx="4713120" cy="428400"/>
            </a:xfrm>
          </p:grpSpPr>
          <p:pic>
            <p:nvPicPr>
              <p:cNvPr id="332" name="Picture 2" descr="C:\Documents and Settings\Дмитрий\Рабочий стол\узоры\2.JPG"/>
              <p:cNvPicPr/>
              <p:nvPr/>
            </p:nvPicPr>
            <p:blipFill>
              <a:blip r:embed="rId7"/>
              <a:stretch/>
            </p:blipFill>
            <p:spPr>
              <a:xfrm>
                <a:off x="6693120" y="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Picture 2" descr="C:\Documents and Settings\Дмитрий\Рабочий стол\узоры\2.JPG"/>
              <p:cNvPicPr/>
              <p:nvPr/>
            </p:nvPicPr>
            <p:blipFill>
              <a:blip r:embed="rId8"/>
              <a:stretch/>
            </p:blipFill>
            <p:spPr>
              <a:xfrm>
                <a:off x="4430520" y="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4" name="Прямоугольник 1"/>
          <p:cNvSpPr/>
          <p:nvPr/>
        </p:nvSpPr>
        <p:spPr>
          <a:xfrm>
            <a:off x="1050120" y="2967480"/>
            <a:ext cx="7043400" cy="91404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90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Проживая на многонациональной Северной Земле, где коренными народами являются ханты и манси, мы должны знать и уважать культуру этого народа, сохранять их традиции. А сохранять традиции можно, если приобщать ребёнка с раннего возраста к ценностям духовной культуры, выбрать нужные ориентиры для его воспитания. С помощью куклы мы надеемся обратить внимание жителей на воспитание подрастающего поколения. Сегодня жестокость и насилие вытесняют из российского характера такие нравственные качества, как милосердие, терпимость, любовь к окружающим. Именно кукла, как в древние времена, так и в нынешний техногенный век поможет взрослым и детям осознать себя, как личность, растопить в каждой душе лед ожесточенности и недоверия, распахнуть ее навстречу добру, радости и творчеству. Куклы, полны магии древности. Однажды увидевшие их, непременно захотят иметь в доме эту забавную и очень милую игрушку. 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Куклы-растения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 выполнены из ниток и ткани. Растения представлены различными видами деревьев и кустарников-ягод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Куклы-деревья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(юх-пакыт) изготавливают из ткани, сложенной в 2-3 слоя. Скрученный валик складывают пополам так, нижняя часть образует «ноги» и делает фигуру устойчивой. Характерной чертой этой группы кукол является наличие длинных распущенных волос из ниток, по цвету напоминающих крону дерева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Куклы-ягоды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(канэк-пакыт) – также выполнены из ткани. Такая кукла малоподвижна, в основном она находится в сидячем положении. Среди всех кукол-ягод выделяется «Морошка» и «Клюковка»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уклы, сделанные из травы (пом савэли). Их изготавливают из сложенных пополам длинных стеблей пырея. Такая кукла изображала растущую траву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00" strike="noStrike">
                <a:solidFill>
                  <a:srgbClr val="002060"/>
                </a:solidFill>
                <a:latin typeface="Constantia"/>
              </a:rPr>
              <a:t>У каждой хантыйской куклы имеется свое уникальное предназначение. Одни куклы изображают человека, другие – растения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62481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 игре куклы-деревья всегда неподвижны, они могут только стоять и выполнять функцию декорации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уклы-ягоды в игровом пространстве малоподвижны, в основном они находятся в сидячем положении – сидят, «расправив вокруг себя подол платья». Эти куклы не имеют волос, их головы покрыты платками, соответствующими цвету созревшей ягоды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Ярким персонажем является кукла-ягода «Клюква» (Пансэмэли). Клюква болотная ягода. Эту ягоду ханты предпочитают собирать весной, потому что она становится более сладкой, чем осенью. Согласно хантыйской сказке, «Клюква» – самая трудолюбивая ягодка. Она занимается рукоделием, готовит, следит за хозяйством и, вообще, без дела сидеть не привыкла. Её постоянной соседкой является травяная куколка –  «Травы пырея косичка» (Помсавэли), это парные персонажи одной сказк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81680" y="1600200"/>
            <a:ext cx="1983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6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title"/>
          </p:nvPr>
        </p:nvSpPr>
        <p:spPr>
          <a:xfrm>
            <a:off x="6781680" y="457200"/>
            <a:ext cx="198072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buNone/>
            </a:pPr>
            <a:endParaRPr b="1" lang="en-US" sz="1800" spc="-52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74" name="Рисунок 4" descr="hello_html_414f7dd6.jpg"/>
          <p:cNvPicPr/>
          <p:nvPr/>
        </p:nvPicPr>
        <p:blipFill>
          <a:blip r:embed="rId1"/>
          <a:stretch/>
        </p:blipFill>
        <p:spPr>
          <a:xfrm>
            <a:off x="6876360" y="3645000"/>
            <a:ext cx="1656000" cy="2030040"/>
          </a:xfrm>
          <a:prstGeom prst="rect">
            <a:avLst/>
          </a:prstGeom>
          <a:ln w="9525">
            <a:noFill/>
          </a:ln>
        </p:spPr>
      </p:pic>
      <p:pic>
        <p:nvPicPr>
          <p:cNvPr id="275" name="Рисунок 5" descr="Мастер-класс"/>
          <p:cNvPicPr/>
          <p:nvPr/>
        </p:nvPicPr>
        <p:blipFill>
          <a:blip r:embed="rId2"/>
          <a:stretch/>
        </p:blipFill>
        <p:spPr>
          <a:xfrm>
            <a:off x="6876360" y="116640"/>
            <a:ext cx="1656000" cy="1656000"/>
          </a:xfrm>
          <a:prstGeom prst="rect">
            <a:avLst/>
          </a:prstGeom>
          <a:ln w="9525">
            <a:noFill/>
          </a:ln>
        </p:spPr>
      </p:pic>
      <p:pic>
        <p:nvPicPr>
          <p:cNvPr id="276" name="Рисунок 6" descr="hello_html_m7898867.jpg"/>
          <p:cNvPicPr/>
          <p:nvPr/>
        </p:nvPicPr>
        <p:blipFill>
          <a:blip r:embed="rId3"/>
          <a:stretch/>
        </p:blipFill>
        <p:spPr>
          <a:xfrm>
            <a:off x="6876360" y="1850400"/>
            <a:ext cx="1656000" cy="1722240"/>
          </a:xfrm>
          <a:prstGeom prst="rect">
            <a:avLst/>
          </a:prstGeom>
          <a:ln w="9525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Группа 4"/>
          <p:cNvGrpSpPr/>
          <p:nvPr/>
        </p:nvGrpSpPr>
        <p:grpSpPr>
          <a:xfrm>
            <a:off x="0" y="6286680"/>
            <a:ext cx="9143640" cy="570960"/>
            <a:chOff x="0" y="6286680"/>
            <a:chExt cx="9143640" cy="570960"/>
          </a:xfrm>
        </p:grpSpPr>
        <p:grpSp>
          <p:nvGrpSpPr>
            <p:cNvPr id="278" name="Группа 9"/>
            <p:cNvGrpSpPr/>
            <p:nvPr/>
          </p:nvGrpSpPr>
          <p:grpSpPr>
            <a:xfrm>
              <a:off x="0" y="6286680"/>
              <a:ext cx="4687200" cy="570960"/>
              <a:chOff x="0" y="6286680"/>
              <a:chExt cx="4687200" cy="570960"/>
            </a:xfrm>
          </p:grpSpPr>
          <p:pic>
            <p:nvPicPr>
              <p:cNvPr id="279" name="Picture 2" descr="C:\Documents and Settings\Дмитрий\Рабочий стол\узоры\7.JPG"/>
              <p:cNvPicPr/>
              <p:nvPr/>
            </p:nvPicPr>
            <p:blipFill>
              <a:blip r:embed="rId1"/>
              <a:stretch/>
            </p:blipFill>
            <p:spPr>
              <a:xfrm>
                <a:off x="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2" descr="C:\Documents and Settings\Дмитрий\Рабочий стол\узоры\7.JPG"/>
              <p:cNvPicPr/>
              <p:nvPr/>
            </p:nvPicPr>
            <p:blipFill>
              <a:blip r:embed="rId2"/>
              <a:stretch/>
            </p:blipFill>
            <p:spPr>
              <a:xfrm>
                <a:off x="223560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1" name="Группа 10"/>
            <p:cNvGrpSpPr/>
            <p:nvPr/>
          </p:nvGrpSpPr>
          <p:grpSpPr>
            <a:xfrm>
              <a:off x="4456800" y="6286680"/>
              <a:ext cx="4686840" cy="570960"/>
              <a:chOff x="4456800" y="6286680"/>
              <a:chExt cx="4686840" cy="570960"/>
            </a:xfrm>
          </p:grpSpPr>
          <p:pic>
            <p:nvPicPr>
              <p:cNvPr id="282" name="Picture 2" descr="C:\Documents and Settings\Дмитрий\Рабочий стол\узоры\7.JPG"/>
              <p:cNvPicPr/>
              <p:nvPr/>
            </p:nvPicPr>
            <p:blipFill>
              <a:blip r:embed="rId3"/>
              <a:stretch/>
            </p:blipFill>
            <p:spPr>
              <a:xfrm>
                <a:off x="445680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Picture 2" descr="C:\Documents and Settings\Дмитрий\Рабочий стол\узоры\7.JPG"/>
              <p:cNvPicPr/>
              <p:nvPr/>
            </p:nvPicPr>
            <p:blipFill>
              <a:blip r:embed="rId4"/>
              <a:stretch/>
            </p:blipFill>
            <p:spPr>
              <a:xfrm>
                <a:off x="669204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4" name="Группа 12"/>
          <p:cNvGrpSpPr/>
          <p:nvPr/>
        </p:nvGrpSpPr>
        <p:grpSpPr>
          <a:xfrm>
            <a:off x="113400" y="0"/>
            <a:ext cx="9000720" cy="570960"/>
            <a:chOff x="113400" y="0"/>
            <a:chExt cx="9000720" cy="570960"/>
          </a:xfrm>
        </p:grpSpPr>
        <p:grpSp>
          <p:nvGrpSpPr>
            <p:cNvPr id="285" name="Группа 9"/>
            <p:cNvGrpSpPr/>
            <p:nvPr/>
          </p:nvGrpSpPr>
          <p:grpSpPr>
            <a:xfrm>
              <a:off x="113400" y="0"/>
              <a:ext cx="4613760" cy="570960"/>
              <a:chOff x="113400" y="0"/>
              <a:chExt cx="4613760" cy="570960"/>
            </a:xfrm>
          </p:grpSpPr>
          <p:pic>
            <p:nvPicPr>
              <p:cNvPr id="286" name="Picture 2" descr="C:\Documents and Settings\Дмитрий\Рабочий стол\узоры\7.JPG"/>
              <p:cNvPicPr/>
              <p:nvPr/>
            </p:nvPicPr>
            <p:blipFill>
              <a:blip r:embed="rId5"/>
              <a:stretch/>
            </p:blipFill>
            <p:spPr>
              <a:xfrm>
                <a:off x="113400" y="0"/>
                <a:ext cx="2413080" cy="5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2" descr="C:\Documents and Settings\Дмитрий\Рабочий стол\узоры\7.JPG"/>
              <p:cNvPicPr/>
              <p:nvPr/>
            </p:nvPicPr>
            <p:blipFill>
              <a:blip r:embed="rId6"/>
              <a:stretch/>
            </p:blipFill>
            <p:spPr>
              <a:xfrm>
                <a:off x="2314080" y="0"/>
                <a:ext cx="2413080" cy="570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8" name="Группа 10"/>
            <p:cNvGrpSpPr/>
            <p:nvPr/>
          </p:nvGrpSpPr>
          <p:grpSpPr>
            <a:xfrm>
              <a:off x="4500720" y="0"/>
              <a:ext cx="4613400" cy="570960"/>
              <a:chOff x="4500720" y="0"/>
              <a:chExt cx="4613400" cy="570960"/>
            </a:xfrm>
          </p:grpSpPr>
          <p:pic>
            <p:nvPicPr>
              <p:cNvPr id="289" name="Picture 2" descr="C:\Documents and Settings\Дмитрий\Рабочий стол\узоры\7.JPG"/>
              <p:cNvPicPr/>
              <p:nvPr/>
            </p:nvPicPr>
            <p:blipFill>
              <a:blip r:embed="rId7"/>
              <a:stretch/>
            </p:blipFill>
            <p:spPr>
              <a:xfrm>
                <a:off x="4500720" y="0"/>
                <a:ext cx="2413080" cy="5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Picture 2" descr="C:\Documents and Settings\Дмитрий\Рабочий стол\узоры\7.JPG"/>
              <p:cNvPicPr/>
              <p:nvPr/>
            </p:nvPicPr>
            <p:blipFill>
              <a:blip r:embed="rId8"/>
              <a:stretch/>
            </p:blipFill>
            <p:spPr>
              <a:xfrm>
                <a:off x="6701040" y="0"/>
                <a:ext cx="2413080" cy="57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91" name="Объект 4" descr=""/>
          <p:cNvPicPr/>
          <p:nvPr/>
        </p:nvPicPr>
        <p:blipFill>
          <a:blip r:embed="rId9"/>
          <a:stretch/>
        </p:blipFill>
        <p:spPr>
          <a:xfrm>
            <a:off x="0" y="571320"/>
            <a:ext cx="9143640" cy="571464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2"/>
          <p:cNvSpPr/>
          <p:nvPr/>
        </p:nvSpPr>
        <p:spPr>
          <a:xfrm>
            <a:off x="2286000" y="2967480"/>
            <a:ext cx="45716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2060"/>
                </a:solidFill>
                <a:latin typeface="Constantia"/>
              </a:rPr>
              <a:t>По тайге летают сказки, 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Constantia"/>
              </a:rPr>
              <a:t>По тайге легенды бродя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51640" y="1052640"/>
            <a:ext cx="82292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Клюквинка и Травяная Косичка вместе  живут. Каждое утро первой Клюквинка поднимается. Она огонь в чувале разводит и пищу готовит.  А Травяная Косичка другими домашними делами занимается. Так они и живут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Однажды утром Клюквинка говорит подруге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- Я каждое утро первая встаю. Сегодня ты первая вставай, огонь разведи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Встающий первым всегда огонь разжигает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У меня же косичка,  - тихо напомнила Травяная Косичка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- Ничего с твоей косичкой не случится, если один раз огонь разведешь!- сказала Клюквинка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Ладно, огонь разведу,- согласилась Травяная Косичка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Травяная Косичка встала, оделась и начала огонь в чувале разводить. Береста- растопка загорелась, дрова загорелись. Тут порыв ветра пламя подхватил и вспыхнула травяная коса Травяной Косички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Увидела это сидевшая на постели Клюквинка, увидела и так расхохоталась, что подчас лопнула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Тут и сказке конец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894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000" spc="-100" strike="noStrike" cap="all">
                <a:solidFill>
                  <a:srgbClr val="7030a0"/>
                </a:solidFill>
                <a:latin typeface="Constantia"/>
              </a:rPr>
              <a:t>Сказка</a:t>
            </a:r>
            <a:br>
              <a:rPr sz="2000"/>
            </a:br>
            <a:r>
              <a:rPr b="1" lang="ru-RU" sz="2000" spc="-100" strike="noStrike" cap="all">
                <a:solidFill>
                  <a:srgbClr val="7030a0"/>
                </a:solidFill>
                <a:latin typeface="Constantia"/>
              </a:rPr>
              <a:t>«Клюквинка и   травяная косичка»</a:t>
            </a:r>
            <a:br>
              <a:rPr sz="2000"/>
            </a:br>
            <a:r>
              <a:rPr b="1" lang="ru-RU" sz="1800" spc="-1" strike="noStrike" cap="all">
                <a:solidFill>
                  <a:srgbClr val="333a1c"/>
                </a:solidFill>
                <a:latin typeface="Constantia"/>
              </a:rPr>
              <a:t>Еремей Данилович Айпин</a:t>
            </a:r>
            <a:br>
              <a:rPr sz="2000"/>
            </a:br>
            <a:r>
              <a:rPr b="1" lang="ru-RU" sz="2000" spc="-1" strike="noStrike" cap="all">
                <a:solidFill>
                  <a:srgbClr val="7030a0"/>
                </a:solidFill>
                <a:latin typeface="Constantia"/>
              </a:rPr>
              <a:t>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Задачи: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формировать навыки работы с тканью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азвивать у детей мелкую моторику пальцев рук при обучении изготовления куклы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азвивать у воспитанников творческие способности, логическое мышление и эстетический вкус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оспитывать эстетический вкус, чувство уважения к коренным народам Севера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044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00" strike="noStrike">
                <a:solidFill>
                  <a:srgbClr val="ff0000"/>
                </a:solidFill>
                <a:latin typeface="Constantia"/>
              </a:rPr>
              <a:t>Цель:</a:t>
            </a:r>
            <a:r>
              <a:rPr b="0" lang="ru-RU" sz="2000" spc="-100" strike="noStrike">
                <a:solidFill>
                  <a:srgbClr val="f9f9f9"/>
                </a:solidFill>
                <a:latin typeface="Constantia"/>
              </a:rPr>
              <a:t> </a:t>
            </a:r>
            <a:r>
              <a:rPr b="0" lang="ru-RU" sz="2000" spc="-100" strike="noStrike">
                <a:solidFill>
                  <a:srgbClr val="0d0d0d"/>
                </a:solidFill>
                <a:latin typeface="Constantia"/>
              </a:rPr>
              <a:t>пробудить интерес  детей к традиционной игрушке народов Севера, научить мастерить  куклу  ягоду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00" strike="noStrike">
                <a:solidFill>
                  <a:srgbClr val="144309"/>
                </a:solidFill>
                <a:latin typeface="Constantia"/>
              </a:rPr>
              <a:t>Чтобы сделать куклу-ягоду Клюквинку, потребуется: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dfcf04"/>
                </a:solidFill>
                <a:latin typeface="Constantia"/>
              </a:rPr>
              <a:t>1) Лоскут ткани желтого или коричневого цвета — что будет символизировать цвет почвы севера (там песка много).</a:t>
            </a:r>
            <a:br>
              <a:rPr sz="2600"/>
            </a:br>
            <a:r>
              <a:rPr b="1" lang="ru-RU" sz="2600" spc="-1" strike="noStrike">
                <a:solidFill>
                  <a:srgbClr val="dfcf04"/>
                </a:solidFill>
                <a:latin typeface="Constantia"/>
              </a:rPr>
              <a:t>2) Лоскут зелёного цвета, это болото, на котором растёт клюква. </a:t>
            </a:r>
            <a:br>
              <a:rPr sz="2600"/>
            </a:br>
            <a:r>
              <a:rPr b="1" lang="ru-RU" sz="2600" spc="-1" strike="noStrike">
                <a:solidFill>
                  <a:srgbClr val="dfcf04"/>
                </a:solidFill>
                <a:latin typeface="Constantia"/>
              </a:rPr>
              <a:t>3) Треугольный лоскут красного цвета, цвета спелой ягодки. </a:t>
            </a:r>
            <a:br>
              <a:rPr sz="2600"/>
            </a:br>
            <a:r>
              <a:rPr b="1" lang="ru-RU" sz="2600" spc="-1" strike="noStrike">
                <a:solidFill>
                  <a:srgbClr val="dfcf04"/>
                </a:solidFill>
                <a:latin typeface="Constantia"/>
              </a:rPr>
              <a:t>4) Кусочек ватки для головы куклы</a:t>
            </a:r>
            <a:br>
              <a:rPr sz="2600"/>
            </a:br>
            <a:r>
              <a:rPr b="1" lang="ru-RU" sz="2600" spc="-1" strike="noStrike">
                <a:solidFill>
                  <a:srgbClr val="dfcf04"/>
                </a:solidFill>
                <a:latin typeface="Constantia"/>
              </a:rPr>
              <a:t>5) нить коричневого цвета, вата, 2 бусинки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9" name="Объект 6" descr="hello_html_m7898867.jpg"/>
          <p:cNvPicPr/>
          <p:nvPr/>
        </p:nvPicPr>
        <p:blipFill>
          <a:blip r:embed="rId1"/>
          <a:stretch/>
        </p:blipFill>
        <p:spPr>
          <a:xfrm>
            <a:off x="7020360" y="476640"/>
            <a:ext cx="1872000" cy="2664000"/>
          </a:xfrm>
          <a:prstGeom prst="rect">
            <a:avLst/>
          </a:prstGeom>
          <a:ln w="9525">
            <a:noFill/>
          </a:ln>
        </p:spPr>
      </p:pic>
      <p:pic>
        <p:nvPicPr>
          <p:cNvPr id="300" name="Picture 2" descr="C:\Users\DN\Desktop\фтоНовая папка\20170226_214811.jpg"/>
          <p:cNvPicPr/>
          <p:nvPr/>
        </p:nvPicPr>
        <p:blipFill>
          <a:blip r:embed="rId2"/>
          <a:stretch/>
        </p:blipFill>
        <p:spPr>
          <a:xfrm>
            <a:off x="4572000" y="3213000"/>
            <a:ext cx="3960000" cy="3301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1</a:t>
            </a:r>
            <a:r>
              <a:rPr b="0" lang="ru-RU" sz="2700" spc="-100" strike="noStrike">
                <a:solidFill>
                  <a:srgbClr val="ff0000"/>
                </a:solidFill>
                <a:latin typeface="Constantia"/>
              </a:rPr>
              <a:t>. </a:t>
            </a:r>
            <a:r>
              <a:rPr b="0" lang="ru-RU" sz="2700" spc="-100" strike="noStrike">
                <a:solidFill>
                  <a:srgbClr val="144309"/>
                </a:solidFill>
                <a:latin typeface="Constantia"/>
              </a:rPr>
              <a:t>Берём зелёный лоскут и кладём его перед собой как квадрат, а на него кладём желтый, но уже ромбом.</a:t>
            </a:r>
            <a:br>
              <a:rPr sz="2700"/>
            </a:br>
            <a:endParaRPr b="0" lang="ru-RU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3" name="Picture 14" descr="C:\Users\DN\Desktop\фтоНовая папка\шш70226_214840.jpg"/>
          <p:cNvPicPr/>
          <p:nvPr/>
        </p:nvPicPr>
        <p:blipFill>
          <a:blip r:embed="rId1"/>
          <a:stretch/>
        </p:blipFill>
        <p:spPr>
          <a:xfrm>
            <a:off x="755640" y="1268640"/>
            <a:ext cx="6480360" cy="4536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2020</TotalTime>
  <Application>LibreOffice/7.4.7.2$Linux_X86_64 LibreOffice_project/40$Build-2</Application>
  <AppVersion>15.0000</AppVersion>
  <Words>1039</Words>
  <Paragraphs>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3:28:26Z</dcterms:created>
  <dc:creator>Дмитрий</dc:creator>
  <dc:description/>
  <dc:language>en-US</dc:language>
  <cp:lastModifiedBy>Ольга Третьякова</cp:lastModifiedBy>
  <dcterms:modified xsi:type="dcterms:W3CDTF">2021-05-22T04:17:42Z</dcterms:modified>
  <cp:revision>2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