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A8D-2F30-4EC2-81D9-7DCA0B62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86C-D0C6-485C-A5C5-DC2C94AE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FD0D-7499-4C64-9D03-6C3987C5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6BF-9C70-4EC3-9BA3-17FCFA03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FF6-6372-44B2-B3ED-0DCFC5BB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639-7878-4F6A-BFB5-D3F86AA7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3D9-2BAB-4471-8C69-357A4020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120-691D-4DEE-BD5F-D90BB56D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B5B-EE36-423A-A43C-95C37301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84EE-FBC9-4BBD-ACA2-43F93D03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E96-1580-4386-8BA1-123B1941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D1E-5607-443D-9A43-3022016C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DF09-76E4-44FC-986D-7A900A7C41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547640" y="2060640"/>
            <a:ext cx="59770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Gabriola"/>
                <a:ea typeface="Arial"/>
              </a:rPr>
              <a:t>Презентация группы №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Gabriola"/>
                <a:ea typeface="Arial"/>
              </a:rPr>
              <a:t>«Любознай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Gabriola"/>
                <a:ea typeface="Arial"/>
              </a:rPr>
              <a:t>(МБДОУ №43  «Лесная сказк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708360" y="558972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Gabriola"/>
              </a:rPr>
              <a:t>г. Сург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Gabriola"/>
              </a:rPr>
              <a:t>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Alexey_Anisimov_-_Playful_Kids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Звук 4" descr=""/>
          <p:cNvPicPr/>
          <p:nvPr/>
        </p:nvPicPr>
        <p:blipFill>
          <a:blip r:embed="rId3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708360" y="33336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briola"/>
                <a:ea typeface="Arial"/>
              </a:rPr>
              <a:t>Давайте познаком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3484440" y="89532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Gabriola"/>
              </a:rPr>
              <a:t>Нащ девиз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Gabriola"/>
              </a:rPr>
              <a:t>Мы – весёлые ребята. Любознайки, дошколя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Gabriola"/>
              </a:rPr>
              <a:t>Любим петь и рис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Gabriola"/>
              </a:rPr>
              <a:t>Книги разные чит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Gabriola"/>
              </a:rPr>
              <a:t>Много разных дел у на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Gabriola"/>
              </a:rPr>
              <a:t>Наша группа – просто клас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2"/>
          <a:stretch/>
        </p:blipFill>
        <p:spPr>
          <a:xfrm>
            <a:off x="971640" y="2649600"/>
            <a:ext cx="5262480" cy="39481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"/>
          <p:cNvPicPr/>
          <p:nvPr/>
        </p:nvPicPr>
        <p:blipFill>
          <a:blip r:embed="rId3"/>
          <a:stretch/>
        </p:blipFill>
        <p:spPr>
          <a:xfrm>
            <a:off x="1312920" y="1341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9" name="Звук 4" descr=""/>
          <p:cNvPicPr/>
          <p:nvPr/>
        </p:nvPicPr>
        <p:blipFill>
          <a:blip r:embed="rId4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627280" y="404640"/>
            <a:ext cx="56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abriola"/>
                <a:ea typeface="Arial"/>
              </a:rPr>
              <a:t>Мы – веселые реб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abriola"/>
                <a:ea typeface="Arial"/>
              </a:rPr>
              <a:t>Дружно в садике жив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abriola"/>
                <a:ea typeface="Arial"/>
              </a:rPr>
              <a:t>Целый день поём, игр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abriola"/>
                <a:ea typeface="Arial"/>
              </a:rPr>
              <a:t>Ни минуты не скуч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2"/>
          <a:stretch/>
        </p:blipFill>
        <p:spPr>
          <a:xfrm>
            <a:off x="3203640" y="2281320"/>
            <a:ext cx="5624280" cy="31636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"/>
          <p:cNvPicPr/>
          <p:nvPr/>
        </p:nvPicPr>
        <p:blipFill>
          <a:blip r:embed="rId3"/>
          <a:stretch/>
        </p:blipFill>
        <p:spPr>
          <a:xfrm>
            <a:off x="324000" y="4253040"/>
            <a:ext cx="391320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Звук 3" descr=""/>
          <p:cNvPicPr/>
          <p:nvPr/>
        </p:nvPicPr>
        <p:blipFill>
          <a:blip r:embed="rId4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276720" y="33336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abriola"/>
              </a:rPr>
              <a:t>Чтоб здоровым быть спол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abriola"/>
              </a:rPr>
              <a:t>Физкультура нам нужн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>
            <a:off x="3503520" y="2343240"/>
            <a:ext cx="5389560" cy="30304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"/>
          <p:cNvPicPr/>
          <p:nvPr/>
        </p:nvPicPr>
        <p:blipFill>
          <a:blip r:embed="rId3"/>
          <a:stretch/>
        </p:blipFill>
        <p:spPr>
          <a:xfrm>
            <a:off x="324000" y="2889360"/>
            <a:ext cx="4752720" cy="3564000"/>
          </a:xfrm>
          <a:prstGeom prst="rect">
            <a:avLst/>
          </a:prstGeom>
          <a:ln w="0">
            <a:noFill/>
          </a:ln>
        </p:spPr>
      </p:pic>
      <p:pic>
        <p:nvPicPr>
          <p:cNvPr id="57" name="Звук 4" descr=""/>
          <p:cNvPicPr/>
          <p:nvPr/>
        </p:nvPicPr>
        <p:blipFill>
          <a:blip r:embed="rId4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3059280" y="549360"/>
            <a:ext cx="482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64a2"/>
                </a:solidFill>
                <a:latin typeface="Gabriola"/>
              </a:rPr>
              <a:t>Наши милые девчушки – веселушки, хохот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64a2"/>
                </a:solidFill>
                <a:latin typeface="Gabriola"/>
              </a:rPr>
              <a:t>Любят песни петь, плясать, книжки разные чит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2"/>
          <a:stretch/>
        </p:blipFill>
        <p:spPr>
          <a:xfrm>
            <a:off x="2556000" y="2117880"/>
            <a:ext cx="4500360" cy="25318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4537080" cy="2552760"/>
          </a:xfrm>
          <a:prstGeom prst="rect">
            <a:avLst/>
          </a:prstGeom>
          <a:ln w="0">
            <a:noFill/>
          </a:ln>
        </p:spPr>
      </p:pic>
      <p:pic>
        <p:nvPicPr>
          <p:cNvPr id="61" name="Звук 6" descr=""/>
          <p:cNvPicPr/>
          <p:nvPr/>
        </p:nvPicPr>
        <p:blipFill>
          <a:blip r:embed="rId4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3492360" y="333360"/>
            <a:ext cx="410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abriola"/>
                <a:ea typeface="Arial"/>
              </a:rPr>
              <a:t>Наши мальчики – сильны, остроумны, весел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abriola"/>
                <a:ea typeface="Arial"/>
              </a:rPr>
              <a:t>Всем помогут! И в беде, выручат всегда, везд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2"/>
          <a:stretch/>
        </p:blipFill>
        <p:spPr>
          <a:xfrm>
            <a:off x="395280" y="2519280"/>
            <a:ext cx="6480360" cy="3646440"/>
          </a:xfrm>
          <a:prstGeom prst="rect">
            <a:avLst/>
          </a:prstGeom>
          <a:ln w="0">
            <a:noFill/>
          </a:ln>
        </p:spPr>
      </p:pic>
      <p:pic>
        <p:nvPicPr>
          <p:cNvPr id="64" name="Звук 2" descr=""/>
          <p:cNvPicPr/>
          <p:nvPr/>
        </p:nvPicPr>
        <p:blipFill>
          <a:blip r:embed="rId3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395280" y="3789360"/>
            <a:ext cx="36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Gabriola"/>
              </a:rPr>
              <a:t>Вот какой хороший д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Gabriola"/>
              </a:rPr>
              <a:t>В нём растём мы с каждым дн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Gabriola"/>
              </a:rPr>
              <a:t>А когда подрастём, вместе в школу пойд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2"/>
          <a:stretch/>
        </p:blipFill>
        <p:spPr>
          <a:xfrm>
            <a:off x="2484360" y="765000"/>
            <a:ext cx="5183280" cy="2916360"/>
          </a:xfrm>
          <a:prstGeom prst="rect">
            <a:avLst/>
          </a:prstGeom>
          <a:ln w="0">
            <a:noFill/>
          </a:ln>
        </p:spPr>
      </p:pic>
      <p:pic>
        <p:nvPicPr>
          <p:cNvPr id="67" name="Звук 3" descr=""/>
          <p:cNvPicPr/>
          <p:nvPr/>
        </p:nvPicPr>
        <p:blipFill>
          <a:blip r:embed="rId3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5T17:36:28Z</dcterms:created>
  <dc:creator>DAY</dc:creator>
  <dc:description/>
  <dc:language>en-US</dc:language>
  <cp:lastModifiedBy>Галуза Андрей</cp:lastModifiedBy>
  <dcterms:modified xsi:type="dcterms:W3CDTF">2021-09-19T11:30:25Z</dcterms:modified>
  <cp:revision>20</cp:revision>
  <dc:subject/>
  <dc:title>Слайд 1</dc:title>
</cp:coreProperties>
</file>