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925-20D1-4749-B2E3-7B6EC241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402-CAC3-4B23-902D-4B9CD82C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F12-7843-4A1A-8B09-03C5B9D3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41F-AF53-4A5D-86F3-C12DC2E6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62F-D4C6-4197-BD71-5FF533DF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81F-2990-48CA-AC60-5BF1332B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E45-13F6-4513-846D-57F72409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83A-E238-4145-BFE5-11F1F293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292-65FF-4749-824B-497322CE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F7A-8D9C-4BA6-A6C6-15A28A61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2CE-BF54-4C8F-8225-9755A4C5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ECC-F649-49A2-A579-2ED0CAF6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2B09-2797-451F-B142-DE473B3C5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47640" y="2060640"/>
            <a:ext cx="5977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Gabriola"/>
                <a:ea typeface="Arial"/>
              </a:rPr>
              <a:t>Презентация группы №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Gabriola"/>
                <a:ea typeface="Arial"/>
              </a:rPr>
              <a:t>«Любознай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Gabriola"/>
                <a:ea typeface="Arial"/>
              </a:rPr>
              <a:t>(МБДОУ №43  «Лесная сказк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708360" y="558972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Gabriola"/>
              </a:rPr>
              <a:t>г. Сург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Gabriola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lexey_Anisimov_-_Playful_Kids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Звук 4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708360" y="333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briola"/>
                <a:ea typeface="Arial"/>
              </a:rPr>
              <a:t>Давайте познаком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3484440" y="89532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Нащ девиз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Мы – весёлые ребята. Любознайки, дошколя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Любим петь и рис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Книги разные чит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Много разных дел у на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Gabriola"/>
              </a:rPr>
              <a:t>Наша группа – просто клас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971640" y="2649600"/>
            <a:ext cx="5262480" cy="3948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3"/>
          <a:stretch/>
        </p:blipFill>
        <p:spPr>
          <a:xfrm>
            <a:off x="1312920" y="1341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Звук 4" descr=""/>
          <p:cNvPicPr/>
          <p:nvPr/>
        </p:nvPicPr>
        <p:blipFill>
          <a:blip r:embed="rId4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627280" y="404640"/>
            <a:ext cx="56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Мы – веселые реб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Дружно в садике жив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Целый день поём, игр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Ни минуты не скуч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2"/>
          <a:stretch/>
        </p:blipFill>
        <p:spPr>
          <a:xfrm>
            <a:off x="3203640" y="2281320"/>
            <a:ext cx="5624280" cy="3163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3"/>
          <a:stretch/>
        </p:blipFill>
        <p:spPr>
          <a:xfrm>
            <a:off x="324000" y="4253040"/>
            <a:ext cx="391320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Звук 3" descr=""/>
          <p:cNvPicPr/>
          <p:nvPr/>
        </p:nvPicPr>
        <p:blipFill>
          <a:blip r:embed="rId4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76720" y="33336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abriola"/>
              </a:rPr>
              <a:t>Чтоб здоровым быть спо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Gabriola"/>
              </a:rPr>
              <a:t>Физкультура нам нуж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3503520" y="2343240"/>
            <a:ext cx="5389560" cy="3030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3"/>
          <a:stretch/>
        </p:blipFill>
        <p:spPr>
          <a:xfrm>
            <a:off x="324000" y="2889360"/>
            <a:ext cx="4752720" cy="3564000"/>
          </a:xfrm>
          <a:prstGeom prst="rect">
            <a:avLst/>
          </a:prstGeom>
          <a:ln w="0">
            <a:noFill/>
          </a:ln>
        </p:spPr>
      </p:pic>
      <p:pic>
        <p:nvPicPr>
          <p:cNvPr id="57" name="Звук 4" descr=""/>
          <p:cNvPicPr/>
          <p:nvPr/>
        </p:nvPicPr>
        <p:blipFill>
          <a:blip r:embed="rId4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3059280" y="549360"/>
            <a:ext cx="482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64a2"/>
                </a:solidFill>
                <a:latin typeface="Gabriola"/>
              </a:rPr>
              <a:t>Наши милые девчушки – веселушки, хохот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64a2"/>
                </a:solidFill>
                <a:latin typeface="Gabriola"/>
              </a:rPr>
              <a:t>Любят песни петь, плясать, книжки разные чит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2556000" y="2117880"/>
            <a:ext cx="4500360" cy="2531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4537080" cy="2552760"/>
          </a:xfrm>
          <a:prstGeom prst="rect">
            <a:avLst/>
          </a:prstGeom>
          <a:ln w="0">
            <a:noFill/>
          </a:ln>
        </p:spPr>
      </p:pic>
      <p:pic>
        <p:nvPicPr>
          <p:cNvPr id="61" name="Звук 6" descr=""/>
          <p:cNvPicPr/>
          <p:nvPr/>
        </p:nvPicPr>
        <p:blipFill>
          <a:blip r:embed="rId4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3492360" y="333360"/>
            <a:ext cx="41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Наши мальчики – сильны, остроумны, весел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abriola"/>
                <a:ea typeface="Arial"/>
              </a:rPr>
              <a:t>Всем помогут! И в беде, выручат всегда, везд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2"/>
          <a:stretch/>
        </p:blipFill>
        <p:spPr>
          <a:xfrm>
            <a:off x="395280" y="2519280"/>
            <a:ext cx="6480360" cy="3646440"/>
          </a:xfrm>
          <a:prstGeom prst="rect">
            <a:avLst/>
          </a:prstGeom>
          <a:ln w="0">
            <a:noFill/>
          </a:ln>
        </p:spPr>
      </p:pic>
      <p:pic>
        <p:nvPicPr>
          <p:cNvPr id="64" name="Звук 2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395280" y="3789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Gabriola"/>
              </a:rPr>
              <a:t>Вот какой хороший д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Gabriola"/>
              </a:rPr>
              <a:t>В нём растём мы с каждым д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Gabriola"/>
              </a:rPr>
              <a:t>А когда подрастём, вместе в школу пойд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5183280" cy="2916360"/>
          </a:xfrm>
          <a:prstGeom prst="rect">
            <a:avLst/>
          </a:prstGeom>
          <a:ln w="0">
            <a:noFill/>
          </a:ln>
        </p:spPr>
      </p:pic>
      <p:pic>
        <p:nvPicPr>
          <p:cNvPr id="67" name="Звук 3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17:36:28Z</dcterms:created>
  <dc:creator>DAY</dc:creator>
  <dc:description/>
  <dc:language>en-US</dc:language>
  <cp:lastModifiedBy>Галуза Андрей</cp:lastModifiedBy>
  <dcterms:modified xsi:type="dcterms:W3CDTF">2021-09-19T11:30:25Z</dcterms:modified>
  <cp:revision>20</cp:revision>
  <dc:subject/>
  <dc:title>Слайд 1</dc:title>
</cp:coreProperties>
</file>