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5CB2-7F5E-4339-8D62-075F002B9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F33B-0090-461D-A3E8-269194A10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1DC3-283D-4EA1-BAF5-8139CA821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узина 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9153-F686-40DB-9255-E54F96479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ндаре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BEB-AC68-411F-A488-43ABDEF2E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BCA-7EF9-45A3-919C-6CAEA056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227-4805-403A-B4DA-3385A41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7EA-1B48-4C49-BAB4-6E960634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E59-CB27-4A11-8D5E-9C92AE34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3748-92B4-43E7-B8D8-5B00C34B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381C-4F54-4FAB-8C5E-2BD8827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6F1-88E1-4CB1-9E74-DEBA0CF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8E07-3A1E-4F83-9D1C-9B18491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666-6B18-4E5E-8E36-5F94F3B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CDC3-B6ED-4F00-8F5E-F1A94FD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F460-568C-4570-8003-F24C5D7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D33-E9F4-4C23-A1BB-B10F38E2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68D-4DFB-475C-AB8E-F717F02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11B-63D5-4C48-81CF-004EF59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EA5-C4E5-408B-90F0-24C0CB2F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90DE-B6CE-426D-9D05-AE8CB0B9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1DF6-98AA-4837-B1BE-2396DF53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F12F-D86C-4DE0-A0CC-96AFCA67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2590-2E22-48D1-B6CB-DBC8F4F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4EEC-67AA-4D5C-A845-E358903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93C2-0E93-4F41-A32C-77D004F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4855-484E-4B6F-8647-53848F17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ECC-87C9-4CA8-939B-64EBC223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A0E2-EB3F-4C5A-A85F-FC5F5E07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6E86-3893-453C-92DD-916FAB6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9E2B-31C5-4BAA-B62B-3C2BE70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7D56-AC4A-42ED-8DB0-4734A2A4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9A6D-4AEF-48F6-9AC9-8DC8F6A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DB76-21C4-46A1-B755-6560CED2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2A4D4-2FAC-49DF-8B50-E15E9F29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5274-34DE-441B-BAB8-7256E1E1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CC965-FF15-4665-A253-B7FFAF4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C558-3A70-4ED7-B6B3-7C018CA3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56C-4CBE-41C1-AF58-7241185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F669-97D7-4564-82A5-72A0AB8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C6F0-5261-4317-BACD-C588E911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A659-70A3-4EAC-80AD-26D3B3A7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DCC9-DED4-4030-98A9-C6E0656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0D17-B05D-4FAF-8C04-A737B04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09E7-30F7-4B33-B130-6E96E4F1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7D0C-FA9E-46FD-8F3D-6FC5F87A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33BA-4088-452B-8764-8F0ECB7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C55DA-CC24-43E4-A34C-B088A3F1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FF7-0DBA-4BE2-B415-AB6F4B4F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DC3-F246-4BB9-ADF7-0AD45A14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935-18C9-4267-B298-C845368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F6C-CDD0-4F47-81A6-CCEB719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157-35B1-46F7-BD06-7D7C473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59F7-7F84-4435-BD00-52CAE77B649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4DB-C653-4D60-B5C1-58A3AD388F7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C1DF-9320-4DBD-BECE-8B1161FB29D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7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E1D4-0EDA-4A8A-9EB2-840DA0C42CF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https://gas-kvas.com/uploads/posts/2023-01/1674179677_gas-kvas-com-p-risunok-pozdravlenie-na-den-mami-42.jpg"/>
          <p:cNvPicPr/>
          <p:nvPr/>
        </p:nvPicPr>
        <p:blipFill>
          <a:blip r:embed="rId1"/>
          <a:stretch/>
        </p:blipFill>
        <p:spPr>
          <a:xfrm>
            <a:off x="542880" y="189000"/>
            <a:ext cx="798984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http://slobudka-sad.pruzhany.by/wp-content/uploads/2019/10/1.jpg"/>
          <p:cNvPicPr/>
          <p:nvPr/>
        </p:nvPicPr>
        <p:blipFill>
          <a:blip r:embed="rId1"/>
          <a:stretch/>
        </p:blipFill>
        <p:spPr>
          <a:xfrm>
            <a:off x="142920" y="404640"/>
            <a:ext cx="8847000" cy="59040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5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https://obitel-minsk.ru/assets/images/read/2022/main/o-seme-big.jpg"/>
          <p:cNvPicPr/>
          <p:nvPr/>
        </p:nvPicPr>
        <p:blipFill>
          <a:blip r:embed="rId1"/>
          <a:stretch/>
        </p:blipFill>
        <p:spPr>
          <a:xfrm>
            <a:off x="108000" y="135000"/>
            <a:ext cx="8928000" cy="65214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8" descr="https://sun9-60.userapi.com/impf/c621722/v621722427/3ea/_o-KHpWycQ8.jpg?size=1280x1011&amp;quality=96&amp;sign=4b26e7ca02b6ee6c1387dd29ff1b23b2&amp;c_uniq_tag=T4Hcob7LDWridg2M5BYjnUjdRYYGYNvLReeEWkzUftI&amp;type=album"/>
          <p:cNvPicPr/>
          <p:nvPr/>
        </p:nvPicPr>
        <p:blipFill>
          <a:blip r:embed="rId1"/>
          <a:stretch/>
        </p:blipFill>
        <p:spPr>
          <a:xfrm>
            <a:off x="468360" y="147600"/>
            <a:ext cx="8308800" cy="65628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https://avatars.mds.yandex.net/i?id=9bcc4c1e795d0efac32f2979a1d47039_l-4518735-images-thumbs&amp;ref=rim&amp;n=13&amp;w=1280&amp;h=949"/>
          <p:cNvPicPr/>
          <p:nvPr/>
        </p:nvPicPr>
        <p:blipFill>
          <a:blip r:embed="rId1"/>
          <a:stretch/>
        </p:blipFill>
        <p:spPr>
          <a:xfrm>
            <a:off x="179280" y="173160"/>
            <a:ext cx="8859960" cy="656892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s://i.pinimg.com/originals/22/77/f8/2277f8afd7a07058dbf087a524dc017d.jpg"/>
          <p:cNvPicPr/>
          <p:nvPr/>
        </p:nvPicPr>
        <p:blipFill>
          <a:blip r:embed="rId1"/>
          <a:stretch/>
        </p:blipFill>
        <p:spPr>
          <a:xfrm>
            <a:off x="12600" y="268200"/>
            <a:ext cx="9131400" cy="608976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2" descr="https://lady.net.ru/wp-content/uploads/2016/02/109316_or.jpg"/>
          <p:cNvPicPr/>
          <p:nvPr/>
        </p:nvPicPr>
        <p:blipFill>
          <a:blip r:embed="rId1"/>
          <a:stretch/>
        </p:blipFill>
        <p:spPr>
          <a:xfrm>
            <a:off x="108000" y="115920"/>
            <a:ext cx="8736120" cy="655308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https://w7.pngwing.com/pngs/606/589/png-transparent-mother-s-day-gift-child-love-mother-s-day.png"/>
          <p:cNvPicPr/>
          <p:nvPr/>
        </p:nvPicPr>
        <p:blipFill>
          <a:blip r:embed="rId1"/>
          <a:srcRect l="23067" t="0" r="22697" b="0"/>
          <a:stretch/>
        </p:blipFill>
        <p:spPr>
          <a:xfrm>
            <a:off x="684360" y="189000"/>
            <a:ext cx="8072280" cy="655308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149360"/>
            <a:ext cx="7858080" cy="1652760"/>
          </a:xfrm>
          <a:prstGeom prst="rect">
            <a:avLst/>
          </a:prstGeom>
          <a:solidFill>
            <a:srgbClr val="ffff00"/>
          </a:solidFill>
          <a:ln w="9360">
            <a:solidFill>
              <a:srgbClr val="54a02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 праздником, МАМЫ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\\Admin\работа\рисунки\день матери\25261_or.jpg"/>
          <p:cNvPicPr/>
          <p:nvPr/>
        </p:nvPicPr>
        <p:blipFill>
          <a:blip r:embed="rId1"/>
          <a:stretch/>
        </p:blipFill>
        <p:spPr>
          <a:xfrm>
            <a:off x="411120" y="260280"/>
            <a:ext cx="8440920" cy="633744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  <p:pic>
        <p:nvPicPr>
          <p:cNvPr id="232" name="Picture 8" descr="цв18"/>
          <p:cNvPicPr/>
          <p:nvPr/>
        </p:nvPicPr>
        <p:blipFill>
          <a:blip r:embed="rId2"/>
          <a:stretch/>
        </p:blipFill>
        <p:spPr>
          <a:xfrm>
            <a:off x="-181080" y="5216400"/>
            <a:ext cx="17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https://stihi.ru/pics/2017/05/25/3568.jpg"/>
          <p:cNvPicPr/>
          <p:nvPr/>
        </p:nvPicPr>
        <p:blipFill>
          <a:blip r:embed="rId1"/>
          <a:stretch/>
        </p:blipFill>
        <p:spPr>
          <a:xfrm>
            <a:off x="179280" y="87480"/>
            <a:ext cx="8785440" cy="665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E:\мультимедиа\рис\дети мамы\malyshi_zavisyat_ot_nastroeniya_mamy.jpg"/>
          <p:cNvPicPr/>
          <p:nvPr/>
        </p:nvPicPr>
        <p:blipFill>
          <a:blip r:embed="rId2"/>
          <a:stretch/>
        </p:blipFill>
        <p:spPr>
          <a:xfrm>
            <a:off x="150840" y="87480"/>
            <a:ext cx="8872560" cy="66546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i.ytimg.com/vi/dJZ5fRxm9lo/maxresdefault.jpg"/>
          <p:cNvPicPr/>
          <p:nvPr/>
        </p:nvPicPr>
        <p:blipFill>
          <a:blip r:embed="rId1"/>
          <a:stretch/>
        </p:blipFill>
        <p:spPr>
          <a:xfrm>
            <a:off x="250920" y="476280"/>
            <a:ext cx="8673840" cy="590544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s://i.mycdn.me/i?r=AzEPZsRbOZEKgBhR0XGMT1Rk__2UGW21coLd2T8Bcg2pAaaKTM5SRkZCeTgDn6uOyic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https://telegra.ph/file/9c1450215c9d6970df5c0.jpg"/>
          <p:cNvPicPr/>
          <p:nvPr/>
        </p:nvPicPr>
        <p:blipFill>
          <a:blip r:embed="rId1"/>
          <a:stretch/>
        </p:blipFill>
        <p:spPr>
          <a:xfrm>
            <a:off x="108000" y="836640"/>
            <a:ext cx="8928000" cy="513396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E:\мультимедиа\рис\дети мамы\Новая папка\9x1FBG0JheU.jpg"/>
          <p:cNvPicPr/>
          <p:nvPr/>
        </p:nvPicPr>
        <p:blipFill>
          <a:blip r:embed="rId1"/>
          <a:stretch/>
        </p:blipFill>
        <p:spPr>
          <a:xfrm>
            <a:off x="250920" y="115920"/>
            <a:ext cx="8624880" cy="662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\\Admin\работа\рисунки\день матери\Mother-and-baby.jpg"/>
          <p:cNvPicPr/>
          <p:nvPr/>
        </p:nvPicPr>
        <p:blipFill>
          <a:blip r:embed="rId1"/>
          <a:stretch/>
        </p:blipFill>
        <p:spPr>
          <a:xfrm>
            <a:off x="1341360" y="55440"/>
            <a:ext cx="6602400" cy="6600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цв7"/>
          <p:cNvPicPr/>
          <p:nvPr/>
        </p:nvPicPr>
        <p:blipFill>
          <a:blip r:embed="rId2"/>
          <a:stretch/>
        </p:blipFill>
        <p:spPr>
          <a:xfrm>
            <a:off x="7286760" y="3943440"/>
            <a:ext cx="16668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s://sun9-84.userapi.com/impg/py5dlLROKUI9IzhXANJdFbNyyQVoJr4IeSc8-Q/mtNPiaopZQY.jpg?size=426x604&amp;quality=96&amp;sign=7bf82feedc193cc16381453e1b441744&amp;type=album"/>
          <p:cNvPicPr/>
          <p:nvPr/>
        </p:nvPicPr>
        <p:blipFill>
          <a:blip r:embed="rId1"/>
          <a:stretch/>
        </p:blipFill>
        <p:spPr>
          <a:xfrm>
            <a:off x="2320920" y="122400"/>
            <a:ext cx="4627440" cy="6561000"/>
          </a:xfrm>
          <a:prstGeom prst="rect">
            <a:avLst/>
          </a:prstGeom>
          <a:ln w="57240">
            <a:solidFill>
              <a:srgbClr val="90c2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2:29:38Z</dcterms:created>
  <dc:creator>Admin</dc:creator>
  <dc:description/>
  <dc:language>en-US</dc:language>
  <cp:lastModifiedBy>Пользователь</cp:lastModifiedBy>
  <dcterms:modified xsi:type="dcterms:W3CDTF">2023-11-27T07:01:45Z</dcterms:modified>
  <cp:revision>185</cp:revision>
  <dc:subject/>
  <dc:title>29 ноября – День Матери!</dc:title>
</cp:coreProperties>
</file>