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5706-33D1-4F3A-A652-67C177D8B6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EA9D-16A0-4BB4-A3E3-F744A7C7A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E521-6C1C-4297-8955-0147F4B0CC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узина Ю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2056-F146-45C9-A082-7F2E7E3CB7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ндарев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F767-F510-46E0-B285-F1251ADEA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29B-7F31-426B-A8DC-2CAF5CCA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FBA-B363-4062-84D3-5CFA0B12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51D-7435-40EF-B8A7-DAFF4827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3C1-C35A-40D3-A5B4-2AD5EDE6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3C99-3541-4E81-AB98-FA7E0F7C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7DC9-96C6-4EA5-AB9D-A6430D37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1FC0-AD82-44C2-8ABC-2BD3886D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20F1-D8AB-4FFE-B0BA-FA475426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B0EC-4511-438C-AC65-A5363462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8678-8EA6-43EC-AE7C-66F391C3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4C39-C09B-45D0-A3FC-48421A42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2EB-8B5C-40D9-A496-D322B68F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DDED-4B89-40F1-8D83-C2E0E7CD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8307-6CA0-441A-91A8-1FDFB97D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0DD3-0BA9-4447-B568-F2578AF8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4F86-4277-4099-ABFB-8A184666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0E7F-709B-4C87-9EA8-83343283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A43F-F5A9-4DE7-B38B-574336BF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83850-798E-4414-B3BC-2FA2881D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4816-AB13-4C59-AA34-3091528E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A7FE-DEFA-4B92-8602-EA71CF7F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2497-EDA8-46D9-B1A6-2B7F5D3D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556-D236-4958-A0A8-49F7EE9D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8D5BF-271B-4847-837E-7019CB54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5B51-3592-4C7C-8178-D4D6726D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C30C7-DDC6-447B-8845-E9A566A4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AA97-9904-4D45-AB5D-6F977678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78FC-6310-4C72-93B8-85E4BDB6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3F45-1ED7-4862-97EB-DBD7699A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2223C-5A38-47B6-BE25-8060B4C5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95DE5-CBE2-49BC-B378-2F0CF1A1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B40D8-C854-4A48-BC8B-4C829C09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D3B1F-A5BA-40FD-82F7-21690D4E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0CC-4D6E-4896-AC83-6E1AB34C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1F6B4-E5C1-45D4-BE10-F8CF6CBF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B170-7C16-49FF-ABBE-B4B39556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694CA-B8A4-4615-9934-4738E1A9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D85F-E93B-4256-A18A-43C77373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8CAB6-F608-47E4-B7CA-68213519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E9ADA-4FC7-4A2D-B64B-16F9608C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ACABD-461C-4FE0-A63E-D96C96A0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3808-DF2A-4258-908E-46D36007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32A49-AE35-4E02-AFFB-A69B4DDB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E32-E5BA-4FAC-BCD5-C003DD4F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7E2-23BB-4D43-B619-49122AD2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388-4A8A-4594-9095-BDA76F6F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E65-5314-4D38-A491-9330ACD6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272-170C-4F9B-9122-C5826BBC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7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D0E8-5B1B-4AA8-BA24-E8C2817F6084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7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D0BE-9EAE-44D9-8770-CFDCEDB77C8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7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67EB-18BD-4BA1-A57D-833E2DC3A512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7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BD0C-6168-44DF-8033-234328DEB28F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https://gas-kvas.com/uploads/posts/2023-01/1674179677_gas-kvas-com-p-risunok-pozdravlenie-na-den-mami-42.jpg"/>
          <p:cNvPicPr/>
          <p:nvPr/>
        </p:nvPicPr>
        <p:blipFill>
          <a:blip r:embed="rId1"/>
          <a:stretch/>
        </p:blipFill>
        <p:spPr>
          <a:xfrm>
            <a:off x="542880" y="189000"/>
            <a:ext cx="7989840" cy="65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http://slobudka-sad.pruzhany.by/wp-content/uploads/2019/10/1.jpg"/>
          <p:cNvPicPr/>
          <p:nvPr/>
        </p:nvPicPr>
        <p:blipFill>
          <a:blip r:embed="rId1"/>
          <a:stretch/>
        </p:blipFill>
        <p:spPr>
          <a:xfrm>
            <a:off x="142920" y="404640"/>
            <a:ext cx="8847000" cy="59040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5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https://obitel-minsk.ru/assets/images/read/2022/main/o-seme-big.jpg"/>
          <p:cNvPicPr/>
          <p:nvPr/>
        </p:nvPicPr>
        <p:blipFill>
          <a:blip r:embed="rId1"/>
          <a:stretch/>
        </p:blipFill>
        <p:spPr>
          <a:xfrm>
            <a:off x="108000" y="135000"/>
            <a:ext cx="8928000" cy="65214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8" descr="https://sun9-60.userapi.com/impf/c621722/v621722427/3ea/_o-KHpWycQ8.jpg?size=1280x1011&amp;quality=96&amp;sign=4b26e7ca02b6ee6c1387dd29ff1b23b2&amp;c_uniq_tag=T4Hcob7LDWridg2M5BYjnUjdRYYGYNvLReeEWkzUftI&amp;type=album"/>
          <p:cNvPicPr/>
          <p:nvPr/>
        </p:nvPicPr>
        <p:blipFill>
          <a:blip r:embed="rId1"/>
          <a:stretch/>
        </p:blipFill>
        <p:spPr>
          <a:xfrm>
            <a:off x="468360" y="147600"/>
            <a:ext cx="8308800" cy="65628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https://avatars.mds.yandex.net/i?id=9bcc4c1e795d0efac32f2979a1d47039_l-4518735-images-thumbs&amp;ref=rim&amp;n=13&amp;w=1280&amp;h=949"/>
          <p:cNvPicPr/>
          <p:nvPr/>
        </p:nvPicPr>
        <p:blipFill>
          <a:blip r:embed="rId1"/>
          <a:stretch/>
        </p:blipFill>
        <p:spPr>
          <a:xfrm>
            <a:off x="179280" y="173160"/>
            <a:ext cx="8859960" cy="656892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https://i.pinimg.com/originals/22/77/f8/2277f8afd7a07058dbf087a524dc017d.jpg"/>
          <p:cNvPicPr/>
          <p:nvPr/>
        </p:nvPicPr>
        <p:blipFill>
          <a:blip r:embed="rId1"/>
          <a:stretch/>
        </p:blipFill>
        <p:spPr>
          <a:xfrm>
            <a:off x="12600" y="268200"/>
            <a:ext cx="9131400" cy="608976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2" descr="https://lady.net.ru/wp-content/uploads/2016/02/109316_or.jpg"/>
          <p:cNvPicPr/>
          <p:nvPr/>
        </p:nvPicPr>
        <p:blipFill>
          <a:blip r:embed="rId1"/>
          <a:stretch/>
        </p:blipFill>
        <p:spPr>
          <a:xfrm>
            <a:off x="108000" y="115920"/>
            <a:ext cx="8736120" cy="655308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https://w7.pngwing.com/pngs/606/589/png-transparent-mother-s-day-gift-child-love-mother-s-day.png"/>
          <p:cNvPicPr/>
          <p:nvPr/>
        </p:nvPicPr>
        <p:blipFill>
          <a:blip r:embed="rId1"/>
          <a:srcRect l="23067" t="0" r="22697" b="0"/>
          <a:stretch/>
        </p:blipFill>
        <p:spPr>
          <a:xfrm>
            <a:off x="684360" y="189000"/>
            <a:ext cx="8072280" cy="655308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4149360"/>
            <a:ext cx="7858080" cy="1652760"/>
          </a:xfrm>
          <a:prstGeom prst="rect">
            <a:avLst/>
          </a:prstGeom>
          <a:solidFill>
            <a:srgbClr val="ffff00"/>
          </a:solidFill>
          <a:ln w="9360">
            <a:solidFill>
              <a:srgbClr val="54a021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 праздником, МАМЫ!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\\Admin\работа\рисунки\день матери\25261_or.jpg"/>
          <p:cNvPicPr/>
          <p:nvPr/>
        </p:nvPicPr>
        <p:blipFill>
          <a:blip r:embed="rId1"/>
          <a:stretch/>
        </p:blipFill>
        <p:spPr>
          <a:xfrm>
            <a:off x="411120" y="260280"/>
            <a:ext cx="8440920" cy="633744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  <p:pic>
        <p:nvPicPr>
          <p:cNvPr id="232" name="Picture 8" descr="цв18"/>
          <p:cNvPicPr/>
          <p:nvPr/>
        </p:nvPicPr>
        <p:blipFill>
          <a:blip r:embed="rId2"/>
          <a:stretch/>
        </p:blipFill>
        <p:spPr>
          <a:xfrm>
            <a:off x="-181080" y="5216400"/>
            <a:ext cx="1781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https://stihi.ru/pics/2017/05/25/3568.jpg"/>
          <p:cNvPicPr/>
          <p:nvPr/>
        </p:nvPicPr>
        <p:blipFill>
          <a:blip r:embed="rId1"/>
          <a:stretch/>
        </p:blipFill>
        <p:spPr>
          <a:xfrm>
            <a:off x="179280" y="87480"/>
            <a:ext cx="8785440" cy="6654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E:\мультимедиа\рис\дети мамы\malyshi_zavisyat_ot_nastroeniya_mamy.jpg"/>
          <p:cNvPicPr/>
          <p:nvPr/>
        </p:nvPicPr>
        <p:blipFill>
          <a:blip r:embed="rId2"/>
          <a:stretch/>
        </p:blipFill>
        <p:spPr>
          <a:xfrm>
            <a:off x="150840" y="87480"/>
            <a:ext cx="8872560" cy="66546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s://i.ytimg.com/vi/dJZ5fRxm9lo/maxresdefault.jpg"/>
          <p:cNvPicPr/>
          <p:nvPr/>
        </p:nvPicPr>
        <p:blipFill>
          <a:blip r:embed="rId1"/>
          <a:stretch/>
        </p:blipFill>
        <p:spPr>
          <a:xfrm>
            <a:off x="250920" y="476280"/>
            <a:ext cx="8673840" cy="590544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https://i.mycdn.me/i?r=AzEPZsRbOZEKgBhR0XGMT1Rk__2UGW21coLd2T8Bcg2pAaaKTM5SRkZCeTgDn6uOyic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https://telegra.ph/file/9c1450215c9d6970df5c0.jpg"/>
          <p:cNvPicPr/>
          <p:nvPr/>
        </p:nvPicPr>
        <p:blipFill>
          <a:blip r:embed="rId1"/>
          <a:stretch/>
        </p:blipFill>
        <p:spPr>
          <a:xfrm>
            <a:off x="108000" y="836640"/>
            <a:ext cx="8928000" cy="513396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E:\мультимедиа\рис\дети мамы\Новая папка\9x1FBG0JheU.jpg"/>
          <p:cNvPicPr/>
          <p:nvPr/>
        </p:nvPicPr>
        <p:blipFill>
          <a:blip r:embed="rId1"/>
          <a:stretch/>
        </p:blipFill>
        <p:spPr>
          <a:xfrm>
            <a:off x="250920" y="115920"/>
            <a:ext cx="8624880" cy="662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\\Admin\работа\рисунки\день матери\Mother-and-baby.jpg"/>
          <p:cNvPicPr/>
          <p:nvPr/>
        </p:nvPicPr>
        <p:blipFill>
          <a:blip r:embed="rId1"/>
          <a:stretch/>
        </p:blipFill>
        <p:spPr>
          <a:xfrm>
            <a:off x="1341360" y="55440"/>
            <a:ext cx="6602400" cy="6600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цв7"/>
          <p:cNvPicPr/>
          <p:nvPr/>
        </p:nvPicPr>
        <p:blipFill>
          <a:blip r:embed="rId2"/>
          <a:stretch/>
        </p:blipFill>
        <p:spPr>
          <a:xfrm>
            <a:off x="7286760" y="3943440"/>
            <a:ext cx="16668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4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https://sun9-84.userapi.com/impg/py5dlLROKUI9IzhXANJdFbNyyQVoJr4IeSc8-Q/mtNPiaopZQY.jpg?size=426x604&amp;quality=96&amp;sign=7bf82feedc193cc16381453e1b441744&amp;type=album"/>
          <p:cNvPicPr/>
          <p:nvPr/>
        </p:nvPicPr>
        <p:blipFill>
          <a:blip r:embed="rId1"/>
          <a:stretch/>
        </p:blipFill>
        <p:spPr>
          <a:xfrm>
            <a:off x="2320920" y="122400"/>
            <a:ext cx="4627440" cy="65610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 repeatCount="1000">
                                  <p:stCondLst>
                                    <p:cond delay="19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2:29:38Z</dcterms:created>
  <dc:creator>Admin</dc:creator>
  <dc:description/>
  <dc:language>en-US</dc:language>
  <cp:lastModifiedBy>Пользователь</cp:lastModifiedBy>
  <dcterms:modified xsi:type="dcterms:W3CDTF">2023-11-27T07:01:45Z</dcterms:modified>
  <cp:revision>185</cp:revision>
  <dc:subject/>
  <dc:title>29 ноября – День Матери!</dc:title>
</cp:coreProperties>
</file>