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56F-A0F5-45F6-AC54-A1729F63D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7FE-47AE-4A0E-B057-0A9544D9C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FAB-EA3A-49E6-B046-C9E23B320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узина 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9FBD-66C6-4DC0-8EB2-8DA8A1D3F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ндаре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16D-5A6A-4D67-AE93-2A43AB8FC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FCB-889F-42E9-8539-7DB12B35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980-29C7-4DEE-B5D9-B6A3E5A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445-1FCC-4214-B688-7E92F2F9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918-DF0F-4D63-BBB5-82CEF5CD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3CE1-26FD-48A1-870B-37BBE093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545E-728F-4513-ADE5-0E55DD84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783-42D1-4079-A8E1-5DCC83B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CD6-A848-4822-994B-96E004F1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C29-21C8-4603-9E9F-E4BA45CC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6262-55F6-4431-AD84-06276A7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3E43-1F1D-400A-988E-D6F6C3B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9EF-0BEA-4944-9ABA-FF0036B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86B6-F9D6-46C2-9FAE-5FE1D9DF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C270-C468-4CC9-821B-8E2F8B1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66A-5760-4C9F-86ED-55DC889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816-33A9-4028-8DB9-8AB81D4A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BED-A3E0-427F-A16A-9149DB82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3D17-DE89-4223-A4CE-C216D09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9B30-5FD6-4848-9C20-9436B94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918A-3315-4E71-B38A-5E7803F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7823-4EC2-4443-B701-5A1F8DE0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64AD-B069-4ECD-8F39-9AE8D7D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4C5-8416-488F-B7DA-3806D947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EA82-2EF2-4EFB-BAFA-60698CE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A4C6-B3B6-4443-B48E-0EA4578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B49E-44F0-44F9-9F26-D13D937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5C83-7932-4376-9A69-E2541E6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1FB9-B6CC-426E-954F-1233A74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58C0-03F6-444A-A057-C5671A86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7C88-0A0F-4508-BA46-1B8A15D8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7C70-7C3C-4441-A3A8-C09CE534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C164-3A2D-46FB-A9E6-3FDABB4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A517-EE80-46CB-BCEA-B89BA80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719-C56E-44BB-9042-919B40F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7C96-91E9-4A09-93A5-7355AA7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7863-777D-431F-9E61-CAC96A1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8DAF-A7CA-4E61-9A8C-4CFCD57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3780-3103-4893-8006-E4F33E1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051A-37B4-4A7D-839D-2E684E5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DCA7-8251-4790-A83C-329DC5F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ADDA-5CAC-4016-B3F5-D2B1A1A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2429-68E4-4043-9227-5D6B4D32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0185-3415-451A-8614-E3C7FBFE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3A6-3A44-4B88-9E15-9EDCFE12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030-F7C5-414B-BC9D-715BD4C3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60F-DFDB-4840-B653-4A2E0F9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8C5-5633-4E5A-BF2F-4DBB0FF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464-18E6-4527-ACF4-7D4CB6D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EB6-1EF6-46F4-9F81-ED6DAF9B3BF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7DD6-D572-4BDB-BA33-38DA6F25064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AB40-F6B4-4E39-AF7C-3D6A3800088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17F-CD09-4FED-927F-A7333F53718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https://gas-kvas.com/uploads/posts/2023-01/1674179677_gas-kvas-com-p-risunok-pozdravlenie-na-den-mami-42.jpg"/>
          <p:cNvPicPr/>
          <p:nvPr/>
        </p:nvPicPr>
        <p:blipFill>
          <a:blip r:embed="rId1"/>
          <a:stretch/>
        </p:blipFill>
        <p:spPr>
          <a:xfrm>
            <a:off x="542880" y="189000"/>
            <a:ext cx="798984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http://slobudka-sad.pruzhany.by/wp-content/uploads/2019/10/1.jpg"/>
          <p:cNvPicPr/>
          <p:nvPr/>
        </p:nvPicPr>
        <p:blipFill>
          <a:blip r:embed="rId1"/>
          <a:stretch/>
        </p:blipFill>
        <p:spPr>
          <a:xfrm>
            <a:off x="142920" y="404640"/>
            <a:ext cx="8847000" cy="5904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https://obitel-minsk.ru/assets/images/read/2022/main/o-seme-big.jpg"/>
          <p:cNvPicPr/>
          <p:nvPr/>
        </p:nvPicPr>
        <p:blipFill>
          <a:blip r:embed="rId1"/>
          <a:stretch/>
        </p:blipFill>
        <p:spPr>
          <a:xfrm>
            <a:off x="108000" y="135000"/>
            <a:ext cx="8928000" cy="65214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8" descr="https://sun9-60.userapi.com/impf/c621722/v621722427/3ea/_o-KHpWycQ8.jpg?size=1280x1011&amp;quality=96&amp;sign=4b26e7ca02b6ee6c1387dd29ff1b23b2&amp;c_uniq_tag=T4Hcob7LDWridg2M5BYjnUjdRYYGYNvLReeEWkzUftI&amp;type=album"/>
          <p:cNvPicPr/>
          <p:nvPr/>
        </p:nvPicPr>
        <p:blipFill>
          <a:blip r:embed="rId1"/>
          <a:stretch/>
        </p:blipFill>
        <p:spPr>
          <a:xfrm>
            <a:off x="468360" y="147600"/>
            <a:ext cx="8308800" cy="65628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https://avatars.mds.yandex.net/i?id=9bcc4c1e795d0efac32f2979a1d47039_l-4518735-images-thumbs&amp;ref=rim&amp;n=13&amp;w=1280&amp;h=949"/>
          <p:cNvPicPr/>
          <p:nvPr/>
        </p:nvPicPr>
        <p:blipFill>
          <a:blip r:embed="rId1"/>
          <a:stretch/>
        </p:blipFill>
        <p:spPr>
          <a:xfrm>
            <a:off x="179280" y="173160"/>
            <a:ext cx="8859960" cy="65689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s://i.pinimg.com/originals/22/77/f8/2277f8afd7a07058dbf087a524dc017d.jpg"/>
          <p:cNvPicPr/>
          <p:nvPr/>
        </p:nvPicPr>
        <p:blipFill>
          <a:blip r:embed="rId1"/>
          <a:stretch/>
        </p:blipFill>
        <p:spPr>
          <a:xfrm>
            <a:off x="12600" y="268200"/>
            <a:ext cx="9131400" cy="60897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2" descr="https://lady.net.ru/wp-content/uploads/2016/02/109316_or.jpg"/>
          <p:cNvPicPr/>
          <p:nvPr/>
        </p:nvPicPr>
        <p:blipFill>
          <a:blip r:embed="rId1"/>
          <a:stretch/>
        </p:blipFill>
        <p:spPr>
          <a:xfrm>
            <a:off x="108000" y="115920"/>
            <a:ext cx="873612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https://w7.pngwing.com/pngs/606/589/png-transparent-mother-s-day-gift-child-love-mother-s-day.png"/>
          <p:cNvPicPr/>
          <p:nvPr/>
        </p:nvPicPr>
        <p:blipFill>
          <a:blip r:embed="rId1"/>
          <a:srcRect l="23067" t="0" r="22697" b="0"/>
          <a:stretch/>
        </p:blipFill>
        <p:spPr>
          <a:xfrm>
            <a:off x="684360" y="189000"/>
            <a:ext cx="807228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149360"/>
            <a:ext cx="7858080" cy="1652760"/>
          </a:xfrm>
          <a:prstGeom prst="rect">
            <a:avLst/>
          </a:prstGeom>
          <a:solidFill>
            <a:srgbClr val="ffff00"/>
          </a:solidFill>
          <a:ln w="9360">
            <a:solidFill>
              <a:srgbClr val="54a02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 праздником, МАМЫ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\\Admin\работа\рисунки\день матери\25261_or.jpg"/>
          <p:cNvPicPr/>
          <p:nvPr/>
        </p:nvPicPr>
        <p:blipFill>
          <a:blip r:embed="rId1"/>
          <a:stretch/>
        </p:blipFill>
        <p:spPr>
          <a:xfrm>
            <a:off x="411120" y="260280"/>
            <a:ext cx="8440920" cy="6337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  <p:pic>
        <p:nvPicPr>
          <p:cNvPr id="232" name="Picture 8" descr="цв18"/>
          <p:cNvPicPr/>
          <p:nvPr/>
        </p:nvPicPr>
        <p:blipFill>
          <a:blip r:embed="rId2"/>
          <a:stretch/>
        </p:blipFill>
        <p:spPr>
          <a:xfrm>
            <a:off x="-181080" y="5216400"/>
            <a:ext cx="17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https://stihi.ru/pics/2017/05/25/3568.jpg"/>
          <p:cNvPicPr/>
          <p:nvPr/>
        </p:nvPicPr>
        <p:blipFill>
          <a:blip r:embed="rId1"/>
          <a:stretch/>
        </p:blipFill>
        <p:spPr>
          <a:xfrm>
            <a:off x="179280" y="87480"/>
            <a:ext cx="8785440" cy="665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E:\мультимедиа\рис\дети мамы\malyshi_zavisyat_ot_nastroeniya_mamy.jpg"/>
          <p:cNvPicPr/>
          <p:nvPr/>
        </p:nvPicPr>
        <p:blipFill>
          <a:blip r:embed="rId2"/>
          <a:stretch/>
        </p:blipFill>
        <p:spPr>
          <a:xfrm>
            <a:off x="150840" y="87480"/>
            <a:ext cx="8872560" cy="66546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i.ytimg.com/vi/dJZ5fRxm9lo/maxresdefault.jpg"/>
          <p:cNvPicPr/>
          <p:nvPr/>
        </p:nvPicPr>
        <p:blipFill>
          <a:blip r:embed="rId1"/>
          <a:stretch/>
        </p:blipFill>
        <p:spPr>
          <a:xfrm>
            <a:off x="250920" y="476280"/>
            <a:ext cx="8673840" cy="5905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s://i.mycdn.me/i?r=AzEPZsRbOZEKgBhR0XGMT1Rk__2UGW21coLd2T8Bcg2pAaaKTM5SRkZCeTgDn6uOyic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https://telegra.ph/file/9c1450215c9d6970df5c0.jpg"/>
          <p:cNvPicPr/>
          <p:nvPr/>
        </p:nvPicPr>
        <p:blipFill>
          <a:blip r:embed="rId1"/>
          <a:stretch/>
        </p:blipFill>
        <p:spPr>
          <a:xfrm>
            <a:off x="108000" y="836640"/>
            <a:ext cx="8928000" cy="51339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E:\мультимедиа\рис\дети мамы\Новая папка\9x1FBG0JheU.jpg"/>
          <p:cNvPicPr/>
          <p:nvPr/>
        </p:nvPicPr>
        <p:blipFill>
          <a:blip r:embed="rId1"/>
          <a:stretch/>
        </p:blipFill>
        <p:spPr>
          <a:xfrm>
            <a:off x="250920" y="115920"/>
            <a:ext cx="8624880" cy="662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\\Admin\работа\рисунки\день матери\Mother-and-baby.jpg"/>
          <p:cNvPicPr/>
          <p:nvPr/>
        </p:nvPicPr>
        <p:blipFill>
          <a:blip r:embed="rId1"/>
          <a:stretch/>
        </p:blipFill>
        <p:spPr>
          <a:xfrm>
            <a:off x="1341360" y="55440"/>
            <a:ext cx="6602400" cy="660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цв7"/>
          <p:cNvPicPr/>
          <p:nvPr/>
        </p:nvPicPr>
        <p:blipFill>
          <a:blip r:embed="rId2"/>
          <a:stretch/>
        </p:blipFill>
        <p:spPr>
          <a:xfrm>
            <a:off x="7286760" y="3943440"/>
            <a:ext cx="16668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s://sun9-84.userapi.com/impg/py5dlLROKUI9IzhXANJdFbNyyQVoJr4IeSc8-Q/mtNPiaopZQY.jpg?size=426x604&amp;quality=96&amp;sign=7bf82feedc193cc16381453e1b441744&amp;type=album"/>
          <p:cNvPicPr/>
          <p:nvPr/>
        </p:nvPicPr>
        <p:blipFill>
          <a:blip r:embed="rId1"/>
          <a:stretch/>
        </p:blipFill>
        <p:spPr>
          <a:xfrm>
            <a:off x="2320920" y="122400"/>
            <a:ext cx="4627440" cy="6561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29:38Z</dcterms:created>
  <dc:creator>Admin</dc:creator>
  <dc:description/>
  <dc:language>en-US</dc:language>
  <cp:lastModifiedBy>Пользователь</cp:lastModifiedBy>
  <dcterms:modified xsi:type="dcterms:W3CDTF">2023-11-27T07:01:45Z</dcterms:modified>
  <cp:revision>185</cp:revision>
  <dc:subject/>
  <dc:title>29 ноября – День Матери!</dc:title>
</cp:coreProperties>
</file>