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png" ContentType="image/png"/>
  <Override PartName="/ppt/media/image14.jpeg" ContentType="image/jpeg"/>
  <Override PartName="/ppt/media/image9.png" ContentType="image/png"/>
  <Override PartName="/ppt/media/image5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BE6-567A-4BC7-9636-C0B4644A5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2359-E1CC-482D-99CE-2844F557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4575C-D474-492C-AE05-50B6A2F2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1C4A2-20F0-421D-B125-7BE8B5B3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176C1-731C-45D5-90D9-F1ED3ED5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A12A7-EB10-4A8F-AF21-24330E89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5FD4D-FD02-4AB5-BC97-D37BC686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D8CB7-D1E0-4FB4-9341-D4491E28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8F993-172B-49C5-9985-A254DEEA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462DE-BCE5-4D9F-916E-35924F89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2CD81-81E4-4DD9-A068-6BC1D552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A8AD9-DE06-4207-A526-AA2F7F23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F6D2-1383-4C27-A2A3-BED32094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916D8-EC73-4522-BDB0-E4767DC5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C9613-CBBA-403F-833E-0750AB0D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C5984-2549-4E03-8179-6838A4FB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E1EC3-E29F-4DEE-895C-6BE32BE3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E9C9E-3332-416A-9C78-CD2124CA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532B4-E2B2-4119-9D57-B195142A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8963B-A15C-4448-B0C3-C040C319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AE209-179C-42B3-B4AC-36F60904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6F7C1-F391-46AD-A839-28996BFD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F2D14-1BC7-49CD-AA15-0C4A9172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A7A-B8E7-4F2F-A7E7-8C9744CD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1980F-EB91-4ECD-9EBA-5F047207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7F9C2-0BA6-49F5-8C18-17AE59E2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612B7-5C68-4D2F-9A23-7D96864D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09344-6052-48D4-9F50-3379D3F3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A8253-1E84-4F81-8955-92847E70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5758A-D734-4CD2-8B97-D6778C20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BC2EF-8E46-4D1B-A657-C9A89187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E2637-E852-458B-A872-07D4BF5F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606D6-D8DC-4158-8C0F-80849C62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2C863-870C-4EB2-8C01-4E3C39A7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6720-FF8B-4EDF-B00A-3EBAC067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15728-CE01-4CA0-8C41-35051DAA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BE35A-325E-4E2B-B55B-9B3B61E2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D150B-A9D9-4F7E-8F68-997D810D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2CB1B-B53F-4EE0-B9F6-CC605EBB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913E5-C90D-46D7-8519-B9FA4CFD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F3A7EB-6F8E-4244-AA1E-7638AFE0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58D70-1241-47E2-9EF2-4205B58E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43F97-B596-49F3-B271-28773F29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E07AE-A7E4-4325-8AB3-6578DB08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C4F38-18C7-459C-8AD9-68EA0B62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19BD-29DA-46F7-86C3-5C4B8DC4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D4305-B14B-4C19-A170-8578B4C7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77F55-6CCB-423C-BF02-0C59D2CF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07383-2651-495C-A0D2-10A22D92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8EC79-6341-4631-B91C-36F9C195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6C572-101A-46E4-8A66-4F2BD304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6A6971-8B62-4288-B334-77B9D859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8CB9BB-7FDE-4BBA-856A-D6320A38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A2972E-FA2A-4D6B-991C-5BB1D7A3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43FD1-DCAD-4BB7-A806-A32E1330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57679-A521-450C-A9AE-DF6A971F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07C9-E423-44E0-A261-B98067AF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0508D-AD3E-4F28-B923-08A67E7E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1589FF-FD7D-469D-9023-36061D31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0C99C0-A1D5-4BBC-8581-80368017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B4D00F-403A-4D2D-A5EB-2E186EF3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6AAD51-BCBC-4C56-B1E3-3DC3AA71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814F59-C667-4810-B66E-35762E54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0AC78F-D730-4BEB-B885-F6EF1D21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4E8C05-2B4B-45FF-89BA-9F20B2C5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8E31F0-6FB5-4017-A2A7-97A461BD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96761-7906-4808-BC29-9CF5D0DA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0FC2-E7C3-4889-8B70-733A0A81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A4BF66-08D0-47AB-A879-969253C9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ABC5CC-844B-4F03-AB10-1C9020CE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1EFA68-AFF8-4A80-8088-2667CF00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476EB5-406B-4D51-BA08-822E21A0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CA564D-D9D5-4944-ABB4-C6B5924C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E0D819-9A99-4C5C-81D7-892AD65B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794980-5113-4F92-8668-75D81A70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0529F6-F0B2-4082-83BB-B1E42451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7D150A-0D3F-4785-8E0D-C4E7FC04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B79150-3E4D-4BDB-8EEE-765BBCB8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D211-99CE-45C5-9279-84833B3B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F9619D-44AC-4743-A485-2BBE421E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B95A48-AD51-4344-977E-4BB3A776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26417E-31D1-4196-9646-10571708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AB7465-B1B1-4B43-A54B-810355ED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2F99C8-77F1-496D-B426-13BCA5BA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38998C-63AC-44E6-A5D7-0AC7F7A3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A8981B-9041-4211-9906-9CC517A3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D53404-01EF-4520-ABF0-05AB6808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FB6BDF-980A-4160-BFC7-89416D4C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25A002-A8EB-4C81-8F8C-A74479AA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EA6E-EA27-472E-A4D2-86F0E1CF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984520-91ED-485D-93DC-DFECC9F6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C61B-E58D-48C7-801E-6CB8CB82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0A2F-F761-4B41-AF90-9E23243C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C2B6-55E0-4800-BCC1-906B55E8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85C0-9B0F-4652-AA38-84F3AEFB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8651-B701-453D-B18E-4DF4EAE4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D0E0-0CB8-447A-982D-EF9FC11B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DB1C-E0DF-4EE5-B214-3DBC905F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5A649-432E-4394-8F55-6FE7642F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FD702-57AC-404C-BAAE-46765E65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A7B6B-35FC-4848-A2DA-37470549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00495-4E5A-40C0-80A8-E007F852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FBE15-17B4-40A7-91BC-5F116E35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4ED-043B-41B5-B7F1-982A6E51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C92FE-7DFA-46B1-8067-47F26526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2C4D2-D02D-4B37-B08B-0F46D4C8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17D22-54D0-45C8-93C0-4E01B0AF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9AE9A-DEAD-49EC-B10E-3F937FB2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1035C-9A90-46C0-850B-5613F3A4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88593-07E7-41BB-BA12-3EABC09C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0F6D7-A7A4-4D59-9478-BB186971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A7C39-AA67-4BB2-B30D-2F18B024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F9865-F77E-4E24-91B4-FF51958D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2B351-D569-4F4A-933B-216EE868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619-BE24-43EF-A85F-40B3113E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878A6-B945-419A-96CF-1EACD981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19F48-28EB-4298-895D-FE9032BD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27312-8C57-4554-9ED6-AEA12321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07ABB-1F01-4C0F-8D26-B4D34BEE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E19CA-A14D-44ED-8805-FEE5C106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098C6-F45A-4483-9A4C-FC8E75C9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AFE69-3575-4379-A682-BC4B901D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9B57D-95C9-4EC5-8B60-28C6A4D0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F5803-ABCD-47C2-A8A9-B6956278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6BA7F-AC11-48C7-BDCE-FDA1DC67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A7F-F2FE-4A1D-A5FA-3873D6A8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D96B0-38C7-44BB-BCDE-3A91C872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82307-8623-434F-8C6B-40E2C9A8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44970-05D5-4525-9D25-1F426555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DE2C3-BAD8-40CA-B033-218A8B5F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85728-6F8B-4E96-B2AE-9596302B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CBDF5-9DBB-4D4D-A459-8F67639D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46C7D-52F2-4289-B90E-A5A3B1DB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7EC80-AFA4-45EC-A4F9-E00644AB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EFC18-0717-4801-8151-C86F7329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040AB-0A23-4325-B9F7-E03AF5C6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27CB-392C-4653-A2A2-003A8DFB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A8F85-9E5E-4264-9579-38AC1946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EE1D9-0C0F-4B28-9B20-57829C37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570E2-972C-4344-98FF-D099ABAB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7E257-B980-41FF-897A-C8FC0630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97CDC-4BF7-48DB-B2C1-CEE222B2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F6A31-EA0D-4DE5-806C-26DB7BB7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5B934-2B8A-47AD-9CD0-CC876028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74B51-2FD4-4204-8687-A57C0FA0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0569A-6991-41C8-9544-EF306D04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0FB1D-BF88-4932-B6CF-72DB12E3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525-3DD3-4CBB-A09D-24CE852B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31B16-07D3-4852-83FC-1E52DCAB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926CC-0FF3-48D8-8AE5-A40CB3BE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31B4A-2D23-47F4-B5D2-2C6545C3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72445-5FCD-46D1-A53A-64DDD1D0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C5E84-8651-4589-B09F-4AAA288E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05D2F-E898-4AAC-ABED-104F1D56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CF543-05CA-4546-B8A5-D74902EA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92153-F37E-4086-82EF-F157D0B3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5D2D6-4FE7-4DD7-963F-686B825A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4541E-5C22-4FDF-B1A7-47F7DE70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9EAE-8686-4FB5-9787-F57877F4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2A7F9-049F-41E1-A6C8-206D496A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5F0C5-3C6A-4349-9137-4B714A37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3447F-5BDC-48A0-B4DD-29BE996F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EEF33-6B9A-476B-B95B-8284DBDD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A0C90-59AE-46E2-91B2-59BE59AF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39C54-A53F-41ED-9DA6-45AE50B9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F3BF6-B4EB-45DB-B5B8-0A863D27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60469-9A03-4EA6-AEC6-BBF205FF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A0655-2B67-4703-9955-980D66E9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434BA-23E7-4769-B572-B7C4FADE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175-3AB5-4100-85F0-D2354D8E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937B6-647A-4959-82C0-3257FBDE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3D797-D94F-4325-8D0E-26D9286E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EF5B3-28F2-44E1-B94D-25325A53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8D02F-45FD-4D73-9C9C-CED65AF4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7DC6F-8B4B-4F85-B4DD-A947159C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B21F6-3BE1-437D-A567-39F01F86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A4E48-41F9-4522-B7A5-7E6116F0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FE574-D805-48D9-BF67-6DA68100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F8431-C09E-43B8-B05E-094443C8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273E1-2628-4078-9352-CB27E80F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2161-B129-4111-B2D7-990C7773BC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2590-7002-4531-8411-F170D70975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C9C1-13D2-4F09-8589-829BA455F1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12A7-C022-49F8-9191-837CA47A4E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F0A6-ECF2-426C-A098-C45B8B8E20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F433-9002-46DB-9533-5B63431C9C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B725-7DEC-474D-A4B9-41590D3B3C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1936-CA80-4457-AD30-FABB2EAA39DA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321E-6B3E-4355-AB16-867D113514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ABC2-1090-4CB9-9F37-CC52494A1C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0364-E5F9-4930-80E5-756D668CDF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6420-7CA9-4E2D-826F-4AE008B520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EB69-2AB7-46B8-9C93-6DAFCB7F21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1053-3051-4454-9491-AC82839AA2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ffcf"/>
            </a:gs>
            <a:gs pos="100000">
              <a:srgbClr val="dcf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5E1F-AE39-4464-9C21-A2F975210F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ff"/>
                </a:solidFill>
                <a:latin typeface="Tahoma"/>
              </a:rPr>
              <a:t>Викторина</a:t>
            </a:r>
            <a:br>
              <a:rPr sz="4800"/>
            </a:br>
            <a:r>
              <a:rPr b="1" lang="ru-RU" sz="4800" spc="-1" strike="noStrike">
                <a:solidFill>
                  <a:srgbClr val="3333cc"/>
                </a:solidFill>
                <a:latin typeface="Tahoma"/>
              </a:rPr>
              <a:t>«Здоровый образ жизни»</a:t>
            </a:r>
            <a:br>
              <a:rPr sz="4800"/>
            </a:b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33" name="Picture 6" descr="http://dou1-usolie.ru/wp-content/uploads/2019/01/s1200.jpg"/>
          <p:cNvPicPr/>
          <p:nvPr/>
        </p:nvPicPr>
        <p:blipFill>
          <a:blip r:embed="rId1"/>
          <a:stretch/>
        </p:blipFill>
        <p:spPr>
          <a:xfrm>
            <a:off x="2144880" y="1773360"/>
            <a:ext cx="5503680" cy="4127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1116000" y="3860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2" name="Picture 6" descr="https://cf.ppt-online.org/files1/slide/n/ndEBoxW5zsMLePYJ281jKAtDVOubNS3aQ64TcHqglh/slide-14.jpg"/>
          <p:cNvPicPr/>
          <p:nvPr/>
        </p:nvPicPr>
        <p:blipFill>
          <a:blip r:embed="rId1"/>
          <a:stretch/>
        </p:blipFill>
        <p:spPr>
          <a:xfrm>
            <a:off x="611280" y="333360"/>
            <a:ext cx="827856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79292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Лучше средства от хвори нет: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делай зарядку до старости лет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64" name="Picture 6" descr="Блог &quot;Секретов нет&quot; о раскрытии личности и саморазвитии - Part 5"/>
          <p:cNvPicPr/>
          <p:nvPr/>
        </p:nvPicPr>
        <p:blipFill>
          <a:blip r:embed="rId1"/>
          <a:stretch/>
        </p:blipFill>
        <p:spPr>
          <a:xfrm>
            <a:off x="179280" y="2421000"/>
            <a:ext cx="4464000" cy="24908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8" descr="Спортивная суббота / Спорт / Новости / ГиГ: городской сайт Железногорска"/>
          <p:cNvPicPr/>
          <p:nvPr/>
        </p:nvPicPr>
        <p:blipFill>
          <a:blip r:embed="rId2"/>
          <a:stretch/>
        </p:blipFill>
        <p:spPr>
          <a:xfrm>
            <a:off x="4716360" y="3716280"/>
            <a:ext cx="410364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755640" y="11592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Двигайся больше – ………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Прямоугольник 1"/>
          <p:cNvSpPr/>
          <p:nvPr/>
        </p:nvSpPr>
        <p:spPr>
          <a:xfrm>
            <a:off x="3492360" y="4941720"/>
            <a:ext cx="541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вигайся больше – проживешь дольш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8" name="Picture 5" descr="Интересно ГТРК Мордовия - Part 131"/>
          <p:cNvPicPr/>
          <p:nvPr/>
        </p:nvPicPr>
        <p:blipFill>
          <a:blip r:embed="rId1"/>
          <a:stretch/>
        </p:blipFill>
        <p:spPr>
          <a:xfrm>
            <a:off x="773280" y="1773360"/>
            <a:ext cx="376704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1476360" y="333360"/>
            <a:ext cx="59752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5638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105638"/>
                </a:solidFill>
                <a:latin typeface="Tahoma"/>
              </a:rPr>
              <a:t>В здоровом теле - …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Прямоугольник 1"/>
          <p:cNvSpPr/>
          <p:nvPr/>
        </p:nvSpPr>
        <p:spPr>
          <a:xfrm flipV="1" rot="10800000">
            <a:off x="3059280" y="423288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здоровом теле - здоровый дух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1" name="Picture 4" descr="https://cstor.nn2.ru/blog/data/blog/2018-08/1626863_1533731184.jpg"/>
          <p:cNvPicPr/>
          <p:nvPr/>
        </p:nvPicPr>
        <p:blipFill>
          <a:blip r:embed="rId1"/>
          <a:stretch/>
        </p:blipFill>
        <p:spPr>
          <a:xfrm>
            <a:off x="1332000" y="1341360"/>
            <a:ext cx="68342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a50021"/>
                </a:solidFill>
                <a:latin typeface="Tahoma"/>
              </a:rPr>
              <a:t>Желаю вам: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ahoma"/>
              </a:rPr>
              <a:t>Никогда не боле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ff33"/>
                </a:solidFill>
                <a:latin typeface="Tahoma"/>
              </a:rPr>
              <a:t>Правильно питатьс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ahoma"/>
              </a:rPr>
              <a:t>Быть бодрым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Tahoma"/>
              </a:rPr>
              <a:t>Вершить добрые де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В общем, вести здоровый образ жизни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тгадайте загадку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07640" y="2017800"/>
            <a:ext cx="8847000" cy="19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Tahoma"/>
              </a:rPr>
              <a:t>Что на свете дороже всего?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ahoma"/>
              </a:rPr>
              <a:t>Здоровье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37" name="Picture 7" descr="Bodykey БИЗНЕС ЭЛЕКТРОННОЙ КОММЕРЦИИ"/>
          <p:cNvPicPr/>
          <p:nvPr/>
        </p:nvPicPr>
        <p:blipFill>
          <a:blip r:embed="rId1"/>
          <a:stretch/>
        </p:blipFill>
        <p:spPr>
          <a:xfrm>
            <a:off x="1403280" y="1484280"/>
            <a:ext cx="640872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792920" cy="331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От чего же еще зависит здоровье человека?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Каких верных помощников в сохранении здоровья вы можете назвать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Наши помощники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в сохранении здоровья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Oval 3"/>
          <p:cNvSpPr/>
          <p:nvPr/>
        </p:nvSpPr>
        <p:spPr>
          <a:xfrm>
            <a:off x="1258920" y="2349360"/>
            <a:ext cx="3097080" cy="93672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Oval 4"/>
          <p:cNvSpPr/>
          <p:nvPr/>
        </p:nvSpPr>
        <p:spPr>
          <a:xfrm>
            <a:off x="539640" y="5516640"/>
            <a:ext cx="4896000" cy="93492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Oval 5"/>
          <p:cNvSpPr/>
          <p:nvPr/>
        </p:nvSpPr>
        <p:spPr>
          <a:xfrm>
            <a:off x="826920" y="3933720"/>
            <a:ext cx="4032360" cy="93672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Text Box 8"/>
          <p:cNvSpPr/>
          <p:nvPr/>
        </p:nvSpPr>
        <p:spPr>
          <a:xfrm>
            <a:off x="1638720" y="2492280"/>
            <a:ext cx="235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Режим дн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Text Box 9"/>
          <p:cNvSpPr/>
          <p:nvPr/>
        </p:nvSpPr>
        <p:spPr>
          <a:xfrm>
            <a:off x="770400" y="5661000"/>
            <a:ext cx="446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Правильное пита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 Box 10"/>
          <p:cNvSpPr/>
          <p:nvPr/>
        </p:nvSpPr>
        <p:spPr>
          <a:xfrm>
            <a:off x="1272960" y="4076640"/>
            <a:ext cx="33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Личная гиги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6" name="Picture 12" descr="37"/>
          <p:cNvPicPr/>
          <p:nvPr/>
        </p:nvPicPr>
        <p:blipFill>
          <a:blip r:embed="rId1"/>
          <a:stretch/>
        </p:blipFill>
        <p:spPr>
          <a:xfrm>
            <a:off x="5796000" y="5013360"/>
            <a:ext cx="2809800" cy="16524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3" descr="41"/>
          <p:cNvPicPr/>
          <p:nvPr/>
        </p:nvPicPr>
        <p:blipFill>
          <a:blip r:embed="rId2"/>
          <a:stretch/>
        </p:blipFill>
        <p:spPr>
          <a:xfrm>
            <a:off x="6012000" y="3357720"/>
            <a:ext cx="2066760" cy="16318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7"/>
          <p:cNvPicPr/>
          <p:nvPr/>
        </p:nvPicPr>
        <p:blipFill>
          <a:blip r:embed="rId3"/>
          <a:stretch/>
        </p:blipFill>
        <p:spPr>
          <a:xfrm>
            <a:off x="5940360" y="1557360"/>
            <a:ext cx="2309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539640" y="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Режим дня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468360" y="5052960"/>
            <a:ext cx="8229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Режим дня – это распорядок дел, действий, которые вы совершаете в течение дня</a:t>
            </a:r>
            <a:r>
              <a:rPr b="0" lang="ru-RU" sz="3200" spc="-1" strike="noStrike">
                <a:solidFill>
                  <a:srgbClr val="4364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1" name="Picture 17" descr="7"/>
          <p:cNvPicPr/>
          <p:nvPr/>
        </p:nvPicPr>
        <p:blipFill>
          <a:blip r:embed="rId1"/>
          <a:stretch/>
        </p:blipFill>
        <p:spPr>
          <a:xfrm>
            <a:off x="2627280" y="1197000"/>
            <a:ext cx="44704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Прямоугольник 13"/>
          <p:cNvSpPr/>
          <p:nvPr/>
        </p:nvSpPr>
        <p:spPr>
          <a:xfrm flipV="1" rot="10800000">
            <a:off x="3642840" y="726120"/>
            <a:ext cx="37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РЕКОМЕНД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Прямоугольник 14"/>
          <p:cNvSpPr/>
          <p:nvPr/>
        </p:nvSpPr>
        <p:spPr>
          <a:xfrm>
            <a:off x="1285920" y="2857680"/>
            <a:ext cx="66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ff"/>
                </a:solidFill>
                <a:latin typeface="Calibri"/>
              </a:rPr>
              <a:t>- приучи себя просыпаться и вставать каждый день в одно и то же врем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ff"/>
                </a:solidFill>
                <a:latin typeface="Calibri"/>
              </a:rPr>
              <a:t>- выполняй каждый день утреннюю зарядку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ff"/>
                </a:solidFill>
                <a:latin typeface="Calibri"/>
              </a:rPr>
              <a:t>- следи за чистотой тела, волос, ногтей и полостью рт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ff"/>
                </a:solidFill>
                <a:latin typeface="Calibri"/>
              </a:rPr>
              <a:t>- старайся есть в одно и то же врем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4" name="Picture 2" descr="C:\Documents and Settings\Павел\Мои документы\картинки\BS00174_.WMF"/>
          <p:cNvPicPr/>
          <p:nvPr/>
        </p:nvPicPr>
        <p:blipFill>
          <a:blip r:embed="rId1"/>
          <a:stretch/>
        </p:blipFill>
        <p:spPr>
          <a:xfrm>
            <a:off x="395280" y="549360"/>
            <a:ext cx="2857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Личная гигиена      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7200" y="5122800"/>
            <a:ext cx="82296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правила, выполнение которых поможет не болеть и укрепить своё здоровь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7" name="Picture 5" descr="4"/>
          <p:cNvPicPr/>
          <p:nvPr/>
        </p:nvPicPr>
        <p:blipFill>
          <a:blip r:embed="rId1"/>
          <a:stretch/>
        </p:blipFill>
        <p:spPr>
          <a:xfrm>
            <a:off x="285840" y="285840"/>
            <a:ext cx="518472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333399"/>
                </a:solidFill>
                <a:uFillTx/>
                <a:latin typeface="Tahoma"/>
              </a:rPr>
              <a:t>Правильное питание — основа здорового образа</a:t>
            </a:r>
            <a:r>
              <a:rPr b="0" i="1" lang="ru-RU" sz="4000" spc="-1" strike="noStrike" u="sng">
                <a:solidFill>
                  <a:srgbClr val="333399"/>
                </a:solidFill>
                <a:uFillTx/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Прямоугольник 1"/>
          <p:cNvSpPr/>
          <p:nvPr/>
        </p:nvSpPr>
        <p:spPr>
          <a:xfrm>
            <a:off x="4356000" y="2708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omic Sans MS"/>
              </a:rPr>
              <a:t>Правильное питание – это разнообразное питание. Для жизни человеку необходимы питательные вещества, которые находятся в разных продуктах пита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0" name="Picture 4" descr="40"/>
          <p:cNvPicPr/>
          <p:nvPr/>
        </p:nvPicPr>
        <p:blipFill>
          <a:blip r:embed="rId1"/>
          <a:stretch/>
        </p:blipFill>
        <p:spPr>
          <a:xfrm>
            <a:off x="468360" y="2492280"/>
            <a:ext cx="34560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03:39:17Z</dcterms:created>
  <dc:creator>R</dc:creator>
  <dc:description/>
  <dc:language>en-US</dc:language>
  <cp:lastModifiedBy>Золотой ключик</cp:lastModifiedBy>
  <dcterms:modified xsi:type="dcterms:W3CDTF">2023-11-10T13:13:39Z</dcterms:modified>
  <cp:revision>66</cp:revision>
  <dc:subject/>
  <dc:title>Слайд 1</dc:title>
</cp:coreProperties>
</file>