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9.png" ContentType="image/png"/>
  <Override PartName="/ppt/media/image5.png" ContentType="image/pn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546-550C-4497-95D3-CF6A5850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F0C7-B3EE-4C5E-BA78-33CC6BBB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A9135-70F3-41B7-91CE-413A68C2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5D7DA-03D0-41E3-B9A4-57E9AA61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56502-57AE-4CE3-90AB-0F3EDFE9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D2D9F-4E18-4A72-9265-053B83E2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F5C3B-DAF3-4A94-A6A9-F3EAC478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70C78-1C96-4F2D-8EBF-42721113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E1221-68DA-4449-A6B3-FF79B299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BDD79-7ED0-4B21-A09B-0D3EF3AA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25D7E-DFEB-42F1-A594-A63F8E4E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E2C5B-0623-49BD-890A-0E47BDC3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057-9F7C-49F5-935E-B6660936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1A00B-6464-43CB-A903-74B55AB0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37948-6104-4776-A786-E5FBBC50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5BF93-D668-484B-87C5-A7259BDD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F51FB-3CCC-4022-932F-EAED9618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DD7A5-1FF3-4FE9-B61A-DD064302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E7FD5-A421-428C-AFFD-E1AC4C69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9B13C-E3E2-46D6-9AF5-6D8CEED0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8D504-48A2-4535-B908-CEA76A78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848B0-36E3-4F32-A1A7-B1F91B3D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84063-56C3-4EF6-BEBE-FAD06311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C64-B79E-412D-AE6A-FF9C44DC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95E0B-D7A2-4B73-BBA6-DA7E609C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0BEBC-CDA4-4823-945E-B281ADB2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9AA42-B34F-41F3-85BE-3ACB8144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F5F63-107D-4659-BE04-85036793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B0861-6B9E-4027-8915-72C5E163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4585D-CE83-474D-89BB-2CEE4215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24615-6BA0-4C32-81A2-37EA76B2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2D25C-41FF-4F33-A434-683EC6A8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6656A-D1EB-48A2-B8E0-294349B5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010FB-162B-4614-80B5-B48ED725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34B6-5FFD-477B-9AEA-7D237EE7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D5177-BF45-4CF1-BEB0-9E26CD34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2D38F-CDC6-4D85-896D-8A7B9C85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A1C22-0CFC-459E-8B9D-F1D59275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97B64-FE86-4EA6-88FD-4353A035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303F2-5418-466D-8B79-301E5A95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12DF8-0BF5-4B55-846A-34C5D565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1707C-34D8-4D62-AC6E-7C778D0F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AF7DF-731C-4001-AFC5-0117EFAC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AA2CC-7717-4114-8DAF-4A9C686D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88785-C152-4685-9777-94D81FC1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B8E3-B18A-43AF-9418-E8D6AB63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EF288-930F-49FB-9528-84D29D16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8A3C0-650E-4204-A18C-9729DBFB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70617-9BB5-48A1-8B0E-0F93DF96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87DDF-7205-44B9-9A65-A176A535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6AC99-413B-4836-8CC2-FEB11667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6B343-4A3A-487F-8F49-E1322C48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8BB34-9518-473C-B878-691C294B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10C5C4-2A53-4F15-A593-B3721030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70F287-AC02-4C5A-9797-DE9291BE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76849-9786-422C-946B-581B4D4F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922F-9CAD-4C5A-817E-B2832E9D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4E51DB-3973-4709-8E40-8E4F04C1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74AE8-08E5-47BA-AA69-E1BD4165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15CC9-45BC-4247-B614-92150FE8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96E85-3A63-4345-BAE7-E6546092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C64505-C970-444D-B87F-386F5E9C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7AC5CD-1E48-4780-84A8-42B7E6E3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78F3D-961A-4DCB-9EA8-C691D901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045B92-3426-4F78-BCEC-9EC50EA7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1AC031-9CD1-4DBF-92CC-B857CA97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FC47F3-4837-470B-844F-C6938620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3733-F82A-442B-B824-B8B995B6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3EFD47-1432-4765-9459-11CA09CF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E4F114-2DAF-4B3C-9E93-C10C6348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35894-33B3-42AC-898F-2316FB58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38ABDD-D30A-4AEA-B80E-982FAAAC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B4E591-1853-4154-8F99-4AFDA2A3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60C5D8-2227-429F-AE4C-AD5AAADB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418A35-D7E0-4EE4-9F4D-D48C3D00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2B4919-37C9-4AC1-B517-3315DFBF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58DC7A-FC72-4911-B3A0-5DC18F2D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882821-E5D0-4C77-8002-6B5E63EA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2608-F887-41F2-9DC4-BF06FDC5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868F53-9D40-4CFC-BB2B-39099F97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416022-9A92-4FFD-A576-095AEF74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65BD09-87BE-4530-A2A0-7B9DEAC5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06861C-A4D3-49DC-9D54-2CEF0AC0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A22AE4-454B-4338-9CEB-AD4AF04C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9486D7-809E-4931-880F-ADC6D4CB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2D60DC-CF39-4AEE-9951-91AA82A0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372B9A-D29E-4CB8-823D-A270B571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9C2083-85CD-4604-80BD-3371821F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A6201D-16E9-4254-8BAC-70DB9CF9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3BC9-0751-4FAD-89D3-6567E539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CFDF38-817C-4BE5-9F9B-7FF28353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9555-A9D7-4EB5-93CB-04FB4F2E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F309-9DA6-45FC-9286-CF6B1561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56AB-A45A-4CE1-A2D6-C7588F9D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12C1-5C14-409E-B98E-05DDFEED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9BC3-F3A3-42D6-8AC9-864E7665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6B9B-E868-4118-905F-A59B5EB6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AAA7-1E24-46F8-A381-4F2AC35E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19688-219C-4E01-B858-476EC5DF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3F353-2AC8-426F-8706-00224D7B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05323-4600-444F-9BCD-8FDDA434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5FB18-2ECF-442F-B3B7-EB7F733D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479DA-3967-47B8-BF2E-E2988F66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B7D4-754D-4258-83D2-9A79280F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534E6-45FC-471C-83B0-50B3EE2D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5E38F-74A6-4EFA-924C-A97EECF9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97F59-02AD-4EF6-B240-9DADB659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E07B0-470A-42A6-BF57-AE5A9354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1E24C-35FD-4C6F-AAFC-BB00AC0B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2EFCD-1EAF-47DD-988D-3836B8AA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76D69-5E75-4AEF-BF2E-9E0EA4C3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B434F-50E3-442E-9381-90750C7C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A8258-9C15-405A-B79B-78977FCE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94119-1C61-4A3A-9D1B-77266BFC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5814-3069-4B17-ACCE-887536E9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E43E7-C4A8-4C41-A508-A93FE6A7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3395E-BA2F-4D23-B464-15AF1911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EA4E1-46A2-4AD3-88D3-2684BD48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064A1-9C65-4F83-B5AD-AD52C094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808FC-05E3-4634-9CA1-E0BE26A5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81FD6-4E6E-454A-ABC1-A0ABB4BB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845A7-4897-4E5C-A3C6-7D04A61A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6A488-A17C-4A98-A7A9-1CED8403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51886-08BD-45EC-A948-EA8FFE90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F54EF-B179-4067-A85F-FFE6C83A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69C-FB97-4FC9-89DA-6E7FEB6A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F64A7-8C75-4E11-A1AD-FC3C44A4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18D87-C132-4F1E-8EFC-BA4AC2FA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C3F48-356E-43F3-B069-0E338A26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11B2F-0787-4E2A-A72E-399293A1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E3B36-47E6-4281-963B-DE09E428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1E752-FB58-4740-A63B-E087FF8E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755CD-BE45-4618-A586-9105FEC6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DA16D-C1D0-4290-BCFF-841334AD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42FD9-BCAF-41C3-85E0-5850AED4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B0910-85CC-4104-A421-D92C79A8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72AE-C4D6-48B7-B1D8-AEB0B565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3396A-BCB6-40D7-A0AC-1FD9CB11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789BC-7C53-4050-BECD-04C4F0D8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5FD57-4770-4F9A-9D6E-9A111816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052A6-3D99-4D43-A60F-EFB13F75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3E12C-49AE-4AEA-B79B-3F72CFA9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2589A-227B-4143-B794-F422A008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AB546-5EE2-4011-B9F3-213AC779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91D67-EB4D-4EB6-93F5-18B04853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CEEAE-3A33-4FC4-A2E4-3A9B09BC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B4042-D268-4D59-92EA-808AC321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5066-6593-41A1-BDC9-FB347467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C3ED9-7C1B-4301-96A3-1BD69DF6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525FC-1F17-4E13-855B-455368A7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35406-3475-4C51-8FD1-28836EF3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57597-D3E0-499B-8143-5F1DAC9B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ECF76-023B-4F7D-94AC-BD2D71E9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F0FD0-A43F-4583-88E3-BF0E6A55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4588D-2776-4D0B-8D11-04ECFC23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E700D-C67D-4F89-850B-06228395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3BE4B-795A-41F9-BEBF-673FE387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D8FA7-AE18-4E52-9C8E-9FA8608A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4B98-CEF5-4BA8-8364-6ED1CE1F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6B9A4-530F-4A4E-AE3F-B2A75C4C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8F7F7-D7F1-40EF-B246-78061DED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2A545-FAE6-4321-90B7-D6592381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8033D-4BBC-4FE5-B90A-6772AFB9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8A7AD-A27E-4B29-80BE-AEFEE4D1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79982-1809-4EC6-8269-98337909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D8E7C-6C13-4270-BE1E-36E3AFFD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B297B-BE1A-4A57-8FD8-16AB84A6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7BD5E-68F3-4F72-980B-ED2F9FB1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80F79-2980-41C0-87A7-720F35FA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165E-D437-40A2-9507-65EE095F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F9EA3-47D4-452D-A58F-8650BD31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22DD0-8BED-4042-90EC-BDE82DE3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44B70-D39E-4C0C-B257-9FD55439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EFC17-0460-4891-98F4-29D08FA5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212FA-F85C-498A-BEA3-C9DD1869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DE6AC-00B3-419D-8F11-5DDA2A7C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603BA-6C2E-4BDE-AB73-E001F256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55514-195C-4C5E-8DB8-97DBA59A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67808-51F5-4FAB-B47B-9DE3B62E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56DB8-C3EC-408F-92D2-574F08B5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10F2-13F5-44D5-951B-7CA96CF2D5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2DF3-7913-4D99-9BD1-DE876E6D20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F8D4-5419-4DC5-B156-250A96E80A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2BA7-B61A-41C1-A495-B98AF325DA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5545-D6E2-4F16-ACDE-48A92B97AE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CECC-E757-4201-B547-F45C9E7C3B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4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4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85C1-8FEE-485C-B2B2-47451D87AB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C5E6-6107-4657-84EE-A5873D0F970B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E4FD-B63C-4BCC-B919-D296DF507C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B99B-0D37-45EA-B3C7-6FA7B2A1B2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42CF-FE38-4D16-A64A-05AFA9458F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86CA-B9D0-4946-BE84-00E68248C7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93E6-7115-4266-8836-7F2B54C14A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2A38-3CC0-4899-AC71-971AF3CA24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218D-C977-47C9-B36C-C4AA495FF0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56908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ff"/>
                </a:solidFill>
                <a:latin typeface="Tahoma"/>
              </a:rPr>
              <a:t>Викторина</a:t>
            </a:r>
            <a:br>
              <a:rPr sz="4800"/>
            </a:br>
            <a:r>
              <a:rPr b="1" lang="ru-RU" sz="4800" spc="-1" strike="noStrike">
                <a:solidFill>
                  <a:srgbClr val="3333cc"/>
                </a:solidFill>
                <a:latin typeface="Tahoma"/>
              </a:rPr>
              <a:t>«Здоровый образ жизни»</a:t>
            </a:r>
            <a:br>
              <a:rPr sz="48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33" name="Picture 6" descr="http://dou1-usolie.ru/wp-content/uploads/2019/01/s1200.jpg"/>
          <p:cNvPicPr/>
          <p:nvPr/>
        </p:nvPicPr>
        <p:blipFill>
          <a:blip r:embed="rId1"/>
          <a:stretch/>
        </p:blipFill>
        <p:spPr>
          <a:xfrm>
            <a:off x="2144880" y="1773360"/>
            <a:ext cx="5503680" cy="4127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1116000" y="3860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2" name="Picture 6" descr="https://cf.ppt-online.org/files1/slide/n/ndEBoxW5zsMLePYJ281jKAtDVOubNS3aQ64TcHqglh/slide-14.jpg"/>
          <p:cNvPicPr/>
          <p:nvPr/>
        </p:nvPicPr>
        <p:blipFill>
          <a:blip r:embed="rId1"/>
          <a:stretch/>
        </p:blipFill>
        <p:spPr>
          <a:xfrm>
            <a:off x="611280" y="333360"/>
            <a:ext cx="827856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79292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Лучше средства от хвори нет: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делай зарядку до старости лет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64" name="Picture 6" descr="Блог &quot;Секретов нет&quot; о раскрытии личности и саморазвитии - Part 5"/>
          <p:cNvPicPr/>
          <p:nvPr/>
        </p:nvPicPr>
        <p:blipFill>
          <a:blip r:embed="rId1"/>
          <a:stretch/>
        </p:blipFill>
        <p:spPr>
          <a:xfrm>
            <a:off x="179280" y="2421000"/>
            <a:ext cx="4464000" cy="24908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8" descr="Спортивная суббота / Спорт / Новости / ГиГ: городской сайт Железногорска"/>
          <p:cNvPicPr/>
          <p:nvPr/>
        </p:nvPicPr>
        <p:blipFill>
          <a:blip r:embed="rId2"/>
          <a:stretch/>
        </p:blipFill>
        <p:spPr>
          <a:xfrm>
            <a:off x="4716360" y="3716280"/>
            <a:ext cx="41036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755640" y="11592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Двигайся больше – ………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Прямоугольник 1"/>
          <p:cNvSpPr/>
          <p:nvPr/>
        </p:nvSpPr>
        <p:spPr>
          <a:xfrm>
            <a:off x="3492360" y="4941720"/>
            <a:ext cx="541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вигайся больше – проживешь дольш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8" name="Picture 5" descr="Интересно ГТРК Мордовия - Part 131"/>
          <p:cNvPicPr/>
          <p:nvPr/>
        </p:nvPicPr>
        <p:blipFill>
          <a:blip r:embed="rId1"/>
          <a:stretch/>
        </p:blipFill>
        <p:spPr>
          <a:xfrm>
            <a:off x="773280" y="1773360"/>
            <a:ext cx="376704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1476360" y="333360"/>
            <a:ext cx="59752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5638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105638"/>
                </a:solidFill>
                <a:latin typeface="Tahoma"/>
              </a:rPr>
              <a:t>В здоровом теле -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Прямоугольник 1"/>
          <p:cNvSpPr/>
          <p:nvPr/>
        </p:nvSpPr>
        <p:spPr>
          <a:xfrm flipV="1" rot="10800000">
            <a:off x="3059280" y="423288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здоровом теле - здоровый дух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1" name="Picture 4" descr="https://cstor.nn2.ru/blog/data/blog/2018-08/1626863_1533731184.jpg"/>
          <p:cNvPicPr/>
          <p:nvPr/>
        </p:nvPicPr>
        <p:blipFill>
          <a:blip r:embed="rId1"/>
          <a:stretch/>
        </p:blipFill>
        <p:spPr>
          <a:xfrm>
            <a:off x="1332000" y="1341360"/>
            <a:ext cx="68342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Tahoma"/>
              </a:rPr>
              <a:t>Желаю вам: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ahoma"/>
              </a:rPr>
              <a:t>Никогда не боле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Tahoma"/>
              </a:rPr>
              <a:t>Правильно питатьс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ahoma"/>
              </a:rPr>
              <a:t>Быть бодрым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Tahoma"/>
              </a:rPr>
              <a:t>Вершить добрые де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В общем, вести здоровый образ жизни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гадайте загадку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07640" y="2017800"/>
            <a:ext cx="8847000" cy="19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ahoma"/>
              </a:rPr>
              <a:t>Что на свете дороже всего?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ahoma"/>
              </a:rPr>
              <a:t>Здоровье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37" name="Picture 7" descr="Bodykey БИЗНЕС ЭЛЕКТРОННОЙ КОММЕРЦИИ"/>
          <p:cNvPicPr/>
          <p:nvPr/>
        </p:nvPicPr>
        <p:blipFill>
          <a:blip r:embed="rId1"/>
          <a:stretch/>
        </p:blipFill>
        <p:spPr>
          <a:xfrm>
            <a:off x="1403280" y="1484280"/>
            <a:ext cx="640872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92920" cy="33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От чего же еще зависит здоровье человека?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аких верных помощников в сохранении здоровья вы можете назвать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Наши помощники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в сохранении здоровья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Oval 3"/>
          <p:cNvSpPr/>
          <p:nvPr/>
        </p:nvSpPr>
        <p:spPr>
          <a:xfrm>
            <a:off x="1258920" y="2349360"/>
            <a:ext cx="3097080" cy="93672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Oval 4"/>
          <p:cNvSpPr/>
          <p:nvPr/>
        </p:nvSpPr>
        <p:spPr>
          <a:xfrm>
            <a:off x="539640" y="5516640"/>
            <a:ext cx="4896000" cy="93492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Oval 5"/>
          <p:cNvSpPr/>
          <p:nvPr/>
        </p:nvSpPr>
        <p:spPr>
          <a:xfrm>
            <a:off x="826920" y="3933720"/>
            <a:ext cx="4032360" cy="93672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Text Box 8"/>
          <p:cNvSpPr/>
          <p:nvPr/>
        </p:nvSpPr>
        <p:spPr>
          <a:xfrm>
            <a:off x="1638720" y="2492280"/>
            <a:ext cx="23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Режим дн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Text Box 9"/>
          <p:cNvSpPr/>
          <p:nvPr/>
        </p:nvSpPr>
        <p:spPr>
          <a:xfrm>
            <a:off x="770400" y="5661000"/>
            <a:ext cx="446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Text Box 10"/>
          <p:cNvSpPr/>
          <p:nvPr/>
        </p:nvSpPr>
        <p:spPr>
          <a:xfrm>
            <a:off x="1272960" y="4076640"/>
            <a:ext cx="33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Личная гиги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6" name="Picture 12" descr="37"/>
          <p:cNvPicPr/>
          <p:nvPr/>
        </p:nvPicPr>
        <p:blipFill>
          <a:blip r:embed="rId1"/>
          <a:stretch/>
        </p:blipFill>
        <p:spPr>
          <a:xfrm>
            <a:off x="5796000" y="5013360"/>
            <a:ext cx="2809800" cy="16524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3" descr="41"/>
          <p:cNvPicPr/>
          <p:nvPr/>
        </p:nvPicPr>
        <p:blipFill>
          <a:blip r:embed="rId2"/>
          <a:stretch/>
        </p:blipFill>
        <p:spPr>
          <a:xfrm>
            <a:off x="6012000" y="3357720"/>
            <a:ext cx="2066760" cy="16318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7"/>
          <p:cNvPicPr/>
          <p:nvPr/>
        </p:nvPicPr>
        <p:blipFill>
          <a:blip r:embed="rId3"/>
          <a:stretch/>
        </p:blipFill>
        <p:spPr>
          <a:xfrm>
            <a:off x="5940360" y="1557360"/>
            <a:ext cx="23097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539640" y="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ежим дня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468360" y="5052960"/>
            <a:ext cx="8229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Режим дня – это распорядок дел, действий, которые вы совершаете в течение дня</a:t>
            </a:r>
            <a:r>
              <a:rPr b="0" lang="ru-RU" sz="3200" spc="-1" strike="noStrike">
                <a:solidFill>
                  <a:srgbClr val="4364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1" name="Picture 17" descr="7"/>
          <p:cNvPicPr/>
          <p:nvPr/>
        </p:nvPicPr>
        <p:blipFill>
          <a:blip r:embed="rId1"/>
          <a:stretch/>
        </p:blipFill>
        <p:spPr>
          <a:xfrm>
            <a:off x="2627280" y="1197000"/>
            <a:ext cx="44704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Прямоугольник 13"/>
          <p:cNvSpPr/>
          <p:nvPr/>
        </p:nvSpPr>
        <p:spPr>
          <a:xfrm flipV="1" rot="10800000">
            <a:off x="3642840" y="72612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РЕКОМЕНД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Прямоугольник 14"/>
          <p:cNvSpPr/>
          <p:nvPr/>
        </p:nvSpPr>
        <p:spPr>
          <a:xfrm>
            <a:off x="1285920" y="2857680"/>
            <a:ext cx="66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ff"/>
                </a:solidFill>
                <a:latin typeface="Calibri"/>
              </a:rPr>
              <a:t>- приучи себя просыпаться и вставать каждый день в одно и то же врем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ff"/>
                </a:solidFill>
                <a:latin typeface="Calibri"/>
              </a:rPr>
              <a:t>- выполняй каждый день утреннюю зарядк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ff"/>
                </a:solidFill>
                <a:latin typeface="Calibri"/>
              </a:rPr>
              <a:t>- следи за чистотой тела, волос, ногтей и полостью рт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ff"/>
                </a:solidFill>
                <a:latin typeface="Calibri"/>
              </a:rPr>
              <a:t>- старайся есть в одно и то же врем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4" name="Picture 2" descr="C:\Documents and Settings\Павел\Мои документы\картинки\BS00174_.WMF"/>
          <p:cNvPicPr/>
          <p:nvPr/>
        </p:nvPicPr>
        <p:blipFill>
          <a:blip r:embed="rId1"/>
          <a:stretch/>
        </p:blipFill>
        <p:spPr>
          <a:xfrm>
            <a:off x="395280" y="549360"/>
            <a:ext cx="2857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Личная гигиена     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7200" y="5122800"/>
            <a:ext cx="82296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правила, выполнение которых поможет не болеть и укрепить своё здоровь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7" name="Picture 5" descr="4"/>
          <p:cNvPicPr/>
          <p:nvPr/>
        </p:nvPicPr>
        <p:blipFill>
          <a:blip r:embed="rId1"/>
          <a:stretch/>
        </p:blipFill>
        <p:spPr>
          <a:xfrm>
            <a:off x="285840" y="285840"/>
            <a:ext cx="518472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333399"/>
                </a:solidFill>
                <a:uFillTx/>
                <a:latin typeface="Tahoma"/>
              </a:rPr>
              <a:t>Правильное питание — основа здорового образа</a:t>
            </a:r>
            <a:r>
              <a:rPr b="0" i="1" lang="ru-RU" sz="4000" spc="-1" strike="noStrike" u="sng">
                <a:solidFill>
                  <a:srgbClr val="333399"/>
                </a:solidFill>
                <a:uFillTx/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Прямоугольник 1"/>
          <p:cNvSpPr/>
          <p:nvPr/>
        </p:nvSpPr>
        <p:spPr>
          <a:xfrm>
            <a:off x="4356000" y="2708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omic Sans MS"/>
              </a:rPr>
              <a:t>Правильное питание – это разнообразное питание. Для жизни человеку необходимы питательные вещества, которые находятся в разных продуктах пита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0" name="Picture 4" descr="40"/>
          <p:cNvPicPr/>
          <p:nvPr/>
        </p:nvPicPr>
        <p:blipFill>
          <a:blip r:embed="rId1"/>
          <a:stretch/>
        </p:blipFill>
        <p:spPr>
          <a:xfrm>
            <a:off x="468360" y="2492280"/>
            <a:ext cx="34560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3:39:17Z</dcterms:created>
  <dc:creator>R</dc:creator>
  <dc:description/>
  <dc:language>en-US</dc:language>
  <cp:lastModifiedBy>Золотой ключик</cp:lastModifiedBy>
  <dcterms:modified xsi:type="dcterms:W3CDTF">2023-11-10T13:13:39Z</dcterms:modified>
  <cp:revision>66</cp:revision>
  <dc:subject/>
  <dc:title>Слайд 1</dc:title>
</cp:coreProperties>
</file>