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7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1128-1782-40CA-AD8D-5DAA9BA0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5885-96ED-420B-A3B3-52DF270F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7686-A7A3-47CF-913D-9E5C150D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95F-5F01-41F5-BBD5-51192EA0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0D49-E8CE-49AC-9D70-7A167366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8F70-1430-422E-9B25-FEABB251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ABF4-407D-4DAD-A0E1-DB9CDA54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4CC0-D873-43AB-B59E-E50D5C08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FCDF-3BF9-4D30-8879-39DFC358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0AF7-CE0C-4BBD-A2C2-AB6A1E1E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CCFE-4B3D-428C-B815-4B096D58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343-9BE6-47B8-80BA-80992015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78B7-3007-43CA-8938-DA65CACA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2262-0430-411E-9D0A-FC765044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9B24-CA9E-4861-9A1E-4AFF83CF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B20B-B904-403E-B248-9761BDB1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4C60-1946-43A6-8C4A-FB5BF737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9CBBE-8EC8-4B85-9AD3-3FC8BE3B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99C56-BF7D-4313-B31E-8A3AC3B0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56320-8483-4DA3-839E-150F451D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D6DAC-1D4C-4F6F-B4F9-72F07A10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AD462-2C95-4289-9550-724FC22A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AA62-35B6-471E-9CB3-33692CA6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CDC65-6CE0-44CB-B92D-8FD620F2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18DFC-342C-4684-840E-6C64B8C0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4E694-6295-4F55-AB15-52B5B38E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81EBD-9B0D-47AF-B8B9-60913CF9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E156D-6EFF-4383-888A-CB891015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6F965-14E3-48DB-B017-0CD64D92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B6B78-0813-48DB-B48A-994A98E4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1E643-BED1-40CD-A586-3154D93B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F3D4A-88EC-4E30-B09D-797695A4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6282C-C918-4EB8-8EFC-67912C65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69B6-6D12-4089-8AF1-4910078D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BB83C-374F-4882-AF33-C3402E7F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E812F-730F-4415-A6CD-5F7DA0DE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9ADE5-F109-4849-A50D-1DD2E42B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E5BBA-286B-4F33-AB37-0B381347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E94DF-537A-411D-AC39-493458E3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3C2E4-AD05-4B6C-93D5-67030707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43226-D7E7-435A-A36E-10C6F50A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22EE4-7A26-4F6F-8A77-3DC1F159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6305A-CA21-43BD-988C-835A0B4A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C39B2-7AC5-42DE-A2D1-9467C5BD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40B-FF2C-44C8-B0B3-32A741E2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B6E76-9A54-48C7-9999-CBA0BC14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CB9D6-045D-49CA-B5EF-D1499389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C79A0-2A8F-4D11-823F-D248D226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B09DA-3D18-4751-82BA-24A3B174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A85D5-D7F7-4CCE-A440-8180A43A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0B0FE-B904-4BE7-AEB4-C042D128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E65E4-B04F-4BEF-AFD6-B9D5B8CD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4CE33-86A4-43CF-A584-3A4C6F7C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94D61-C307-4DEF-9199-66B4C92C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65D0F-13EC-4501-9B4F-13B28750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B6C9-2594-44BD-948E-E326B29D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32FCA-1438-4D8F-892B-B90277BC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3A50B-FF08-4823-9616-CC0B5CFA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D73FB-34E7-4093-AC12-FD2F42C3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77819-8634-4144-AD11-E534B8B3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143A6-15BC-43AF-BFB7-4AC54302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1EDCC-EF00-4384-A158-36B36E3B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F47B5-766D-4C29-A696-464644D7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7C433-9613-4043-B748-5158C8EF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8EA12-A5E3-4F41-B306-7DD086B0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6959F-E0A8-44A9-91F6-2FC651A0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3A3B-5CE7-4B13-8A94-473413DC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33B2B-C7A5-4B3F-8959-2254F8E3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2EF72-5706-442E-A6BD-090F3015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19D2A-9157-4AC6-B415-39243855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E1E2D-0971-43C7-846D-0EE42D94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06468-8549-4FED-970B-C40FC593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A5F37-C50A-4064-8ECB-1E57F589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D1341-7F1D-4932-8902-F93DE216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2C5D0-0311-4066-8FE6-E3A3C8B3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151DA-E533-4E45-86E8-24AFBA80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974B6-8BDC-4C00-89C4-A282F303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BF30-8522-4E12-A9F7-78193E09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62F2B-DD4C-4234-8792-58A7C30E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BAFCC-837A-4C32-A52B-A5A4D96F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C219D-E29E-4597-97EA-D64C0143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305F0-CA2F-4A3F-8227-7B803564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4AF56-158F-49EF-B521-0F3DD3DA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B40-84C0-48BB-BDB1-AE2B938F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95C7-F2C7-4F98-829D-5392337A6AA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98F3-7F71-40B1-BD83-067262EA8F0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3A6E-7C92-4460-B364-9ECE26A4740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901B-8896-41D0-A3A4-1C453938061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F257-30D0-46C8-B251-A1F1140838C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EF0E-5007-42FC-B80E-B56A2508508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D923-0492-4330-807C-B286427FD96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23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480" y="1071360"/>
            <a:ext cx="77151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400" spc="-1" strike="noStrike">
                <a:solidFill>
                  <a:srgbClr val="922223"/>
                </a:solidFill>
                <a:latin typeface="Times New Roman"/>
                <a:ea typeface="Times New Roman"/>
              </a:rPr>
              <a:t>Народный коми орнамент.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13920" y="4785840"/>
            <a:ext cx="792972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Автор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учитель начальных классов МБОУ «СОШ №1» г.Емвы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Ушакова Ирина Рызеевна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4592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спредели орнаменты по группам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TextBox 2"/>
          <p:cNvSpPr/>
          <p:nvPr/>
        </p:nvSpPr>
        <p:spPr>
          <a:xfrm>
            <a:off x="1285920" y="12859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3"/>
          <p:cNvSpPr/>
          <p:nvPr/>
        </p:nvSpPr>
        <p:spPr>
          <a:xfrm>
            <a:off x="4143240" y="128592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4"/>
          <p:cNvSpPr/>
          <p:nvPr/>
        </p:nvSpPr>
        <p:spPr>
          <a:xfrm>
            <a:off x="6357960" y="128592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143000" y="1928880"/>
            <a:ext cx="1079640" cy="12747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2357280" y="1928880"/>
            <a:ext cx="1000440" cy="12859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"/>
          <p:cNvPicPr/>
          <p:nvPr/>
        </p:nvPicPr>
        <p:blipFill>
          <a:blip r:embed="rId3"/>
          <a:stretch/>
        </p:blipFill>
        <p:spPr>
          <a:xfrm>
            <a:off x="3500280" y="192888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"/>
          <p:cNvPicPr/>
          <p:nvPr/>
        </p:nvPicPr>
        <p:blipFill>
          <a:blip r:embed="rId4"/>
          <a:srcRect l="-2935" t="0" r="0" b="0"/>
          <a:stretch/>
        </p:blipFill>
        <p:spPr>
          <a:xfrm>
            <a:off x="4714920" y="19288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"/>
          <p:cNvPicPr/>
          <p:nvPr/>
        </p:nvPicPr>
        <p:blipFill>
          <a:blip r:embed="rId5"/>
          <a:stretch/>
        </p:blipFill>
        <p:spPr>
          <a:xfrm>
            <a:off x="6143760" y="192888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"/>
          <p:cNvPicPr/>
          <p:nvPr/>
        </p:nvPicPr>
        <p:blipFill>
          <a:blip r:embed="rId6"/>
          <a:stretch/>
        </p:blipFill>
        <p:spPr>
          <a:xfrm>
            <a:off x="7500960" y="1928880"/>
            <a:ext cx="1000080" cy="12859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"/>
          <p:cNvPicPr/>
          <p:nvPr/>
        </p:nvPicPr>
        <p:blipFill>
          <a:blip r:embed="rId7"/>
          <a:stretch/>
        </p:blipFill>
        <p:spPr>
          <a:xfrm>
            <a:off x="1643040" y="3500280"/>
            <a:ext cx="1143000" cy="1500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"/>
          <p:cNvPicPr/>
          <p:nvPr/>
        </p:nvPicPr>
        <p:blipFill>
          <a:blip r:embed="rId8"/>
          <a:stretch/>
        </p:blipFill>
        <p:spPr>
          <a:xfrm>
            <a:off x="4929120" y="3500280"/>
            <a:ext cx="1071720" cy="15004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"/>
          <p:cNvPicPr/>
          <p:nvPr/>
        </p:nvPicPr>
        <p:blipFill>
          <a:blip r:embed="rId9"/>
          <a:stretch/>
        </p:blipFill>
        <p:spPr>
          <a:xfrm>
            <a:off x="3214800" y="3500280"/>
            <a:ext cx="1214280" cy="1500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1" descr=""/>
          <p:cNvPicPr/>
          <p:nvPr/>
        </p:nvPicPr>
        <p:blipFill>
          <a:blip r:embed="rId10"/>
          <a:stretch/>
        </p:blipFill>
        <p:spPr>
          <a:xfrm>
            <a:off x="6572160" y="3500280"/>
            <a:ext cx="114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4592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спредели орнаменты по группам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TextBox 2"/>
          <p:cNvSpPr/>
          <p:nvPr/>
        </p:nvSpPr>
        <p:spPr>
          <a:xfrm>
            <a:off x="1143000" y="128592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гуры лю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4000680" y="1285920"/>
            <a:ext cx="19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"/>
          <p:cNvSpPr/>
          <p:nvPr/>
        </p:nvSpPr>
        <p:spPr>
          <a:xfrm>
            <a:off x="6357960" y="128592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7786800" y="4000680"/>
            <a:ext cx="1079280" cy="12855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2"/>
          <a:stretch/>
        </p:blipFill>
        <p:spPr>
          <a:xfrm>
            <a:off x="5143680" y="1928880"/>
            <a:ext cx="1000080" cy="13572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3"/>
          <a:stretch/>
        </p:blipFill>
        <p:spPr>
          <a:xfrm>
            <a:off x="7786800" y="1928880"/>
            <a:ext cx="1000080" cy="13572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4"/>
          <a:srcRect l="-2924" t="0" r="0" b="0"/>
          <a:stretch/>
        </p:blipFill>
        <p:spPr>
          <a:xfrm>
            <a:off x="6500880" y="1928880"/>
            <a:ext cx="1000080" cy="1357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"/>
          <p:cNvPicPr/>
          <p:nvPr/>
        </p:nvPicPr>
        <p:blipFill>
          <a:blip r:embed="rId5"/>
          <a:stretch/>
        </p:blipFill>
        <p:spPr>
          <a:xfrm>
            <a:off x="5286240" y="3929040"/>
            <a:ext cx="1000440" cy="12859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"/>
          <p:cNvPicPr/>
          <p:nvPr/>
        </p:nvPicPr>
        <p:blipFill>
          <a:blip r:embed="rId6"/>
          <a:stretch/>
        </p:blipFill>
        <p:spPr>
          <a:xfrm>
            <a:off x="3929040" y="4000680"/>
            <a:ext cx="1000080" cy="12855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"/>
          <p:cNvPicPr/>
          <p:nvPr/>
        </p:nvPicPr>
        <p:blipFill>
          <a:blip r:embed="rId7"/>
          <a:stretch/>
        </p:blipFill>
        <p:spPr>
          <a:xfrm>
            <a:off x="3857760" y="1928880"/>
            <a:ext cx="1000080" cy="13572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"/>
          <p:cNvPicPr/>
          <p:nvPr/>
        </p:nvPicPr>
        <p:blipFill>
          <a:blip r:embed="rId8"/>
          <a:stretch/>
        </p:blipFill>
        <p:spPr>
          <a:xfrm>
            <a:off x="6643800" y="4000680"/>
            <a:ext cx="857160" cy="12855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"/>
          <p:cNvPicPr/>
          <p:nvPr/>
        </p:nvPicPr>
        <p:blipFill>
          <a:blip r:embed="rId9"/>
          <a:stretch/>
        </p:blipFill>
        <p:spPr>
          <a:xfrm>
            <a:off x="1857240" y="1928880"/>
            <a:ext cx="1000440" cy="1285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"/>
          <p:cNvPicPr/>
          <p:nvPr/>
        </p:nvPicPr>
        <p:blipFill>
          <a:blip r:embed="rId10"/>
          <a:stretch/>
        </p:blipFill>
        <p:spPr>
          <a:xfrm>
            <a:off x="1857240" y="4000680"/>
            <a:ext cx="1000440" cy="13572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15"/>
          <p:cNvSpPr/>
          <p:nvPr/>
        </p:nvSpPr>
        <p:spPr>
          <a:xfrm>
            <a:off x="1863000" y="328608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жч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6"/>
          <p:cNvSpPr/>
          <p:nvPr/>
        </p:nvSpPr>
        <p:spPr>
          <a:xfrm>
            <a:off x="1857240" y="542916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нщ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7"/>
          <p:cNvSpPr/>
          <p:nvPr/>
        </p:nvSpPr>
        <p:spPr>
          <a:xfrm>
            <a:off x="3636720" y="3286080"/>
            <a:ext cx="145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га молод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ле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8"/>
          <p:cNvSpPr/>
          <p:nvPr/>
        </p:nvSpPr>
        <p:spPr>
          <a:xfrm>
            <a:off x="6648840" y="542916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п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9"/>
          <p:cNvSpPr/>
          <p:nvPr/>
        </p:nvSpPr>
        <p:spPr>
          <a:xfrm>
            <a:off x="3711240" y="5429160"/>
            <a:ext cx="144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га взрос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ле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0"/>
          <p:cNvSpPr/>
          <p:nvPr/>
        </p:nvSpPr>
        <p:spPr>
          <a:xfrm>
            <a:off x="5146920" y="5429160"/>
            <a:ext cx="12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овьи р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1"/>
          <p:cNvSpPr/>
          <p:nvPr/>
        </p:nvSpPr>
        <p:spPr>
          <a:xfrm>
            <a:off x="5003280" y="3286080"/>
            <a:ext cx="12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раньи р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2"/>
          <p:cNvSpPr/>
          <p:nvPr/>
        </p:nvSpPr>
        <p:spPr>
          <a:xfrm>
            <a:off x="7655040" y="5429160"/>
            <a:ext cx="148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шейник оле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3"/>
          <p:cNvSpPr/>
          <p:nvPr/>
        </p:nvSpPr>
        <p:spPr>
          <a:xfrm>
            <a:off x="7551000" y="3286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шейник коро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4"/>
          <p:cNvSpPr/>
          <p:nvPr/>
        </p:nvSpPr>
        <p:spPr>
          <a:xfrm>
            <a:off x="6570720" y="328608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вез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Роспись рукавички элементами коми орнамента (работа учащихся)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4" name="Рисунок 2" descr="G:\Изображение.jpg"/>
          <p:cNvPicPr/>
          <p:nvPr/>
        </p:nvPicPr>
        <p:blipFill>
          <a:blip r:embed="rId1"/>
          <a:stretch/>
        </p:blipFill>
        <p:spPr>
          <a:xfrm>
            <a:off x="1714680" y="1714680"/>
            <a:ext cx="3071520" cy="235728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3" descr="G:\Изображение 001.jpg"/>
          <p:cNvPicPr/>
          <p:nvPr/>
        </p:nvPicPr>
        <p:blipFill>
          <a:blip r:embed="rId2"/>
          <a:stretch/>
        </p:blipFill>
        <p:spPr>
          <a:xfrm>
            <a:off x="4000680" y="4214880"/>
            <a:ext cx="2643120" cy="214308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4" descr="G:\Изображение 002.jpg"/>
          <p:cNvPicPr/>
          <p:nvPr/>
        </p:nvPicPr>
        <p:blipFill>
          <a:blip r:embed="rId3"/>
          <a:stretch/>
        </p:blipFill>
        <p:spPr>
          <a:xfrm>
            <a:off x="5572080" y="1714680"/>
            <a:ext cx="30718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56840" y="785880"/>
            <a:ext cx="749772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рибова Л.С. Декоративно-прикладное искусство народа коми.1980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сторико-культурный атлас Республики Коми. Москва. 1997.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3.Традиционная культура народа коми. Этнографические очерки Сыктывкар.1994.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4.Климова Г. Текстильный орнамент коми.</a:t>
            </a:r>
            <a:br>
              <a:rPr sz="22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ресурсы:</a:t>
            </a:r>
            <a:br>
              <a:rPr sz="2000"/>
            </a:br>
            <a:r>
              <a:rPr b="0" i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.mail.ru › Фото › НАЦИОНАЛЬНЫЕ КОСТЮМЫ 1/6 части 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85560" y="642600"/>
            <a:ext cx="7497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глубить представление учащихся о знаках-символах в народном коми орнаменте. </a:t>
            </a:r>
            <a:br>
              <a:rPr sz="2800"/>
            </a:br>
            <a:r>
              <a:rPr b="1" i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Развивающие задач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 Развивать навык составления узоров из различных элемент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 Способствовать развитию воображения.</a:t>
            </a:r>
            <a:br>
              <a:rPr sz="2800"/>
            </a:br>
            <a:r>
              <a:rPr b="1" i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Воспитательные задачи: </a:t>
            </a:r>
            <a:r>
              <a:rPr b="0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Воспитывать аккуратнос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Вызвать интерес к искусству коми народа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142800" y="142920"/>
            <a:ext cx="4357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намен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украшение изделия (вещи) различными геометрическими, растительными, животными элементами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2" name="centralImgId" descr="Фото Национальный костюм коми"/>
          <p:cNvPicPr/>
          <p:nvPr/>
        </p:nvPicPr>
        <p:blipFill>
          <a:blip r:embed="rId1"/>
          <a:srcRect l="11535" t="12482" r="21151" b="0"/>
          <a:stretch/>
        </p:blipFill>
        <p:spPr>
          <a:xfrm>
            <a:off x="1143000" y="142920"/>
            <a:ext cx="2214720" cy="478620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3" descr="D:\Мои документы\Дневник классного руководителя\Изображение.jpg"/>
          <p:cNvPicPr/>
          <p:nvPr/>
        </p:nvPicPr>
        <p:blipFill>
          <a:blip r:embed="rId2">
            <a:lum bright="-10000"/>
          </a:blip>
          <a:srcRect l="8657" t="10220" r="58472" b="64464"/>
          <a:stretch/>
        </p:blipFill>
        <p:spPr>
          <a:xfrm>
            <a:off x="7358040" y="2143080"/>
            <a:ext cx="1357200" cy="157176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4" descr="D:\Мои документы\Дневник классного руководителя\Копия Изображение.jpg"/>
          <p:cNvPicPr/>
          <p:nvPr/>
        </p:nvPicPr>
        <p:blipFill>
          <a:blip r:embed="rId3">
            <a:lum bright="-10000"/>
          </a:blip>
          <a:srcRect l="9462" t="40303" r="58794" b="31359"/>
          <a:stretch/>
        </p:blipFill>
        <p:spPr>
          <a:xfrm>
            <a:off x="7358040" y="285840"/>
            <a:ext cx="1357200" cy="157140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5" descr="D:\Мои документы\Дневник классного руководителя\Изображение 001.jpg"/>
          <p:cNvPicPr/>
          <p:nvPr/>
        </p:nvPicPr>
        <p:blipFill>
          <a:blip r:embed="rId4">
            <a:lum bright="-10000"/>
          </a:blip>
          <a:srcRect l="1448" t="45967" r="69384" b="5374"/>
          <a:stretch/>
        </p:blipFill>
        <p:spPr>
          <a:xfrm>
            <a:off x="3571920" y="4286160"/>
            <a:ext cx="1414440" cy="228600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6" descr="D:\Мои документы\Дневник классного руководителя\Изображение 001.jpg"/>
          <p:cNvPicPr/>
          <p:nvPr/>
        </p:nvPicPr>
        <p:blipFill>
          <a:blip r:embed="rId5">
            <a:lum bright="-10000"/>
          </a:blip>
          <a:srcRect l="37592" t="46969" r="35631" b="3689"/>
          <a:stretch/>
        </p:blipFill>
        <p:spPr>
          <a:xfrm>
            <a:off x="5429160" y="4286160"/>
            <a:ext cx="1440000" cy="228600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7" descr="D:\Мои документы\Дневник классного руководителя\Изображение 001.jpg"/>
          <p:cNvPicPr/>
          <p:nvPr/>
        </p:nvPicPr>
        <p:blipFill>
          <a:blip r:embed="rId6">
            <a:lum bright="-10000"/>
          </a:blip>
          <a:srcRect l="70828" t="47410" r="1742" b="3689"/>
          <a:stretch/>
        </p:blipFill>
        <p:spPr>
          <a:xfrm>
            <a:off x="7286760" y="4286160"/>
            <a:ext cx="1439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намент служил не только украшением, он выполнял и другие роли: предохранял от сглаза, выполнял магическое значение;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Рисунок 2" descr="G:\Изображение 003.jpg"/>
          <p:cNvPicPr/>
          <p:nvPr/>
        </p:nvPicPr>
        <p:blipFill>
          <a:blip r:embed="rId1"/>
          <a:srcRect l="10916" t="24611" r="13731" b="14818"/>
          <a:stretch/>
        </p:blipFill>
        <p:spPr>
          <a:xfrm>
            <a:off x="1643040" y="1857240"/>
            <a:ext cx="6715080" cy="328644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1000080" y="5208840"/>
            <a:ext cx="792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дельницы украшали орнаментом пояса. Пояс оберегал от нечистой силы, а охотнику помогал не заблудиться в лесу. Пояса были вязаные из шерсти, тканые из ниток, плетёные, кожаные; узкие и широ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3636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наментах встречаются простые геометрические элементы (мотивы): точки, квадраты, прямоугольники, ромбики, крестики, треугольники, диагональные линии. В более сложных узорах эти элементы комбинируются.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2" name="Рисунок 2" descr="G:\Изображение 004.jpg"/>
          <p:cNvPicPr/>
          <p:nvPr/>
        </p:nvPicPr>
        <p:blipFill>
          <a:blip r:embed="rId1"/>
          <a:srcRect l="12298" t="16152" r="24663" b="11652"/>
          <a:stretch/>
        </p:blipFill>
        <p:spPr>
          <a:xfrm>
            <a:off x="5643720" y="642960"/>
            <a:ext cx="27860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распространено было узорное вязание. Узор выглядит так, словно элементы орнамента разных цветов вкладываются один в другой. А для чего вывязывали узор? Вещь становилась теплее, и узор выполнял роль оберега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Рисунок 2" descr="G:\Изображение 005.jpg"/>
          <p:cNvPicPr/>
          <p:nvPr/>
        </p:nvPicPr>
        <p:blipFill>
          <a:blip r:embed="rId1"/>
          <a:stretch/>
        </p:blipFill>
        <p:spPr>
          <a:xfrm>
            <a:off x="1714680" y="2643120"/>
            <a:ext cx="1936440" cy="360036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" descr="G:\Изображение 007.jpg"/>
          <p:cNvPicPr/>
          <p:nvPr/>
        </p:nvPicPr>
        <p:blipFill>
          <a:blip r:embed="rId2"/>
          <a:stretch/>
        </p:blipFill>
        <p:spPr>
          <a:xfrm>
            <a:off x="4214880" y="2643120"/>
            <a:ext cx="1809720" cy="36003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4" descr="G:\Изображение 008.jpg"/>
          <p:cNvPicPr/>
          <p:nvPr/>
        </p:nvPicPr>
        <p:blipFill>
          <a:blip r:embed="rId3"/>
          <a:stretch/>
        </p:blipFill>
        <p:spPr>
          <a:xfrm>
            <a:off x="6643800" y="2643120"/>
            <a:ext cx="185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рнаменты можно разделить на несколько основных групп: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одни связаны с орудиями труда и другими предметами(зубья, пилы, крест,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мпас…)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428840" y="3429000"/>
            <a:ext cx="7286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ругие относятся к представителям животного мира (рог, насекомые,…)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643040" y="1357200"/>
            <a:ext cx="6715080" cy="249732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3"/>
          <p:cNvSpPr/>
          <p:nvPr/>
        </p:nvSpPr>
        <p:spPr>
          <a:xfrm>
            <a:off x="1143000" y="3929040"/>
            <a:ext cx="757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етьи являются изображением растений (ёлочный узор, цветок, зерно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1428840" y="5072040"/>
            <a:ext cx="70722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четвёртые являлись изображением фигур людей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3071880" y="2357280"/>
            <a:ext cx="2714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8:30:11Z</dcterms:created>
  <dc:creator>Admin</dc:creator>
  <dc:description/>
  <dc:language>en-US</dc:language>
  <cp:lastModifiedBy>Учитель</cp:lastModifiedBy>
  <dcterms:modified xsi:type="dcterms:W3CDTF">2012-02-08T06:59:02Z</dcterms:modified>
  <cp:revision>19</cp:revision>
  <dc:subject/>
  <dc:title>Народный коми орнамент.</dc:title>
</cp:coreProperties>
</file>