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43A-7E0D-4EAA-91A1-7DA22F13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5AC-FB91-4CA2-9D62-5BA9F73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ADE-2559-449E-ADD2-E93C690A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98A-CD3C-4183-96FF-07EB8111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CB8D-94EF-4EA3-BA9D-4C75E3D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A09-BEBC-46EE-9CE0-85FF2987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54E-1857-40B8-BCC5-4892658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11F-656F-48F8-84AA-9F9F14DF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F03-8703-4AC9-9B65-178885D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4155-32A5-49FB-B961-D0F1B371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68E-3F3A-4DDF-882C-91A0469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48D-B637-4CD9-B84F-ECB1BBA5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48BC-147C-44BB-B4D6-6233321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700-D8A1-41E6-8238-0784A64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F514-B848-4A25-82BF-F0418E8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FBA-1DCA-402C-A8D6-422A1191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DF72-A72C-443B-B6DB-DA1CF9D8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943-BE93-4101-8055-35ADC3A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7E1-6429-48AD-B2F4-CD244E9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965-C0F2-4C17-B987-1F9A83E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F0A-CC9F-42AE-948D-D5E1CA0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53B-52F1-42DE-B251-5AAD078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EC7-0CAC-4EDE-A4BB-D965DE5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4CC-8E30-4FA2-916F-4EAD2BA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1B1E-365B-4D12-998D-150ADB5C2A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A245-B6AB-46F5-BC85-CEEBC5A0A5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ДИМСЯ ЗА УРО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77560" y="2104920"/>
            <a:ext cx="854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ими люди станов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от упраж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т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чните с предмета, который легче даётся ребёнку, и не отвечайте ни на один вопрос, обращённый к вам, пока задание н6е будет доделано до конца; посмотрите, есть ли оплошности, предложите поискать их самому. Старайтесь избегать слово «ошибка». Не высмеивайте ошибки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4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аблицу умножения повесьте над кроватью и учите по ней умножать и делить сразу. Радуйтесь вместе тому, что получается. Опережайте школу: выучите умножение на «два», потом на «четыре», на «восемь». Дойдут в школе до трёх, учите на «шесть» и на «дев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ение на «пять» учите по часам, по движениям стрелки, - и время научите узнавать, и таблицу усво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матривайтесь в каждый столбец. Учите ребёнка находить особенности и законо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 чтении. Обязательно читайте на ночь с ребёнком книжки вслух по очереди. Рассматривайте иллюстрации. Замечайте точность или невнимательность художника, возвращайтесь по ходу к тексту. Если есть отрывки, которые можно читать по ролям, используйте эту возмо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русскому языку обращайте внимание на выполнение упражнения полностью (ведь заданий может быть несколько). При трудностях выполните вслух все упражнения, но не пишите в учебнике ни букв, ни слов. При его письменном выполнении ребёнок ещё раз всё вспоминает. Уйдите из комнаты, пока он выполняет задание, не стойте за спиной. Не сердитесь на своего ребёнка и не зл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добрый пример лучше ста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му надо учиться три года, а дурному – одного часа достато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уканье – не воспита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й лаской, а не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6:19:16Z</dcterms:created>
  <dc:creator>Home</dc:creator>
  <dc:description/>
  <dc:language>en-US</dc:language>
  <cp:lastModifiedBy>ASUS VivoBook</cp:lastModifiedBy>
  <dcterms:modified xsi:type="dcterms:W3CDTF">2023-11-28T14:34:20Z</dcterms:modified>
  <cp:revision>3</cp:revision>
  <dc:subject/>
  <dc:title>САДИМСЯ ЗА УРОКИ</dc:title>
</cp:coreProperties>
</file>