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D878-014C-4BE8-8E7E-B67E82F3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A89-986D-4106-8F36-6044E359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3B2-5017-4AB4-87AA-3C00A07D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B24-7B4E-4B61-87E0-D240F289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7A25-8FC5-4A14-8033-BEABABB4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5D61-7268-488D-AAA4-80584707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6F3A-C396-4CDE-AFC7-EC075CAF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CE05-706B-4FC3-8D08-6FE320B7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39A1-21E9-48A3-8124-6C2FBB33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2090-27C5-4929-B207-8D99B03E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C58A-D259-49F1-AC8F-5F465D99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C27-C2C9-4B4D-99BC-FD14868B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2D93-66BF-4FA4-A706-0CCB3A8C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A6C4-6F46-4690-85F3-4B58CE5F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BB67-DF4E-495F-8F5E-6E9FCDEF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48FD-A2DE-4D4E-A993-333E6BEA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51D7-C482-4AF9-8FC2-86B3183C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158-0FB5-4F63-A8A9-8ADA4613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D15-4CFB-4475-94C3-92CDC3B3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46C-4AF4-4ADF-BAE2-23D3CD8F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500-C310-4430-ADD5-901B1218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754-59D2-4A90-BC5F-4AF9CC32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012-0AF8-46FB-9055-0D38E67E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735-71F6-452E-A803-6EC59504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234A-766D-4038-AE7F-514EB33C776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BB9C-E0F4-4AB3-B0D4-BC5CB49525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АДИМСЯ ЗА УРОКИ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77560" y="2104920"/>
            <a:ext cx="8544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рошими люди становя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е от упражн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от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це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АК ПРИУЧИТЬ РЕБЁНКА К САМОСТОЯТЕЛЬНОСТИ В ПРИГОТОВЛЕНИИ УРОКОВ»</a:t>
            </a:r>
            <a:br>
              <a:rPr sz="1600"/>
            </a:b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ачните с предмета, который легче даётся ребёнку, и не отвечайте ни на один вопрос, обращённый к вам, пока задание н6е будет доделано до конца; посмотрите, есть ли оплошности, предложите поискать их самому. Старайтесь избегать слово «ошибка». Не высмеивайте ошибки свои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8436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АК ПРИУЧИТЬ РЕБЁНКА К САМОСТОЯТЕЛЬНОСТИ В ПРИГОТОВЛЕНИИ УРОКОВ»</a:t>
            </a:r>
            <a:br>
              <a:rPr sz="1600"/>
            </a:b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аблицу умножения повесьте над кроватью и учите по ней умножать и делить сразу. Радуйтесь вместе тому, что получается. Опережайте школу: выучите умножение на «два», потом на «четыре», на «восемь». Дойдут в школе до трёх, учите на «шесть» и на «девя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ножение на «пять» учите по часам, по движениям стрелки, - и время научите узнавать, и таблицу усво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матривайтесь в каждый столбец. Учите ребёнка находить особенности и закономер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АК ПРИУЧИТЬ РЕБЁНКА К САМОСТОЯТЕЛЬНОСТИ В ПРИГОТОВЛЕНИИ УРОКОВ»</a:t>
            </a:r>
            <a:br>
              <a:rPr sz="1600"/>
            </a:b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 чтении. Обязательно читайте на ночь с ребёнком книжки вслух по очереди. Рассматривайте иллюстрации. Замечайте точность или невнимательность художника, возвращайтесь по ходу к тексту. Если есть отрывки, которые можно читать по ролям, используйте эту возмож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КАК ПРИУЧИТЬ РЕБЁНКА К САМОСТОЯТЕЛЬНОСТИ В ПРИГОТОВЛЕНИИ УРОКОВ»</a:t>
            </a:r>
            <a:br>
              <a:rPr sz="1600"/>
            </a:br>
            <a:endParaRPr b="0" lang="en-US" sz="1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 русскому языку обращайте внимание на выполнение упражнения полностью (ведь заданий может быть несколько). При трудностях выполните вслух все упражнения, но не пишите в учебнике ни букв, ни слов. При его письменном выполнении ребёнок ещё раз всё вспоминает. Уйдите из комнаты, пока он выполняет задание, не стойте за спиной. Не сердитесь на своего ребёнка и не зли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добрый пример лучше ста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ему надо учиться три года, а дурному – одного часа достаточ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уканье – не воспита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ывай лаской, а не то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6:19:16Z</dcterms:created>
  <dc:creator>Home</dc:creator>
  <dc:description/>
  <dc:language>en-US</dc:language>
  <cp:lastModifiedBy>ASUS VivoBook</cp:lastModifiedBy>
  <dcterms:modified xsi:type="dcterms:W3CDTF">2023-11-28T14:34:20Z</dcterms:modified>
  <cp:revision>3</cp:revision>
  <dc:subject/>
  <dc:title>САДИМСЯ ЗА УРОКИ</dc:title>
</cp:coreProperties>
</file>