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832A-7389-470A-B214-D80B26E7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A0A4-C1BF-4C96-B69A-58477757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15A8-5A35-4C44-B46E-05C5EA37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996E-B61B-46D9-9764-258D9D9B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11BD-F225-4FCC-A336-95CE7528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3C10-4D92-4B13-8E15-CDB46032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02CB-9C0A-4829-AF3F-5BA4140D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036A-8873-4297-825B-91AF063B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6146-1C37-4660-9D47-A6956A31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B5E6-52CC-4AF3-86A5-A5A69F7A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A4EC-55B3-40F4-90A3-EB2A589D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6E2D-B4F1-4673-B432-07F58265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1116-1125-451C-9106-7D19CC21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3443-77E4-4B4F-9CBD-A58FDF22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D27F-F5CC-4408-B9C5-5560D09C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31A4-A527-4008-92A8-DF96B03A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A974-E402-4D45-A5DB-357F9C1B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189C-5A16-44D1-922A-B312690E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5C0F-B38C-405A-8B7B-341B5337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942F-16C2-467E-BC7A-B21894E5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B4E5-A4DF-48CD-9023-D5E4952A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364D-A485-4A73-840A-2BB6D3C5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4B2D-0470-42ED-8AF3-64983EE4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6B1F-D285-494F-85CC-FF2EAD13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3152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694F-21A0-4D27-B461-1F0E253038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3152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9B43-77AE-4EC7-97AB-1149CBC9AE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785960" y="1646280"/>
            <a:ext cx="5857920" cy="2004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714680" y="5072040"/>
            <a:ext cx="68896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3152"/>
                </a:solidFill>
                <a:latin typeface="Calibri"/>
              </a:rPr>
              <a:t>Учитель начальных классов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3152"/>
                </a:solidFill>
                <a:latin typeface="Calibri"/>
              </a:rPr>
              <a:t>МБОУ «СОШ №1» г.Емв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3152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403152"/>
                </a:solidFill>
                <a:latin typeface="Calibri"/>
              </a:rPr>
              <a:t>Ушакова И.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1000080" y="657000"/>
            <a:ext cx="7143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Его проглатывают, упорно не желая о чём-нибудь говорить; он хорошо подвешен у человека, который говорит бойко, легко; за него тянут, им дёргают, настойчиво заставляя высказаться; его держат за зубами, когда не хотят говорить лишнего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http://www.startsmile.ru/upload/iblock/cef/shutterstock_25156042_1300.jpg"/>
          <p:cNvPicPr/>
          <p:nvPr/>
        </p:nvPicPr>
        <p:blipFill>
          <a:blip r:embed="rId1"/>
          <a:srcRect l="41290" t="0" r="0" b="0"/>
          <a:stretch/>
        </p:blipFill>
        <p:spPr>
          <a:xfrm>
            <a:off x="4429080" y="3714840"/>
            <a:ext cx="26002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5"/>
          <p:cNvSpPr/>
          <p:nvPr/>
        </p:nvSpPr>
        <p:spPr>
          <a:xfrm>
            <a:off x="571680" y="1714680"/>
            <a:ext cx="79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овите учебник, по которому мы продолжим обучение после Азб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http://static1.read.ru/images/booksillustrations/27668.jpg"/>
          <p:cNvPicPr/>
          <p:nvPr/>
        </p:nvPicPr>
        <p:blipFill>
          <a:blip r:embed="rId2"/>
          <a:stretch/>
        </p:blipFill>
        <p:spPr>
          <a:xfrm>
            <a:off x="2286000" y="571680"/>
            <a:ext cx="4357800" cy="59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1"/>
          <a:stretch/>
        </p:blipFill>
        <p:spPr>
          <a:xfrm>
            <a:off x="573120" y="573120"/>
            <a:ext cx="8229600" cy="2425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http://cs303311.vk.me/u124991348/153874223/x_55e7c971.jpg"/>
          <p:cNvPicPr/>
          <p:nvPr/>
        </p:nvPicPr>
        <p:blipFill>
          <a:blip r:embed="rId2"/>
          <a:stretch/>
        </p:blipFill>
        <p:spPr>
          <a:xfrm>
            <a:off x="1714680" y="2643120"/>
            <a:ext cx="57528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642960" y="1869480"/>
            <a:ext cx="5214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огим долго неизвестный, стал он каждому дружко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ем по сказке интересной мальчик – луковка знако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чень просто и недлинно он зовёт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http://www.webmechta.com/f/poznay-mir/chipollino.jpg"/>
          <p:cNvPicPr/>
          <p:nvPr/>
        </p:nvPicPr>
        <p:blipFill>
          <a:blip r:embed="rId2"/>
          <a:stretch/>
        </p:blipFill>
        <p:spPr>
          <a:xfrm>
            <a:off x="5500800" y="1357200"/>
            <a:ext cx="29829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3214800" y="129816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ботать умела красиво и ловко, в деле любом проявляя сноровк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Хлебы пекла и скатерть ткала, шила рубашку, узор вышивала,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бедью белой в танце плыл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то мастерица эта была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http://www.nachalka.com/sites/default/userpic/000000/karusel/5.png"/>
          <p:cNvPicPr/>
          <p:nvPr/>
        </p:nvPicPr>
        <p:blipFill>
          <a:blip r:embed="rId1"/>
          <a:stretch/>
        </p:blipFill>
        <p:spPr>
          <a:xfrm>
            <a:off x="500040" y="1285920"/>
            <a:ext cx="284004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4714920" y="942840"/>
            <a:ext cx="3786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ех на свете он добрей, лечит он больных звере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однажды бегемота вытащил он из болот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н известен, знаменит, это доктор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https://encrypted-tbn3.gstatic.com/images?q=tbn:ANd9GcRZH6inUK-neIAHMnEBgYa8eJLgzh_8ZHswE5fYBGhhq5Mr_u7VCA"/>
          <p:cNvPicPr/>
          <p:nvPr/>
        </p:nvPicPr>
        <p:blipFill>
          <a:blip r:embed="rId1"/>
          <a:stretch/>
        </p:blipFill>
        <p:spPr>
          <a:xfrm>
            <a:off x="1071720" y="1000080"/>
            <a:ext cx="30002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285840" y="1016640"/>
            <a:ext cx="5715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н весел и незлобен, этот милый чудачо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ним хозяин мальчик Робин и приятель Пятачо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него прогулка – праздник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на мёд особый нюх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Этот плюшевый проказник, медвежоно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http://www.vectory.ru/products_pictures/sklfsvwerji00021.gif"/>
          <p:cNvPicPr/>
          <p:nvPr/>
        </p:nvPicPr>
        <p:blipFill>
          <a:blip r:embed="rId1"/>
          <a:srcRect l="16561" t="0" r="15582" b="0"/>
          <a:stretch/>
        </p:blipFill>
        <p:spPr>
          <a:xfrm>
            <a:off x="5286240" y="1857240"/>
            <a:ext cx="33451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5236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3"/>
          <p:cNvSpPr/>
          <p:nvPr/>
        </p:nvSpPr>
        <p:spPr>
          <a:xfrm>
            <a:off x="428760" y="150012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лоден ка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http://rybkovskaya.ru/wp-content/uploads/2012/02/volk.jpg"/>
          <p:cNvPicPr/>
          <p:nvPr/>
        </p:nvPicPr>
        <p:blipFill>
          <a:blip r:embed="rId2"/>
          <a:stretch/>
        </p:blipFill>
        <p:spPr>
          <a:xfrm>
            <a:off x="3571920" y="1928880"/>
            <a:ext cx="3637080" cy="292896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7"/>
          <p:cNvSpPr/>
          <p:nvPr/>
        </p:nvSpPr>
        <p:spPr>
          <a:xfrm>
            <a:off x="444960" y="2143080"/>
            <a:ext cx="24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тра ка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https://encrypted-tbn3.gstatic.com/images?q=tbn:ANd9GcQCSR0GOuqImTd6f_xmmEz4HhCLWqIurlp5MkvAiWIg5MkzTBQTkA"/>
          <p:cNvPicPr/>
          <p:nvPr/>
        </p:nvPicPr>
        <p:blipFill>
          <a:blip r:embed="rId3"/>
          <a:srcRect l="17084" t="5046" r="12876" b="0"/>
          <a:stretch/>
        </p:blipFill>
        <p:spPr>
          <a:xfrm>
            <a:off x="3571920" y="1928880"/>
            <a:ext cx="3571920" cy="32814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9"/>
          <p:cNvSpPr/>
          <p:nvPr/>
        </p:nvSpPr>
        <p:spPr>
          <a:xfrm>
            <a:off x="357840" y="271476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слив ка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http://www.e-reading.link/illustrations/1026/1026847-Autogen_eBook_id1"/>
          <p:cNvPicPr/>
          <p:nvPr/>
        </p:nvPicPr>
        <p:blipFill>
          <a:blip r:embed="rId4"/>
          <a:srcRect l="29635" t="0" r="10583" b="0"/>
          <a:stretch/>
        </p:blipFill>
        <p:spPr>
          <a:xfrm>
            <a:off x="3643200" y="1928880"/>
            <a:ext cx="3000600" cy="32414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3"/>
          <p:cNvSpPr/>
          <p:nvPr/>
        </p:nvSpPr>
        <p:spPr>
          <a:xfrm>
            <a:off x="500040" y="3286080"/>
            <a:ext cx="22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м ка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2" descr="http://skazka-uyt.ru/images/okun.jpg"/>
          <p:cNvPicPr/>
          <p:nvPr/>
        </p:nvPicPr>
        <p:blipFill>
          <a:blip r:embed="rId5"/>
          <a:stretch/>
        </p:blipFill>
        <p:spPr>
          <a:xfrm>
            <a:off x="2786040" y="2214720"/>
            <a:ext cx="5270400" cy="286200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6"/>
          <p:cNvSpPr/>
          <p:nvPr/>
        </p:nvSpPr>
        <p:spPr>
          <a:xfrm>
            <a:off x="516960" y="3857760"/>
            <a:ext cx="26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 ка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8" descr="http://fotodes.ru/upload/img1346175657.jpg"/>
          <p:cNvPicPr/>
          <p:nvPr/>
        </p:nvPicPr>
        <p:blipFill>
          <a:blip r:embed="rId6"/>
          <a:stretch/>
        </p:blipFill>
        <p:spPr>
          <a:xfrm>
            <a:off x="3000240" y="2000160"/>
            <a:ext cx="5078520" cy="31496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30"/>
          <p:cNvSpPr/>
          <p:nvPr/>
        </p:nvSpPr>
        <p:spPr>
          <a:xfrm>
            <a:off x="508680" y="4429080"/>
            <a:ext cx="29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ючий ка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2" descr="http://byaki.net/uploads/posts/2010-09/1283435906_2.jpg"/>
          <p:cNvPicPr/>
          <p:nvPr/>
        </p:nvPicPr>
        <p:blipFill>
          <a:blip r:embed="rId7"/>
          <a:stretch/>
        </p:blipFill>
        <p:spPr>
          <a:xfrm>
            <a:off x="3143160" y="2071800"/>
            <a:ext cx="42354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10"/>
          <p:cNvSpPr/>
          <p:nvPr/>
        </p:nvSpPr>
        <p:spPr>
          <a:xfrm>
            <a:off x="984960" y="150012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дружбой дорожа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1"/>
          <p:cNvSpPr/>
          <p:nvPr/>
        </p:nvSpPr>
        <p:spPr>
          <a:xfrm>
            <a:off x="1001160" y="2143080"/>
            <a:ext cx="25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друга – ищ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2"/>
          <p:cNvSpPr/>
          <p:nvPr/>
        </p:nvSpPr>
        <p:spPr>
          <a:xfrm>
            <a:off x="1001160" y="2714760"/>
            <a:ext cx="213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за все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3"/>
          <p:cNvSpPr/>
          <p:nvPr/>
        </p:nvSpPr>
        <p:spPr>
          <a:xfrm>
            <a:off x="1006920" y="328608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кий челов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4"/>
          <p:cNvSpPr/>
          <p:nvPr/>
        </p:nvSpPr>
        <p:spPr>
          <a:xfrm>
            <a:off x="1020600" y="392904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жба крепка не лесть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5"/>
          <p:cNvSpPr/>
          <p:nvPr/>
        </p:nvSpPr>
        <p:spPr>
          <a:xfrm>
            <a:off x="1078560" y="4572000"/>
            <a:ext cx="19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ый д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572080" y="1714680"/>
          <a:ext cx="3286080" cy="215640"/>
        </p:xfrm>
        <a:graphic>
          <a:graphicData uri="http://schemas.openxmlformats.org/drawingml/2006/table">
            <a:tbl>
              <a:tblPr/>
              <a:tblGrid>
                <a:gridCol w="3286080"/>
              </a:tblGrid>
              <a:tr h="2156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а нашёл – берег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572080" y="2286000"/>
          <a:ext cx="3119400" cy="216000"/>
        </p:xfrm>
        <a:graphic>
          <a:graphicData uri="http://schemas.openxmlformats.org/drawingml/2006/table">
            <a:tbl>
              <a:tblPr/>
              <a:tblGrid>
                <a:gridCol w="3119400"/>
              </a:tblGrid>
              <a:tr h="2160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деле познаётс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5572080" y="2928960"/>
          <a:ext cx="3191040" cy="216000"/>
        </p:xfrm>
        <a:graphic>
          <a:graphicData uri="http://schemas.openxmlformats.org/drawingml/2006/table">
            <a:tbl>
              <a:tblPr/>
              <a:tblGrid>
                <a:gridCol w="3191040"/>
              </a:tblGrid>
              <a:tr h="2160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учше новых дву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Прямоугольник 20"/>
          <p:cNvSpPr/>
          <p:nvPr/>
        </p:nvSpPr>
        <p:spPr>
          <a:xfrm>
            <a:off x="5575320" y="3286080"/>
            <a:ext cx="21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за од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572080" y="4071960"/>
          <a:ext cx="2976480" cy="216000"/>
        </p:xfrm>
        <a:graphic>
          <a:graphicData uri="http://schemas.openxmlformats.org/drawingml/2006/table">
            <a:tbl>
              <a:tblPr/>
              <a:tblGrid>
                <a:gridCol w="2976480"/>
              </a:tblGrid>
              <a:tr h="2160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ам враги дрожа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5643720" y="4714920"/>
          <a:ext cx="3047760" cy="21600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2160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правдой и честь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36" name="Прямая со стрелкой 24"/>
          <p:cNvCxnSpPr/>
          <p:nvPr/>
        </p:nvCxnSpPr>
        <p:spPr>
          <a:xfrm>
            <a:off x="4214880" y="1785960"/>
            <a:ext cx="1286640" cy="23580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37" name="Прямая со стрелкой 26"/>
          <p:cNvCxnSpPr/>
          <p:nvPr/>
        </p:nvCxnSpPr>
        <p:spPr>
          <a:xfrm flipV="1">
            <a:off x="3642840" y="1785960"/>
            <a:ext cx="1786680" cy="6433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38" name="Прямая со стрелкой 30"/>
          <p:cNvCxnSpPr>
            <a:endCxn id="133" idx="1"/>
          </p:cNvCxnSpPr>
          <p:nvPr/>
        </p:nvCxnSpPr>
        <p:spPr>
          <a:xfrm>
            <a:off x="3142800" y="3000240"/>
            <a:ext cx="2429640" cy="5169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39" name="Прямая со стрелкой 33"/>
          <p:cNvCxnSpPr/>
          <p:nvPr/>
        </p:nvCxnSpPr>
        <p:spPr>
          <a:xfrm flipV="1">
            <a:off x="3357360" y="2356920"/>
            <a:ext cx="2143800" cy="12153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40" name="Прямая со стрелкой 40"/>
          <p:cNvCxnSpPr/>
          <p:nvPr/>
        </p:nvCxnSpPr>
        <p:spPr>
          <a:xfrm>
            <a:off x="4785840" y="4214520"/>
            <a:ext cx="786600" cy="5720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41" name="Прямая со стрелкой 44"/>
          <p:cNvCxnSpPr>
            <a:stCxn id="129" idx="3"/>
          </p:cNvCxnSpPr>
          <p:nvPr/>
        </p:nvCxnSpPr>
        <p:spPr>
          <a:xfrm flipV="1">
            <a:off x="3050640" y="2999520"/>
            <a:ext cx="2450520" cy="18025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3"/>
          <p:cNvSpPr/>
          <p:nvPr/>
        </p:nvSpPr>
        <p:spPr>
          <a:xfrm>
            <a:off x="714240" y="135720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о вешают, когда приходят в уныни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о задирают, зазнаваяс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о всюду суют, вмешиваясь не в своё дело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http://ladym.ru/foto/8/k_chemu_cheshetsja_nos.jpg"/>
          <p:cNvPicPr/>
          <p:nvPr/>
        </p:nvPicPr>
        <p:blipFill>
          <a:blip r:embed="rId2"/>
          <a:stretch/>
        </p:blipFill>
        <p:spPr>
          <a:xfrm>
            <a:off x="2357280" y="2868480"/>
            <a:ext cx="4214880" cy="33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714240" y="93636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цветы, а вянут; не ладоши, а ими хлопают, если чего-то не понимают; не бельё, а их развешивают чрезмерно доверчивые и любопытные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http://naymov.ru/images/foto/8h_10.jpg"/>
          <p:cNvPicPr/>
          <p:nvPr/>
        </p:nvPicPr>
        <p:blipFill>
          <a:blip r:embed="rId1"/>
          <a:stretch/>
        </p:blipFill>
        <p:spPr>
          <a:xfrm>
            <a:off x="3214800" y="2857680"/>
            <a:ext cx="2643120" cy="35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03:04:20Z</dcterms:created>
  <dc:creator>Comp</dc:creator>
  <dc:description/>
  <dc:language>en-US</dc:language>
  <cp:lastModifiedBy>User</cp:lastModifiedBy>
  <dcterms:modified xsi:type="dcterms:W3CDTF">2023-11-27T18:22:18Z</dcterms:modified>
  <cp:revision>18</cp:revision>
  <dc:subject/>
  <dc:title>Слайд 1</dc:title>
</cp:coreProperties>
</file>