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26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4475-83A7-44E9-978E-6CECC9793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1AB1-C320-496E-83BB-0FF1B5D5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F2B8-CA0A-4525-A8CE-2540FCA6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C9C9-A9B4-41D6-B8E2-A6049DF3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22F2-3E05-4545-9189-3380DE112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8187-D623-4A18-B355-294F05EB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CAC2-5B4E-46E6-8147-B7227CA1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DCA2-1802-4D1B-8FE3-8EF775B6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139A-79BF-47BD-838D-2F2A2EF1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5A54-9BE6-4D4D-BE4B-31D825F1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AF50-E2D7-441A-BB47-32962412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FDB4-D0D5-44F1-A091-8662B0FC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4639-02D1-42A6-9E66-B265BA19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AEB7-99C3-41DC-BB0A-330DCE11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9DCB-2739-4C13-9359-482D733F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A486-EF01-4119-8BFB-73A63C026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3A3F-D14B-4DAF-AD26-6892BBDF4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2CCC-8122-4248-B250-55B3AB51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FDDB-5532-4E32-A510-78A7AEA4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FC4B-B9B7-42DF-8244-5A583BE8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262F-889B-4705-8EED-FF4D9FF5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E903-A77F-474C-92FA-772BC34B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3657-0869-4369-BD17-3552AFDD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C36A-1963-4677-8C57-2C66ECB1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3152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AF96-6199-4FAE-BC87-A3CE3C6AA4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3152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40315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D4D6-2399-4E26-8C2B-DE357A70F8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1785960" y="1646280"/>
            <a:ext cx="5857920" cy="20048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714680" y="5072040"/>
            <a:ext cx="68896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03152"/>
                </a:solidFill>
                <a:latin typeface="Calibri"/>
              </a:rPr>
              <a:t>Учитель начальных классов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03152"/>
                </a:solidFill>
                <a:latin typeface="Calibri"/>
              </a:rPr>
              <a:t>МБОУ «СОШ №1» г.Емв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03152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403152"/>
                </a:solidFill>
                <a:latin typeface="Calibri"/>
              </a:rPr>
              <a:t>Ушакова И.Р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1000080" y="657000"/>
            <a:ext cx="7143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Его проглатывают, упорно не желая о чём-нибудь говорить; он хорошо подвешен у человека, который говорит бойко, легко; за него тянут, им дёргают, настойчиво заставляя высказаться; его держат за зубами, когда не хотят говорить лишнего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http://www.startsmile.ru/upload/iblock/cef/shutterstock_25156042_1300.jpg"/>
          <p:cNvPicPr/>
          <p:nvPr/>
        </p:nvPicPr>
        <p:blipFill>
          <a:blip r:embed="rId1"/>
          <a:srcRect l="41290" t="0" r="0" b="0"/>
          <a:stretch/>
        </p:blipFill>
        <p:spPr>
          <a:xfrm>
            <a:off x="4429080" y="3714840"/>
            <a:ext cx="26002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51" name="TextBox 5"/>
          <p:cNvSpPr/>
          <p:nvPr/>
        </p:nvSpPr>
        <p:spPr>
          <a:xfrm>
            <a:off x="571680" y="1714680"/>
            <a:ext cx="79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овите учебник, по которому мы продолжим обучение после Азб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http://static1.read.ru/images/booksillustrations/27668.jpg"/>
          <p:cNvPicPr/>
          <p:nvPr/>
        </p:nvPicPr>
        <p:blipFill>
          <a:blip r:embed="rId2"/>
          <a:stretch/>
        </p:blipFill>
        <p:spPr>
          <a:xfrm>
            <a:off x="2286000" y="571680"/>
            <a:ext cx="4357800" cy="59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Заголовок 1" descr=""/>
          <p:cNvPicPr/>
          <p:nvPr/>
        </p:nvPicPr>
        <p:blipFill>
          <a:blip r:embed="rId1"/>
          <a:stretch/>
        </p:blipFill>
        <p:spPr>
          <a:xfrm>
            <a:off x="573120" y="573120"/>
            <a:ext cx="8229600" cy="2425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http://cs303311.vk.me/u124991348/153874223/x_55e7c971.jpg"/>
          <p:cNvPicPr/>
          <p:nvPr/>
        </p:nvPicPr>
        <p:blipFill>
          <a:blip r:embed="rId2"/>
          <a:stretch/>
        </p:blipFill>
        <p:spPr>
          <a:xfrm>
            <a:off x="1714680" y="2643120"/>
            <a:ext cx="57528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642960" y="1869480"/>
            <a:ext cx="5214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огим долго неизвестный, стал он каждому дружком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сем по сказке интересной мальчик – луковка знаком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чень просто и недлинно он зовёт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http://www.webmechta.com/f/poznay-mir/chipollino.jpg"/>
          <p:cNvPicPr/>
          <p:nvPr/>
        </p:nvPicPr>
        <p:blipFill>
          <a:blip r:embed="rId2"/>
          <a:stretch/>
        </p:blipFill>
        <p:spPr>
          <a:xfrm>
            <a:off x="5500800" y="1357200"/>
            <a:ext cx="29829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3214800" y="1298160"/>
            <a:ext cx="5715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ботать умела красиво и ловко, в деле любом проявляя сноровку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Хлебы пекла и скатерть ткала, шила рубашку, узор вышивала,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Лебедью белой в танце плыл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то мастерица эта была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http://www.nachalka.com/sites/default/userpic/000000/karusel/5.png"/>
          <p:cNvPicPr/>
          <p:nvPr/>
        </p:nvPicPr>
        <p:blipFill>
          <a:blip r:embed="rId1"/>
          <a:stretch/>
        </p:blipFill>
        <p:spPr>
          <a:xfrm>
            <a:off x="500040" y="1285920"/>
            <a:ext cx="284004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4714920" y="942840"/>
            <a:ext cx="3786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сех на свете он добрей, лечит он больных звере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однажды бегемота вытащил он из болот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н известен, знаменит, это доктор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https://encrypted-tbn3.gstatic.com/images?q=tbn:ANd9GcRZH6inUK-neIAHMnEBgYa8eJLgzh_8ZHswE5fYBGhhq5Mr_u7VCA"/>
          <p:cNvPicPr/>
          <p:nvPr/>
        </p:nvPicPr>
        <p:blipFill>
          <a:blip r:embed="rId1"/>
          <a:stretch/>
        </p:blipFill>
        <p:spPr>
          <a:xfrm>
            <a:off x="1071720" y="1000080"/>
            <a:ext cx="30002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285840" y="1016640"/>
            <a:ext cx="5715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н весел и незлобен, этот милый чудачок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 ним хозяин мальчик Робин и приятель Пятачок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ля него прогулка – праздник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на мёд особый нюх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Этот плюшевый проказник, медвежоно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http://www.vectory.ru/products_pictures/sklfsvwerji00021.gif"/>
          <p:cNvPicPr/>
          <p:nvPr/>
        </p:nvPicPr>
        <p:blipFill>
          <a:blip r:embed="rId1"/>
          <a:srcRect l="16561" t="0" r="15582" b="0"/>
          <a:stretch/>
        </p:blipFill>
        <p:spPr>
          <a:xfrm>
            <a:off x="5286240" y="1857240"/>
            <a:ext cx="334512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5236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3"/>
          <p:cNvSpPr/>
          <p:nvPr/>
        </p:nvSpPr>
        <p:spPr>
          <a:xfrm>
            <a:off x="428760" y="150012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лоден ка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http://rybkovskaya.ru/wp-content/uploads/2012/02/volk.jpg"/>
          <p:cNvPicPr/>
          <p:nvPr/>
        </p:nvPicPr>
        <p:blipFill>
          <a:blip r:embed="rId2"/>
          <a:stretch/>
        </p:blipFill>
        <p:spPr>
          <a:xfrm>
            <a:off x="3571920" y="1928880"/>
            <a:ext cx="3637080" cy="292896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7"/>
          <p:cNvSpPr/>
          <p:nvPr/>
        </p:nvSpPr>
        <p:spPr>
          <a:xfrm>
            <a:off x="444960" y="2143080"/>
            <a:ext cx="24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итра ка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https://encrypted-tbn3.gstatic.com/images?q=tbn:ANd9GcQCSR0GOuqImTd6f_xmmEz4HhCLWqIurlp5MkvAiWIg5MkzTBQTkA"/>
          <p:cNvPicPr/>
          <p:nvPr/>
        </p:nvPicPr>
        <p:blipFill>
          <a:blip r:embed="rId3"/>
          <a:srcRect l="17084" t="5046" r="12876" b="0"/>
          <a:stretch/>
        </p:blipFill>
        <p:spPr>
          <a:xfrm>
            <a:off x="3571920" y="1928880"/>
            <a:ext cx="3571920" cy="32814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9"/>
          <p:cNvSpPr/>
          <p:nvPr/>
        </p:nvSpPr>
        <p:spPr>
          <a:xfrm>
            <a:off x="357840" y="2714760"/>
            <a:ext cx="29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услив ка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http://www.e-reading.link/illustrations/1026/1026847-Autogen_eBook_id1"/>
          <p:cNvPicPr/>
          <p:nvPr/>
        </p:nvPicPr>
        <p:blipFill>
          <a:blip r:embed="rId4"/>
          <a:srcRect l="29635" t="0" r="10583" b="0"/>
          <a:stretch/>
        </p:blipFill>
        <p:spPr>
          <a:xfrm>
            <a:off x="3643200" y="1928880"/>
            <a:ext cx="3000600" cy="32414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3"/>
          <p:cNvSpPr/>
          <p:nvPr/>
        </p:nvSpPr>
        <p:spPr>
          <a:xfrm>
            <a:off x="500040" y="3286080"/>
            <a:ext cx="224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м ка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2" descr="http://skazka-uyt.ru/images/okun.jpg"/>
          <p:cNvPicPr/>
          <p:nvPr/>
        </p:nvPicPr>
        <p:blipFill>
          <a:blip r:embed="rId5"/>
          <a:stretch/>
        </p:blipFill>
        <p:spPr>
          <a:xfrm>
            <a:off x="2786040" y="2214720"/>
            <a:ext cx="5270400" cy="286200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6"/>
          <p:cNvSpPr/>
          <p:nvPr/>
        </p:nvSpPr>
        <p:spPr>
          <a:xfrm>
            <a:off x="516960" y="3857760"/>
            <a:ext cx="26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оров ка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8" descr="http://fotodes.ru/upload/img1346175657.jpg"/>
          <p:cNvPicPr/>
          <p:nvPr/>
        </p:nvPicPr>
        <p:blipFill>
          <a:blip r:embed="rId6"/>
          <a:stretch/>
        </p:blipFill>
        <p:spPr>
          <a:xfrm>
            <a:off x="3000240" y="2000160"/>
            <a:ext cx="5078520" cy="314964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30"/>
          <p:cNvSpPr/>
          <p:nvPr/>
        </p:nvSpPr>
        <p:spPr>
          <a:xfrm>
            <a:off x="508680" y="4429080"/>
            <a:ext cx="29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ючий ка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2" descr="http://byaki.net/uploads/posts/2010-09/1283435906_2.jpg"/>
          <p:cNvPicPr/>
          <p:nvPr/>
        </p:nvPicPr>
        <p:blipFill>
          <a:blip r:embed="rId7"/>
          <a:stretch/>
        </p:blipFill>
        <p:spPr>
          <a:xfrm>
            <a:off x="3143160" y="2071800"/>
            <a:ext cx="42354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10"/>
          <p:cNvSpPr/>
          <p:nvPr/>
        </p:nvSpPr>
        <p:spPr>
          <a:xfrm>
            <a:off x="984960" y="150012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дружбой дорожа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1"/>
          <p:cNvSpPr/>
          <p:nvPr/>
        </p:nvSpPr>
        <p:spPr>
          <a:xfrm>
            <a:off x="1001160" y="2143080"/>
            <a:ext cx="25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друга – ищ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2"/>
          <p:cNvSpPr/>
          <p:nvPr/>
        </p:nvSpPr>
        <p:spPr>
          <a:xfrm>
            <a:off x="1001160" y="2714760"/>
            <a:ext cx="213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за все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3"/>
          <p:cNvSpPr/>
          <p:nvPr/>
        </p:nvSpPr>
        <p:spPr>
          <a:xfrm>
            <a:off x="1006920" y="3286080"/>
            <a:ext cx="24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який челове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4"/>
          <p:cNvSpPr/>
          <p:nvPr/>
        </p:nvSpPr>
        <p:spPr>
          <a:xfrm>
            <a:off x="1020600" y="392904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жба крепка не лесть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5"/>
          <p:cNvSpPr/>
          <p:nvPr/>
        </p:nvSpPr>
        <p:spPr>
          <a:xfrm>
            <a:off x="1078560" y="4572000"/>
            <a:ext cx="19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рый др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572080" y="1714680"/>
          <a:ext cx="3286080" cy="215640"/>
        </p:xfrm>
        <a:graphic>
          <a:graphicData uri="http://schemas.openxmlformats.org/drawingml/2006/table">
            <a:tbl>
              <a:tblPr/>
              <a:tblGrid>
                <a:gridCol w="3286080"/>
              </a:tblGrid>
              <a:tr h="21564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а нашёл – берег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5572080" y="2286000"/>
          <a:ext cx="3119400" cy="216000"/>
        </p:xfrm>
        <a:graphic>
          <a:graphicData uri="http://schemas.openxmlformats.org/drawingml/2006/table">
            <a:tbl>
              <a:tblPr/>
              <a:tblGrid>
                <a:gridCol w="3119400"/>
              </a:tblGrid>
              <a:tr h="2160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деле познаётс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5572080" y="2928960"/>
          <a:ext cx="3191040" cy="216000"/>
        </p:xfrm>
        <a:graphic>
          <a:graphicData uri="http://schemas.openxmlformats.org/drawingml/2006/table">
            <a:tbl>
              <a:tblPr/>
              <a:tblGrid>
                <a:gridCol w="3191040"/>
              </a:tblGrid>
              <a:tr h="2160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учше новых двух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Прямоугольник 20"/>
          <p:cNvSpPr/>
          <p:nvPr/>
        </p:nvSpPr>
        <p:spPr>
          <a:xfrm>
            <a:off x="5575320" y="3286080"/>
            <a:ext cx="21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за од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572080" y="4071960"/>
          <a:ext cx="2976480" cy="216000"/>
        </p:xfrm>
        <a:graphic>
          <a:graphicData uri="http://schemas.openxmlformats.org/drawingml/2006/table">
            <a:tbl>
              <a:tblPr/>
              <a:tblGrid>
                <a:gridCol w="2976480"/>
              </a:tblGrid>
              <a:tr h="2160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ам враги дрожа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5643720" y="4714920"/>
          <a:ext cx="3047760" cy="21600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216000">
                <a:tc>
                  <a:txBody>
                    <a:bodyPr lIns="19080" rIns="19080" tIns="19080" bIns="1908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 правдой и честью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36" name="Прямая со стрелкой 24"/>
          <p:cNvCxnSpPr/>
          <p:nvPr/>
        </p:nvCxnSpPr>
        <p:spPr>
          <a:xfrm>
            <a:off x="4214880" y="1785960"/>
            <a:ext cx="1286640" cy="235800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37" name="Прямая со стрелкой 26"/>
          <p:cNvCxnSpPr/>
          <p:nvPr/>
        </p:nvCxnSpPr>
        <p:spPr>
          <a:xfrm flipV="1">
            <a:off x="3642840" y="1785960"/>
            <a:ext cx="1786680" cy="6433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38" name="Прямая со стрелкой 30"/>
          <p:cNvCxnSpPr>
            <a:endCxn id="133" idx="1"/>
          </p:cNvCxnSpPr>
          <p:nvPr/>
        </p:nvCxnSpPr>
        <p:spPr>
          <a:xfrm>
            <a:off x="3142800" y="3000240"/>
            <a:ext cx="2429640" cy="5169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39" name="Прямая со стрелкой 33"/>
          <p:cNvCxnSpPr/>
          <p:nvPr/>
        </p:nvCxnSpPr>
        <p:spPr>
          <a:xfrm flipV="1">
            <a:off x="3357360" y="2356920"/>
            <a:ext cx="2143800" cy="12153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40" name="Прямая со стрелкой 40"/>
          <p:cNvCxnSpPr/>
          <p:nvPr/>
        </p:nvCxnSpPr>
        <p:spPr>
          <a:xfrm>
            <a:off x="4785840" y="4214520"/>
            <a:ext cx="786600" cy="5720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41" name="Прямая со стрелкой 44"/>
          <p:cNvCxnSpPr>
            <a:stCxn id="129" idx="3"/>
          </p:cNvCxnSpPr>
          <p:nvPr/>
        </p:nvCxnSpPr>
        <p:spPr>
          <a:xfrm flipV="1">
            <a:off x="3050640" y="2999520"/>
            <a:ext cx="2450520" cy="18025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3"/>
          <p:cNvSpPr/>
          <p:nvPr/>
        </p:nvSpPr>
        <p:spPr>
          <a:xfrm>
            <a:off x="714240" y="1357200"/>
            <a:ext cx="792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го вешают, когда приходят в уныни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го задирают, зазнаваяс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го всюду суют, вмешиваясь не в своё дело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http://ladym.ru/foto/8/k_chemu_cheshetsja_nos.jpg"/>
          <p:cNvPicPr/>
          <p:nvPr/>
        </p:nvPicPr>
        <p:blipFill>
          <a:blip r:embed="rId2"/>
          <a:stretch/>
        </p:blipFill>
        <p:spPr>
          <a:xfrm>
            <a:off x="2357280" y="2868480"/>
            <a:ext cx="4214880" cy="33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>
            <a:off x="714240" y="93636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цветы, а вянут; не ладоши, а ими хлопают, если чего-то не понимают; не бельё, а их развешивают чрезмерно доверчивые и любопытные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http://naymov.ru/images/foto/8h_10.jpg"/>
          <p:cNvPicPr/>
          <p:nvPr/>
        </p:nvPicPr>
        <p:blipFill>
          <a:blip r:embed="rId1"/>
          <a:stretch/>
        </p:blipFill>
        <p:spPr>
          <a:xfrm>
            <a:off x="3214800" y="2857680"/>
            <a:ext cx="2643120" cy="35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03:04:20Z</dcterms:created>
  <dc:creator>Comp</dc:creator>
  <dc:description/>
  <dc:language>en-US</dc:language>
  <cp:lastModifiedBy>User</cp:lastModifiedBy>
  <dcterms:modified xsi:type="dcterms:W3CDTF">2023-11-27T18:22:18Z</dcterms:modified>
  <cp:revision>18</cp:revision>
  <dc:subject/>
  <dc:title>Слайд 1</dc:title>
</cp:coreProperties>
</file>