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DE7F-B1F3-4A23-8C50-E95D9BC5F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DB26-B343-4650-B1E7-B6232B3084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973-4BBF-4D07-A81F-2E7194F9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C0F-2A69-4067-A999-2B345E0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BBD-E521-4E14-B0B1-433F0E5B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088-9274-45A2-A150-442CFD2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F0B-0068-4D0E-B532-D49575F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B22-4DA8-4951-AD62-7508A688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19F-F568-44F9-8874-DA9D066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606-CDC4-4E0A-9DFC-2DE73C57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AD9-7E9C-422B-AD5A-D1D0797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2A2-719C-4EDC-BF0E-814B689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578-6004-405C-A857-A1A2F4E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82C-2502-4358-9FA5-67549C7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D1EF-4141-48AD-AB54-D1BB90FE2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23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рожно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безопасности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для пешехода зим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43040" y="2857680"/>
            <a:ext cx="5921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42920" y="142920"/>
            <a:ext cx="88581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в оттепель из-под колёс проезжающих мимо автомобилей летят не только грязные брызги, но и мелкие камешки, которыми нередко посыпают дороги, и осколки льда. В этой ситуации безопаснее держаться подальше от края проезжей част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многие водители ставят на свои автомобили шипованную резину. Она очень помогают на льду и на укатанном снегу, но в оттепель, когда дороги покрываются снежно-водяной кашей, они становятся опасными, потому что, как говорят специалисты, «не держат дорогу», то есть теряют сцепление с покрытием. Автомобиль при этом может стать неуправляемым в любой момент, и его может за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 даже идя по тротуару, будь внимателен и осторожен и наблюдай за проезжающим мимо тран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solidFill>
            <a:srgbClr val="89f339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 – будь заметны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14200" y="1000080"/>
            <a:ext cx="8715600" cy="484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ень короче. В сумерках и в темноте значительно ухудшается ви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мноте легко ошибиться в определении расстояния как до едущего автомобиля, так и до неподвижных предметов.                                                 Часто близкие предметы кажутся далёкими, а далёкие – близ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ются зрительные обманы: неподвижный предмет можно принять за движущийся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 в сумерках и темноте будьте особенно внимательн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е только по подземным, надземным или регулируемым переходам, а в случае их отсутствия – при переходе увеличьте безопасное расстояние до автомоби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85840" y="-164160"/>
            <a:ext cx="8715240" cy="4483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чень важно, чтобы на одежде были фликеры (световозвращат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фар, попавший на них, тут же «вернётся» к водителю, и он заметит пешехода. По опыту финских и норвежских дорожных полицейских применение световозвращающих элементов позволяет снизить количество ДТП на 8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лучшие световозвращатели – белого или лимонно-жёлтого цвета. Они самые яркие.                                                                             Форму выбирай простую – круг, квадрат, сердечко.                                              Старайся выбирать фликеры без рисунков и надписей, потому что это снижает его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slava-trudu.ru/files/images/411-a017e0caf9119cc47e6729799c0161ba.jpg"/>
          <p:cNvPicPr/>
          <p:nvPr/>
        </p:nvPicPr>
        <p:blipFill>
          <a:blip r:embed="rId1"/>
          <a:stretch/>
        </p:blipFill>
        <p:spPr>
          <a:xfrm>
            <a:off x="5297400" y="3938760"/>
            <a:ext cx="3876840" cy="308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Q:\К конкурсу по  ПДД 2015г\Фото к презентации\peshekhod_attention.jpg"/>
          <p:cNvPicPr/>
          <p:nvPr/>
        </p:nvPicPr>
        <p:blipFill>
          <a:blip r:embed="rId2"/>
          <a:stretch/>
        </p:blipFill>
        <p:spPr>
          <a:xfrm>
            <a:off x="334800" y="4206960"/>
            <a:ext cx="1792440" cy="490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Q:\К конкурсу по  ПДД 2015г\Фото к презентации\d4f20302873ae6bff800d5d04cc7ebab.jpg"/>
          <p:cNvPicPr/>
          <p:nvPr/>
        </p:nvPicPr>
        <p:blipFill>
          <a:blip r:embed="rId3"/>
          <a:stretch/>
        </p:blipFill>
        <p:spPr>
          <a:xfrm>
            <a:off x="2309760" y="4511520"/>
            <a:ext cx="3116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носить фликер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14200" y="1143000"/>
            <a:ext cx="87868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«светлячка» недостаточно. Световозвращающие элементы должны располагаться спереди, сзади и с каждого бока. Оптимальная высота расположения световозвращателей – 80–100 см над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ски лучше всего крепить на ремень, пояс, пуговицы, а также – на сумку или рюкзак. Нарукавные повязки или браслеты – так, чтобы они не были закрыты при движении. Значки можно располагать в любом месте, но тоже так, чтобы они выполняли свою основную функцию – предупреждали водителя о наличии пешехода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ты живёшь за городом или часто бываешь там, попроси родителей купить тебе специальный жилет со световозвращающими поло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одители тебя точно заметят в любую погоду и в любое время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Q:\К конкурсу по  ПДД 2015г\Фото к презентации\12394.jpg"/>
          <p:cNvPicPr/>
          <p:nvPr/>
        </p:nvPicPr>
        <p:blipFill>
          <a:blip r:embed="rId1"/>
          <a:stretch/>
        </p:blipFill>
        <p:spPr>
          <a:xfrm>
            <a:off x="142920" y="4714920"/>
            <a:ext cx="2571840" cy="19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286680" y="4714920"/>
            <a:ext cx="271620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http://www.tribunapracy.by/wp-content/uploads/2014/01/gggg.jpg"/>
          <p:cNvPicPr/>
          <p:nvPr/>
        </p:nvPicPr>
        <p:blipFill>
          <a:blip r:embed="rId3"/>
          <a:stretch/>
        </p:blipFill>
        <p:spPr>
          <a:xfrm>
            <a:off x="2651040" y="4363920"/>
            <a:ext cx="3627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371520" y="92160"/>
            <a:ext cx="8339040" cy="961920"/>
            <a:chOff x="371520" y="92160"/>
            <a:chExt cx="8339040" cy="96192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71520" y="92160"/>
              <a:ext cx="8339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8760" y="214200"/>
              <a:ext cx="822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Зимние игры и заба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285840" y="1143000"/>
            <a:ext cx="871524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 и другие развлечения, вблизи автомобильных и железнодорожных дорог – категорически запре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vkarpinsk.info/wp-content/uploads/2014/02/2014-02-11_04-54-52.jpg"/>
          <p:cNvPicPr/>
          <p:nvPr/>
        </p:nvPicPr>
        <p:blipFill>
          <a:blip r:embed="rId2"/>
          <a:stretch/>
        </p:blipFill>
        <p:spPr>
          <a:xfrm>
            <a:off x="5435640" y="3429000"/>
            <a:ext cx="260496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К конкурсу по  ПДД 2015г\Фото прилегающей к школе территории\IMG_2063.JPG"/>
          <p:cNvPicPr/>
          <p:nvPr/>
        </p:nvPicPr>
        <p:blipFill>
          <a:blip r:embed="rId3"/>
          <a:stretch/>
        </p:blipFill>
        <p:spPr>
          <a:xfrm>
            <a:off x="2195640" y="3365640"/>
            <a:ext cx="2787480" cy="1884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03040" y="221472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 безопасное место для игр и развлечений: парк, сквер, детскую площадку – те места, где нет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йся на лыжах, санках, сноуборде подальше от проезжей части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тываться с откосов у дороги опасно! Не успев затормозить, можно угодить прямо под колёс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ереходи проезжую часть на лыжах. Перед переходом необходимо отстегнуть крепления и нести лыжи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жки играть любят все. Но не играй рядом с проезжей част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: снежок, попавший в лобовое стекло едущего автомобиля, может стать причиной ДТП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14"/>
          <p:cNvGrpSpPr/>
          <p:nvPr/>
        </p:nvGrpSpPr>
        <p:grpSpPr>
          <a:xfrm>
            <a:off x="2697120" y="4527720"/>
            <a:ext cx="720720" cy="469800"/>
            <a:chOff x="2697120" y="4527720"/>
            <a:chExt cx="720720" cy="469800"/>
          </a:xfrm>
        </p:grpSpPr>
        <p:sp>
          <p:nvSpPr>
            <p:cNvPr id="91" name="Прямая соединительная линия 6"/>
            <p:cNvSpPr/>
            <p:nvPr/>
          </p:nvSpPr>
          <p:spPr>
            <a:xfrm flipH="1">
              <a:off x="2739960" y="4527720"/>
              <a:ext cx="63504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8"/>
            <p:cNvSpPr/>
            <p:nvPr/>
          </p:nvSpPr>
          <p:spPr>
            <a:xfrm>
              <a:off x="2697120" y="4527720"/>
              <a:ext cx="72072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6"/>
          <p:cNvGrpSpPr/>
          <p:nvPr/>
        </p:nvGrpSpPr>
        <p:grpSpPr>
          <a:xfrm>
            <a:off x="6656400" y="4444920"/>
            <a:ext cx="720720" cy="470160"/>
            <a:chOff x="6656400" y="4444920"/>
            <a:chExt cx="720720" cy="470160"/>
          </a:xfrm>
        </p:grpSpPr>
        <p:sp>
          <p:nvSpPr>
            <p:cNvPr id="94" name="Прямая соединительная линия 17"/>
            <p:cNvSpPr/>
            <p:nvPr/>
          </p:nvSpPr>
          <p:spPr>
            <a:xfrm flipH="1">
              <a:off x="6699240" y="4444920"/>
              <a:ext cx="63504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18"/>
            <p:cNvSpPr/>
            <p:nvPr/>
          </p:nvSpPr>
          <p:spPr>
            <a:xfrm>
              <a:off x="6656400" y="4444920"/>
              <a:ext cx="72072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1"/>
          <a:stretch/>
        </p:blipFill>
        <p:spPr>
          <a:xfrm>
            <a:off x="360360" y="1646280"/>
            <a:ext cx="85708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данной презента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08000" y="1989000"/>
            <a:ext cx="8856720" cy="448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особенностями дорож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наиболее опасные ситуации, которые мог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уть на зимней дороге с участием пеш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правилам безопасного поведения на дор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, в качестве пеше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детям, что игры и развлечения вблизи дороги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пасны для их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олученные знания в форме тес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дороги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65040" y="1700280"/>
            <a:ext cx="84549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орога часто становиться скользкой. Снег, голо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-водяная каша в период оттепели ухудшают сце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 автомобиля с дорогой, из-за чего тормозной путь у автомобилей значительно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 помн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зимой даже хорошо очищенный и обработанный реагентами асфальт остается вл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, на таком дорожном покрытии тормозно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увеличивается, пусть и в меньше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обычное (летнее) безопасное расстояние до приближающегося автомобиля нужно увелич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ерестраховаться и пропустить приближающуюся машину даже если тебе кажется, что она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1844640"/>
            <a:ext cx="892800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гда на светофоре загорелся зеленый свет, не спеши с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ходить с тротуара на 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 переход только, когда ты осмотрелся и оценил обстановку на дороге вблизи пере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задержаться на секунду-другую на тротуаре, но быть уверенным, что все транспортные средства остан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же причине не следует перебегать проезжую часть, когда зеленый сигнал начинает мигать.                                                  Лучше дождись следующего зеленого сигнала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ешка на скользкой дороге вообще не допус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аже если ты куда-то спешишь – не беги, а иди быстрым ш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169920" y="26028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8840" y="115920"/>
            <a:ext cx="8640720" cy="144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нерегулируемому пешеходному переходу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03040" y="1773360"/>
            <a:ext cx="8713800" cy="52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на нерегулируемом пешеходном переходе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чень внимательным и проявлять двойную остор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это касается загруженных дорог и имеющих две и более полос для движения в кажд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перехода необходимо убедится, что слева и справа в непосредственной близости нет приближающихся на большой скорости автомобилей, а приблизившиеся остановились, чтобы пропустить тебя. Только после этого можно переходить дорогу периодически смотря налево и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бегать дорогу категорически запрещ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бежит, он по сторонам не смот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ть голову на бегу для осмотра трудно – можно поскользнуться, споткнуться и у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 дороги во время снегоп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4200" y="928800"/>
            <a:ext cx="8786880" cy="2228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гопад ухудшается видимость, затрудняется движение пешеходов и тран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ую погоду будь особенно осторожен. Перед тем, как ступить на проезжую часть, внимательно осмотрись и прислушайся, нет ли приближающегося транспорта. Помни, что в снегопад машины светлых цветов – белые, серебристые, светло-серые, бежевые – сливаются с окружающим ландшафтом и становятся менее заме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2920" y="345744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762440" y="3500280"/>
            <a:ext cx="42386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74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Гололё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420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опаснее обычного снега гололёд. Если после оттепели «прихватит» морозец, то дорога покрывается тонким слоем льда (не всегда заметным гла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лолёд повышается вероятность «юза», заноса автомобиля, и самое главное — тормозной путь непредсказуемо удли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уделяй тем местам, где автомоб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няются или тормозят – перед перекрёст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тановок общественного транспо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ыездов из дворов, на подъёмах и спу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000840" y="45720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071880" y="464328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278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42920" y="14292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 асфальте часто образуется слой льда, так называемый накат. Он очень скользкий, но так как он образуется только в некоторых местах,  для водителей он часто становится неожид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одитель нажимает на тормоз и попадает на нак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а расстояния ему может попросту не хв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трогании с места, когда водитель нажимает на г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момент колёса пробуксовывают, и тебе каж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ашина продолжает стоять. На самом деле она уже как бы «едет», только колёса у неё крутятся вхолостую.                                                 Когда же при увеличении газа  колёса наконец «зацепятся» за дорогу, машина рванёт с места с гораздо  большей скоростью – точно камешек, выпущенный из рог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 об этом и никогда не перебегай дорогу, когда зелёный свет начинает миг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Оттепел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4200" y="1500120"/>
            <a:ext cx="8572680" cy="448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тепель на улице появляются коварные лужи, под которыми скрывается лёд. При переходе проезжей части лучше подождать, пока на дороге не будет проезжающих ма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беги через проезжую часть, даже на переходе! Переходи шагом и будь вним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щаяся на дорогах снежно-водяная каша может скрывать под собой ямы, ухабы и прочие «сюрпризы» для водителя. Заметив, что едущая впереди машина попала колесом в ямку, водитель едущей следом может попытаться её объехать, резко изменив траекторию движения, что также чревато за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7:49:16Z</dcterms:created>
  <dc:creator>Соколова Люба</dc:creator>
  <dc:description/>
  <dc:language>en-US</dc:language>
  <cp:lastModifiedBy>Я</cp:lastModifiedBy>
  <dcterms:modified xsi:type="dcterms:W3CDTF">2023-11-30T16:22:12Z</dcterms:modified>
  <cp:revision>70</cp:revision>
  <dc:subject/>
  <dc:title>Правила дорожной безопасности для пешехода зимой</dc:title>
</cp:coreProperties>
</file>