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1B5B-5086-4B81-B3B5-A0CC80CD39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4717-0EA2-47B5-9A9D-DEE9849F10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22A3-E795-436F-BA14-5A6B2130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5F51-430F-40B8-8A12-BAD9C982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884D-207B-4D15-A269-DE8B9924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0F0B-755E-4E8F-8E51-607A7591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29BD-EC02-43EA-B8A4-D17C8680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67C7-AAA9-4767-AE3E-65E7D56D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E772-F071-4BDD-BB66-E4871F1C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E68F-9E30-4FC8-81D6-BDE59A8A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F7B0-C562-4C60-8EB0-4DB65C3C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00DF-B306-4F0B-B3BC-0EF76E26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3413-B123-4E8A-BB4B-4A84196B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8A8F-1DA1-4DDE-8A6D-D91501AC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D2E6-89A1-4D9C-AA20-C845C0FDF2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8856720" cy="2376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</a:t>
            </a:r>
            <a:r>
              <a:rPr b="1" lang="ru-RU" sz="4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орожной</a:t>
            </a:r>
            <a:r>
              <a:rPr b="1" lang="ru-RU" sz="4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безопасности</a:t>
            </a:r>
            <a:br>
              <a:rPr sz="4800"/>
            </a:br>
            <a:r>
              <a:rPr b="1" lang="ru-RU" sz="4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для пешехода зимо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643040" y="2857680"/>
            <a:ext cx="59212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5"/>
          <p:cNvSpPr/>
          <p:nvPr/>
        </p:nvSpPr>
        <p:spPr>
          <a:xfrm>
            <a:off x="142920" y="142920"/>
            <a:ext cx="8858160" cy="4848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щё в оттепель из-под колёс проезжающих мимо автомобилей летят не только грязные брызги, но и мелкие камешки, которыми нередко посыпают дороги, и осколки льда. В этой ситуации безопаснее держаться подальше от края проезжей части дор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йчас многие водители ставят на свои автомобили шипованную резину. Она очень помогают на льду и на укатанном снегу, но в оттепель, когда дороги покрываются снежно-водяной кашей, они становятся опасными, потому что, как говорят специалисты, «не держат дорогу», то есть теряют сцепление с покрытием. Автомобиль при этом может стать неуправляемым в любой момент, и его может зан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 даже идя по тротуару, будь внимателен и осторожен и наблюдай за проезжающим мимо транспор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714240"/>
          </a:xfrm>
          <a:prstGeom prst="rect">
            <a:avLst/>
          </a:prstGeom>
          <a:solidFill>
            <a:srgbClr val="89f339"/>
          </a:solidFill>
          <a:ln w="38160">
            <a:solidFill>
              <a:srgbClr val="fff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шеход – будь заметным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214200" y="1000080"/>
            <a:ext cx="8715600" cy="4848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ой день короче. В сумерках и в темноте значительно ухудшается вид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мноте легко ошибиться в определении расстояния как до едущего автомобиля, так и до неподвижных предметов.                                                 Часто близкие предметы кажутся далёкими, а далёкие – близ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ются зрительные обманы: неподвижный предмет можно принять за движущийся, и наоб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этому в сумерках и темноте будьте особенно внимательны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ите только по подземным, надземным или регулируемым переходам, а в случае их отсутствия – при переходе увеличьте безопасное расстояние до автомоби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285840" y="-164160"/>
            <a:ext cx="8715240" cy="4483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чень важно, чтобы на одежде были фликеры (световозвращател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 фар, попавший на них, тут же «вернётся» к водителю, и он заметит пешехода. По опыту финских и норвежских дорожных полицейских применение световозвращающих элементов позволяет снизить количество ДТП на 85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е лучшие световозвращатели – белого или лимонно-жёлтого цвета. Они самые яркие.                                                                             Форму выбирай простую – круг, квадрат, сердечко.                                              Старайся выбирать фликеры без рисунков и надписей, потому что это снижает его эффекти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http://slava-trudu.ru/files/images/411-a017e0caf9119cc47e6729799c0161ba.jpg"/>
          <p:cNvPicPr/>
          <p:nvPr/>
        </p:nvPicPr>
        <p:blipFill>
          <a:blip r:embed="rId1"/>
          <a:stretch/>
        </p:blipFill>
        <p:spPr>
          <a:xfrm>
            <a:off x="5297400" y="3938760"/>
            <a:ext cx="3876840" cy="3084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Q:\К конкурсу по  ПДД 2015г\Фото к презентации\peshekhod_attention.jpg"/>
          <p:cNvPicPr/>
          <p:nvPr/>
        </p:nvPicPr>
        <p:blipFill>
          <a:blip r:embed="rId2"/>
          <a:stretch/>
        </p:blipFill>
        <p:spPr>
          <a:xfrm>
            <a:off x="334800" y="4206960"/>
            <a:ext cx="1792440" cy="4906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Q:\К конкурсу по  ПДД 2015г\Фото к презентации\d4f20302873ae6bff800d5d04cc7ebab.jpg"/>
          <p:cNvPicPr/>
          <p:nvPr/>
        </p:nvPicPr>
        <p:blipFill>
          <a:blip r:embed="rId3"/>
          <a:stretch/>
        </p:blipFill>
        <p:spPr>
          <a:xfrm>
            <a:off x="2309760" y="4511520"/>
            <a:ext cx="311616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786880" cy="785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авильно носить фликеры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214200" y="1143000"/>
            <a:ext cx="8786880" cy="3385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го «светлячка» недостаточно. Световозвращающие элементы должны располагаться спереди, сзади и с каждого бока. Оптимальная высота расположения световозвращателей – 80–100 см над землё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ски лучше всего крепить на ремень, пояс, пуговицы, а также – на сумку или рюкзак. Нарукавные повязки или браслеты – так, чтобы они не были закрыты при движении. Значки можно располагать в любом месте, но тоже так, чтобы они выполняли свою основную функцию – предупреждали водителя о наличии пешехода на доро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сли ты живёшь за городом или часто бываешь там, попроси родителей купить тебе специальный жилет со световозвращающими полос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водители тебя точно заметят в любую погоду и в любое время су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Q:\К конкурсу по  ПДД 2015г\Фото к презентации\12394.jpg"/>
          <p:cNvPicPr/>
          <p:nvPr/>
        </p:nvPicPr>
        <p:blipFill>
          <a:blip r:embed="rId1"/>
          <a:stretch/>
        </p:blipFill>
        <p:spPr>
          <a:xfrm>
            <a:off x="142920" y="4714920"/>
            <a:ext cx="2571840" cy="1928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6286680" y="4714920"/>
            <a:ext cx="2716200" cy="200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Picture 4" descr="http://www.tribunapracy.by/wp-content/uploads/2014/01/gggg.jpg"/>
          <p:cNvPicPr/>
          <p:nvPr/>
        </p:nvPicPr>
        <p:blipFill>
          <a:blip r:embed="rId3"/>
          <a:stretch/>
        </p:blipFill>
        <p:spPr>
          <a:xfrm>
            <a:off x="2651040" y="4363920"/>
            <a:ext cx="36273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Заголовок 1"/>
          <p:cNvGrpSpPr/>
          <p:nvPr/>
        </p:nvGrpSpPr>
        <p:grpSpPr>
          <a:xfrm>
            <a:off x="371520" y="92160"/>
            <a:ext cx="8339040" cy="961920"/>
            <a:chOff x="371520" y="92160"/>
            <a:chExt cx="8339040" cy="961920"/>
          </a:xfrm>
        </p:grpSpPr>
        <p:pic>
          <p:nvPicPr>
            <p:cNvPr id="8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71520" y="92160"/>
              <a:ext cx="833904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428760" y="214200"/>
              <a:ext cx="8229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Зимние игры и забав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2"/>
          <p:cNvSpPr/>
          <p:nvPr/>
        </p:nvSpPr>
        <p:spPr>
          <a:xfrm>
            <a:off x="285840" y="1143000"/>
            <a:ext cx="8715240" cy="825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мни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 и другие развлечения, вблизи автомобильных и железнодорожных дорог – категорически запрещ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vkarpinsk.info/wp-content/uploads/2014/02/2014-02-11_04-54-52.jpg"/>
          <p:cNvPicPr/>
          <p:nvPr/>
        </p:nvPicPr>
        <p:blipFill>
          <a:blip r:embed="rId2"/>
          <a:stretch/>
        </p:blipFill>
        <p:spPr>
          <a:xfrm>
            <a:off x="5435640" y="3429000"/>
            <a:ext cx="2604960" cy="1905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E:\К конкурсу по  ПДД 2015г\Фото прилегающей к школе территории\IMG_2063.JPG"/>
          <p:cNvPicPr/>
          <p:nvPr/>
        </p:nvPicPr>
        <p:blipFill>
          <a:blip r:embed="rId3"/>
          <a:stretch/>
        </p:blipFill>
        <p:spPr>
          <a:xfrm>
            <a:off x="2195640" y="3365640"/>
            <a:ext cx="2787480" cy="188424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203040" y="2214720"/>
            <a:ext cx="8715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рай безопасное место для игр и развлечений: парк, сквер, детскую площадку – те места, где нет транспо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йся на лыжах, санках, сноуборде подальше от проезжей части. 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тываться с откосов у дороги опасно! Не успев затормозить, можно угодить прямо под колёса ма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в коем случае не переходи проезжую часть на лыжах. Перед переходом необходимо отстегнуть крепления и нести лыжи в ру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нежки играть любят все. Но не играй рядом с проезжей часть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ни: снежок, попавший в лобовое стекло едущего автомобиля, может стать причиной ДТП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Группа 14"/>
          <p:cNvGrpSpPr/>
          <p:nvPr/>
        </p:nvGrpSpPr>
        <p:grpSpPr>
          <a:xfrm>
            <a:off x="2697120" y="4527720"/>
            <a:ext cx="720720" cy="469800"/>
            <a:chOff x="2697120" y="4527720"/>
            <a:chExt cx="720720" cy="469800"/>
          </a:xfrm>
        </p:grpSpPr>
        <p:sp>
          <p:nvSpPr>
            <p:cNvPr id="91" name="Прямая соединительная линия 6"/>
            <p:cNvSpPr/>
            <p:nvPr/>
          </p:nvSpPr>
          <p:spPr>
            <a:xfrm flipH="1">
              <a:off x="2739960" y="4527720"/>
              <a:ext cx="635040" cy="469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Прямая соединительная линия 8"/>
            <p:cNvSpPr/>
            <p:nvPr/>
          </p:nvSpPr>
          <p:spPr>
            <a:xfrm>
              <a:off x="2697120" y="4527720"/>
              <a:ext cx="720720" cy="469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Группа 16"/>
          <p:cNvGrpSpPr/>
          <p:nvPr/>
        </p:nvGrpSpPr>
        <p:grpSpPr>
          <a:xfrm>
            <a:off x="6656400" y="4444920"/>
            <a:ext cx="720720" cy="470160"/>
            <a:chOff x="6656400" y="4444920"/>
            <a:chExt cx="720720" cy="470160"/>
          </a:xfrm>
        </p:grpSpPr>
        <p:sp>
          <p:nvSpPr>
            <p:cNvPr id="94" name="Прямая соединительная линия 17"/>
            <p:cNvSpPr/>
            <p:nvPr/>
          </p:nvSpPr>
          <p:spPr>
            <a:xfrm flipH="1">
              <a:off x="6699240" y="4444920"/>
              <a:ext cx="635040" cy="470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Прямая соединительная линия 18"/>
            <p:cNvSpPr/>
            <p:nvPr/>
          </p:nvSpPr>
          <p:spPr>
            <a:xfrm>
              <a:off x="6656400" y="4444920"/>
              <a:ext cx="720720" cy="470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extBox 1" descr=""/>
          <p:cNvPicPr/>
          <p:nvPr/>
        </p:nvPicPr>
        <p:blipFill>
          <a:blip r:embed="rId1"/>
          <a:stretch/>
        </p:blipFill>
        <p:spPr>
          <a:xfrm>
            <a:off x="360360" y="1646280"/>
            <a:ext cx="857088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и задачи данной презентаци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108000" y="1989000"/>
            <a:ext cx="8856720" cy="44830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детей с особенностями дорожного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имнее время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ть наиболее опасные ситуации, которые мог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нуть на зимней дороге с участием пешеход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детей правилам безопасного поведения на дорог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ой, в качестве пешехо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ь детям, что игры и развлечения вблизи дороги зи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опасны для их жизни и здоровь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полученные знания в форме тест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дороги зим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365040" y="1700280"/>
            <a:ext cx="8454960" cy="4848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ой дорога часто становиться скользкой. Снег, гололе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жно-водяная каша в период оттепели ухудшают сцеп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с автомобиля с дорогой, из-за чего тормозной путь у автомобилей значительно увеличив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жно помни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зимой даже хорошо очищенный и обработанный реагентами асфальт остается влаж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енно, на таком дорожном покрытии тормозной п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равно увеличивается, пусть и в меньшей степ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обычное (летнее) безопасное расстояние до приближающегося автомобиля нужно увеличи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перестраховаться и пропустить приближающуюся машину даже если тебе кажется, что она дале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877240" cy="12970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ядок перехода дороги по регулируемому пешеходному перехо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08000" y="1844640"/>
            <a:ext cx="8928000" cy="4848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огда на светофоре загорелся зеленый свет, не спеши ср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ходить с тротуара на пешеходный перехо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й переход только, когда ты осмотрелся и оценил обстановку на дороге вблизи перех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задержаться на секунду-другую на тротуаре, но быть уверенным, что все транспортные средства останови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ой же причине не следует перебегать проезжую часть, когда зеленый сигнал начинает мигать.                                                  Лучше дождись следующего зеленого сигнала светоф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мни!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пешка на скользкой дороге вообще не допуст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Даже если ты куда-то спешишь – не беги, а иди быстрым ша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169920" y="260280"/>
            <a:ext cx="8877240" cy="12970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ядок перехода дороги по регулируемому пешеходному перех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8840" y="115920"/>
            <a:ext cx="8640720" cy="14414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ядок перехода дороги по нерегулируемому пешеходному переходу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203040" y="1773360"/>
            <a:ext cx="8713800" cy="5214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имнее время на нерегулируемом пешеходном переходе, на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очень внимательным и проявлять двойную осторо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 это касается загруженных дорог и имеющих две и более полос для движения в каждом направл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началом перехода необходимо убедится, что слева и справа в непосредственной близости нет приближающихся на большой скорости автомобилей, а приблизившиеся остановились, чтобы пропустить тебя. Только после этого можно переходить дорогу периодически смотря налево и на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бегать дорогу категорически запрещае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человек бежит, он по сторонам не смотр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рнуть голову на бегу для осмотра трудно – можно поскользнуться, споткнуться и уп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асности дороги во время снегопа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214200" y="928800"/>
            <a:ext cx="8786880" cy="2228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негопад ухудшается видимость, затрудняется движение пешеходов и транс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кую погоду будь особенно осторожен. Перед тем, как ступить на проезжую часть, внимательно осмотрись и прислушайся, нет ли приближающегося транспорта. Помни, что в снегопад машины светлых цветов – белые, серебристые, светло-серые, бежевые – сливаются с окружающим ландшафтом и становятся менее замет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42920" y="3457440"/>
            <a:ext cx="4429080" cy="321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762440" y="3500280"/>
            <a:ext cx="423864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774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38160">
            <a:solidFill>
              <a:srgbClr val="fff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  Гололё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14200" y="1143000"/>
            <a:ext cx="864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ё опаснее обычного снега гололёд. Если после оттепели «прихватит» морозец, то дорога покрывается тонким слоем льда (не всегда заметным глаз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лолёд повышается вероятность «юза», заноса автомобиля, и самое главное — тормозной путь непредсказуемо удлин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е внимание уделяй тем местам, где автомоб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няются или тормозят – перед перекрёстк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становок общественного транспор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ыездов из дворов, на подъёмах и спус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6000840" y="4572000"/>
            <a:ext cx="2844720" cy="2133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3071880" y="4643280"/>
            <a:ext cx="2786040" cy="208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278604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142920" y="142920"/>
            <a:ext cx="8858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на асфальте часто образуется слой льда, так называемый накат. Он очень скользкий, но так как он образуется только в некоторых местах,  для водителей он часто становится неожидан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одитель нажимает на тормоз и попадает на нака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са расстояния ему может попросту не хват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ри трогании с места, когда водитель нажимает на газ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ый момент колёса пробуксовывают, и тебе кажет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ашина продолжает стоять. На самом деле она уже как бы «едет», только колёса у неё крутятся вхолостую.                                                 Когда же при увеличении газа  колёса наконец «зацепятся» за дорогу, машина рванёт с места с гораздо  большей скоростью – точно камешек, выпущенный из рога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ни об этом и никогда не перебегай дорогу, когда зелёный свет начинает миг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030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38160">
            <a:solidFill>
              <a:srgbClr val="fff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  Оттепел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214200" y="1500120"/>
            <a:ext cx="8572680" cy="4483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тепель на улице появляются коварные лужи, под которыми скрывается лёд. При переходе проезжей части лучше подождать, пока на дороге не будет проезжающих маш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в коем случае не беги через проезжую часть, даже на переходе! Переходи шагом и будь внимате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ующаяся на дорогах снежно-водяная каша может скрывать под собой ямы, ухабы и прочие «сюрпризы» для водителя. Заметив, что едущая впереди машина попала колесом в ямку, водитель едущей следом может попытаться её объехать, резко изменив траекторию движения, что также чревато зано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4T07:49:16Z</dcterms:created>
  <dc:creator>Соколова Люба</dc:creator>
  <dc:description/>
  <dc:language>en-US</dc:language>
  <cp:lastModifiedBy>Я</cp:lastModifiedBy>
  <dcterms:modified xsi:type="dcterms:W3CDTF">2023-11-30T16:22:12Z</dcterms:modified>
  <cp:revision>70</cp:revision>
  <dc:subject/>
  <dc:title>Правила дорожной безопасности для пешехода зимой</dc:title>
</cp:coreProperties>
</file>