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1787-0397-4AED-8ECF-E422181805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B51E-7817-4026-88AE-856BCFF00C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D05-D24D-451E-8DB7-BDF2D9BC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76D-CEC6-4970-99DF-31D84E7C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2F0-967B-4325-902F-67214A45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A89-5477-40DD-87BB-DEB1277F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B06-C824-4620-808E-3FE3E8ED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00B-7617-450E-BD6A-0D783007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131-3190-42E3-A9C2-899D9E0B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B70-41A1-4792-80A6-EDA40517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89D-C254-45F2-B29C-4928B6CB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863-3E95-4979-8D94-B9E0E32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27F-9DA2-4543-8551-205DD22B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B0E-7D7E-4012-839D-28E002A9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30C2-D728-4717-AB14-F91A5301C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856720" cy="23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рожной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безопасности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для пешехода зимо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643040" y="2857680"/>
            <a:ext cx="5921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/>
          <p:cNvSpPr/>
          <p:nvPr/>
        </p:nvSpPr>
        <p:spPr>
          <a:xfrm>
            <a:off x="142920" y="142920"/>
            <a:ext cx="8858160" cy="484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ё в оттепель из-под колёс проезжающих мимо автомобилей летят не только грязные брызги, но и мелкие камешки, которыми нередко посыпают дороги, и осколки льда. В этой ситуации безопаснее держаться подальше от края проезжей части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многие водители ставят на свои автомобили шипованную резину. Она очень помогают на льду и на укатанном снегу, но в оттепель, когда дороги покрываются снежно-водяной кашей, они становятся опасными, потому что, как говорят специалисты, «не держат дорогу», то есть теряют сцепление с покрытием. Автомобиль при этом может стать неуправляемым в любой момент, и его может за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 даже идя по тротуару, будь внимателен и осторожен и наблюдай за проезжающим мимо тран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solidFill>
            <a:srgbClr val="89f339"/>
          </a:soli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шеход – будь заметным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14200" y="1000080"/>
            <a:ext cx="8715600" cy="4848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ень короче. В сумерках и в темноте значительно ухудшается вид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мноте легко ошибиться в определении расстояния как до едущего автомобиля, так и до неподвижных предметов.                                                 Часто близкие предметы кажутся далёкими, а далёкие – близ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ются зрительные обманы: неподвижный предмет можно принять за движущийся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ому в сумерках и темноте будьте особенно внимательн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е только по подземным, надземным или регулируемым переходам, а в случае их отсутствия – при переходе увеличьте безопасное расстояние до автомоби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285840" y="-164160"/>
            <a:ext cx="8715240" cy="4483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чень важно, чтобы на одежде были фликеры (световозвращате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фар, попавший на них, тут же «вернётся» к водителю, и он заметит пешехода. По опыту финских и норвежских дорожных полицейских применение световозвращающих элементов позволяет снизить количество ДТП на 8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е лучшие световозвращатели – белого или лимонно-жёлтого цвета. Они самые яркие.                                                                             Форму выбирай простую – круг, квадрат, сердечко.                                              Старайся выбирать фликеры без рисунков и надписей, потому что это снижает его эффе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http://slava-trudu.ru/files/images/411-a017e0caf9119cc47e6729799c0161ba.jpg"/>
          <p:cNvPicPr/>
          <p:nvPr/>
        </p:nvPicPr>
        <p:blipFill>
          <a:blip r:embed="rId1"/>
          <a:stretch/>
        </p:blipFill>
        <p:spPr>
          <a:xfrm>
            <a:off x="5297400" y="3938760"/>
            <a:ext cx="3876840" cy="3084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Q:\К конкурсу по  ПДД 2015г\Фото к презентации\peshekhod_attention.jpg"/>
          <p:cNvPicPr/>
          <p:nvPr/>
        </p:nvPicPr>
        <p:blipFill>
          <a:blip r:embed="rId2"/>
          <a:stretch/>
        </p:blipFill>
        <p:spPr>
          <a:xfrm>
            <a:off x="334800" y="4206960"/>
            <a:ext cx="1792440" cy="4906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Q:\К конкурсу по  ПДД 2015г\Фото к презентации\d4f20302873ae6bff800d5d04cc7ebab.jpg"/>
          <p:cNvPicPr/>
          <p:nvPr/>
        </p:nvPicPr>
        <p:blipFill>
          <a:blip r:embed="rId3"/>
          <a:stretch/>
        </p:blipFill>
        <p:spPr>
          <a:xfrm>
            <a:off x="2309760" y="4511520"/>
            <a:ext cx="3116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ьно носить фликеры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214200" y="1143000"/>
            <a:ext cx="878688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«светлячка» недостаточно. Световозвращающие элементы должны располагаться спереди, сзади и с каждого бока. Оптимальная высота расположения световозвращателей – 80–100 см над земл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ски лучше всего крепить на ремень, пояс, пуговицы, а также – на сумку или рюкзак. Нарукавные повязки или браслеты – так, чтобы они не были закрыты при движении. Значки можно располагать в любом месте, но тоже так, чтобы они выполняли свою основную функцию – предупреждали водителя о наличии пешехода на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сли ты живёшь за городом или часто бываешь там, попроси родителей купить тебе специальный жилет со световозвращающими поло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водители тебя точно заметят в любую погоду и в любое время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Q:\К конкурсу по  ПДД 2015г\Фото к презентации\12394.jpg"/>
          <p:cNvPicPr/>
          <p:nvPr/>
        </p:nvPicPr>
        <p:blipFill>
          <a:blip r:embed="rId1"/>
          <a:stretch/>
        </p:blipFill>
        <p:spPr>
          <a:xfrm>
            <a:off x="142920" y="4714920"/>
            <a:ext cx="2571840" cy="19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6286680" y="4714920"/>
            <a:ext cx="271620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4" descr="http://www.tribunapracy.by/wp-content/uploads/2014/01/gggg.jpg"/>
          <p:cNvPicPr/>
          <p:nvPr/>
        </p:nvPicPr>
        <p:blipFill>
          <a:blip r:embed="rId3"/>
          <a:stretch/>
        </p:blipFill>
        <p:spPr>
          <a:xfrm>
            <a:off x="2651040" y="4363920"/>
            <a:ext cx="3627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Заголовок 1"/>
          <p:cNvGrpSpPr/>
          <p:nvPr/>
        </p:nvGrpSpPr>
        <p:grpSpPr>
          <a:xfrm>
            <a:off x="371520" y="92160"/>
            <a:ext cx="8339040" cy="961920"/>
            <a:chOff x="371520" y="92160"/>
            <a:chExt cx="8339040" cy="961920"/>
          </a:xfrm>
        </p:grpSpPr>
        <p:pic>
          <p:nvPicPr>
            <p:cNvPr id="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71520" y="92160"/>
              <a:ext cx="8339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8760" y="214200"/>
              <a:ext cx="8229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Зимние игры и забав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2"/>
          <p:cNvSpPr/>
          <p:nvPr/>
        </p:nvSpPr>
        <p:spPr>
          <a:xfrm>
            <a:off x="285840" y="1143000"/>
            <a:ext cx="871524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 и другие развлечения, вблизи автомобильных и железнодорожных дорог – категорически запре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vkarpinsk.info/wp-content/uploads/2014/02/2014-02-11_04-54-52.jpg"/>
          <p:cNvPicPr/>
          <p:nvPr/>
        </p:nvPicPr>
        <p:blipFill>
          <a:blip r:embed="rId2"/>
          <a:stretch/>
        </p:blipFill>
        <p:spPr>
          <a:xfrm>
            <a:off x="5435640" y="3429000"/>
            <a:ext cx="260496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E:\К конкурсу по  ПДД 2015г\Фото прилегающей к школе территории\IMG_2063.JPG"/>
          <p:cNvPicPr/>
          <p:nvPr/>
        </p:nvPicPr>
        <p:blipFill>
          <a:blip r:embed="rId3"/>
          <a:stretch/>
        </p:blipFill>
        <p:spPr>
          <a:xfrm>
            <a:off x="2195640" y="3365640"/>
            <a:ext cx="2787480" cy="1884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03040" y="2214720"/>
            <a:ext cx="8715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й безопасное место для игр и развлечений: парк, сквер, детскую площадку – те места, где нет тран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йся на лыжах, санках, сноуборде подальше от проезжей части. 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тываться с откосов у дороги опасно! Не успев затормозить, можно угодить прямо под колёс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переходи проезжую часть на лыжах. Перед переходом необходимо отстегнуть крепления и нести лыжи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нежки играть любят все. Но не играй рядом с проезжей часть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: снежок, попавший в лобовое стекло едущего автомобиля, может стать причиной ДТП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14"/>
          <p:cNvGrpSpPr/>
          <p:nvPr/>
        </p:nvGrpSpPr>
        <p:grpSpPr>
          <a:xfrm>
            <a:off x="2697120" y="4527720"/>
            <a:ext cx="720720" cy="469800"/>
            <a:chOff x="2697120" y="4527720"/>
            <a:chExt cx="720720" cy="469800"/>
          </a:xfrm>
        </p:grpSpPr>
        <p:sp>
          <p:nvSpPr>
            <p:cNvPr id="91" name="Прямая соединительная линия 6"/>
            <p:cNvSpPr/>
            <p:nvPr/>
          </p:nvSpPr>
          <p:spPr>
            <a:xfrm flipH="1">
              <a:off x="2739960" y="4527720"/>
              <a:ext cx="635040" cy="469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8"/>
            <p:cNvSpPr/>
            <p:nvPr/>
          </p:nvSpPr>
          <p:spPr>
            <a:xfrm>
              <a:off x="2697120" y="4527720"/>
              <a:ext cx="720720" cy="469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16"/>
          <p:cNvGrpSpPr/>
          <p:nvPr/>
        </p:nvGrpSpPr>
        <p:grpSpPr>
          <a:xfrm>
            <a:off x="6656400" y="4444920"/>
            <a:ext cx="720720" cy="470160"/>
            <a:chOff x="6656400" y="4444920"/>
            <a:chExt cx="720720" cy="470160"/>
          </a:xfrm>
        </p:grpSpPr>
        <p:sp>
          <p:nvSpPr>
            <p:cNvPr id="94" name="Прямая соединительная линия 17"/>
            <p:cNvSpPr/>
            <p:nvPr/>
          </p:nvSpPr>
          <p:spPr>
            <a:xfrm flipH="1">
              <a:off x="6699240" y="4444920"/>
              <a:ext cx="635040" cy="47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18"/>
            <p:cNvSpPr/>
            <p:nvPr/>
          </p:nvSpPr>
          <p:spPr>
            <a:xfrm>
              <a:off x="6656400" y="4444920"/>
              <a:ext cx="720720" cy="47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extBox 1" descr=""/>
          <p:cNvPicPr/>
          <p:nvPr/>
        </p:nvPicPr>
        <p:blipFill>
          <a:blip r:embed="rId1"/>
          <a:stretch/>
        </p:blipFill>
        <p:spPr>
          <a:xfrm>
            <a:off x="360360" y="1646280"/>
            <a:ext cx="85708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задачи данной презента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08000" y="1989000"/>
            <a:ext cx="8856720" cy="448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особенностями дорожн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ее время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наиболее опасные ситуации, которые мог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уть на зимней дороге с участием пешех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правилам безопасного поведения на доро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, в качестве пешех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ь детям, что игры и развлечения вблизи дороги 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опасны для их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полученные знания в форме тес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дороги зим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65040" y="1700280"/>
            <a:ext cx="8454960" cy="484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орога часто становиться скользкой. Снег, голол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о-водяная каша в период оттепели ухудшают сцеп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 автомобиля с дорогой, из-за чего тормозной путь у автомобилей значительно увелич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 помн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зимой даже хорошо очищенный и обработанный реагентами асфальт остается вла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о, на таком дорожном покрытии тормозной п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увеличивается, пусть и в меньшей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обычное (летнее) безопасное расстояние до приближающегося автомобиля нужно увелич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ерестраховаться и пропустить приближающуюся машину даже если тебе кажется, что она дале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877240" cy="1297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ерехода дороги по регулируем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1844640"/>
            <a:ext cx="8928000" cy="484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гда на светофоре загорелся зеленый свет, не спеши ср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ходить с тротуара на пешеходный пере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 переход только, когда ты осмотрелся и оценил обстановку на дороге вблизи пере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задержаться на секунду-другую на тротуаре, но быть уверенным, что все транспортные средства останов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й же причине не следует перебегать проезжую часть, когда зеленый сигнал начинает мигать.                                                  Лучше дождись следующего зеленого сигнала свето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!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ешка на скользкой дороге вообще не допуст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аже если ты куда-то спешишь – не беги, а иди быстрым ша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169920" y="260280"/>
            <a:ext cx="8877240" cy="1297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ерехода дороги по регулируем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8840" y="115920"/>
            <a:ext cx="8640720" cy="1441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ерехода дороги по нерегулируемому пешеходному переходу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203040" y="1773360"/>
            <a:ext cx="8713800" cy="52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ее время на нерегулируемом пешеходном переходе,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очень внимательным и проявлять двойную остор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это касается загруженных дорог и имеющих две и более полос для движения в кажд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началом перехода необходимо убедится, что слева и справа в непосредственной близости нет приближающихся на большой скорости автомобилей, а приблизившиеся остановились, чтобы пропустить тебя. Только после этого можно переходить дорогу периодически смотря налево и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бегать дорогу категорически запрещ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человек бежит, он по сторонам не смот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нуть голову на бегу для осмотра трудно – можно поскользнуться, споткнуться и уп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асности дороги во время снегоп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14200" y="928800"/>
            <a:ext cx="8786880" cy="2228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негопад ухудшается видимость, затрудняется движение пешеходов и тран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ую погоду будь особенно осторожен. Перед тем, как ступить на проезжую часть, внимательно осмотрись и прислушайся, нет ли приближающегося транспорта. Помни, что в снегопад машины светлых цветов – белые, серебристые, светло-серые, бежевые – сливаются с окружающим ландшафтом и становятся менее заме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42920" y="345744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762440" y="3500280"/>
            <a:ext cx="42386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74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 Гололё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14200" y="11430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опаснее обычного снега гололёд. Если после оттепели «прихватит» морозец, то дорога покрывается тонким слоем льда (не всегда заметным гла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лолёд повышается вероятность «юза», заноса автомобиля, и самое главное — тормозной путь непредсказуемо удли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уделяй тем местам, где автомоб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няются или тормозят – перед перекрёст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становок общественного транспор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ыездов из дворов, на подъёмах и спус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6000840" y="45720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071880" y="4643280"/>
            <a:ext cx="2786040" cy="208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2786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142920" y="142920"/>
            <a:ext cx="885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а асфальте часто образуется слой льда, так называемый накат. Он очень скользкий, но так как он образуется только в некоторых местах,  для водителей он часто становится неожида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одитель нажимает на тормоз и попадает на нак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а расстояния ему может попросту не хв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 трогании с места, когда водитель нажимает на г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й момент колёса пробуксовывают, и тебе каж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ашина продолжает стоять. На самом деле она уже как бы «едет», только колёса у неё крутятся вхолостую.                                                 Когда же при увеличении газа  колёса наконец «зацепятся» за дорогу, машина рванёт с места с гораздо  большей скоростью – точно камешек, выпущенный из рог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 об этом и никогда не перебегай дорогу, когда зелёный свет начинает миг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 Оттепел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14200" y="1500120"/>
            <a:ext cx="8572680" cy="448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тепель на улице появляются коварные лужи, под которыми скрывается лёд. При переходе проезжей части лучше подождать, пока на дороге не будет проезжающих маш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беги через проезжую часть, даже на переходе! Переходи шагом и будь вним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ющаяся на дорогах снежно-водяная каша может скрывать под собой ямы, ухабы и прочие «сюрпризы» для водителя. Заметив, что едущая впереди машина попала колесом в ямку, водитель едущей следом может попытаться её объехать, резко изменив траекторию движения, что также чревато за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07:49:16Z</dcterms:created>
  <dc:creator>Соколова Люба</dc:creator>
  <dc:description/>
  <dc:language>en-US</dc:language>
  <cp:lastModifiedBy>Я</cp:lastModifiedBy>
  <dcterms:modified xsi:type="dcterms:W3CDTF">2023-11-30T16:22:12Z</dcterms:modified>
  <cp:revision>70</cp:revision>
  <dc:subject/>
  <dc:title>Правила дорожной безопасности для пешехода зимой</dc:title>
</cp:coreProperties>
</file>