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9B9-F80C-400A-AE2E-9AF7F08B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9E9-716C-4FD7-A537-7C8C17A9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07413-304A-4BBD-A69C-5B42AD0B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6E015-FE17-488F-8ECC-BF1990C5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2909-BEB4-4AF0-9483-E1CFFFB0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54079-9BFF-486F-B9F5-1EC2713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6BBBC-DDEC-4C6C-AACA-08D1E29B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A2752-BB07-4EAF-9027-4A9FC7D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E6DED-4580-4B1A-8D06-981B18D3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F2CAB-DCFA-481F-90CE-B931C426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E1B30-391F-4BE6-A11B-4F1B7C3C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31C-35C4-4C1F-A1DA-498C2A40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7D4-8442-4335-93CA-E7C39632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0A40-5473-4305-B649-3D419FA2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5CC-D97B-436C-B956-55E78025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AE52-0856-42E6-8477-81D482B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0903-BE6F-4E1F-A722-7542C7B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8622-6C0F-496D-A0FC-C992A800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C6D5-4E44-432C-A1E4-BA08B20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63AF-590D-46E5-B99F-257C284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8C7-EDA4-4544-80E6-A58FA99B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3EBF-991F-4461-BAC1-182EC82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74D3-EEFB-43D2-A6E9-0E12F50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CC8-F30C-4D53-AF6F-B2566100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F7BF-85B6-4AA5-A220-362DA252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C403-8127-4AC7-BB78-140B8718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9F5A-0CD8-425D-A6B0-40313E39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F4B0-964F-4C93-96F7-2ECDE84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5E52-01CA-44F2-862E-72DB4F4D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7D2E-505B-4A68-9C0D-43D50A5A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53D7-9A4F-48DC-AC5A-0848AF78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12E-47FB-4570-9F63-AA250A02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F054-9557-4B2A-8C69-284FDFCE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4614-93D9-468E-BCE5-B8E15FD8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60C7-7D6B-475C-BBB8-4746160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5701-47AB-4323-B304-CDADB32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C4FC-0A2D-4054-8BF5-84A67964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F8A6-CB39-43B3-9984-98FA1623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AC23-A91E-4143-8591-F52A1357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1736-279F-4D8B-A524-984B938D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2551-40B9-4A2B-A203-8579E00B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66E5-7B71-4AC2-A22B-C865D16C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061-23A9-4DF2-9AFF-E8D6FF7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D4AA-1BEA-40FE-9D4E-B14677AF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121A-8608-4802-8A68-DB01343E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CE8A-A468-4A76-971D-2CD7B003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3362-8A34-46CB-ABCB-6A8C9F2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1379-1631-4764-BFDE-9B3262A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51EA-398D-47ED-A10B-453F41C1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CDA5-B1F4-4660-A3FE-3438CC1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5879A-D5BD-4E38-8992-34780B93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F7F9-BD8F-47C6-8559-F13F0BA0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656E-E8A6-4CAD-B6E4-BEF44F8A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37D-849D-4E77-8361-FC902DDA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042D9-6E83-4566-A646-A932AEC2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F3DB3-9066-4707-97EB-EEF4651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C172-2CB3-4BF7-B308-D8C522B3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0E7FA-107F-4291-A81A-52BAF133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8DC0-4F93-4348-B25D-8D51881C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50D13-A0F4-4E72-AF9C-840A3F9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7DD4-A027-4184-8126-85E695C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730A-7CEF-4773-BB6E-6FE9C85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40B40-4476-4BC8-9D3B-7D554BB6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CBE5-BD45-4A43-929E-221EF337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818-EACC-4F17-970C-E36D815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085F8-07FD-4DE2-BB13-9DFBD47F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935B-8BB1-43C8-B555-F973088E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1F86-2CB5-46A5-983B-C2566506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E7E0F-7CD2-4EDA-AE4B-D5EA39E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55A18-2F36-42BC-AE14-56A8F2D2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84731-73B4-453B-83E3-CAF8FAD3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493D-93A4-486C-B5DF-40623A9B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15AD-A914-41B0-8294-49A425D4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3B0A-F00A-428F-97C4-101D2E7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5C0E-A5AC-47DA-AF23-29DB6F7C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210-2A15-4EA1-AECC-2969B63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CCAC-8222-4CA7-9B87-2312A4B8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E7A0-7E5F-4A37-A560-8739E886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DA96B-9C95-44AE-9898-89B2A306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B128-6B7D-4E72-9E44-695EB7CB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3C38-1DDF-4861-A03E-64616815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91D0-A57C-4B48-942A-9333EF6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8DA0C-FF15-4825-B119-0017612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2150-6A73-4057-9067-A9701E0A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6729-06D8-4162-8A37-FB85E0A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9BFD-C587-40FE-92F7-AA7206C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49D-937A-48F0-82CC-3BBDB29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9D058-0375-4469-91D0-43DEC63E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2329-9A2F-426F-B73F-BC2E9F1F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10AA0-EB31-4210-933B-524999DE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1A6F8-19B6-4B5B-A67D-327DD5E7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F654-0D06-457D-A815-424BB3F4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F7EA-7B15-462A-8401-1F429ED5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E800F-CC46-45D9-89C7-1F27CEAC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4A528-8A69-49A3-BC10-D964084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5477C-0334-4915-A29E-51E545FA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0D1C3-71A3-4317-AC89-FC9E5428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957-73E3-447B-9FA1-20DB3D30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DBF95-0B03-4C71-999C-5EE73B4B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9DA81-96F1-48A1-9B8D-8B0B199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E42A-5ED1-433A-BB14-959A678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80718-DC49-4BA3-845B-D1A0F0F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54B6F-8AB8-43F8-BCC8-90A9B8E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4636E-FE2A-4C91-8EF9-082DF709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0C42B-405E-4540-89D9-D59C8006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25F98-AEFC-4FAF-90E6-8DA95568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1A786-9EAA-432F-8311-2CCFA807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BC6F1-3A6C-4156-ACA1-F78B00D3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A86D-54C3-4A09-BB88-33A92819E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00C-7B52-4626-8BC7-861808208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C300-2F27-4CBA-A9AC-D9A8888E3A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4C1-4916-489F-9CF5-AFE6919DC0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A4A-11BB-4687-968B-57A34226FE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7C9-34FD-461E-A4AC-23534AF2FC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2897-CFFF-49DD-AF12-B4D8CA2D7C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9D7-77FA-4C47-92B6-0175C83B9F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D4BC-E5E3-4BF2-A5A2-BD3E78EEE1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1258920" y="90792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истема образов:  Образ Гераси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исать сочинение – рассуждение «Герасим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льный челове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Прямоугольник 7" descr=""/>
          <p:cNvPicPr/>
          <p:nvPr/>
        </p:nvPicPr>
        <p:blipFill>
          <a:blip r:embed="rId1"/>
          <a:stretch/>
        </p:blipFill>
        <p:spPr>
          <a:xfrm>
            <a:off x="1401840" y="1700280"/>
            <a:ext cx="648000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такое система образов?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374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СИСТЕ́МА О́БРАЗОВ — система литературных персонажей в одном произведении, их взаимодействие между собой. Анализ системы литературных образов помогает понять авторский замысе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6" descr="1229318.jpg"/>
          <p:cNvPicPr/>
          <p:nvPr/>
        </p:nvPicPr>
        <p:blipFill>
          <a:blip r:embed="rId1"/>
          <a:stretch/>
        </p:blipFill>
        <p:spPr>
          <a:xfrm>
            <a:off x="1187280" y="765000"/>
            <a:ext cx="7499520" cy="24987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1332000" y="3716280"/>
            <a:ext cx="7272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постные крестьян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читались по закону полной собственностью господина. По сути, это была узаконенная форма рабства. Крестьяне должны были работать на помещика на его поле или отдавать ему часть заработанных дене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е / неправильные вопрос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42560" y="14475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 работал Герасим?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, -дворник, -мясник, -лесоруб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арыня взяла  Герасима в свой московский до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итался самым исправным тягловым мужиком»</a:t>
            </a: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славный он был мужик»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тал за четверых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ыл одарен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удесным голосом, -тонким слухом, -острым умом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ычайной силой)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187280" y="476280"/>
            <a:ext cx="77472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ем сравнивает Герасима автор, когда описывает его скуку в Москве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волком, с орлом, -с быком, -с собакой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жил Герасим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дальнем сарае, в подвале,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каморке над кухней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 чердаке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 вернулся в дом хозяйки после смерти Муму..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рнулся,   -уехал в другой город, -  возвратился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д в родную деревню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трудился?</a:t>
            </a: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полчаса у него всё было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о»</a:t>
            </a: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«усердно исполнял свои обязанности»</a:t>
            </a: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работал без устал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1699920"/>
            <a:ext cx="767556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Герасим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– в переводе с греческого языка «уважаемый», «почтенный»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Прототип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-  с греческого «прообраз», реальное лицо, представление о котором послужило писателю первоосновой при создании литературного героя.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Users\LENOVO\Desktop\slide-7.jpg"/>
          <p:cNvPicPr/>
          <p:nvPr/>
        </p:nvPicPr>
        <p:blipFill>
          <a:blip r:embed="rId1"/>
          <a:stretch/>
        </p:blipFill>
        <p:spPr>
          <a:xfrm>
            <a:off x="1042920" y="522360"/>
            <a:ext cx="741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LENOVO\Desktop\6cdda68fdf89d920559829143622a9b3-800x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НА КРЕПОСТНОГО ПРА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2" name="Picture 2" descr="C:\Users\Юлия\Desktop\slide-1.jpg"/>
          <p:cNvPicPr/>
          <p:nvPr/>
        </p:nvPicPr>
        <p:blipFill>
          <a:blip r:embed="rId1"/>
          <a:stretch/>
        </p:blipFill>
        <p:spPr>
          <a:xfrm>
            <a:off x="1403280" y="1916280"/>
            <a:ext cx="71676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26:48Z</dcterms:created>
  <dc:creator>user</dc:creator>
  <dc:description/>
  <dc:language>en-US</dc:language>
  <cp:lastModifiedBy>Пользователь Windows</cp:lastModifiedBy>
  <dcterms:modified xsi:type="dcterms:W3CDTF">2023-11-29T12:09:08Z</dcterms:modified>
  <cp:revision>76</cp:revision>
  <dc:subject/>
  <dc:title>Слайд 1</dc:title>
</cp:coreProperties>
</file>