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709-0C35-4454-9C5E-A52A7F63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42E-11D3-43E7-9DE9-DDF8F72F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5D530-2819-4652-857C-DA50B2E6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EF6E5-F14E-4AAF-871B-03C930E2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080E1-AA26-43CC-9106-B75C7694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593CC-E487-4B07-9355-4394977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5281A-511A-43B5-85E7-F5253D6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DD47C-98A3-45E6-B788-540265BE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2385B-5F6B-4A8E-9945-BC79155B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919B6-F1E4-4B1C-A8F5-1BEDF403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9352C-8FC1-416E-A178-6A645940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0E1-7712-42EA-9E93-A979DC65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355-A41F-4D11-8381-5BBBAEB5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B484-71C2-4851-9F11-58388D03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3EDD-FB0A-4C9D-964C-AF1BD28B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137B-DE89-4CE8-9F4A-E0BF03AF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00B8-985C-4588-80FC-9972C854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3DBE-DDBC-4B5D-A7AE-FBC13CEA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2620-2DCA-451F-B623-BA1840E6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F58B-D88A-4327-A689-735A1AE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2B6-49DC-466A-9D9C-283CCE0C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42C5-5B8C-4EBF-9965-A525CB84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16C5-9988-4899-A502-DAA368B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A6D1-DC19-48CC-B2AB-553CF4F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1972-6B72-4A7F-A573-EB79A68B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E104-481F-4079-92C8-DE70883C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8124-5543-4971-8B7B-92721762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658D-E92A-4415-9768-87F8D4EE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4A3D7-92D2-40E2-97C9-70E9D01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29F78-2A26-4BE3-A459-28A057EE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7E652-AA96-4880-BD4D-48019FC6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3BA-28E3-4FFC-8769-D75380A4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BA08-FE1C-487A-B3B7-336A733C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8BCE-F2D9-4FB1-A20C-39F17392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3F72-6437-4BA9-93CB-638CD992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6D16-3ECB-42F4-8743-52C4686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21A4-45C4-4B86-9289-D41BDC9E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0835-9C76-453E-9189-AEB6D8FF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2BFE-011B-4CDA-A502-BFDF459F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302D2-70FA-4715-A15E-7319B4BA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5B2C-C075-4E01-B2E5-6EB18479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DA8C-FFFC-4B30-8979-E20D46FF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56F-A980-4B4C-A86B-68FC818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B46A9-1FE0-4B98-86C1-9101BA50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AE00-57F9-4CBA-922F-D5B4F536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C1B9-AB66-4593-AABC-A1F77C77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58A2-90B7-42A2-9BD9-5EE85996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5914-CF47-481F-8C9A-7462E849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D02C1-A1CD-495F-9A10-F57D5D6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9412-C100-4BCD-94F8-1697A679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1F42-D72B-4240-9E59-6948A17C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7CD38-0830-48E0-8487-07485ABB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59C46-C47E-4405-9BE2-21FC481E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54F-FBE2-4049-88BE-7340B024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869F-C751-451F-86BA-2B05E20C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A9D9-5A84-48AB-AFB5-4E7AD529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0140-3553-4F05-A571-C9A56CED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A3EF0-4053-4E38-98A2-DC3E55A2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C238D-4494-4CD2-AD7F-7C5DEC64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5F453-D25E-451D-9A90-A44CA0BE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34435-869B-46F9-9147-8AC762F8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7F795-5753-4CA3-8A0E-C7EC28FE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47A0-BC6C-408B-8336-BC883996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3F65-AD89-482A-BFF4-7059AFA1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8A9-6F9F-4B1E-B47E-A4AB1334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23E94-755E-4944-90EE-1BC9942E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27FD-2934-4C5E-87CF-FC7B3E31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5F470-FF9D-46E0-A1A0-97EEBB38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322CD-CFCF-48A1-BD2E-D2CAE89C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6C1F6-ECD1-4077-998D-82CF12B2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5D77C-312A-4707-A3D9-CA264E18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2E520-D8B4-452F-BA77-75BD76D3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1B90-9105-4A14-8480-54DA5B5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45757-ABB8-4D84-81A9-9D6CC3CD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A2033-01E3-4A09-A1AE-E87D464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2B1-CD71-4D45-BC47-3A799BC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D7156-E5B6-4B39-88EE-37939B5E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A3212-EB3F-4855-A07D-21DBEC33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16641-F3A0-40C4-8DDA-80F31598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DE29-6AE5-4E53-A28D-1E3C1821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9A3F4-251D-471B-B7B9-2E225CA0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8168A-D014-4A06-8482-5D643F5C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B8892-C90D-4A4E-B652-72DD50B4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609A8-08B8-408E-9D2F-4567DCA0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6382-8891-48AC-9D2C-04D1A317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ECB5B-271A-48B8-9B40-F3CEB0C5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A99-EA59-4560-AD02-06A9608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DE6D2-08E0-440C-98E7-DD5E561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1507F-B88E-441C-9156-ADB417EA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60C3A-FCE6-4BDD-99D6-34B00506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50316-81E7-4D61-8303-8BCF4FE0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4DDEC-56F3-495D-BA7B-CB54DE2E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E68A5-D935-4192-8E22-488AF3E7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9F4C1-3E22-45AC-B631-621C3593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15569-079E-4E47-9E4E-7CE76477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CC328-BF5F-4830-9794-A80D12DE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7DBDE-46AB-48DA-B52F-C5636FBA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F09-870F-4CAA-8DBB-A0ACD684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464F-8D15-4569-94D7-B73EE886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12DDD-747E-4974-BA38-BB4E742A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C2E46-64E3-4D7F-9F35-20AE6BF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E54A2-5002-4531-A512-5A642613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05C61-5585-4801-A2D7-7354E561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79F2E-EB74-4624-B214-8BE29663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C7AE1-061D-42F1-9B2A-267884D5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BF2BB-FF11-4C83-84BD-73FE57EE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D4B2E-F4D3-4EEF-A2AA-49647C32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1B79A-5956-4DFC-A111-FE6079BD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C2EE-A13D-48F9-89DC-A3E6946D46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3AC9-79D8-48C7-B9C2-FC65ADC0AB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8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298-7EE8-4173-BCF6-2503267180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3C32-A14D-4A7C-B3F5-D282A552D30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8207-523F-4B91-A032-32A6774A3C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9FF5-FB4B-487B-899F-038FDC6DFA7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15F-12F7-4F47-860D-7AB2C5B453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2843-4807-48A3-A2EB-2528F1D461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876D-1603-42F2-8047-26C72C0030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1258920" y="90792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истема образов:  Образ Гераси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исать сочинение – рассуждение «Герасим –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льный челове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Прямоугольник 7" descr=""/>
          <p:cNvPicPr/>
          <p:nvPr/>
        </p:nvPicPr>
        <p:blipFill>
          <a:blip r:embed="rId1"/>
          <a:stretch/>
        </p:blipFill>
        <p:spPr>
          <a:xfrm>
            <a:off x="1401840" y="1700280"/>
            <a:ext cx="6480000" cy="26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то такое система образов?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374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0e04"/>
                </a:solidFill>
                <a:latin typeface="Corbel"/>
              </a:rPr>
              <a:t>СИСТЕ́МА О́БРАЗОВ — система литературных персонажей в одном произведении, их взаимодействие между собой. Анализ системы литературных образов помогает понять авторский замысе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6" descr="1229318.jpg"/>
          <p:cNvPicPr/>
          <p:nvPr/>
        </p:nvPicPr>
        <p:blipFill>
          <a:blip r:embed="rId1"/>
          <a:stretch/>
        </p:blipFill>
        <p:spPr>
          <a:xfrm>
            <a:off x="1187280" y="765000"/>
            <a:ext cx="7499520" cy="24987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1332000" y="3716280"/>
            <a:ext cx="7272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епостные крестьяне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читались по закону полной собственностью господина. По сути, это была узаконенная форма рабства. Крестьяне должны были работать на помещика на его поле или отдавать ему часть заработанных дене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ьные / неправильные вопрос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42560" y="1447560"/>
            <a:ext cx="810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 работал Герасим?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знец, -дворник, -мясник, -лесоруб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барыня взяла  Герасима в свой московский дом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читался самым исправным тягловым мужиком»</a:t>
            </a: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славный он был мужик»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тал за четверых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ыл одарен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удесным голосом, -тонким слухом, -острым умом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ычайной силой)</a:t>
            </a: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187280" y="476280"/>
            <a:ext cx="77472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ем сравнивает Герасима автор, когда описывает его скуку в Москве?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волком, с орлом, -с быком, -с собакой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жил Герасим?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дальнем сарае, в подвале, 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каморке над кухней,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 чердаке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сим вернулся в дом хозяйки после смерти Муму..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рнулся,   -уехал в другой город, -  возвратился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д в родную деревню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трудился?</a:t>
            </a:r>
            <a:r>
              <a:rPr b="0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полчаса у него всё было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о»</a:t>
            </a: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«усердно исполнял свои обязанности»</a:t>
            </a:r>
            <a:r>
              <a:rPr b="0" i="1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«работал без устал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tt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1699920"/>
            <a:ext cx="767556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Герасим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– в переводе с греческого языка «уважаемый», «почтенный».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Прототип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 -  с греческого «прообраз», реальное лицо, представление о котором послужило писателю первоосновой при создании литературного героя.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Users\LENOVO\Desktop\slide-7.jpg"/>
          <p:cNvPicPr/>
          <p:nvPr/>
        </p:nvPicPr>
        <p:blipFill>
          <a:blip r:embed="rId1"/>
          <a:stretch/>
        </p:blipFill>
        <p:spPr>
          <a:xfrm>
            <a:off x="1042920" y="522360"/>
            <a:ext cx="7416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LENOVO\Desktop\6cdda68fdf89d920559829143622a9b3-800x.jpg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НА КРЕПОСТНОГО ПРАВ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2" name="Picture 2" descr="C:\Users\Юлия\Desktop\slide-1.jpg"/>
          <p:cNvPicPr/>
          <p:nvPr/>
        </p:nvPicPr>
        <p:blipFill>
          <a:blip r:embed="rId1"/>
          <a:stretch/>
        </p:blipFill>
        <p:spPr>
          <a:xfrm>
            <a:off x="1403280" y="1916280"/>
            <a:ext cx="71676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8:26:48Z</dcterms:created>
  <dc:creator>user</dc:creator>
  <dc:description/>
  <dc:language>en-US</dc:language>
  <cp:lastModifiedBy>Пользователь Windows</cp:lastModifiedBy>
  <dcterms:modified xsi:type="dcterms:W3CDTF">2023-11-29T12:09:08Z</dcterms:modified>
  <cp:revision>76</cp:revision>
  <dc:subject/>
  <dc:title>Слайд 1</dc:title>
</cp:coreProperties>
</file>