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9316-5A8A-468F-A213-097393F4E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068B-9BB0-48F6-A487-CAC5E2738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0523-5CF7-4D06-8FB5-5EEB952DE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876A-E85E-4295-8494-DC86842A6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EDD4-2DC3-4DCB-AE56-ED3F78F60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877E-0CEB-437F-9F5C-4C51C90E3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0A33-333A-4BFB-B3FA-57C6AEF5B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2506-D1CD-4AE1-9377-55E4F1DF0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BBBA-232C-4777-911B-2EA1DE9AE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9090-2F2E-45B5-90B6-02B11B67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8718-22D1-4BC2-80EB-2D060F2A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AF29-5318-4873-B5C7-6CEBA3E9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985A8-BBD4-4E74-AB8D-0457413530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06160" y="2997360"/>
            <a:ext cx="8242200" cy="158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algn="ctr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Знакомство с героическим прошлым своей семьи  как одно из условий нравственно-патриотического воспитания старших дошкольников 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4" descr=""/>
          <p:cNvPicPr/>
          <p:nvPr/>
        </p:nvPicPr>
        <p:blipFill>
          <a:blip r:embed="rId1"/>
          <a:stretch/>
        </p:blipFill>
        <p:spPr>
          <a:xfrm>
            <a:off x="12600" y="0"/>
            <a:ext cx="496908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78120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екты разной направлен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99640" y="1601280"/>
            <a:ext cx="7272360" cy="47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5" name="Picture 5" descr="C:\Users\Dom\Desktop\Педагогический проект Была война\12.png"/>
          <p:cNvPicPr/>
          <p:nvPr/>
        </p:nvPicPr>
        <p:blipFill>
          <a:blip r:embed="rId1"/>
          <a:stretch/>
        </p:blipFill>
        <p:spPr>
          <a:xfrm>
            <a:off x="324000" y="836640"/>
            <a:ext cx="4776480" cy="2149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6" name="Picture 6" descr=""/>
          <p:cNvPicPr/>
          <p:nvPr/>
        </p:nvPicPr>
        <p:blipFill>
          <a:blip r:embed="rId2"/>
          <a:stretch/>
        </p:blipFill>
        <p:spPr>
          <a:xfrm>
            <a:off x="4098960" y="4076640"/>
            <a:ext cx="4897440" cy="2086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7" name="Picture 7" descr="D:\мои фото и и фото дети 11 гр.2015\фото 11\предметно развив. среда\IMG_0011.JPG"/>
          <p:cNvPicPr/>
          <p:nvPr/>
        </p:nvPicPr>
        <p:blipFill>
          <a:blip r:embed="rId3"/>
          <a:stretch/>
        </p:blipFill>
        <p:spPr>
          <a:xfrm>
            <a:off x="5479920" y="1052640"/>
            <a:ext cx="3492720" cy="2619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8" name="Picture 8" descr="D:\мои фото и и фото дети 11 гр.2015\фото 11\предметно развив. среда\IMG_0002.JPG"/>
          <p:cNvPicPr/>
          <p:nvPr/>
        </p:nvPicPr>
        <p:blipFill>
          <a:blip r:embed="rId4"/>
          <a:stretch/>
        </p:blipFill>
        <p:spPr>
          <a:xfrm>
            <a:off x="179280" y="3500280"/>
            <a:ext cx="3548160" cy="2662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дагогический проект «Была война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4" descr="F:\DCIM\114_PANA\P1140232.JPG"/>
          <p:cNvPicPr/>
          <p:nvPr/>
        </p:nvPicPr>
        <p:blipFill>
          <a:blip r:embed="rId1"/>
          <a:stretch/>
        </p:blipFill>
        <p:spPr>
          <a:xfrm>
            <a:off x="112680" y="765000"/>
            <a:ext cx="3168720" cy="2519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1" name="Рисунок 6" descr="E:\документы\фото пректа Была война\P1080693.JPG"/>
          <p:cNvPicPr/>
          <p:nvPr/>
        </p:nvPicPr>
        <p:blipFill>
          <a:blip r:embed="rId2"/>
          <a:stretch/>
        </p:blipFill>
        <p:spPr>
          <a:xfrm>
            <a:off x="112680" y="3573360"/>
            <a:ext cx="3368880" cy="2735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2" name="Рисунок 10" descr="F:\DCIM\114_PANA\P1140231.JPG"/>
          <p:cNvPicPr/>
          <p:nvPr/>
        </p:nvPicPr>
        <p:blipFill>
          <a:blip r:embed="rId3"/>
          <a:stretch/>
        </p:blipFill>
        <p:spPr>
          <a:xfrm>
            <a:off x="3790800" y="907920"/>
            <a:ext cx="4321440" cy="2808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3" name="Рисунок 11" descr="F:\DCIM\114_PANA\P1140228.JPG"/>
          <p:cNvPicPr/>
          <p:nvPr/>
        </p:nvPicPr>
        <p:blipFill>
          <a:blip r:embed="rId4"/>
          <a:stretch/>
        </p:blipFill>
        <p:spPr>
          <a:xfrm>
            <a:off x="4572000" y="3860640"/>
            <a:ext cx="4289400" cy="2737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56108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льбом «Воинская слава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58720" y="800280"/>
            <a:ext cx="82072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5" descr="D:\Documents and Settings\Ольга\Рабочий стол\проект\фото пректа Была война\P1080688.JPG"/>
          <p:cNvPicPr/>
          <p:nvPr/>
        </p:nvPicPr>
        <p:blipFill>
          <a:blip r:embed="rId1"/>
          <a:stretch/>
        </p:blipFill>
        <p:spPr>
          <a:xfrm>
            <a:off x="179280" y="736560"/>
            <a:ext cx="2816280" cy="2376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7" name="Рисунок 6" descr="сканирование0018"/>
          <p:cNvPicPr/>
          <p:nvPr/>
        </p:nvPicPr>
        <p:blipFill>
          <a:blip r:embed="rId2"/>
          <a:stretch/>
        </p:blipFill>
        <p:spPr>
          <a:xfrm rot="300600">
            <a:off x="5127480" y="945720"/>
            <a:ext cx="1562400" cy="2362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8" name="Рисунок 7" descr="сканирование0014"/>
          <p:cNvPicPr/>
          <p:nvPr/>
        </p:nvPicPr>
        <p:blipFill>
          <a:blip r:embed="rId3"/>
          <a:stretch/>
        </p:blipFill>
        <p:spPr>
          <a:xfrm>
            <a:off x="6311880" y="4014720"/>
            <a:ext cx="2303640" cy="2727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9" name="Рисунок 8" descr="сканирование0010"/>
          <p:cNvPicPr/>
          <p:nvPr/>
        </p:nvPicPr>
        <p:blipFill>
          <a:blip r:embed="rId4"/>
          <a:stretch/>
        </p:blipFill>
        <p:spPr>
          <a:xfrm>
            <a:off x="3132000" y="736560"/>
            <a:ext cx="2044800" cy="2781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0" name="Рисунок 9" descr="сканирование0002"/>
          <p:cNvPicPr/>
          <p:nvPr/>
        </p:nvPicPr>
        <p:blipFill>
          <a:blip r:embed="rId5"/>
          <a:stretch/>
        </p:blipFill>
        <p:spPr>
          <a:xfrm rot="21249000">
            <a:off x="323640" y="3213000"/>
            <a:ext cx="2139840" cy="342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1" name="Рисунок 10" descr="сканирование0004"/>
          <p:cNvPicPr/>
          <p:nvPr/>
        </p:nvPicPr>
        <p:blipFill>
          <a:blip r:embed="rId6"/>
          <a:stretch/>
        </p:blipFill>
        <p:spPr>
          <a:xfrm>
            <a:off x="2631960" y="3870360"/>
            <a:ext cx="3517920" cy="2260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2" name="Picture 10" descr="D:\мои фото и и фото дети 11 гр.2015\боевая техника\боевая техника 11 гр\IMG_1705.JPG"/>
          <p:cNvPicPr/>
          <p:nvPr/>
        </p:nvPicPr>
        <p:blipFill>
          <a:blip r:embed="rId7"/>
          <a:stretch/>
        </p:blipFill>
        <p:spPr>
          <a:xfrm>
            <a:off x="6892920" y="768240"/>
            <a:ext cx="2071800" cy="2702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44280"/>
            <a:ext cx="791856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исьмо Неизвестному солдат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C:\Users\Dom\Desktop\фото пректа Была война\P1080589.JPG"/>
          <p:cNvPicPr/>
          <p:nvPr/>
        </p:nvPicPr>
        <p:blipFill>
          <a:blip r:embed="rId1"/>
          <a:stretch/>
        </p:blipFill>
        <p:spPr>
          <a:xfrm>
            <a:off x="1258920" y="1052640"/>
            <a:ext cx="691344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ставка боевой тех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D:\мои фото и и фото дети 11 гр.2015\боевая техника\боевая техника 11 гр\IMG_1711.JPG"/>
          <p:cNvPicPr/>
          <p:nvPr/>
        </p:nvPicPr>
        <p:blipFill>
          <a:blip r:embed="rId1"/>
          <a:stretch/>
        </p:blipFill>
        <p:spPr>
          <a:xfrm>
            <a:off x="179280" y="1197000"/>
            <a:ext cx="3900600" cy="2768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7" name="Picture 3" descr="D:\мои фото и и фото дети 11 гр.2015\боевая техника\боевая техника 11 гр\IMG_1707.JPG"/>
          <p:cNvPicPr/>
          <p:nvPr/>
        </p:nvPicPr>
        <p:blipFill>
          <a:blip r:embed="rId2"/>
          <a:stretch/>
        </p:blipFill>
        <p:spPr>
          <a:xfrm>
            <a:off x="3924360" y="2781360"/>
            <a:ext cx="4968720" cy="3725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37680" y="368280"/>
            <a:ext cx="434988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ставка рисунков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0" name="Picture 5" descr="C:\Users\Dom\Desktop\фото пректа Была война\P1080592.JPG"/>
          <p:cNvPicPr/>
          <p:nvPr/>
        </p:nvPicPr>
        <p:blipFill>
          <a:blip r:embed="rId1"/>
          <a:stretch/>
        </p:blipFill>
        <p:spPr>
          <a:xfrm>
            <a:off x="210960" y="631800"/>
            <a:ext cx="2735280" cy="3571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1" name="Picture 6" descr="C:\Users\Dom\Desktop\фото пректа Была война\P1080593.JPG"/>
          <p:cNvPicPr/>
          <p:nvPr/>
        </p:nvPicPr>
        <p:blipFill>
          <a:blip r:embed="rId2"/>
          <a:stretch/>
        </p:blipFill>
        <p:spPr>
          <a:xfrm>
            <a:off x="6443640" y="189000"/>
            <a:ext cx="2397240" cy="3749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2" name="Picture 7" descr="C:\Users\Dom\Desktop\фото пректа Была война\P1080594.JPG"/>
          <p:cNvPicPr/>
          <p:nvPr/>
        </p:nvPicPr>
        <p:blipFill>
          <a:blip r:embed="rId3"/>
          <a:stretch/>
        </p:blipFill>
        <p:spPr>
          <a:xfrm>
            <a:off x="3510000" y="662040"/>
            <a:ext cx="2357280" cy="3219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3" name="Picture 8" descr="C:\Users\Dom\Desktop\фото пректа Была война\P1080595.JPG"/>
          <p:cNvPicPr/>
          <p:nvPr/>
        </p:nvPicPr>
        <p:blipFill>
          <a:blip r:embed="rId4"/>
          <a:stretch/>
        </p:blipFill>
        <p:spPr>
          <a:xfrm rot="21186600">
            <a:off x="250560" y="4184640"/>
            <a:ext cx="1852560" cy="2492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4" name="Picture 9" descr="C:\Users\Dom\Desktop\фото пректа Была война\P1080598.JPG"/>
          <p:cNvPicPr/>
          <p:nvPr/>
        </p:nvPicPr>
        <p:blipFill>
          <a:blip r:embed="rId5"/>
          <a:stretch/>
        </p:blipFill>
        <p:spPr>
          <a:xfrm>
            <a:off x="5489640" y="4208400"/>
            <a:ext cx="3516120" cy="2446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5" name="Picture 10" descr="C:\Users\Dom\Desktop\фото пректа Была война\P1080596.JPG"/>
          <p:cNvPicPr/>
          <p:nvPr/>
        </p:nvPicPr>
        <p:blipFill>
          <a:blip r:embed="rId6"/>
          <a:stretch/>
        </p:blipFill>
        <p:spPr>
          <a:xfrm>
            <a:off x="2335320" y="4203720"/>
            <a:ext cx="3012840" cy="2249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68151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Бессмертный полк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7" descr="C:\Users\Dom\Desktop\фото пректа Была война\IMG_20190508_101237.jpg"/>
          <p:cNvPicPr/>
          <p:nvPr/>
        </p:nvPicPr>
        <p:blipFill>
          <a:blip r:embed="rId1"/>
          <a:stretch/>
        </p:blipFill>
        <p:spPr>
          <a:xfrm rot="21381000">
            <a:off x="826920" y="4076640"/>
            <a:ext cx="3462480" cy="261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8" name="Picture 8" descr="C:\Users\Dom\Desktop\фото пректа Была война\i (1).jpg"/>
          <p:cNvPicPr/>
          <p:nvPr/>
        </p:nvPicPr>
        <p:blipFill>
          <a:blip r:embed="rId2"/>
          <a:stretch/>
        </p:blipFill>
        <p:spPr>
          <a:xfrm>
            <a:off x="404640" y="981000"/>
            <a:ext cx="3368880" cy="2879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9" name="Picture 9" descr="C:\Users\Dom\Desktop\фото пректа Была война\i.jpg"/>
          <p:cNvPicPr/>
          <p:nvPr/>
        </p:nvPicPr>
        <p:blipFill>
          <a:blip r:embed="rId3"/>
          <a:stretch/>
        </p:blipFill>
        <p:spPr>
          <a:xfrm>
            <a:off x="4859280" y="995400"/>
            <a:ext cx="4114800" cy="5465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47280" y="2924280"/>
            <a:ext cx="65883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МЫ ПОМНИМ! 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Ы ГОРДИМСЯ!»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6:48:00Z</dcterms:created>
  <dc:creator>Катенок</dc:creator>
  <dc:description/>
  <dc:language>en-US</dc:language>
  <cp:lastModifiedBy>OLGA</cp:lastModifiedBy>
  <dcterms:modified xsi:type="dcterms:W3CDTF">2023-12-01T14:18:58Z</dcterms:modified>
  <cp:revision>52</cp:revision>
  <dc:subject/>
  <dc:title>Шаблон презентации</dc:title>
</cp:coreProperties>
</file>