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8F5-ED2E-4163-8914-35A10C77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915-C893-499B-9E66-D2B7697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710-89B4-4995-81AB-8FD5B321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47-DA04-4559-B5F5-7F7BE15A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344-3D59-4560-8B01-9411835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D51-1490-4641-8957-B966CD36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DF5-399A-45CE-8E0E-0CE1C7D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C5B-E855-4B11-9E5F-FC33866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6A2-5A55-4EC0-83C9-7491C632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DAE-AC98-4D37-BA68-6810ADE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DC3-ADDA-4B84-9071-DE4CF5B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3C5-A630-40F3-8DCD-B45D66A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0DE1-3923-42AC-A5A4-095410F7F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6160" y="2997360"/>
            <a:ext cx="82422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накомство с героическим прошлым своей семьи  как одно из условий нравственно-патриотического воспитания старших дошкольников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12600" y="0"/>
            <a:ext cx="4969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ы раз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1601280"/>
            <a:ext cx="72723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5" descr="C:\Users\Dom\Desktop\Педагогический проект Была война\12.png"/>
          <p:cNvPicPr/>
          <p:nvPr/>
        </p:nvPicPr>
        <p:blipFill>
          <a:blip r:embed="rId1"/>
          <a:stretch/>
        </p:blipFill>
        <p:spPr>
          <a:xfrm>
            <a:off x="324000" y="836640"/>
            <a:ext cx="4776480" cy="21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4098960" y="4076640"/>
            <a:ext cx="4897440" cy="20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D:\мои фото и и фото дети 11 гр.2015\фото 11\предметно развив. среда\IMG_0011.JPG"/>
          <p:cNvPicPr/>
          <p:nvPr/>
        </p:nvPicPr>
        <p:blipFill>
          <a:blip r:embed="rId3"/>
          <a:stretch/>
        </p:blipFill>
        <p:spPr>
          <a:xfrm>
            <a:off x="5479920" y="1052640"/>
            <a:ext cx="349272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8" descr="D:\мои фото и и фото дети 11 гр.2015\фото 11\предметно развив. среда\IMG_0002.JPG"/>
          <p:cNvPicPr/>
          <p:nvPr/>
        </p:nvPicPr>
        <p:blipFill>
          <a:blip r:embed="rId4"/>
          <a:stretch/>
        </p:blipFill>
        <p:spPr>
          <a:xfrm>
            <a:off x="179280" y="3500280"/>
            <a:ext cx="3548160" cy="26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проект «Была войн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F:\DCIM\114_PANA\P1140232.JPG"/>
          <p:cNvPicPr/>
          <p:nvPr/>
        </p:nvPicPr>
        <p:blipFill>
          <a:blip r:embed="rId1"/>
          <a:stretch/>
        </p:blipFill>
        <p:spPr>
          <a:xfrm>
            <a:off x="112680" y="765000"/>
            <a:ext cx="316872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6" descr="E:\документы\фото пректа Была война\P1080693.JPG"/>
          <p:cNvPicPr/>
          <p:nvPr/>
        </p:nvPicPr>
        <p:blipFill>
          <a:blip r:embed="rId2"/>
          <a:stretch/>
        </p:blipFill>
        <p:spPr>
          <a:xfrm>
            <a:off x="112680" y="3573360"/>
            <a:ext cx="336888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10" descr="F:\DCIM\114_PANA\P1140231.JPG"/>
          <p:cNvPicPr/>
          <p:nvPr/>
        </p:nvPicPr>
        <p:blipFill>
          <a:blip r:embed="rId3"/>
          <a:stretch/>
        </p:blipFill>
        <p:spPr>
          <a:xfrm>
            <a:off x="3790800" y="907920"/>
            <a:ext cx="43214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Рисунок 11" descr="F:\DCIM\114_PANA\P1140228.JPG"/>
          <p:cNvPicPr/>
          <p:nvPr/>
        </p:nvPicPr>
        <p:blipFill>
          <a:blip r:embed="rId4"/>
          <a:stretch/>
        </p:blipFill>
        <p:spPr>
          <a:xfrm>
            <a:off x="4572000" y="3860640"/>
            <a:ext cx="4289400" cy="27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610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бом «Воинская сла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8720" y="80028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D:\Documents and Settings\Ольга\Рабочий стол\проект\фото пректа Была война\P1080688.JPG"/>
          <p:cNvPicPr/>
          <p:nvPr/>
        </p:nvPicPr>
        <p:blipFill>
          <a:blip r:embed="rId1"/>
          <a:stretch/>
        </p:blipFill>
        <p:spPr>
          <a:xfrm>
            <a:off x="179280" y="736560"/>
            <a:ext cx="281628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6" descr="сканирование0018"/>
          <p:cNvPicPr/>
          <p:nvPr/>
        </p:nvPicPr>
        <p:blipFill>
          <a:blip r:embed="rId2"/>
          <a:stretch/>
        </p:blipFill>
        <p:spPr>
          <a:xfrm rot="300600">
            <a:off x="5127480" y="945720"/>
            <a:ext cx="15624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7" descr="сканирование0014"/>
          <p:cNvPicPr/>
          <p:nvPr/>
        </p:nvPicPr>
        <p:blipFill>
          <a:blip r:embed="rId3"/>
          <a:stretch/>
        </p:blipFill>
        <p:spPr>
          <a:xfrm>
            <a:off x="6311880" y="4014720"/>
            <a:ext cx="2303640" cy="27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8" descr="сканирование0010"/>
          <p:cNvPicPr/>
          <p:nvPr/>
        </p:nvPicPr>
        <p:blipFill>
          <a:blip r:embed="rId4"/>
          <a:stretch/>
        </p:blipFill>
        <p:spPr>
          <a:xfrm>
            <a:off x="3132000" y="736560"/>
            <a:ext cx="204480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9" descr="сканирование0002"/>
          <p:cNvPicPr/>
          <p:nvPr/>
        </p:nvPicPr>
        <p:blipFill>
          <a:blip r:embed="rId5"/>
          <a:stretch/>
        </p:blipFill>
        <p:spPr>
          <a:xfrm rot="21249000">
            <a:off x="323640" y="3213000"/>
            <a:ext cx="2139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10" descr="сканирование0004"/>
          <p:cNvPicPr/>
          <p:nvPr/>
        </p:nvPicPr>
        <p:blipFill>
          <a:blip r:embed="rId6"/>
          <a:stretch/>
        </p:blipFill>
        <p:spPr>
          <a:xfrm>
            <a:off x="2631960" y="3870360"/>
            <a:ext cx="3517920" cy="226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10" descr="D:\мои фото и и фото дети 11 гр.2015\боевая техника\боевая техника 11 гр\IMG_1705.JPG"/>
          <p:cNvPicPr/>
          <p:nvPr/>
        </p:nvPicPr>
        <p:blipFill>
          <a:blip r:embed="rId7"/>
          <a:stretch/>
        </p:blipFill>
        <p:spPr>
          <a:xfrm>
            <a:off x="6892920" y="768240"/>
            <a:ext cx="2071800" cy="270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79185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Неизвестному солда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Users\Dom\Desktop\фото пректа Была война\P1080589.JPG"/>
          <p:cNvPicPr/>
          <p:nvPr/>
        </p:nvPicPr>
        <p:blipFill>
          <a:blip r:embed="rId1"/>
          <a:stretch/>
        </p:blipFill>
        <p:spPr>
          <a:xfrm>
            <a:off x="1258920" y="1052640"/>
            <a:ext cx="6913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боев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мои фото и и фото дети 11 гр.2015\боевая техника\боевая техника 11 гр\IMG_1711.JPG"/>
          <p:cNvPicPr/>
          <p:nvPr/>
        </p:nvPicPr>
        <p:blipFill>
          <a:blip r:embed="rId1"/>
          <a:stretch/>
        </p:blipFill>
        <p:spPr>
          <a:xfrm>
            <a:off x="179280" y="1197000"/>
            <a:ext cx="3900600" cy="276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3" descr="D:\мои фото и и фото дети 11 гр.2015\боевая техника\боевая техника 11 гр\IMG_1707.JPG"/>
          <p:cNvPicPr/>
          <p:nvPr/>
        </p:nvPicPr>
        <p:blipFill>
          <a:blip r:embed="rId2"/>
          <a:stretch/>
        </p:blipFill>
        <p:spPr>
          <a:xfrm>
            <a:off x="3924360" y="2781360"/>
            <a:ext cx="4968720" cy="372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7680" y="368280"/>
            <a:ext cx="43498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авка рисун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5" descr="C:\Users\Dom\Desktop\фото пректа Была война\P1080592.JPG"/>
          <p:cNvPicPr/>
          <p:nvPr/>
        </p:nvPicPr>
        <p:blipFill>
          <a:blip r:embed="rId1"/>
          <a:stretch/>
        </p:blipFill>
        <p:spPr>
          <a:xfrm>
            <a:off x="210960" y="631800"/>
            <a:ext cx="27352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6" descr="C:\Users\Dom\Desktop\фото пректа Была война\P1080593.JPG"/>
          <p:cNvPicPr/>
          <p:nvPr/>
        </p:nvPicPr>
        <p:blipFill>
          <a:blip r:embed="rId2"/>
          <a:stretch/>
        </p:blipFill>
        <p:spPr>
          <a:xfrm>
            <a:off x="6443640" y="189000"/>
            <a:ext cx="2397240" cy="374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7" descr="C:\Users\Dom\Desktop\фото пректа Была война\P1080594.JPG"/>
          <p:cNvPicPr/>
          <p:nvPr/>
        </p:nvPicPr>
        <p:blipFill>
          <a:blip r:embed="rId3"/>
          <a:stretch/>
        </p:blipFill>
        <p:spPr>
          <a:xfrm>
            <a:off x="3510000" y="662040"/>
            <a:ext cx="2357280" cy="321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8" descr="C:\Users\Dom\Desktop\фото пректа Была война\P1080595.JPG"/>
          <p:cNvPicPr/>
          <p:nvPr/>
        </p:nvPicPr>
        <p:blipFill>
          <a:blip r:embed="rId4"/>
          <a:stretch/>
        </p:blipFill>
        <p:spPr>
          <a:xfrm rot="21186600">
            <a:off x="250560" y="4184640"/>
            <a:ext cx="1852560" cy="249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9" descr="C:\Users\Dom\Desktop\фото пректа Была война\P1080598.JPG"/>
          <p:cNvPicPr/>
          <p:nvPr/>
        </p:nvPicPr>
        <p:blipFill>
          <a:blip r:embed="rId5"/>
          <a:stretch/>
        </p:blipFill>
        <p:spPr>
          <a:xfrm>
            <a:off x="5489640" y="4208400"/>
            <a:ext cx="351612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10" descr="C:\Users\Dom\Desktop\фото пректа Была война\P1080596.JPG"/>
          <p:cNvPicPr/>
          <p:nvPr/>
        </p:nvPicPr>
        <p:blipFill>
          <a:blip r:embed="rId6"/>
          <a:stretch/>
        </p:blipFill>
        <p:spPr>
          <a:xfrm>
            <a:off x="2335320" y="4203720"/>
            <a:ext cx="301284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815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ссмертный пол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C:\Users\Dom\Desktop\фото пректа Была война\IMG_20190508_101237.jpg"/>
          <p:cNvPicPr/>
          <p:nvPr/>
        </p:nvPicPr>
        <p:blipFill>
          <a:blip r:embed="rId1"/>
          <a:stretch/>
        </p:blipFill>
        <p:spPr>
          <a:xfrm rot="21381000">
            <a:off x="826920" y="4076640"/>
            <a:ext cx="346248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Dom\Desktop\фото пректа Была война\i (1).jpg"/>
          <p:cNvPicPr/>
          <p:nvPr/>
        </p:nvPicPr>
        <p:blipFill>
          <a:blip r:embed="rId2"/>
          <a:stretch/>
        </p:blipFill>
        <p:spPr>
          <a:xfrm>
            <a:off x="404640" y="981000"/>
            <a:ext cx="33688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Dom\Desktop\фото пректа Была война\i.jpg"/>
          <p:cNvPicPr/>
          <p:nvPr/>
        </p:nvPicPr>
        <p:blipFill>
          <a:blip r:embed="rId3"/>
          <a:stretch/>
        </p:blipFill>
        <p:spPr>
          <a:xfrm>
            <a:off x="4859280" y="995400"/>
            <a:ext cx="4114800" cy="546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588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ПОМНИМ!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ГОРДИМСЯ!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OLGA</cp:lastModifiedBy>
  <dcterms:modified xsi:type="dcterms:W3CDTF">2023-12-01T14:18:58Z</dcterms:modified>
  <cp:revision>52</cp:revision>
  <dc:subject/>
  <dc:title>Шаблон презентации</dc:title>
</cp:coreProperties>
</file>