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F59-319B-47EB-A33C-99F1768C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BEF-0E7D-4CB5-AF2D-7D31B6C7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493-13F8-481A-84B5-1FEAB8EE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F74-66D6-46B0-8EC9-BA1C41AD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897-9F8B-457A-A7C3-E80DEE7D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88F-ECAB-40FD-AEFC-67492783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DB4-0636-4E61-89E9-D752D67F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01B-E9F7-4987-B154-E89FA1A9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9C3-3569-4D29-9197-70A4C9A9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D96-E2C0-47A3-BC78-A9BC9D10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C90-EBC4-4B7F-9C00-FBD5B786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B40-FA03-4E24-BFAB-E88A06D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9C8C-102F-4481-8F0F-6C7989FCE4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6160" y="2997360"/>
            <a:ext cx="824220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накомство с героическим прошлым своей семьи  как одно из условий нравственно-патриотического воспитания старших дошкольников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"/>
          <p:cNvPicPr/>
          <p:nvPr/>
        </p:nvPicPr>
        <p:blipFill>
          <a:blip r:embed="rId1"/>
          <a:stretch/>
        </p:blipFill>
        <p:spPr>
          <a:xfrm>
            <a:off x="12600" y="0"/>
            <a:ext cx="49690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812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ы разной направ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1601280"/>
            <a:ext cx="72723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5" descr="C:\Users\Dom\Desktop\Педагогический проект Была война\12.png"/>
          <p:cNvPicPr/>
          <p:nvPr/>
        </p:nvPicPr>
        <p:blipFill>
          <a:blip r:embed="rId1"/>
          <a:stretch/>
        </p:blipFill>
        <p:spPr>
          <a:xfrm>
            <a:off x="324000" y="836640"/>
            <a:ext cx="4776480" cy="21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4098960" y="4076640"/>
            <a:ext cx="4897440" cy="20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7" descr="D:\мои фото и и фото дети 11 гр.2015\фото 11\предметно развив. среда\IMG_0011.JPG"/>
          <p:cNvPicPr/>
          <p:nvPr/>
        </p:nvPicPr>
        <p:blipFill>
          <a:blip r:embed="rId3"/>
          <a:stretch/>
        </p:blipFill>
        <p:spPr>
          <a:xfrm>
            <a:off x="5479920" y="1052640"/>
            <a:ext cx="349272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8" descr="D:\мои фото и и фото дети 11 гр.2015\фото 11\предметно развив. среда\IMG_0002.JPG"/>
          <p:cNvPicPr/>
          <p:nvPr/>
        </p:nvPicPr>
        <p:blipFill>
          <a:blip r:embed="rId4"/>
          <a:stretch/>
        </p:blipFill>
        <p:spPr>
          <a:xfrm>
            <a:off x="179280" y="3500280"/>
            <a:ext cx="3548160" cy="266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й проект «Была войн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F:\DCIM\114_PANA\P1140232.JPG"/>
          <p:cNvPicPr/>
          <p:nvPr/>
        </p:nvPicPr>
        <p:blipFill>
          <a:blip r:embed="rId1"/>
          <a:stretch/>
        </p:blipFill>
        <p:spPr>
          <a:xfrm>
            <a:off x="112680" y="765000"/>
            <a:ext cx="316872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Рисунок 6" descr="E:\документы\фото пректа Была война\P1080693.JPG"/>
          <p:cNvPicPr/>
          <p:nvPr/>
        </p:nvPicPr>
        <p:blipFill>
          <a:blip r:embed="rId2"/>
          <a:stretch/>
        </p:blipFill>
        <p:spPr>
          <a:xfrm>
            <a:off x="112680" y="3573360"/>
            <a:ext cx="3368880" cy="27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Рисунок 10" descr="F:\DCIM\114_PANA\P1140231.JPG"/>
          <p:cNvPicPr/>
          <p:nvPr/>
        </p:nvPicPr>
        <p:blipFill>
          <a:blip r:embed="rId3"/>
          <a:stretch/>
        </p:blipFill>
        <p:spPr>
          <a:xfrm>
            <a:off x="3790800" y="907920"/>
            <a:ext cx="432144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Рисунок 11" descr="F:\DCIM\114_PANA\P1140228.JPG"/>
          <p:cNvPicPr/>
          <p:nvPr/>
        </p:nvPicPr>
        <p:blipFill>
          <a:blip r:embed="rId4"/>
          <a:stretch/>
        </p:blipFill>
        <p:spPr>
          <a:xfrm>
            <a:off x="4572000" y="3860640"/>
            <a:ext cx="4289400" cy="27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6108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ьбом «Воинская слав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58720" y="80028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D:\Documents and Settings\Ольга\Рабочий стол\проект\фото пректа Была война\P1080688.JPG"/>
          <p:cNvPicPr/>
          <p:nvPr/>
        </p:nvPicPr>
        <p:blipFill>
          <a:blip r:embed="rId1"/>
          <a:stretch/>
        </p:blipFill>
        <p:spPr>
          <a:xfrm>
            <a:off x="179280" y="736560"/>
            <a:ext cx="2816280" cy="237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Рисунок 6" descr="сканирование0018"/>
          <p:cNvPicPr/>
          <p:nvPr/>
        </p:nvPicPr>
        <p:blipFill>
          <a:blip r:embed="rId2"/>
          <a:stretch/>
        </p:blipFill>
        <p:spPr>
          <a:xfrm rot="300600">
            <a:off x="5127480" y="945720"/>
            <a:ext cx="156240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Рисунок 7" descr="сканирование0014"/>
          <p:cNvPicPr/>
          <p:nvPr/>
        </p:nvPicPr>
        <p:blipFill>
          <a:blip r:embed="rId3"/>
          <a:stretch/>
        </p:blipFill>
        <p:spPr>
          <a:xfrm>
            <a:off x="6311880" y="4014720"/>
            <a:ext cx="2303640" cy="27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8" descr="сканирование0010"/>
          <p:cNvPicPr/>
          <p:nvPr/>
        </p:nvPicPr>
        <p:blipFill>
          <a:blip r:embed="rId4"/>
          <a:stretch/>
        </p:blipFill>
        <p:spPr>
          <a:xfrm>
            <a:off x="3132000" y="736560"/>
            <a:ext cx="2044800" cy="27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Рисунок 9" descr="сканирование0002"/>
          <p:cNvPicPr/>
          <p:nvPr/>
        </p:nvPicPr>
        <p:blipFill>
          <a:blip r:embed="rId5"/>
          <a:stretch/>
        </p:blipFill>
        <p:spPr>
          <a:xfrm rot="21249000">
            <a:off x="323640" y="3213000"/>
            <a:ext cx="2139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Рисунок 10" descr="сканирование0004"/>
          <p:cNvPicPr/>
          <p:nvPr/>
        </p:nvPicPr>
        <p:blipFill>
          <a:blip r:embed="rId6"/>
          <a:stretch/>
        </p:blipFill>
        <p:spPr>
          <a:xfrm>
            <a:off x="2631960" y="3870360"/>
            <a:ext cx="3517920" cy="226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10" descr="D:\мои фото и и фото дети 11 гр.2015\боевая техника\боевая техника 11 гр\IMG_1705.JPG"/>
          <p:cNvPicPr/>
          <p:nvPr/>
        </p:nvPicPr>
        <p:blipFill>
          <a:blip r:embed="rId7"/>
          <a:stretch/>
        </p:blipFill>
        <p:spPr>
          <a:xfrm>
            <a:off x="6892920" y="768240"/>
            <a:ext cx="2071800" cy="270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79185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ьмо Неизвестному солда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Users\Dom\Desktop\фото пректа Была война\P1080589.JPG"/>
          <p:cNvPicPr/>
          <p:nvPr/>
        </p:nvPicPr>
        <p:blipFill>
          <a:blip r:embed="rId1"/>
          <a:stretch/>
        </p:blipFill>
        <p:spPr>
          <a:xfrm>
            <a:off x="1258920" y="1052640"/>
            <a:ext cx="69134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тавка боевой тех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мои фото и и фото дети 11 гр.2015\боевая техника\боевая техника 11 гр\IMG_1711.JPG"/>
          <p:cNvPicPr/>
          <p:nvPr/>
        </p:nvPicPr>
        <p:blipFill>
          <a:blip r:embed="rId1"/>
          <a:stretch/>
        </p:blipFill>
        <p:spPr>
          <a:xfrm>
            <a:off x="179280" y="1197000"/>
            <a:ext cx="3900600" cy="276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3" descr="D:\мои фото и и фото дети 11 гр.2015\боевая техника\боевая техника 11 гр\IMG_1707.JPG"/>
          <p:cNvPicPr/>
          <p:nvPr/>
        </p:nvPicPr>
        <p:blipFill>
          <a:blip r:embed="rId2"/>
          <a:stretch/>
        </p:blipFill>
        <p:spPr>
          <a:xfrm>
            <a:off x="3924360" y="2781360"/>
            <a:ext cx="4968720" cy="372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7680" y="368280"/>
            <a:ext cx="43498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тавка рисунков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Picture 5" descr="C:\Users\Dom\Desktop\фото пректа Была война\P1080592.JPG"/>
          <p:cNvPicPr/>
          <p:nvPr/>
        </p:nvPicPr>
        <p:blipFill>
          <a:blip r:embed="rId1"/>
          <a:stretch/>
        </p:blipFill>
        <p:spPr>
          <a:xfrm>
            <a:off x="210960" y="631800"/>
            <a:ext cx="273528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6" descr="C:\Users\Dom\Desktop\фото пректа Была война\P1080593.JPG"/>
          <p:cNvPicPr/>
          <p:nvPr/>
        </p:nvPicPr>
        <p:blipFill>
          <a:blip r:embed="rId2"/>
          <a:stretch/>
        </p:blipFill>
        <p:spPr>
          <a:xfrm>
            <a:off x="6443640" y="189000"/>
            <a:ext cx="2397240" cy="374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7" descr="C:\Users\Dom\Desktop\фото пректа Была война\P1080594.JPG"/>
          <p:cNvPicPr/>
          <p:nvPr/>
        </p:nvPicPr>
        <p:blipFill>
          <a:blip r:embed="rId3"/>
          <a:stretch/>
        </p:blipFill>
        <p:spPr>
          <a:xfrm>
            <a:off x="3510000" y="662040"/>
            <a:ext cx="2357280" cy="3219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8" descr="C:\Users\Dom\Desktop\фото пректа Была война\P1080595.JPG"/>
          <p:cNvPicPr/>
          <p:nvPr/>
        </p:nvPicPr>
        <p:blipFill>
          <a:blip r:embed="rId4"/>
          <a:stretch/>
        </p:blipFill>
        <p:spPr>
          <a:xfrm rot="21186600">
            <a:off x="250560" y="4184640"/>
            <a:ext cx="1852560" cy="249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9" descr="C:\Users\Dom\Desktop\фото пректа Была война\P1080598.JPG"/>
          <p:cNvPicPr/>
          <p:nvPr/>
        </p:nvPicPr>
        <p:blipFill>
          <a:blip r:embed="rId5"/>
          <a:stretch/>
        </p:blipFill>
        <p:spPr>
          <a:xfrm>
            <a:off x="5489640" y="4208400"/>
            <a:ext cx="3516120" cy="244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10" descr="C:\Users\Dom\Desktop\фото пректа Была война\P1080596.JPG"/>
          <p:cNvPicPr/>
          <p:nvPr/>
        </p:nvPicPr>
        <p:blipFill>
          <a:blip r:embed="rId6"/>
          <a:stretch/>
        </p:blipFill>
        <p:spPr>
          <a:xfrm>
            <a:off x="2335320" y="4203720"/>
            <a:ext cx="3012840" cy="224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815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ессмертный пол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C:\Users\Dom\Desktop\фото пректа Была война\IMG_20190508_101237.jpg"/>
          <p:cNvPicPr/>
          <p:nvPr/>
        </p:nvPicPr>
        <p:blipFill>
          <a:blip r:embed="rId1"/>
          <a:stretch/>
        </p:blipFill>
        <p:spPr>
          <a:xfrm rot="21381000">
            <a:off x="826920" y="4076640"/>
            <a:ext cx="346248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8" descr="C:\Users\Dom\Desktop\фото пректа Была война\i (1).jpg"/>
          <p:cNvPicPr/>
          <p:nvPr/>
        </p:nvPicPr>
        <p:blipFill>
          <a:blip r:embed="rId2"/>
          <a:stretch/>
        </p:blipFill>
        <p:spPr>
          <a:xfrm>
            <a:off x="404640" y="981000"/>
            <a:ext cx="336888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9" descr="C:\Users\Dom\Desktop\фото пректа Была война\i.jpg"/>
          <p:cNvPicPr/>
          <p:nvPr/>
        </p:nvPicPr>
        <p:blipFill>
          <a:blip r:embed="rId3"/>
          <a:stretch/>
        </p:blipFill>
        <p:spPr>
          <a:xfrm>
            <a:off x="4859280" y="995400"/>
            <a:ext cx="4114800" cy="546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280" y="2924280"/>
            <a:ext cx="65883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Ы ПОМНИМ!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ГОРДИМСЯ!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OLGA</cp:lastModifiedBy>
  <dcterms:modified xsi:type="dcterms:W3CDTF">2023-12-01T14:18:58Z</dcterms:modified>
  <cp:revision>52</cp:revision>
  <dc:subject/>
  <dc:title>Шаблон презентации</dc:title>
</cp:coreProperties>
</file>