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78B-CCD1-45AB-96BA-68B8C04C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8DB-8A2C-4E27-A195-01FEC5A7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D1B-DE89-4CE6-88C5-E9E4671B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716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184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716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184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7B0-6A5A-40B1-B395-EF9C19FF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E018-19EA-43E3-A9B8-15F85E9C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08DA-0663-4C74-9194-131E6C79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5801-BBA5-4D54-8482-50D4F621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5954-7576-450F-A5C7-C1162B31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C734-FA70-4E38-A86A-5C5829D3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62CC-9DE2-43AD-96C2-F367026C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F961-37F7-4F97-8AC8-350C57CA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49A-E814-49C9-8C7A-5312167A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B736-8AD9-4C4B-A53A-447FCACE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C5C2-745B-45D2-A1BA-B5A4E31D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6AE9-51C2-4670-888D-FBDBD570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213A-D44B-4BFD-B8DE-0849BBE4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716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184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716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184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6736-ACF7-4E5A-B819-DEF8C1F2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22F-43E0-43E1-A64B-DDE259C8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EC8-2C78-4F1E-B5E1-7C7CAC37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E42-8870-44C3-8100-E951EBA5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E47-097C-49EC-9704-08E4D6FC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04E3-278E-4CBB-8B37-465524D6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8CC-50B6-41D0-9DE9-F1F932D3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A0B-92AA-4DBA-9D0B-433D06C2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8BEB-5354-4FA4-A254-EB297745C0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5052-8879-48FE-98B2-E024B04698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0920" y="1066320"/>
            <a:ext cx="670536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ajestic"/>
              </a:rPr>
              <a:t>Викторина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Majestic"/>
              </a:rPr>
              <a:t>«В мире сказок»</a:t>
            </a:r>
            <a:endParaRPr b="0" lang="en-US" sz="8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074280" y="152280"/>
            <a:ext cx="2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578130"/>
          <p:cNvPicPr/>
          <p:nvPr/>
        </p:nvPicPr>
        <p:blipFill>
          <a:blip r:embed="rId1"/>
          <a:stretch/>
        </p:blipFill>
        <p:spPr>
          <a:xfrm>
            <a:off x="8458200" y="12600"/>
            <a:ext cx="76212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52480" y="1676520"/>
          <a:ext cx="6172200" cy="454176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01992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ajestic"/>
              </a:rPr>
              <a:t>Животные</a:t>
            </a:r>
            <a:endParaRPr b="0" lang="en-US" sz="8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980720" y="1904760"/>
            <a:ext cx="67820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РАНКА         БАРАК         КОНЬКИ           ВАСИЛ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ЛКОДАВ      ИКОТА         СТРЕКОЗА       ХЛ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Животные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362320" y="1828440"/>
            <a:ext cx="6324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РАН              РАК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Ь               Л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ЛК                КОТ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ЗА                Л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ajestic"/>
              </a:rPr>
              <a:t>Предмет и название сказки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00200" y="990720"/>
          <a:ext cx="7315200" cy="5546520"/>
        </p:xfrm>
        <a:graphic>
          <a:graphicData uri="http://schemas.openxmlformats.org/drawingml/2006/table">
            <a:tbl>
              <a:tblPr/>
              <a:tblGrid>
                <a:gridCol w="3029040"/>
                <a:gridCol w="428616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Горош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вка-бур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корлупа грецкого орех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иса и журавл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тр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 щучьему веленью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увш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казка о мертвой царевне и семи богатырях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Яй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ерая шейка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Лош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ша из топор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Ры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Царевна – лягуш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У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нцесса на горошин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Ябло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юймовоч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Топ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урочка – ряб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ajestic"/>
              </a:rPr>
              <a:t>Предмет и название сказки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00200" y="990720"/>
          <a:ext cx="7315200" cy="5546520"/>
        </p:xfrm>
        <a:graphic>
          <a:graphicData uri="http://schemas.openxmlformats.org/drawingml/2006/table">
            <a:tbl>
              <a:tblPr/>
              <a:tblGrid>
                <a:gridCol w="3029040"/>
                <a:gridCol w="428616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Горош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нцесса на горошин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корлупа грецкого орех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юймовоч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тр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Царевна – лягуш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увш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иса и журавл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Яй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урочка – ряб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Лош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вка-бур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Ры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 щучьему веленью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У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ерая шейка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Ябло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казка о мертвой царевне и семи богатырях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Топ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ша из топора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8120" y="609480"/>
            <a:ext cx="58672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ajestic"/>
              </a:rPr>
              <a:t>По сказкам Шарля Перро</a:t>
            </a:r>
            <a:endParaRPr b="0" lang="en-US" sz="80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52680" y="914040"/>
            <a:ext cx="5562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ajestic"/>
              </a:rPr>
              <a:t>Мини-спектакль</a:t>
            </a:r>
            <a:endParaRPr b="0" lang="en-US" sz="80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09588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ajestic"/>
              </a:rPr>
              <a:t>Сказка – лож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Majestic"/>
              </a:rPr>
              <a:t>да в ней намёк, добрым молодцам урок</a:t>
            </a:r>
            <a:r>
              <a:rPr b="1" lang="ru-RU" sz="8000" spc="-1" strike="noStrike">
                <a:solidFill>
                  <a:srgbClr val="000000"/>
                </a:solidFill>
                <a:latin typeface="Majestic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72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ajestic"/>
              </a:rPr>
              <a:t>Виды сказок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440" y="1828440"/>
            <a:ext cx="4832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ые и авторские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ки о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шебные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ые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ajestic"/>
              </a:rPr>
              <a:t>Волшебное заклинание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ти, лети, лепест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рез запад на вост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рез, север, через юг, Возвращайся, сделав кру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676800"/>
                <a:gridCol w="54720"/>
                <a:gridCol w="360000"/>
                <a:gridCol w="360000"/>
                <a:gridCol w="360000"/>
                <a:gridCol w="361440"/>
                <a:gridCol w="372600"/>
                <a:gridCol w="360000"/>
                <a:gridCol w="361800"/>
                <a:gridCol w="396360"/>
                <a:gridCol w="336240"/>
                <a:gridCol w="374400"/>
                <a:gridCol w="360000"/>
                <a:gridCol w="360000"/>
                <a:gridCol w="360000"/>
                <a:gridCol w="361440"/>
                <a:gridCol w="35640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09600"/>
                <a:gridCol w="41256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81240"/>
                <a:gridCol w="34128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3-12-03T09:20:2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