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785-5828-4095-93A6-6CC7539E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F3B-D69C-4F3B-A4AC-47309ED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E9A-4323-467B-9D06-895A9C29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28A-6CC3-44CA-9535-13F66C6A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344-F33C-4C40-870F-A7FAE281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A3B-B370-4AAD-B090-DA7E071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70E-291F-44B5-8875-E4FADCAA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32AE-4734-4CED-B681-6D8185D1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8AD-BB0C-4045-884F-4FC0C39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6B1-5549-4683-BA5D-DEE9927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02A5-E67D-4C7E-9F6F-57253F7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626-8F4D-4CF3-8F44-B2CDFE2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31B9-0DBC-4E50-A55B-63EF34CD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65D5-17FE-4DE6-AA91-506BF8D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132-BB6A-4394-846B-49886E78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925-27F1-4BD6-BC08-65236834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3E8-E1C2-448B-9B7D-11802164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696-B2CA-4F2C-9CA8-B5491229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AA5-C6C3-4D13-AAFD-3C03BFA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4E-A685-4D97-811E-01BC073C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E3D-3ACF-48AE-AC82-1F6F561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950-707A-4DB7-974D-7295A12F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D9E-9848-478E-A371-3D353B3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5DD-9FF0-4436-B498-52AD831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688-A822-4C3E-BD8C-E822A8BA9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ED7-3680-4230-AD76-323A805FB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6705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Викторин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«В мире сказок»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074280" y="15228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578130"/>
          <p:cNvPicPr/>
          <p:nvPr/>
        </p:nvPicPr>
        <p:blipFill>
          <a:blip r:embed="rId1"/>
          <a:stretch/>
        </p:blipFill>
        <p:spPr>
          <a:xfrm>
            <a:off x="8458200" y="1260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1676520"/>
          <a:ext cx="6172200" cy="454176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0199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КА         БАРАК         КОНЬКИ           ВАСИ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ОДАВ      ИКОТА         СТРЕКОЗА       Х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1828440"/>
            <a:ext cx="6324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              РАК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Ь               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                КОТ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ЗА                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По сказкам Шарля Перро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Мини-спектакль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Сказка – лож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да в ней намёк, добрым молодцам урок</a:t>
            </a: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ajestic"/>
              </a:rPr>
              <a:t>Виды сказок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440" y="1828440"/>
            <a:ext cx="4832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и автор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Волшебное заклинани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ти, лети, лепе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 запад на во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, север, через юг, Возвращайся, сделав кр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676800"/>
                <a:gridCol w="54720"/>
                <a:gridCol w="360000"/>
                <a:gridCol w="360000"/>
                <a:gridCol w="360000"/>
                <a:gridCol w="361440"/>
                <a:gridCol w="372600"/>
                <a:gridCol w="360000"/>
                <a:gridCol w="361800"/>
                <a:gridCol w="396360"/>
                <a:gridCol w="336240"/>
                <a:gridCol w="374400"/>
                <a:gridCol w="360000"/>
                <a:gridCol w="360000"/>
                <a:gridCol w="360000"/>
                <a:gridCol w="361440"/>
                <a:gridCol w="35640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09600"/>
                <a:gridCol w="41256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81240"/>
                <a:gridCol w="34128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12-03T09:20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