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53B-83F5-4C03-AE5B-78BB7AB0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DEB-505B-4AA4-A704-61E1CF44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736-B604-4E1F-8EDE-564E3EC4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01A-86D8-433A-B384-FF226EE6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F1AE-BAB3-41F6-8424-A0F264BD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673C-9D1A-466E-BB4A-967FF73A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F8DF-F003-4517-9287-DBEE6691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FE1B-4EE7-42A3-BE5B-F030D817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3174-4F5D-4A9B-BCD7-3271A413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B802-7A28-4424-AB55-E2F9D3D9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9E38-FACD-4AF8-9C0C-FE1920A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6BD-0018-447F-876D-788FF729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12B0-C63D-4C89-91A9-7D2C229F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42E4-F578-4844-8AAA-4FDBDE0F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2BE5-C462-45E2-AD04-0F0C8F47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4DD9-90E7-41D3-8449-A0D715A1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87FE-7B97-40B0-A75D-14D90E8F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0DB-0708-42BD-8312-48F185E8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011-27A3-44E5-A141-B745354C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3D4-7F45-40C0-A394-1ECCC2E3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F13-8799-4563-B1FA-28DC8B06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E55-2D85-4B3A-AE3D-5C478F14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B8E-30CD-40BB-9482-553FBAEC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0C9-26B9-4769-BCF7-DEA15AB5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B763-9966-448D-9903-8719433CD6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EF11-752B-49D4-9636-7400CD3804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920" y="1066320"/>
            <a:ext cx="67053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Викторина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Majestic"/>
              </a:rPr>
              <a:t>«В мире сказок»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074280" y="152280"/>
            <a:ext cx="2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578130"/>
          <p:cNvPicPr/>
          <p:nvPr/>
        </p:nvPicPr>
        <p:blipFill>
          <a:blip r:embed="rId1"/>
          <a:stretch/>
        </p:blipFill>
        <p:spPr>
          <a:xfrm>
            <a:off x="8458200" y="12600"/>
            <a:ext cx="7621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52480" y="1676520"/>
          <a:ext cx="6172200" cy="454176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01992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Животные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80720" y="1904760"/>
            <a:ext cx="67820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РАНКА         БАРАК         КОНЬКИ           ВАСИЛ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ЛКОДАВ      ИКОТА         СТРЕКОЗА       ХЛ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Животные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62320" y="1828440"/>
            <a:ext cx="6324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РАН              РАК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Ь               Л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ЛК                КОТ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ЗА                Л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Предмет и название сказки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00200" y="990720"/>
          <a:ext cx="7315200" cy="5546520"/>
        </p:xfrm>
        <a:graphic>
          <a:graphicData uri="http://schemas.openxmlformats.org/drawingml/2006/table">
            <a:tbl>
              <a:tblPr/>
              <a:tblGrid>
                <a:gridCol w="3029040"/>
                <a:gridCol w="428616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Горош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вка-бур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корлупа грецкого оре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иса и журавл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тр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 щучьему веленью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увш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азка о мертвой царевне и семи богатырях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Яй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рая шейка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Лош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ша из топор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Ры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Царевна – лягуш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нцесса на горошин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Ябло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юймовоч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Топ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урочка – ряб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Предмет и название сказки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00200" y="990720"/>
          <a:ext cx="7315200" cy="5546520"/>
        </p:xfrm>
        <a:graphic>
          <a:graphicData uri="http://schemas.openxmlformats.org/drawingml/2006/table">
            <a:tbl>
              <a:tblPr/>
              <a:tblGrid>
                <a:gridCol w="3029040"/>
                <a:gridCol w="428616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Горош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нцесса на горошин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корлупа грецкого оре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юймовоч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тр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Царевна – лягуш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увш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иса и журавл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Яй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урочка – ряб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Лош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вка-бур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Ры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 щучьему веленью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рая шейка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Ябло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казка о мертвой царевне и семи богатырях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Топ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ша из топора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8120" y="6094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По сказкам Шарля Перро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52680" y="9140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ajestic"/>
              </a:rPr>
              <a:t>Мини-спектакль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09588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Сказка – лож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да в ней намёк, добрым молодцам урок</a:t>
            </a:r>
            <a:r>
              <a:rPr b="1" lang="ru-RU" sz="8000" spc="-1" strike="noStrike">
                <a:solidFill>
                  <a:srgbClr val="000000"/>
                </a:solidFill>
                <a:latin typeface="Majestic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72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ajestic"/>
              </a:rPr>
              <a:t>Виды сказок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440" y="1828440"/>
            <a:ext cx="4832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ые и авторски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и о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шебны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ы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ajestic"/>
              </a:rPr>
              <a:t>Волшебное заклинани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ти, лети, лепест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ез запад на вост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ез, север, через юг, Возвращайся, сделав кру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676800"/>
                <a:gridCol w="54720"/>
                <a:gridCol w="360000"/>
                <a:gridCol w="360000"/>
                <a:gridCol w="360000"/>
                <a:gridCol w="361440"/>
                <a:gridCol w="372600"/>
                <a:gridCol w="360000"/>
                <a:gridCol w="361800"/>
                <a:gridCol w="396360"/>
                <a:gridCol w="336240"/>
                <a:gridCol w="374400"/>
                <a:gridCol w="360000"/>
                <a:gridCol w="360000"/>
                <a:gridCol w="360000"/>
                <a:gridCol w="361440"/>
                <a:gridCol w="35640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09600"/>
                <a:gridCol w="41256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60360"/>
                <a:gridCol w="36216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ajestic"/>
              </a:rPr>
              <a:t>Кроссворд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52480" y="1295280"/>
          <a:ext cx="6172200" cy="4648320"/>
        </p:xfrm>
        <a:graphic>
          <a:graphicData uri="http://schemas.openxmlformats.org/drawingml/2006/table">
            <a:tbl>
              <a:tblPr/>
              <a:tblGrid>
                <a:gridCol w="381240"/>
                <a:gridCol w="341280"/>
                <a:gridCol w="360360"/>
                <a:gridCol w="360360"/>
                <a:gridCol w="360360"/>
                <a:gridCol w="361800"/>
                <a:gridCol w="372960"/>
                <a:gridCol w="360360"/>
                <a:gridCol w="362160"/>
                <a:gridCol w="360360"/>
                <a:gridCol w="372960"/>
                <a:gridCol w="374760"/>
                <a:gridCol w="360360"/>
                <a:gridCol w="360360"/>
                <a:gridCol w="360360"/>
                <a:gridCol w="361800"/>
                <a:gridCol w="360360"/>
              </a:tblGrid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1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3-12-03T09:20:2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