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346-2517-4850-B2A1-FDE27CAD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D99-67EE-4C6F-9976-E5BB679F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D4E-EFE1-4F98-BA3F-C27A0465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936-EFB1-4005-B719-6C74F0E3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69B-BD0A-450C-B422-87798D7F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0DE-BCA7-4EC3-9027-D6F9C54B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8C0-D5A0-4F7C-8ED8-0F4DA08D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0A7-53D6-4A99-9B8C-4745F942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E74-B161-407C-A7A9-601C0253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A3C-8A0C-456F-8188-E721DE3D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47C-2D2D-4A77-87AB-03D33AC5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047-1A75-4897-8050-A22429A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98B4-56AF-48EF-87C9-F91C4DA88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sudact.ru/law/prikaz-minprosveshcheniia-rossii-ot-24112022-n-1026/federalnaia-adaptirovannaia-osnovnaia-obshcheobrazovatelnaia-programma/ii/10/10.1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sudact.ru/law/prikaz-minobrnauki-rossii-ot-19122014-n-1599/prilozhenie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ая характеристика детей с умственной отстал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eacher_colaberation_pc_400_clr_3388-300x215"/>
          <p:cNvPicPr/>
          <p:nvPr/>
        </p:nvPicPr>
        <p:blipFill>
          <a:blip r:embed="rId1"/>
          <a:stretch/>
        </p:blipFill>
        <p:spPr>
          <a:xfrm>
            <a:off x="2124000" y="3400560"/>
            <a:ext cx="48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овесно-логическое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всех видов мышления (наглядно-действенного, наглядно-образного и словесно-логического) у обучающихся с легкой умственной отсталостью (ИН) в большей степен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доразвито словесно-логическое мышлен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ается в слабости обобщения, трудностях понимания смысла явления или факта. Обучающимся присуща сниженная активность мыслительных процессов и слабая регулирующая роль мышления: зачастую, они начинают выполнять работу, не дослушав инструкции, не поняв цели задания, не имея внутреннего плана действия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лучше запоминают внешние, иногда случайные, зрительно воспринимаемые признаки, при этом, труднее осознаются и запоминаются внутренние логические связи; позже, чем у нормальных сверстников, формируется произвольное запоминание, которое требует многократных повторений. Менее развитым оказывается логическое опосредованное запоминание, хотя механическая память может быть сформирована на более высоком уров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ичается сужением объема, малой устойчивостью, трудностями его распределения, замедленностью переключения. В значительной степени нарушено произвольное внимание, что связано с ослаблением волевого напряжения, направленного на преодоление трудностей, что выражается в неустойчивости внимания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кже в процессе обучения обнаруживаются трудности сосредоточения на каком-либо одном объекте или виде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3D-Women-Search-03-300x300"/>
          <p:cNvPicPr/>
          <p:nvPr/>
        </p:nvPicPr>
        <p:blipFill>
          <a:blip r:embed="rId1"/>
          <a:stretch/>
        </p:blipFill>
        <p:spPr>
          <a:xfrm>
            <a:off x="6443640" y="4437000"/>
            <a:ext cx="2268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потенциал у обучающихся с умственной отсталостью (ИН) обнаруживается в развитии 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шле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нову которого составляют такие операции, как анализ, синтез, сравнение, обобщение, абстракция, конкретизация. Эти мыслительные операции у данной категории детей обладают целым рядом своеобразных черт, проявляющихся в трудностях установления отношений между частями предмета, выделении его существенных признаков и дифференциации их от несущественных, нахождении и сравнении предметов по признакам сходства и отличия и т. 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об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ображение как один из наиболее сложных процессов отличается значительной несформированностью, что выражается в его примитивности, неточности и схематичности.  Задачи на воображение ребенок решает методом «опредмечивание», отсутствует тенденция в наполнении содержательной индивидуализацией и детализацией  образов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школьников с умственной отсталостью (ИН) отмечаются недостатки в развит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 для них  характерно системное недо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ор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ьшие трудности обучающиеся испытывают при выполнении заданий, связанных с точной координацией мелких движений пальцев рук. В свою очередь, это негативно сказывается на овладении письмом и некоторыми трудовыми операциям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дение специальных упражнений, включенных как в содержание коррекционных занятий, так и используемых на отдельных уроках, способствует развитию координации и точности движений пальцев рук и кисти, а также позволяет подготовить обучающихся к овладению учебными и трудовыми действиями, требующими определенной моторной лов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образие протекания психических процессов и особенности волевой сферы школьников с умственной отсталостью (интеллектуальными нарушениями) оказывают отрицательное влияние на характер 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 особенности произвольной, что выражается в недоразвитии мотивационной сферы, слабости побуждений, недостаточности инициативы. Эти недостатки особенно ярко проявляются в учебной деятельности, поскольку учащиеся приступают к ее выполнению без необходимой предшествующей ориентировки в задании и, не сопоставляя ход ее выполнения, с конечной це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моциональ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легкой умственной отсталости эмоции в целом сохранны, однако они отличаются отсутствием оттенков переживаний, неустойчивостью и поверхностью. Отсутствуют или очень слабо выражены переживания, определяющие интерес и побуждение к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моциональ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с умеренной и тяжелой степенью умственной  отсталости часто  не понимают эмоциональные состояния других людей, к оценке других людей не чувствительн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3D-Women-Drawing-01-150x150"/>
          <p:cNvPicPr/>
          <p:nvPr/>
        </p:nvPicPr>
        <p:blipFill>
          <a:blip r:embed="rId1"/>
          <a:stretch/>
        </p:blipFill>
        <p:spPr>
          <a:xfrm>
            <a:off x="5724360" y="3798720"/>
            <a:ext cx="3059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стойкое недоразвитие уровня психической, в первую очередь интеллектуальной деятельности, связанное с врожденной или приобретенной до трехлетнего возраста органической патологией головного мозга. Наряду с умственной недостаточностью всегда имеет место недоразвитие эмоционально-волевой сферы, речи, моторики и всей личности в целом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остраненность умственной отсталости – 1 -3% в общей популяци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хся с умственной отсталостью (ИН) характеризуется слабостью собственных намерений и побуждений, большой внушаемостью. Такие школьники предпочитают выбирать путь, не требующий волевых усилий, а вследствие непосильности предъявляемых требований, у некоторых из них развиваются такие отрицательные черты личности, как негативизм и упрям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етей с умственной отсталость часто отсутствует инициатива и самостоятельность.  Побудить к деятельности, не затрагивающих их узких интересо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рудно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это удается, то возникающее при этом побуждение  тоже отличается слабостью и быстро исчерпыв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an-with-group-03_1"/>
          <p:cNvPicPr/>
          <p:nvPr/>
        </p:nvPicPr>
        <p:blipFill>
          <a:blip r:embed="rId1"/>
          <a:stretch/>
        </p:blipFill>
        <p:spPr>
          <a:xfrm>
            <a:off x="3780000" y="2708280"/>
            <a:ext cx="468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жличностные отнош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ая конфликтность, сопровождаемая неадекватными поведенческими реакциями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нижение адекватности во взаимодействии со сверстниками и взрослыми людьми обусловливается незрелостью социальных мотивов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звитостью навыков общения обучающихся, а это   может выражаться в гиперактивности, вербальной или физической агрессии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o-nas"/>
          <p:cNvPicPr/>
          <p:nvPr/>
        </p:nvPicPr>
        <p:blipFill>
          <a:blip r:embed="rId1"/>
          <a:stretch/>
        </p:blipFill>
        <p:spPr>
          <a:xfrm>
            <a:off x="3851280" y="4017960"/>
            <a:ext cx="5003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обязательных требований, установленных федеральным государственным образовательным стандартом и Федеральной адаптированной основной общеобразовательной программой обучающихся с умственной отсталостью (интеллектуальными нарушениям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оценки достижения планируемых результатов  есть  в готовом виде  в ФАООП с учетом ФГОС обучающихся с УО(ИН). Добавьте особенности оценки по учебным предметам с учетом рекомендуемых форм оценки в ФАОП обучающихся с УО(ИН). Такие формулировки школе придется описать самостоятельно. Учитывайте, что ФОП содержит блоки, по которым нужно описать оценку предметных результатов. Система оценки включает процедуры внутренней и внешней 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0.1. Система оценки достижения обучающимися с умственной отсталостью планируемых результатов освоения ФАООП УО (вариант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1.3. В соответствии с требования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андар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обучающихся с умственной отсталостью оценке подлежат личностные и предмет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1.4. Личностные результаты включают овладение обучающимися социальными (жизненными) компетенциями, необходимыми для решения практико-ориентированных задач и обеспечивающими формирование и развитие социальных отношений, обучающихся в различных сре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оценки личност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навыками коммуникации и принятыми ритуалами социального взаимодействия (то есть самой формой поведения, его социальным рисунком), в том числе с использованием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навыков коммуникации со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нициировать и поддерживать коммуникацию с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применять адекватные способы поведения в раз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собность обращаться за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навыков коммуникации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нициировать и поддерживать коммуникацию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тельная, систематическая, специально организованная работа по обучению целеполаганию, планированию и контро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о-развивающая работа по развитию межличностны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а на сохранные стороны психики ребёнка в процессе 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особой пространственной и временной организации образовательн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ёт психолого-педагогических особенностей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гкая умственная отста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бенка с легкой умственной отсталостью (ИН), хотя и происходит на дефектной основе и характеризуется замедленностью, наличием отклонений от нормального развития, тем не менее, представляет собой поступательный процесс, привносящий качественные изменения в познавательную деятельность детей и их личностную сферу, что дает основания для оптимистического прогно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8" name="Picture 7" descr="3D-Women-Flying-01"/>
          <p:cNvPicPr/>
          <p:nvPr/>
        </p:nvPicPr>
        <p:blipFill>
          <a:blip r:embed="rId1"/>
          <a:stretch/>
        </p:blipFill>
        <p:spPr>
          <a:xfrm>
            <a:off x="5364000" y="3645000"/>
            <a:ext cx="4321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еренная и тяжелая умственная отстал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и с умеренной и тяжел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мственной отсталостью отличаются выраженным недоразвитием мыслительной деятельности, препятствующим освоению предметных учебных знаний. Дети одного возраста характеризуются разной степенью выраженности интеллектуального снижения и психофизического развития, уровень сформированности той или иной психической функции, практического навыка может быть существенно различен. Наряду с нарушением базовых психических функций, памяти и мышления отмечается своеобразное нарушение всех структурных компонентов речи: фонетико-фонематического, лексического и грамматиче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ины умственной отста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подавляющем большинстве случаев интеллектуальные нарушения, имеющиеся у обучающихся с умственной отсталостью, являются следствием органического поражения ЦНС на ранних этапах онтогенез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гативное влияние органического поражения ЦНС имеет системный характер, когда в патологический процесс оказываются вовлеченными все стороны психофизического развития ребенка: мотивационно-потребностная, социально-личностная, моторно-двигательная; эмоционально-волевая сферы, а также когнитивные процессы ― восприятие, мышление, деятельность, речь и пове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следствия умственной отста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дствия поражения ЦНС выражаются в задержке сроков возникновения и незавершенности возрастных психологических новообразований и, главное, в неравномерности, нарушении целостности психофизического развития. Все это, в свою очередь, затрудняет включение ребенка в освоение пласта социальных и культурных достижений общечеловеческого опыта традиционным пут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знавательны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руктуре психики такого ребенка в первую очередь отмечается недоразвитие познавательных интересов и снижение познавательной активности, что обусловлено замедленностью темпа психических процессов, их слабой подвижностью и переключаем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я и понятия детей с умственной отсталостью  бессистемны. Отмечается отсутствие смысловых связей, трудность их установления, инертность, узкая конкретность мышления и чрезвычайная затрудненность обоб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-d-people-coaching-mentoring"/>
          <p:cNvPicPr/>
          <p:nvPr/>
        </p:nvPicPr>
        <p:blipFill>
          <a:blip r:embed="rId1"/>
          <a:stretch/>
        </p:blipFill>
        <p:spPr>
          <a:xfrm>
            <a:off x="5148360" y="3645000"/>
            <a:ext cx="3529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ия между отдельными предметами и явлениями ребенок может устанавливать только в пределах конкретного; при необходимости отвлечения от конкретной ситуации дети становятся беспомощ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5:59:57Z</dcterms:created>
  <dc:creator>TZ</dc:creator>
  <dc:description/>
  <dc:language>en-US</dc:language>
  <cp:lastModifiedBy>Orlova NT</cp:lastModifiedBy>
  <dcterms:modified xsi:type="dcterms:W3CDTF">2023-12-02T05:25:01Z</dcterms:modified>
  <cp:revision>127</cp:revision>
  <dc:subject/>
  <dc:title>Умственная отсталость</dc:title>
</cp:coreProperties>
</file>