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DA16-394A-48D8-91AD-83CCBF328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C547-0789-4A4E-BFCE-CC87906F0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D093-648E-4052-9D8C-BE42DD76F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752F-F972-4081-92AA-DC849FADE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8C96-73B2-4C6E-BB22-77A82EEED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EDD4-CDBF-446F-AE4D-12AAF823A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3858-BBEC-4B59-8F0A-E95563A9C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C677-95E2-4255-A276-D82B3E227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30A3-EE47-431B-B8BC-876B18280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6CB1-30B2-4948-9F83-B86B1C3E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2BC7-4D18-42F8-929E-A37CF5E2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CD18-D15B-4DE9-853B-9004C9F4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1E2C3-E394-414B-8767-5CCFE4D4BE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33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s://sudact.ru/law/prikaz-minprosveshcheniia-rossii-ot-24112022-n-1026/federalnaia-adaptirovannaia-osnovnaia-obshcheobrazovatelnaia-programma/ii/10/10.1/" TargetMode="Externa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s://sudact.ru/law/prikaz-minobrnauki-rossii-ot-19122014-n-1599/prilozhenie/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сихолого-педагогическая характеристика детей с умственной отсталость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teacher_colaberation_pc_400_clr_3388-300x215"/>
          <p:cNvPicPr/>
          <p:nvPr/>
        </p:nvPicPr>
        <p:blipFill>
          <a:blip r:embed="rId1"/>
          <a:stretch/>
        </p:blipFill>
        <p:spPr>
          <a:xfrm>
            <a:off x="2124000" y="3400560"/>
            <a:ext cx="482436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ловесно-логическое мыш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 всех видов мышления (наглядно-действенного, наглядно-образного и словесно-логического) у обучающихся с легкой умственной отсталостью (ИН) в большей степени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доразвито словесно-логическое мышление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 выражается в слабости обобщения, трудностях понимания смысла явления или факта. Обучающимся присуща сниженная активность мыслительных процессов и слабая регулирующая роль мышления: зачастую, они начинают выполнять работу, не дослушав инструкции, не поняв цели задания, не имея внутреннего плана действия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амя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и лучше запоминают внешние, иногда случайные, зрительно воспринимаемые признаки, при этом, труднее осознаются и запоминаются внутренние логические связи; позже, чем у нормальных сверстников, формируется произвольное запоминание, которое требует многократных повторений. Менее развитым оказывается логическое опосредованное запоминание, хотя механическая память может быть сформирована на более высоком уровн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ним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личается сужением объема, малой устойчивостью, трудностями его распределения, замедленностью переключения. В значительной степени нарушено произвольное внимание, что связано с ослаблением волевого напряжения, направленного на преодоление трудностей, что выражается в неустойчивости внимания.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Также в процессе обучения обнаруживаются трудности сосредоточения на каком-либо одном объекте или виде деятель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3D-Women-Search-03-300x300"/>
          <p:cNvPicPr/>
          <p:nvPr/>
        </p:nvPicPr>
        <p:blipFill>
          <a:blip r:embed="rId1"/>
          <a:stretch/>
        </p:blipFill>
        <p:spPr>
          <a:xfrm>
            <a:off x="6443640" y="4437000"/>
            <a:ext cx="2268720" cy="22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ыш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ньший потенциал у обучающихся с умственной отсталостью (ИН) обнаруживается в развитии их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ышления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снову которого составляют такие операции, как анализ, синтез, сравнение, обобщение, абстракция, конкретизация. Эти мыслительные операции у данной категории детей обладают целым рядом своеобразных черт, проявляющихся в трудностях установления отношений между частями предмета, выделении его существенных признаков и дифференциации их от несущественных, нахождении и сравнении предметов по признакам сходства и отличия и т. 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ообра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ображение как один из наиболее сложных процессов отличается значительной несформированностью, что выражается в его примитивности, неточности и схематичности.  Задачи на воображение ребенок решает методом «опредмечивание», отсутствует тенденция в наполнении содержательной индивидуализацией и детализацией  образов вообра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Реч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 школьников с умственной отсталостью (ИН) отмечаются недостатки в развитии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чевой деятельност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 для них  характерно системное недоразвитие ре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оторная сфе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ибольшие трудности обучающиеся испытывают при выполнении заданий, связанных с точной координацией мелких движений пальцев рук. В свою очередь, это негативно сказывается на овладении письмом и некоторыми трудовыми операциями.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роведение специальных упражнений, включенных как в содержание коррекционных занятий, так и используемых на отдельных уроках, способствует развитию координации и точности движений пальцев рук и кисти, а также позволяет подготовить обучающихся к овладению учебными и трудовыми действиями, требующими определенной моторной ловк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еяте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оеобразие протекания психических процессов и особенности волевой сферы школьников с умственной отсталостью (интеллектуальными нарушениями) оказывают отрицательное влияние на характер их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ятель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в особенности произвольной, что выражается в недоразвитии мотивационной сферы, слабости побуждений, недостаточности инициативы. Эти недостатки особенно ярко проявляются в учебной деятельности, поскольку учащиеся приступают к ее выполнению без необходимой предшествующей ориентировки в задании и, не сопоставляя ход ее выполнения, с конечной цель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Эмоциональная сфе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легкой умственной отсталости эмоции в целом сохранны, однако они отличаются отсутствием оттенков переживаний, неустойчивостью и поверхностью. Отсутствуют или очень слабо выражены переживания, определяющие интерес и побуждение к познавательн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Эмоциональная сфе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ти с умеренной и тяжелой степенью умственной  отсталости часто  не понимают эмоциональные состояния других людей, к оценке других людей не чувствительны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3D-Women-Drawing-01-150x150"/>
          <p:cNvPicPr/>
          <p:nvPr/>
        </p:nvPicPr>
        <p:blipFill>
          <a:blip r:embed="rId1"/>
          <a:stretch/>
        </p:blipFill>
        <p:spPr>
          <a:xfrm>
            <a:off x="5724360" y="3798720"/>
            <a:ext cx="305928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Умственная отстал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мственная отстал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— стойкое недоразвитие уровня психической, в первую очередь интеллектуальной деятельности, связанное с врожденной или приобретенной до трехлетнего возраста органической патологией головного мозга. Наряду с умственной недостаточностью всегда имеет место недоразвитие эмоционально-волевой сферы, речи, моторики и всей личности в целом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пространенность умственной отсталости – 1 -3% в общей популяции люд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олевая сфе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олевая сфер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учащихся с умственной отсталостью (ИН) характеризуется слабостью собственных намерений и побуждений, большой внушаемостью. Такие школьники предпочитают выбирать путь, не требующий волевых усилий, а вследствие непосильности предъявляемых требований, у некоторых из них развиваются такие отрицательные черты личности, как негативизм и упрямств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олевая сфе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 детей с умственной отсталость часто отсутствует инициатива и самостоятельность.  Побудить к деятельности, не затрагивающих их узких интересов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трудно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это удается, то возникающее при этом побуждение  тоже отличается слабостью и быстро исчерпываетс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man-with-group-03_1"/>
          <p:cNvPicPr/>
          <p:nvPr/>
        </p:nvPicPr>
        <p:blipFill>
          <a:blip r:embed="rId1"/>
          <a:stretch/>
        </p:blipFill>
        <p:spPr>
          <a:xfrm>
            <a:off x="3780000" y="2708280"/>
            <a:ext cx="468144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ежличностные отнош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сокая конфликтность, сопровождаемая неадекватными поведенческими реакциями.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нижение адекватности во взаимодействии со сверстниками и взрослыми людьми обусловливается незрелостью социальных мотивов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развитостью навыков общения обучающихся, а это   может выражаться в гиперактивности, вербальной или физической агрессии и т.п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4" descr="o-nas"/>
          <p:cNvPicPr/>
          <p:nvPr/>
        </p:nvPicPr>
        <p:blipFill>
          <a:blip r:embed="rId1"/>
          <a:stretch/>
        </p:blipFill>
        <p:spPr>
          <a:xfrm>
            <a:off x="3851280" y="4017960"/>
            <a:ext cx="500364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облюдение обязательных требований, установленных федеральным государственным образовательным стандартом и Федеральной адаптированной основной общеобразовательной программой обучающихся с умственной отсталостью (интеллектуальными нарушениями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оценки достижения планируемых результатов  есть  в готовом виде  в ФАООП с учетом ФГОС обучающихся с УО(ИН). Добавьте особенности оценки по учебным предметам с учетом рекомендуемых форм оценки в ФАОП обучающихся с УО(ИН). Такие формулировки школе придется описать самостоятельно. Учитывайте, что ФОП содержит блоки, по которым нужно описать оценку предметных результатов. Система оценки включает процедуры внутренней и внешней оцен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10.1. Система оценки достижения обучающимися с умственной отсталостью планируемых результатов освоения ФАООП УО (вариант 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.1.3. В соответствии с требованиями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Стандар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ля обучающихся с умственной отсталостью оценке подлежат личностные и предметные результ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.1.4. Личностные результаты включают овладение обучающимися социальными (жизненными) компетенциями, необходимыми для решения практико-ориентированных задач и обеспечивающими формирование и развитие социальных отношений, обучающихся в различных сред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а оценки личностных результа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ладение навыками коммуникации и принятыми ритуалами социального взаимодействия (то есть самой формой поведения, его социальным рисунком), в том числе с использованием информационных технолог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формированность навыков коммуникации со взросл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ность инициировать и поддерживать коммуникацию с взросл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ность применять адекватные способы поведения в разных ситуац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пособность обращаться за помощ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формированность навыков коммуникации со сверстни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ность инициировать и поддерживать коммуникацию со сверстни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ительная, систематическая, специально организованная работа по обучению целеполаганию, планированию и контрол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ррекционно-развивающая работа по развитию межличностных отнош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ора на сохранные стороны психики ребёнка в процессе его обу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еспечение особой пространственной и временной организации образовательной сре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ёт психолого-педагогических особенностей обучающих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Спасиб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за вним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Легкая умственная отстал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тие ребенка с легкой умственной отсталостью (ИН), хотя и происходит на дефектной основе и характеризуется замедленностью, наличием отклонений от нормального развития, тем не менее, представляет собой поступательный процесс, привносящий качественные изменения в познавательную деятельность детей и их личностную сферу, что дает основания для оптимистического прогноз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48" name="Picture 7" descr="3D-Women-Flying-01"/>
          <p:cNvPicPr/>
          <p:nvPr/>
        </p:nvPicPr>
        <p:blipFill>
          <a:blip r:embed="rId1"/>
          <a:stretch/>
        </p:blipFill>
        <p:spPr>
          <a:xfrm>
            <a:off x="5364000" y="3645000"/>
            <a:ext cx="4321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Умеренная и тяжелая умственная отстал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ти с умеренной и тяжел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умственной отсталостью отличаются выраженным недоразвитием мыслительной деятельности, препятствующим освоению предметных учебных знаний. Дети одного возраста характеризуются разной степенью выраженности интеллектуального снижения и психофизического развития, уровень сформированности той или иной психической функции, практического навыка может быть существенно различен. Наряду с нарушением базовых психических функций, памяти и мышления отмечается своеобразное нарушение всех структурных компонентов речи: фонетико-фонематического, лексического и грамматическог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чины умственной отстал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В подавляющем большинстве случаев интеллектуальные нарушения, имеющиеся у обучающихся с умственной отсталостью, являются следствием органического поражения ЦНС на ранних этапах онтогенеза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гативное влияние органического поражения ЦНС имеет системный характер, когда в патологический процесс оказываются вовлеченными все стороны психофизического развития ребенка: мотивационно-потребностная, социально-личностная, моторно-двигательная; эмоционально-волевая сферы, а также когнитивные процессы ― восприятие, мышление, деятельность, речь и поведен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оследствия умственной отстал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ледствия поражения ЦНС выражаются в задержке сроков возникновения и незавершенности возрастных психологических новообразований и, главное, в неравномерности, нарушении целостности психофизического развития. Все это, в свою очередь, затрудняет включение ребенка в освоение пласта социальных и культурных достижений общечеловеческого опыта традиционным путе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ознавательные процес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структуре психики такого ребенка в первую очередь отмечается недоразвитие познавательных интересов и снижение познавательной активности, что обусловлено замедленностью темпа психических процессов, их слабой подвижностью и переключаемость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ыш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ставления и понятия детей с умственной отсталостью  бессистемны. Отмечается отсутствие смысловых связей, трудность их установления, инертность, узкая конкретность мышления и чрезвычайная затрудненность обобщ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3-d-people-coaching-mentoring"/>
          <p:cNvPicPr/>
          <p:nvPr/>
        </p:nvPicPr>
        <p:blipFill>
          <a:blip r:embed="rId1"/>
          <a:stretch/>
        </p:blipFill>
        <p:spPr>
          <a:xfrm>
            <a:off x="5148360" y="3645000"/>
            <a:ext cx="352908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ыш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личия между отдельными предметами и явлениями ребенок может устанавливать только в пределах конкретного; при необходимости отвлечения от конкретной ситуации дети становятся беспомощны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3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9T05:59:57Z</dcterms:created>
  <dc:creator>TZ</dc:creator>
  <dc:description/>
  <dc:language>en-US</dc:language>
  <cp:lastModifiedBy>Orlova NT</cp:lastModifiedBy>
  <dcterms:modified xsi:type="dcterms:W3CDTF">2023-12-02T05:25:01Z</dcterms:modified>
  <cp:revision>127</cp:revision>
  <dc:subject/>
  <dc:title>Умственная отсталость</dc:title>
</cp:coreProperties>
</file>