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6E1A-3011-40DB-801F-791166EF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FF40-F663-4A80-B427-5CEAE279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1A7A-B4B7-4516-B083-F1383393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3170-68AF-4499-9CC1-5D88329B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8FB9-823C-4ABE-B607-CFCBB324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BFB6-79C1-422C-9BAF-F1A92758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2DDB-FB49-426A-940A-BD557657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C03-C052-42F4-B1D4-79CAE9B3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796A-9EB2-42CF-AD66-15083A23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30CB-99D9-4841-B1EB-AE86B3D4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1C52-02E2-4907-A36A-2190AF9B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7B72-2E3D-4F36-B328-69E7EDE3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AE75-F1C3-4D96-8D48-EE163E607F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s://sudact.ru/law/prikaz-minprosveshcheniia-rossii-ot-24112022-n-1026/federalnaia-adaptirovannaia-osnovnaia-obshcheobrazovatelnaia-programma/ii/10/10.1/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sudact.ru/law/prikaz-minobrnauki-rossii-ot-19122014-n-1599/prilozhenie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сихолого-педагогическая характеристика детей с умственной отстал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teacher_colaberation_pc_400_clr_3388-300x215"/>
          <p:cNvPicPr/>
          <p:nvPr/>
        </p:nvPicPr>
        <p:blipFill>
          <a:blip r:embed="rId1"/>
          <a:stretch/>
        </p:blipFill>
        <p:spPr>
          <a:xfrm>
            <a:off x="2124000" y="3400560"/>
            <a:ext cx="4824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ловесно-логическое мыш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 всех видов мышления (наглядно-действенного, наглядно-образного и словесно-логического) у обучающихся с легкой умственной отсталостью (ИН) в большей степен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доразвито словесно-логическое мышление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выражается в слабости обобщения, трудностях понимания смысла явления или факта. Обучающимся присуща сниженная активность мыслительных процессов и слабая регулирующая роль мышления: зачастую, они начинают выполнять работу, не дослушав инструкции, не поняв цели задания, не имея внутреннего плана действия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ам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лучше запоминают внешние, иногда случайные, зрительно воспринимаемые признаки, при этом, труднее осознаются и запоминаются внутренние логические связи; позже, чем у нормальных сверстников, формируется произвольное запоминание, которое требует многократных повторений. Менее развитым оказывается логическое опосредованное запоминание, хотя механическая память может быть сформирована на более высоком уров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личается сужением объема, малой устойчивостью, трудностями его распределения, замедленностью переключения. В значительной степени нарушено произвольное внимание, что связано с ослаблением волевого напряжения, направленного на преодоление трудностей, что выражается в неустойчивости внимания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акже в процессе обучения обнаруживаются трудности сосредоточения на каком-либо одном объекте или виде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3D-Women-Search-03-300x300"/>
          <p:cNvPicPr/>
          <p:nvPr/>
        </p:nvPicPr>
        <p:blipFill>
          <a:blip r:embed="rId1"/>
          <a:stretch/>
        </p:blipFill>
        <p:spPr>
          <a:xfrm>
            <a:off x="6443640" y="4437000"/>
            <a:ext cx="226872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ыш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ий потенциал у обучающихся с умственной отсталостью (ИН) обнаруживается в развитии и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шлени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снову которого составляют такие операции, как анализ, синтез, сравнение, обобщение, абстракция, конкретизация. Эти мыслительные операции у данной категории детей обладают целым рядом своеобразных черт, проявляющихся в трудностях установления отношений между частями предмета, выделении его существенных признаков и дифференциации их от несущественных, нахождении и сравнении предметов по признакам сходства и отличия и т. 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ообра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ображение как один из наиболее сложных процессов отличается значительной несформированностью, что выражается в его примитивности, неточности и схематичности.  Задачи на воображение ребенок решает методом «опредмечивание», отсутствует тенденция в наполнении содержательной индивидуализацией и детализацией  образов во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школьников с умственной отсталостью (ИН) отмечаются недостатки в развити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чевой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 для них  характерно системное недоразвитие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торная сф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ибольшие трудности обучающиеся испытывают при выполнении заданий, связанных с точной координацией мелких движений пальцев рук. В свою очередь, это негативно сказывается на овладении письмом и некоторыми трудовыми операциями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оведение специальных упражнений, включенных как в содержание коррекционных занятий, так и используемых на отдельных уроках, способствует развитию координации и точности движений пальцев рук и кисти, а также позволяет подготовить обучающихся к овладению учебными и трудовыми действиями, требующими определенной моторной лов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еобразие протекания психических процессов и особенности волевой сферы школьников с умственной отсталостью (интеллектуальными нарушениями) оказывают отрицательное влияние на характер и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 особенности произвольной, что выражается в недоразвитии мотивационной сферы, слабости побуждений, недостаточности инициативы. Эти недостатки особенно ярко проявляются в учебной деятельности, поскольку учащиеся приступают к ее выполнению без необходимой предшествующей ориентировки в задании и, не сопоставляя ход ее выполнения, с конечной цел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моциональная сф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легкой умственной отсталости эмоции в целом сохранны, однако они отличаются отсутствием оттенков переживаний, неустойчивостью и поверхностью. Отсутствуют или очень слабо выражены переживания, определяющие интерес и побуждение к познава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моциональная сф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и с умеренной и тяжелой степенью умственной  отсталости часто  не понимают эмоциональные состояния других людей, к оценке других людей не чувствительны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3D-Women-Drawing-01-150x150"/>
          <p:cNvPicPr/>
          <p:nvPr/>
        </p:nvPicPr>
        <p:blipFill>
          <a:blip r:embed="rId1"/>
          <a:stretch/>
        </p:blipFill>
        <p:spPr>
          <a:xfrm>
            <a:off x="5724360" y="3798720"/>
            <a:ext cx="3059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— стойкое недоразвитие уровня психической, в первую очередь интеллектуальной деятельности, связанное с врожденной или приобретенной до трехлетнего возраста органической патологией головного мозга. Наряду с умственной недостаточностью всегда имеет место недоразвитие эмоционально-волевой сферы, речи, моторики и всей личности в целом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ространенность умственной отсталости – 1 -3% в общей популяции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олевая сф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левая сфер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чащихся с умственной отсталостью (ИН) характеризуется слабостью собственных намерений и побуждений, большой внушаемостью. Такие школьники предпочитают выбирать путь, не требующий волевых усилий, а вследствие непосильности предъявляемых требований, у некоторых из них развиваются такие отрицательные черты личности, как негативизм и упрямств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олевая сф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детей с умственной отсталость часто отсутствует инициатива и самостоятельность.  Побудить к деятельности, не затрагивающих их узких интересов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трудно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это удается, то возникающее при этом побуждение  тоже отличается слабостью и быстро исчерпыва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man-with-group-03_1"/>
          <p:cNvPicPr/>
          <p:nvPr/>
        </p:nvPicPr>
        <p:blipFill>
          <a:blip r:embed="rId1"/>
          <a:stretch/>
        </p:blipFill>
        <p:spPr>
          <a:xfrm>
            <a:off x="3780000" y="2708280"/>
            <a:ext cx="4681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ежличностные отнош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кая конфликтность, сопровождаемая неадекватными поведенческими реакциями.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нижение адекватности во взаимодействии со сверстниками и взрослыми людьми обусловливается незрелостью социальных мотивов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развитостью навыков общения обучающихся, а это   может выражаться в гиперактивности, вербальной или физической агрессии 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4" descr="o-nas"/>
          <p:cNvPicPr/>
          <p:nvPr/>
        </p:nvPicPr>
        <p:blipFill>
          <a:blip r:embed="rId1"/>
          <a:stretch/>
        </p:blipFill>
        <p:spPr>
          <a:xfrm>
            <a:off x="3851280" y="4017960"/>
            <a:ext cx="50036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блюдение обязательных требований, установленных федеральным государственным образовательным стандартом и Федеральной адаптированной основной общеобразовательной программой обучающихся с умственной отсталостью (интеллектуальными нарушениями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оценки достижения планируемых результатов  есть  в готовом виде  в ФАООП с учетом ФГОС обучающихся с УО(ИН). Добавьте особенности оценки по учебным предметам с учетом рекомендуемых форм оценки в ФАОП обучающихся с УО(ИН). Такие формулировки школе придется описать самостоятельно. Учитывайте, что ФОП содержит блоки, по которым нужно описать оценку предметных результатов. Система оценки включает процедуры внутренней и внешней оцен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10.1. Система оценки достижения обучающимися с умственной отсталостью планируемых результатов освоения ФАООП УО (вариант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1.3. В соответствии с требованиям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тандар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обучающихся с умственной отсталостью оценке подлежат личностные и предметные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1.4. Личностные результаты включают овладение обучающимися социальными (жизненными) компетенциями, необходимыми для решения практико-ориентированных задач и обеспечивающими формирование и развитие социальных отношений, обучающихся в различных сре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оценки личностных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дение навыками коммуникации и принятыми ритуалами социального взаимодействия (то есть самой формой поведения, его социальным рисунком), в том числе с использованием информационных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ормированность навыков коммуникации со взросл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инициировать и поддерживать коммуникацию с взросл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применять адекватные способы поведения в разных ситуа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особность обращаться за помощ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ормированность навыков коммуникации со сверст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инициировать и поддерживать коммуникацию со сверст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ительная, систематическая, специально организованная работа по обучению целеполаганию, планированию и контрол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рекционно-развивающая работа по развитию межличностных отно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ора на сохранные стороны психики ребёнка в процессе его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ение особой пространственной и временной организации образовательной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ёт психолого-педагогических особенностей обучаю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пасиб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за вним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егкая умственная отстал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ребенка с легкой умственной отсталостью (ИН), хотя и происходит на дефектной основе и характеризуется замедленностью, наличием отклонений от нормального развития, тем не менее, представляет собой поступательный процесс, привносящий качественные изменения в познавательную деятельность детей и их личностную сферу, что дает основания для оптимистического прогно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pic>
        <p:nvPicPr>
          <p:cNvPr id="48" name="Picture 7" descr="3D-Women-Flying-01"/>
          <p:cNvPicPr/>
          <p:nvPr/>
        </p:nvPicPr>
        <p:blipFill>
          <a:blip r:embed="rId1"/>
          <a:stretch/>
        </p:blipFill>
        <p:spPr>
          <a:xfrm>
            <a:off x="5364000" y="3645000"/>
            <a:ext cx="4321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меренная и тяжелая умственная отстал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ти с умеренной и тяжел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мственной отсталостью отличаются выраженным недоразвитием мыслительной деятельности, препятствующим освоению предметных учебных знаний. Дети одного возраста характеризуются разной степенью выраженности интеллектуального снижения и психофизического развития, уровень сформированности той или иной психической функции, практического навыка может быть существенно различен. Наряду с нарушением базовых психических функций, памяти и мышления отмечается своеобразное нарушение всех структурных компонентов речи: фонетико-фонематического, лексического и грамматическ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чины умственной отстал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 подавляющем большинстве случаев интеллектуальные нарушения, имеющиеся у обучающихся с умственной отсталостью, являются следствием органического поражения ЦНС на ранних этапах онтогенеза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гативное влияние органического поражения ЦНС имеет системный характер, когда в патологический процесс оказываются вовлеченными все стороны психофизического развития ребенка: мотивационно-потребностная, социально-личностная, моторно-двигательная; эмоционально-волевая сферы, а также когнитивные процессы ― восприятие, мышление, деятельность, речь и повед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следствия умственной отстал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ледствия поражения ЦНС выражаются в задержке сроков возникновения и незавершенности возрастных психологических новообразований и, главное, в неравномерности, нарушении целостности психофизического развития. Все это, в свою очередь, затрудняет включение ребенка в освоение пласта социальных и культурных достижений общечеловеческого опыта традиционным пут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знавательные проце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труктуре психики такого ребенка в первую очередь отмечается недоразвитие познавательных интересов и снижение познавательной активности, что обусловлено замедленностью темпа психических процессов, их слабой подвижностью и переключаем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ыш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ления и понятия детей с умственной отсталостью  бессистемны. Отмечается отсутствие смысловых связей, трудность их установления, инертность, узкая конкретность мышления и чрезвычайная затрудненность обобщ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3-d-people-coaching-mentoring"/>
          <p:cNvPicPr/>
          <p:nvPr/>
        </p:nvPicPr>
        <p:blipFill>
          <a:blip r:embed="rId1"/>
          <a:stretch/>
        </p:blipFill>
        <p:spPr>
          <a:xfrm>
            <a:off x="5148360" y="3645000"/>
            <a:ext cx="352908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ыш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личия между отдельными предметами и явлениями ребенок может устанавливать только в пределах конкретного; при необходимости отвлечения от конкретной ситуации дети становятся беспомощ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05:59:57Z</dcterms:created>
  <dc:creator>TZ</dc:creator>
  <dc:description/>
  <dc:language>en-US</dc:language>
  <cp:lastModifiedBy>Orlova NT</cp:lastModifiedBy>
  <dcterms:modified xsi:type="dcterms:W3CDTF">2023-12-02T05:25:01Z</dcterms:modified>
  <cp:revision>127</cp:revision>
  <dc:subject/>
  <dc:title>Умственная отсталость</dc:title>
</cp:coreProperties>
</file>