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4D3-F530-447E-8EA6-67292F11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AFB-A3EE-4EBC-8B2E-8184777D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3AD-AEB8-4573-BE00-7E78FDBE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B8B8-A6A0-4C5A-A185-6A1FE95A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EEF-9871-4570-9B8D-7E18FAB6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070-2A1D-4392-95B6-5FF934CB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39A-3619-425A-96E2-43A270E0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24F-AB2D-43A7-AE2C-3C766F2A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3F3-47DE-44AE-9F97-108CFB3D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482-75C3-4416-97FF-098EB08A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4E1-42FC-4F44-B904-6C24DB44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B02-8CFD-4D33-90A2-7DFB544A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E080-5CD6-4101-A6E9-13C2AC293F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7962840" cy="50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Физическая культура в МБДОУ</a:t>
            </a:r>
            <a:br>
              <a:rPr sz="4400"/>
            </a:br>
            <a:r>
              <a:rPr b="0" lang="ru-RU" sz="27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урденкова Е.Е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958160" cy="61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                      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Цели физкультурной работы: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Формирование у детей интереса и ценностного отношения к физической культуре. Укрепление физического и психического здоровья детей, в том  числе  их  эмоционального  благополучия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18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Задачи физкультурной работы: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оздать в группе условия для обеспечения психического и физического благополучия каждого ребенка.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Развитие физических качеств (скоростных, силовых, гибкость, выносливость, координацию).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Накопление и обогащение двигательного опыта детей (овладение основными движениями)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Формирование у воспитанников потребности в двигательной активности и физическом совершенствовании, привитие организаторских способностей.  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крепление здоровья, всесторонне физического  развития  (гармоничность телосложения, соответственно возрасту развитых функций и адаптационных способностей организма, физической и умственной работоспособности), закаливания организм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                                        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                                                    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 своей работе я использую разные типы занятий: традицио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Клип 3" descr="20231101_090255.jpg"/>
          <p:cNvPicPr/>
          <p:nvPr/>
        </p:nvPicPr>
        <p:blipFill>
          <a:blip r:embed="rId1"/>
          <a:stretch/>
        </p:blipFill>
        <p:spPr>
          <a:xfrm>
            <a:off x="685800" y="1571760"/>
            <a:ext cx="3809880" cy="3895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20231101_090425.jpg"/>
          <p:cNvPicPr/>
          <p:nvPr/>
        </p:nvPicPr>
        <p:blipFill>
          <a:blip r:embed="rId2"/>
          <a:stretch/>
        </p:blipFill>
        <p:spPr>
          <a:xfrm>
            <a:off x="4572000" y="1571760"/>
            <a:ext cx="4071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5218200" cy="83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Сюжетно-игровы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Клип 5" descr="20231127_092723.jpg"/>
          <p:cNvPicPr/>
          <p:nvPr/>
        </p:nvPicPr>
        <p:blipFill>
          <a:blip r:embed="rId1"/>
          <a:stretch/>
        </p:blipFill>
        <p:spPr>
          <a:xfrm>
            <a:off x="685800" y="1214280"/>
            <a:ext cx="3809880" cy="4253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20231127_093048.jpg"/>
          <p:cNvPicPr/>
          <p:nvPr/>
        </p:nvPicPr>
        <p:blipFill>
          <a:blip r:embed="rId2"/>
          <a:stretch/>
        </p:blipFill>
        <p:spPr>
          <a:xfrm>
            <a:off x="4643280" y="1214280"/>
            <a:ext cx="41436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5011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Тренировоч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Клип 5" descr="20231020_090710.jpg"/>
          <p:cNvPicPr/>
          <p:nvPr/>
        </p:nvPicPr>
        <p:blipFill>
          <a:blip r:embed="rId1"/>
          <a:stretch/>
        </p:blipFill>
        <p:spPr>
          <a:xfrm>
            <a:off x="685800" y="1357200"/>
            <a:ext cx="3809880" cy="4110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20231020_090828.jpg"/>
          <p:cNvPicPr/>
          <p:nvPr/>
        </p:nvPicPr>
        <p:blipFill>
          <a:blip r:embed="rId2"/>
          <a:stretch/>
        </p:blipFill>
        <p:spPr>
          <a:xfrm>
            <a:off x="4714920" y="1428840"/>
            <a:ext cx="3857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4933800" cy="83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Интегрированны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Клип 10" descr="20231201_084729.jpg"/>
          <p:cNvPicPr/>
          <p:nvPr/>
        </p:nvPicPr>
        <p:blipFill>
          <a:blip r:embed="rId1"/>
          <a:stretch/>
        </p:blipFill>
        <p:spPr>
          <a:xfrm>
            <a:off x="685800" y="142884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1" descr="20231201_084800.jpg"/>
          <p:cNvPicPr/>
          <p:nvPr/>
        </p:nvPicPr>
        <p:blipFill>
          <a:blip r:embed="rId2"/>
          <a:stretch/>
        </p:blipFill>
        <p:spPr>
          <a:xfrm>
            <a:off x="4643280" y="1500120"/>
            <a:ext cx="42865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9:09:20Z</dcterms:created>
  <dc:creator>Маша</dc:creator>
  <dc:description/>
  <dc:language>en-US</dc:language>
  <cp:lastModifiedBy>PC</cp:lastModifiedBy>
  <dcterms:modified xsi:type="dcterms:W3CDTF">2023-12-05T13:36:33Z</dcterms:modified>
  <cp:revision>168</cp:revision>
  <dc:subject/>
  <dc:title>Презентация PowerPoint</dc:title>
</cp:coreProperties>
</file>