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CC4-1397-496B-86DB-EDFE94E8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902-CDCB-4D38-B6EB-A00C58F4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21B-CB7B-412B-BD17-8E859F3B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D9C-F7CE-4C55-BCC8-3B8EA152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6BE5-3409-4D06-9B0E-ACEA1774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18F9-6BAF-4D6D-B299-9EEEBD24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C702-08F4-428C-9C31-C5F4CF46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271C-2989-4D51-8A4C-B9820D2C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0027-6D60-4165-B13D-4E72AB67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D67B-B182-4960-BD5E-DB3A7309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3174-BFCA-4157-970C-5003923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205-7A1C-4EE0-9DDE-C24E6168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46A5-59BA-49C9-89DF-980BD560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7D9C-F76F-430E-B66F-B2059CF8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5F4C-9EEC-4352-BDB0-F8705CA3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C1FA-9808-4FC9-8F69-E4171F74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4EC9-410C-4E2F-9C1D-7A356EBB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A66C-9016-42F6-98DC-C0E9ECED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2B7D-FEC3-4DBF-9BE1-8A110978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53F7-0508-41B0-9E19-94964905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4FC4-3A6C-4B4B-B509-A72DA7CD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A2F0-9A50-4706-A4F5-29D3303D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D04-6D49-4FB6-BDA8-1FC2DE8B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EDA6-258E-4601-87AE-B1A1A855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E42F-CE35-477E-B505-A3A08A5D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A7FD-6B77-474F-AF3C-4298568A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C3CA-9B97-4087-A253-8FD2BE47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EDB9A-D897-4CE5-8441-70069374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F261-329E-4FEB-9768-35D092D4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D846-B11A-434A-A0D6-12FDE98B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16832-2B14-4597-AB54-295278D1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5079-8B8C-4F57-8104-50368612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6BE1-2D5B-4C9E-B14E-32A41E1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C81-1B76-49A9-939B-5C33EE76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DF6F1-9BEE-4D64-AE73-C53048C1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A2291-6909-4D76-A844-4F1B2020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8945-451D-4760-BFEB-172964E4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B032-920E-44E8-BFF1-B93610F9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09BB6-2324-46FF-8D8F-AF88D407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A3D66-926D-4D09-817C-D66A0088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285BA-2AC1-4A18-8DA3-10A70EC8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F00F3-23EA-4AD2-8839-86BFF6DC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3C8D-1B02-42DF-AFDC-597A8CF5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580-82E3-40DE-A3CA-606B1351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AB8-79C6-4C30-AC75-99A3D441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8F8-8F54-4956-887C-2BF46B78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728-6188-4901-AF78-135566E1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FFE-9E86-4886-8962-F8ABA5F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4C96-0A8B-4774-99B6-E26A4DE17EB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69F3-88CB-49F4-8945-1D17F0813BD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C63B-15C7-4E68-A973-86B8E7CFA9E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3DFB-D718-4B27-BBEB-849A4741187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Рыбки в аквариуме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4" descr="C:\Users\USER\Desktop\141.jpg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8229600" cy="5160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USER\Desktop\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C:\Users\USER\Desktop\1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152244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844280"/>
            <a:ext cx="814716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воде жив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з воды пропад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по земле не хож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ерх не гляжу,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незда не завож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детей вывож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4" descr="C:\Users\USER\Desktop\2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 окошке пруд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 нем рыбешки живу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У стеклянных берегов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е бывает рыбаков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4" descr="C:\Users\USER\Desktop\3.jpg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кула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4" descr="C:\Users\USER\Desktop\4.jpg"/>
          <p:cNvPicPr/>
          <p:nvPr/>
        </p:nvPicPr>
        <p:blipFill>
          <a:blip r:embed="rId1"/>
          <a:stretch/>
        </p:blipFill>
        <p:spPr>
          <a:xfrm>
            <a:off x="0" y="1268280"/>
            <a:ext cx="5365800" cy="357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Users\USER\Desktop\5.jpg"/>
          <p:cNvPicPr/>
          <p:nvPr/>
        </p:nvPicPr>
        <p:blipFill>
          <a:blip r:embed="rId2"/>
          <a:stretch/>
        </p:blipFill>
        <p:spPr>
          <a:xfrm>
            <a:off x="4851360" y="2565360"/>
            <a:ext cx="4292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мбала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4" descr="C:\Users\USER\Desktop\6.jpg"/>
          <p:cNvPicPr/>
          <p:nvPr/>
        </p:nvPicPr>
        <p:blipFill>
          <a:blip r:embed="rId1"/>
          <a:stretch/>
        </p:blipFill>
        <p:spPr>
          <a:xfrm>
            <a:off x="3780000" y="2924280"/>
            <a:ext cx="5543280" cy="4154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Users\USER\Desktop\8.jpg"/>
          <p:cNvPicPr/>
          <p:nvPr/>
        </p:nvPicPr>
        <p:blipFill>
          <a:blip r:embed="rId2"/>
          <a:stretch/>
        </p:blipFill>
        <p:spPr>
          <a:xfrm>
            <a:off x="-252360" y="1197000"/>
            <a:ext cx="446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283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4" descr="C:\Users\USER\Desktop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C:\Users\USER\Desktop\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3:20:41Z</dcterms:created>
  <dc:creator>user</dc:creator>
  <dc:description/>
  <dc:language>en-US</dc:language>
  <cp:lastModifiedBy>RePack by SPecialiST</cp:lastModifiedBy>
  <dcterms:modified xsi:type="dcterms:W3CDTF">2021-02-14T10:45:01Z</dcterms:modified>
  <cp:revision>25</cp:revision>
  <dc:subject/>
  <dc:title>Слайд 1</dc:title>
</cp:coreProperties>
</file>