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BB29-6142-432B-8FFF-0CC1AFBA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D8F3-3630-46A0-83DC-9C7249AD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B09-3C33-4AEE-AD41-60F33FB8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5C1-0303-48C9-96D0-EFB0C54B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6201-CA03-41AA-B2A9-98F424D1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60C9-1EAE-4729-A124-933690FF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58DC-923A-4D65-80C5-FF742BCA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4927-DBC1-4930-AE74-24162A02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2008-455C-4591-83AE-1DF1C542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99CC-16A6-48D7-A05C-5A95E32E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1056-C617-488F-9F77-D7E8CCDC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4D7-4971-4EC4-A018-0BFE047D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55D3-992F-478A-BE0D-9CDF3449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E64D-F527-4015-A6A6-37D0783D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56B9-6CFB-4BD8-9B6B-15BC7617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A9AA-C919-4A97-8FB6-2D4D128F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F86B-8C21-4743-9DDC-A65A2296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C28CD-D186-48A8-A788-30966A56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8A887-A9E2-4A9A-9276-6375AF0B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60F11-A424-45BC-A878-5DCDFFDF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02B72-0D8F-46D4-823B-F4392A43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9EFD-3665-4C53-97E3-3F098049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32E6-3E3E-4682-9E95-C0C723A1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6F120-7CE1-4EAB-A3AB-75B8DE02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CD20D-04E3-433D-8DC6-99E0025E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A972B-E4DE-43B1-AB26-87F5B7A4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0E7F4-D228-411D-B98C-938ACCEA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0D311-52F0-4A24-9A3F-9B00F7BD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ABECF-CB26-4638-9844-AE453A61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7E77A-B8A8-471C-B843-B9C0A9F4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1F502-64CE-4224-B2C1-DB832903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08C86-9F58-47FB-871C-457FA96E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6A898-8BEB-4998-8D14-C931BF6E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6B7B-86CD-4A01-9254-B56A913F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A4E36-2BD4-40AB-962D-D63F87B7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B620A-320A-4C44-86E7-A8B932F8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A79EB-8702-4961-B01A-966858B1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2FAF4-126B-42D7-9AF0-64C57060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3346E-E4FE-4ED7-B6E3-82F30D22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A41F9-1D60-4371-8760-9D77D6F7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0B679-262A-425B-9E64-527D3152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17506-BE4C-4978-B8B6-B8DF1D06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3CE5B-1D9D-4E2A-A3F6-1EDE248E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1317-0164-4CB8-8AD8-18A0E1DE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6EA5-44D0-4169-97C3-64750B4F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DFC2-385B-4E5C-A38C-54F2A689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1A49-2D2E-4972-80BB-013FAD99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16F-38B6-4C0A-8E37-BE7BFBA2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A588-8BDD-49D7-89B1-B3313C8BBBE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4D98-D675-4297-AE95-CC793BB2A158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5FCC-D3DC-45E4-9A65-ACB37DF3EAEB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D123-F860-43C1-A8F5-2DDE1AB12C4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34360" indent="-2343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Рыбки в аквариуме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4" descr="C:\Users\USER\Desktop\141.jpg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71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1413000"/>
            <a:ext cx="8229600" cy="5160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Users\USER\Desktop\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4" descr="C:\Users\USER\Desktop\1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152244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844280"/>
            <a:ext cx="814716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воде живем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з воды пропад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по земле не хожу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ерх не гляжу,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незда не завожу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детей вывож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4" descr="C:\Users\USER\Desktop\2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79280" y="980640"/>
            <a:ext cx="87854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а окошке пруд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 нем рыбешки живут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У стеклянных берегов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е бывает рыбаков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Picture 4" descr="C:\Users\USER\Desktop\3.jpg"/>
          <p:cNvPicPr/>
          <p:nvPr/>
        </p:nvPicPr>
        <p:blipFill>
          <a:blip r:embed="rId1"/>
          <a:stretch/>
        </p:blipFill>
        <p:spPr>
          <a:xfrm>
            <a:off x="0" y="69840"/>
            <a:ext cx="914400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кула 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4" descr="C:\Users\USER\Desktop\4.jpg"/>
          <p:cNvPicPr/>
          <p:nvPr/>
        </p:nvPicPr>
        <p:blipFill>
          <a:blip r:embed="rId1"/>
          <a:stretch/>
        </p:blipFill>
        <p:spPr>
          <a:xfrm>
            <a:off x="0" y="1268280"/>
            <a:ext cx="5365800" cy="3576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C:\Users\USER\Desktop\5.jpg"/>
          <p:cNvPicPr/>
          <p:nvPr/>
        </p:nvPicPr>
        <p:blipFill>
          <a:blip r:embed="rId2"/>
          <a:stretch/>
        </p:blipFill>
        <p:spPr>
          <a:xfrm>
            <a:off x="4851360" y="2565360"/>
            <a:ext cx="42926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мбала 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4" descr="C:\Users\USER\Desktop\6.jpg"/>
          <p:cNvPicPr/>
          <p:nvPr/>
        </p:nvPicPr>
        <p:blipFill>
          <a:blip r:embed="rId1"/>
          <a:stretch/>
        </p:blipFill>
        <p:spPr>
          <a:xfrm>
            <a:off x="3780000" y="2924280"/>
            <a:ext cx="5543280" cy="4154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Users\USER\Desktop\8.jpg"/>
          <p:cNvPicPr/>
          <p:nvPr/>
        </p:nvPicPr>
        <p:blipFill>
          <a:blip r:embed="rId2"/>
          <a:stretch/>
        </p:blipFill>
        <p:spPr>
          <a:xfrm>
            <a:off x="-252360" y="1197000"/>
            <a:ext cx="44640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283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4" descr="C:\Users\USER\Desktop\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9700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C:\Users\USER\Desktop\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3:20:41Z</dcterms:created>
  <dc:creator>user</dc:creator>
  <dc:description/>
  <dc:language>en-US</dc:language>
  <cp:lastModifiedBy>RePack by SPecialiST</cp:lastModifiedBy>
  <dcterms:modified xsi:type="dcterms:W3CDTF">2021-02-14T10:45:01Z</dcterms:modified>
  <cp:revision>25</cp:revision>
  <dc:subject/>
  <dc:title>Слайд 1</dc:title>
</cp:coreProperties>
</file>