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7EB-35B0-4893-B815-55BFA0C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92E-6F8D-4371-AA08-006F12DC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702-F6CC-4317-BC24-1B218224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B72-B3C4-43D6-913F-CD8327F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FBE9-6242-4B4D-9EA9-AE0A5C66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F18-CF84-418D-A824-2488FB99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B2A-F934-410E-A62A-078A94C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7142-C490-4A22-A1FA-B4D4AAE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B5F-184D-4160-924B-DA8224E4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F6A7-09D4-4DA8-B5DE-AE59AB1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A6B1-EC2F-47C0-B224-1E8AFA5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50E-61A5-447A-9CE1-D43B9DAC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EF31-8B05-4747-B98C-C727B70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0E0D-4E76-4AAD-AFCC-A0BE2AE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A04-98DD-427C-A340-804140C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437-97D9-4454-BC1C-2DDD3898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46FB-BFB5-4D7E-937E-1BA77D69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4BD9-E325-4B56-A793-86FA132C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8FAD-0A01-4845-B94F-BC7A4535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4CE9-9804-440E-9506-D46E391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A222-888D-4594-A87B-2AA5DD41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7B71-2C99-45A2-8AF6-A5E4AEC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91E-9A0B-4E30-A9E1-A89551A3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9487-E649-4900-A023-3EDC6A8A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F4924-0DFD-4241-A835-FFF9AD7F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1141-CC41-4074-BE44-9AE23BA0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56C6-FC8B-42BE-8868-9E665AA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82E9-FBCA-4223-B58A-0E5C48F3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28AD-59A1-4DE9-89F7-2582F43A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F708-BF34-433F-B625-8D46F2DD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0F77-8687-4344-B127-339DF82F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ABBC-A993-480F-84BE-C4CE6596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C687-27C6-4242-833B-45E81067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0F0-903B-499D-954F-FE898C3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11AB-47C1-4529-B545-C5419645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8635-451C-4C69-A32A-BD3AB51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60A2D-C375-4E06-A9BD-8A621D88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62DE-0AB5-433B-BE05-161B38C2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ECFA-D6DF-4671-BB43-0E925273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E07C-5C8C-4BA3-A697-B8AE2EF6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C014-17C9-4500-96FA-98171319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33FA-32D9-459C-A33D-4C0F5AB6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5C302-E45C-4C96-8039-ED1016EC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99C-8754-4921-8C45-662BA2D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786-6263-46ED-A498-BE7F398F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3E5-3F59-4522-976A-F21828A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3B3-D12B-4B3C-B773-ED889F8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928-EF80-4620-8470-FD0EE01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5F8-B7AB-4A69-846E-D5BAC1A49CE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E432-4980-455B-8DCA-6512020D715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623-7004-4C87-843A-538ACAE993F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EC70-0CB8-4024-9CF7-972FE93777F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Рыбки в аквариуме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4" descr="C:\Users\USER\Desktop\141.jpg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160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USER\Desktop\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C:\Users\USER\Desktop\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15224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844280"/>
            <a:ext cx="814716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воде жив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 воды пропад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по земле не хож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ерх не гляжу,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незда не завож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детей вывож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C:\Users\USER\Desktop\2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 окошке пруд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нем рыбешки живу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У стеклянных берего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е бывает рыбаков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USER\Desktop\3.jpg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ул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C:\Users\USER\Desktop\4.jpg"/>
          <p:cNvPicPr/>
          <p:nvPr/>
        </p:nvPicPr>
        <p:blipFill>
          <a:blip r:embed="rId1"/>
          <a:stretch/>
        </p:blipFill>
        <p:spPr>
          <a:xfrm>
            <a:off x="0" y="1268280"/>
            <a:ext cx="5365800" cy="35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USER\Desktop\5.jpg"/>
          <p:cNvPicPr/>
          <p:nvPr/>
        </p:nvPicPr>
        <p:blipFill>
          <a:blip r:embed="rId2"/>
          <a:stretch/>
        </p:blipFill>
        <p:spPr>
          <a:xfrm>
            <a:off x="4851360" y="2565360"/>
            <a:ext cx="4292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мбал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C:\Users\USER\Desktop\6.jpg"/>
          <p:cNvPicPr/>
          <p:nvPr/>
        </p:nvPicPr>
        <p:blipFill>
          <a:blip r:embed="rId1"/>
          <a:stretch/>
        </p:blipFill>
        <p:spPr>
          <a:xfrm>
            <a:off x="3780000" y="2924280"/>
            <a:ext cx="5543280" cy="415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USER\Desktop\8.jpg"/>
          <p:cNvPicPr/>
          <p:nvPr/>
        </p:nvPicPr>
        <p:blipFill>
          <a:blip r:embed="rId2"/>
          <a:stretch/>
        </p:blipFill>
        <p:spPr>
          <a:xfrm>
            <a:off x="-252360" y="1197000"/>
            <a:ext cx="446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283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C:\Users\USER\Desktop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Users\USER\Desktop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20:41Z</dcterms:created>
  <dc:creator>user</dc:creator>
  <dc:description/>
  <dc:language>en-US</dc:language>
  <cp:lastModifiedBy>RePack by SPecialiST</cp:lastModifiedBy>
  <dcterms:modified xsi:type="dcterms:W3CDTF">2021-02-14T10:45:01Z</dcterms:modified>
  <cp:revision>25</cp:revision>
  <dc:subject/>
  <dc:title>Слайд 1</dc:title>
</cp:coreProperties>
</file>