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E72-A938-4490-B5AB-9AB571B9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977-2C94-4C97-992A-0FB93C97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03F-B48E-49DA-96E8-81BF4F99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F7F-56DB-4980-8DC7-E58A07C6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3AEB-E8EE-4852-A9BD-E6FD2D99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ABA5-BBE0-45DC-B71C-DD6BD602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622F-7DC9-4AF3-B06D-5DD6BE9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D02F-518A-4BEC-BBAE-59E14AF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5FF2-7BE0-4A70-A2F4-3D4DA8B4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59F-B2C9-4A1E-8FB8-192E9B8E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3E5A-9C93-4448-B270-1747CCAA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A0A-5239-4325-A094-DC75C7F6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BE7F-5091-4B34-B2D4-0F6D1EB0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DD03-49F0-4A6F-A6CA-ECD03F66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E505-488F-4D4D-8965-022CD915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DE51-B5E9-4FA1-A144-886B5C4A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57F-7160-4609-8741-F06A9682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9DD07-CD6B-49B6-A5A1-BBC58288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A21F7-C5D9-4617-A322-3F92DC14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EBD17-2DAC-4985-80F6-4E0A847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BF9C4-20A8-4AE3-A2AD-BA57953C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F5279-3668-48C0-9DFC-8EE58F6B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7B2-7F2A-4376-A1F1-5574A38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190BF-9AE4-40FB-A542-5A117D4B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39D0F-F734-4FBE-B16E-7441FF59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9834C-1796-495B-BB63-3DA1B7A3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95413-6B0E-446C-9EA6-50F7AEC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9998F-97A2-40B3-B982-988129C2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C7E6D-E91E-4458-90FC-E5A0479D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B6BC3-ADE4-448C-9AD3-E41DB96E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3BB9-F37C-4A3D-97A7-6D8AE2B0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9E69-CCED-46B5-B738-8CB2C794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617D-BC3B-4155-8AAF-33DE0A90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BB6-05C2-4A69-B475-E510544C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EEE7-D8F3-46A8-92C6-4B375E0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BC595-A705-4FBA-8776-926F9CD5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4E16-AAE6-499F-8507-92D16126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3AC6C-CECD-4D77-880C-D86D8943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43D63-1B6D-4A87-8E80-FDC7B292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6885-B1DC-4505-9DE9-4B31C6A5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0AABA-3DEB-44E3-9F1B-571ABACD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1A1D-1552-4EEC-8455-C2202519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3F28-007B-4C72-B8D1-D3365606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39C-68FD-4E72-8405-C694334C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96F-AC54-4D91-BEE7-60F8D7F5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3C3-C493-4E80-BE27-FF669668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208-E605-47E5-97BA-4AD7796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71C-92FE-46B1-90F5-A2FB771F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A5FB-8009-4C7A-BBEE-BEFED0F98F3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F8B9-B839-49EB-94E9-D5990957E94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E7E-ACC7-4755-9DE5-D294013238B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949E-3194-43AB-8DF6-1F38BEE2220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ребования к планированию коррекционно-развивающих урок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аре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рок чтения – 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тап проверки д/з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жите название текста из букв, разбросанных на панно («Осень»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берите цвета осени из полосок, лежащих на столе учителя (10 полосок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помните, что говорилось в тексте о «золотой осени», найдите, прочитайте (выборочное чтение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 чём вам говорит этот цвет полоски; найдите на доске слова, подходящие по смыслу. 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мена видов деятельности учащихся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 слушают (учителя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ют (бесед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умают и пишут (программированные задани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сказывают (рассказ ученика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грают (кроссворд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итают (работа с текстовым материалом) и т. д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глядные пособ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на уроках  должн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тимулировать интеллектуальный компонен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 выступать в роли эмоционального (развлекательного) фон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ешать определенную дидактическую задач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креплять зрительный образ изучаемого объекта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ктивизировать устное высказывание учащихс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 демонстрации наглядного пособ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етко поставить перед учащимися задач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ть им время на ее реш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рией вопросов направить внимание в нужном направлении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яснить рассматриваемый объек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сти словарную работу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слушать ответы (рассказы) ученик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Picture 3" descr="C:\Users\USER\Desktop\1.jpg"/>
          <p:cNvPicPr/>
          <p:nvPr/>
        </p:nvPicPr>
        <p:blipFill>
          <a:blip r:embed="rId1"/>
          <a:stretch/>
        </p:blipFill>
        <p:spPr>
          <a:xfrm>
            <a:off x="0" y="4869000"/>
            <a:ext cx="2448000" cy="1707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2.jpg"/>
          <p:cNvPicPr/>
          <p:nvPr/>
        </p:nvPicPr>
        <p:blipFill>
          <a:blip r:embed="rId2"/>
          <a:stretch/>
        </p:blipFill>
        <p:spPr>
          <a:xfrm>
            <a:off x="3132000" y="4508640"/>
            <a:ext cx="2675160" cy="14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3.gif"/>
          <p:cNvPicPr/>
          <p:nvPr/>
        </p:nvPicPr>
        <p:blipFill>
          <a:blip r:embed="rId3"/>
          <a:stretch/>
        </p:blipFill>
        <p:spPr>
          <a:xfrm>
            <a:off x="6377040" y="4570560"/>
            <a:ext cx="2766960" cy="22874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9"/>
          <p:cNvSpPr/>
          <p:nvPr/>
        </p:nvSpPr>
        <p:spPr>
          <a:xfrm>
            <a:off x="1908000" y="126828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 должна быть схематичного плана, то есть рисунки, которые поэтапно воссоздают объект, предмет; схемы, последовательно рисующиеся на глазах учащихся; составление букв, цифр из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C:\Users\USER\Desktop\4.png"/>
          <p:cNvPicPr/>
          <p:nvPr/>
        </p:nvPicPr>
        <p:blipFill>
          <a:blip r:embed="rId4"/>
          <a:stretch/>
        </p:blipFill>
        <p:spPr>
          <a:xfrm>
            <a:off x="179280" y="2349360"/>
            <a:ext cx="189252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ррекционная це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- мыслительная деятельность, процессы анализа, синтеза, классификация и сравне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е изобразительного искусства -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енсорная деятельность и мелкая моторика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е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-процессы запоминания и воспроизведения вербальной памяти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развития реч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-внимание и сосредоточенность, восприятие и зрительную память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уроке письм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-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уховые, зрительные и речедвигательные анализатор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уроке труд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-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лкая моторика рук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Формулировки  коррекционных задач для разных учебных дисциплин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аналитико-синтетической деятельности учащихся на основе упражнений в составлении целого как способ развития логического мышления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чте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вербальной памяти на основе упражнений учащихся в запоминании слов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истор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слухового восприятия учащихся на основе упражнений в узнавании и соотнесении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 биолог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оррекция зрительного восприятия на основе упражнений на внимание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оспитательная задач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 -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 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оспитание мотивации к учен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78100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ррекционно-развивающие уро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 - это уроки, на которых происходит отработка учебной информации с позиции максимальной активности работы всех анализаторов каждого конкретного ученика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стема принципов коррекционно-развивающего сопровождения ( Е.Д.Худенко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динамичности восприяти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продуктивности обработки информаци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развития и коррекции высших психических функций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нцип мотивации к учению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325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Дидактическая цель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 определяет, чему будет учитель учить на данном уроке, и от нее зависит тип и структура урока, то есть,  как его спланировать. 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Познакомить учащихся с решением задач в два действия» — это будет урок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зучения нового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Дать понятие о числе и цифре 2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рок изучения новог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Выяснить уровень знаний учащихся по теме «Овощи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водны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Обобщить и систематизировать знания учащихся по теме…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общающи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Закрепить математические умения сложения и вычитания в пределах 10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рок закреплен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Закрепить знания учащихся по теме «Овощи»; выяснить их представления по теме «Фрукты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«Обобщить и систематизировать знания учащихся по теме «Домашние животные». Дать понятие о диких животных на основе знакомства с лисой» —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26792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ипы и структура урок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дели урока изучения нового материал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                                                                    Б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. момент                                                  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ведение в тему                                           Проверка д/з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ение нового                                         Изучение новог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общение                                                    Закрепл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ог                                                                 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                                                                    Г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. момент                                                   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ктуализация опорных знаний              Изучение новог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 представлений учащихся                          Обобщ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ановка проблемы                                Закрепл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стные отчёты учащихся                           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рок обобщения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Орг. момен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Введение в те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Обобщение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ающая бесе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граммированные зад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сказы ученик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Ито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омбинированный ур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структура зависит от целей урок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                                          Б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. момент                        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                       Обобщ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ого                Введение в тем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                        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опорных зн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ог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водный урок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г. момен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ведение в тем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ктуализация опорных знаний и представле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обще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то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ыступление на семинаре 23.12.2020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рок как основная форма организации обучения</a:t>
            </a:r>
            <a:br>
              <a:rPr sz="1400"/>
            </a:br>
            <a:r>
              <a:rPr b="1" lang="ru-RU" sz="1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в специальной (коррекционной) общеобразовательной школе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етоды работ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юбой учебный метод, включенный в урок, должен решать конкретную задачу по обработке учебной информации: повторять, закреплять, изучать и т. п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направленность урока предполагает, что методы, включенные в урок, будут выполнять не только учебную, но и развивающую функци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3:20:41Z</dcterms:created>
  <dc:creator>user</dc:creator>
  <dc:description/>
  <dc:language>en-US</dc:language>
  <cp:lastModifiedBy>RePack by SPecialiST</cp:lastModifiedBy>
  <dcterms:modified xsi:type="dcterms:W3CDTF">2020-12-22T15:03:47Z</dcterms:modified>
  <cp:revision>20</cp:revision>
  <dc:subject/>
  <dc:title>Слайд 1</dc:title>
</cp:coreProperties>
</file>