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8FB-D38A-4F0C-B075-1E0032EF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588-BB86-4B32-AC81-0B8A31B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836-FF59-4797-A510-94814C3F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83E-5A3C-4CC9-88DF-49FDB952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A00C-47B1-427B-AA57-114DE6AE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BBE3-D39A-4B26-88A8-3A920D8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215-B7DB-4FCA-8AD6-2F14CB9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230-B1D8-474B-B6C0-C292D6F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2B89-0CDE-4ABC-948A-AE95B7F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989A-9D26-426D-8B12-CA74178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671-BB1E-43E7-8106-F6F2C6B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6D6-340E-43BF-9897-1C17B13C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CBB2-580C-4FD4-8393-90EBEA1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FB80-305D-4F77-89A0-5BCFD9C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FFE4-A1C3-475C-8F83-24EE293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D511-C135-41CF-9DE1-D33AD3EB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495C-2FD4-4B30-B1EB-9B9D80C8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EE839-7CD5-4740-91EE-3B1DB31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C605A-6A64-4BF2-B0B0-7E8FB0C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154BE-4911-467F-983A-78D3FA9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2119B-0EF8-4E9C-8F40-D7A729B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CF284-1CDF-40B0-B6F1-01737DE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CAD-E4AA-44F1-BFF5-6396B74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8653-B300-480D-98D1-C29FC158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01197-5563-4B75-96FE-4B4F2CC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4F804-8F41-492A-8F9A-BA8D764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171DB-DB3D-4327-AC7E-F095741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26F67-5FEC-4298-A0EB-98FB518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F15F0-683C-4DFA-B7B7-69B1EADC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26DC1-DF36-4D33-A797-C383D798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0528-5487-4FD0-9E19-22867B30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E0F2-8747-422C-8C3A-285C246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4F81-836F-4EE7-936F-544B43A0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C53-9B06-4C6B-9EDF-471B63F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369B-219B-40C7-945F-DB0AE72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3DD1-A553-4F42-B402-7EA2289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CAD9-6017-4BE4-9CFD-86C90AA7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EAC8-8E20-42A1-A08F-D32F351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978D-AD1A-4095-BC98-4CFC560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7275-CC6C-460C-AF47-5D79617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7845-3E15-4E27-906D-BF074AE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AC58-6D7D-4BC0-A22B-4072C9E6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A112-3092-4E59-AD77-3E9BFDAE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7D7-205B-40C8-8D80-D748ED3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DA9-D2BB-4DCA-97B7-0ED25314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AB3-96C4-4C3C-AE6E-A65321A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90B-D509-4A6F-A427-AB0A9A9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D52-375D-478C-9C3A-0C3CD3C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4D9-3230-4265-A181-57FDAD4939C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E6F-9D05-4074-9E8B-F53EBE65C49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CE88-3F9E-4CB7-9B38-D476E37F6EF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BC1-92EF-48BA-9591-6AAA76B847C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бования к планированию коррекционно-развивающих урок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чтения –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тап проверки д/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жите название текста из букв, разбросанных на панно («Осень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ерите цвета осени из полосок, лежащих на столе учителя (10 полосок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, что говорилось в тексте о «золотой осени», найдите, прочитайте (выборочное чтение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чём вам говорит этот цвет полоски; найдите на доске слова, подходящие по смыслу. 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мена видов деятельности учащихс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 слушают (учителя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т (бесед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мают и пишут (программированные зада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вают (рассказ ученика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ают (кроссворд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итают (работа с текстовым материалом) и т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глядные пособ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на уроках  должн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имулировать интеллектуальный компонен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выступать в роли эмоционального (развлекательного) фон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шать определенную дидактическую задач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креплять зрительный образ изучаемого объект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ктивизировать устное высказывание учащихс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демонстрации наглядного пособ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етко поставить перед учащимися задач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ь им время на ее реш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рией вопросов направить внимание в нужном направлени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снить рассматриваемый объек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сти словарную работ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лушать ответы (рассказы)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Picture 3" descr="C:\Users\USER\Desktop\1.jpg"/>
          <p:cNvPicPr/>
          <p:nvPr/>
        </p:nvPicPr>
        <p:blipFill>
          <a:blip r:embed="rId1"/>
          <a:stretch/>
        </p:blipFill>
        <p:spPr>
          <a:xfrm>
            <a:off x="0" y="4869000"/>
            <a:ext cx="2448000" cy="170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2.jpg"/>
          <p:cNvPicPr/>
          <p:nvPr/>
        </p:nvPicPr>
        <p:blipFill>
          <a:blip r:embed="rId2"/>
          <a:stretch/>
        </p:blipFill>
        <p:spPr>
          <a:xfrm>
            <a:off x="3132000" y="4508640"/>
            <a:ext cx="2675160" cy="14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3.gif"/>
          <p:cNvPicPr/>
          <p:nvPr/>
        </p:nvPicPr>
        <p:blipFill>
          <a:blip r:embed="rId3"/>
          <a:stretch/>
        </p:blipFill>
        <p:spPr>
          <a:xfrm>
            <a:off x="6377040" y="4570560"/>
            <a:ext cx="2766960" cy="2287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9"/>
          <p:cNvSpPr/>
          <p:nvPr/>
        </p:nvSpPr>
        <p:spPr>
          <a:xfrm>
            <a:off x="1908000" y="126828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должна быть схематичного плана, то есть рисунки, которые поэтапно воссоздают объект, предмет; схемы, последовательно рисующиеся на глазах учащихся; составление букв, цифр из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Users\USER\Desktop\4.png"/>
          <p:cNvPicPr/>
          <p:nvPr/>
        </p:nvPicPr>
        <p:blipFill>
          <a:blip r:embed="rId4"/>
          <a:stretch/>
        </p:blipFill>
        <p:spPr>
          <a:xfrm>
            <a:off x="179280" y="2349360"/>
            <a:ext cx="18925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ая це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 мыслительная деятельность, процессы анализа, синтеза, классификация и сравне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изобразительного искусства 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нсорная деятельность и мелкая моторика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процессы запоминания и воспроизведения вербальной памят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развития реч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внимание и сосредоточенность, восприятие и зрительную память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письм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уховые, зрительные и речедвигательные анализатор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труд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лкая моторика ру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ормулировки  коррекционных задач для разных учебных дисциплин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аналитико-синтетической деятельности учащихся на основе упражнений в составлении целого как способ развития логического мышления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вербальной памяти на основе упражнений учащихся в запоминании слов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истор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слухового восприятия учащихся на основе упражнений в узнавании и соотнесени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биолог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зрительного восприятия на основе упражнений на внимание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питательная задач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 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спитание мотивации к уче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о-развивающие уро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это уроки, на которых происходит отработка учебной информации с позиции максимальной активности работы всех анализаторов каждого конкретного ученика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а принципов коррекционно-развивающего сопровождения ( Е.Д.Худенко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динамичности восприят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продуктивности обработки информа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развития и коррекции высших психических функций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мотивации к учени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Дидактическая цель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 определяет, чему будет учитель учить на данном уроке, и от нее зависит тип и структура урока, то есть,  как его спланировать.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Познакомить учащихся с решением задач в два действия» — это будет урок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зучения нов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Дать понятие о числе и цифре 2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изучения новог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Выяснить уровень знаний учащихся по теме «Овощи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вод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…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общающи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математические умения сложения и вычитания в пределах 10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закрепл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знания учащихся по теме «Овощи»; выяснить их представления по теме «Фрукты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 «Домашние животные». Дать понятие о диких животных на основе знакомства с лисой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26792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пы и структура урок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дели урока изуч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                                           Проверка д/з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ение нового                           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                    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                                      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                                                                    Г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представлений учащихся  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ка проблемы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тные отчёты учащихся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обобщени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Орг. момен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Введение в т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Обобщени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ающая бесе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граммированные зад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Ит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структура зависит от целей урок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               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водный уро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и представле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тоды рабо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юбой учебный метод, включенный в урок, должен решать конкретную задачу по обработке учебной информации: повторять, закреплять, изучать и т. 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направленность урока предполагает, что методы, включенные в урок, будут выполнять не только учебную, но и развивающую функци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0-12-22T15:03:47Z</dcterms:modified>
  <cp:revision>20</cp:revision>
  <dc:subject/>
  <dc:title>Слайд 1</dc:title>
</cp:coreProperties>
</file>