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F97-4750-423D-B731-7D5BBE7C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83B-7F13-4947-B6A2-00AB5F88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754-3017-4906-BF11-03BE525F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196-6B11-4DD9-92F8-D6684C3B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C0CE-4E71-4486-BB39-5B7A55DF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6CE1-680E-474A-AC51-667E6188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DF7E-7760-4C30-8372-37908D46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4D49-9084-4B00-8A4B-08D820E7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9292-CEDC-4C21-96AC-FDF7862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F33A-E77B-46D8-AE5B-03366DE4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3F81-2217-4B62-8411-F9D4EC83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85A-0859-410C-8F49-656D623C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AFA3-9A7B-4CCE-A9BD-FD7EB569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8D9D-628A-45E1-859A-3FFE6D7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48D2-E141-4FBF-9C4B-24D1B511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82BC-6E1E-4CF3-9543-41FCCD91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3ECB-856D-4B10-8594-408F48E0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9E81B-6701-47E2-A088-8788C0B3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78867-9036-4645-9A76-C83087BB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5568E-D3C9-4C6F-A939-B2FB3457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84A8D-48C6-4C2D-A186-1C926C43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92CB5-0218-4A31-A138-BB7ACDFC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27D-6CFA-4A8D-ADBF-B41A46C5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2F829-AB96-402A-8E93-44231A36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B7871-B507-47AC-8038-7E31ED5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443BE-A151-461A-B898-16DD4A8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D23A2-2132-41EA-95E1-B7DED48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D2BFE-1826-47BE-8A26-A5C577E0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63B09-EFCE-4551-913B-935D21F7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C59FF-C5DD-41D5-AB2C-9BF2ADCF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55E8-A131-444C-B360-98AB5E3B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3E557-7AAD-44FE-B830-FD49BDD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ACFA-B974-4CA1-AC45-747AF59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CA7-6AF1-46A2-A03C-DFDD33E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10229-5BFA-40C7-9C27-0F2EC739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B54B-C7D2-4006-81EA-92B4AC08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92F3-6CDE-4F1B-9C8A-85FB79BE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D391-4521-45F8-A97D-4CDA6CC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198CF-E483-428C-AE04-291A94DB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629C-FAE9-4545-8DE0-B423E8BB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7C513-573F-4DB9-87D6-91F08481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887D-197A-4B36-B080-5F516C0E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D1025-EE55-4527-B9F2-1C375DAA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4CF-53BC-4559-92F8-25938FF5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970-1944-4693-AE6A-DD8E496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525-0210-45C1-BE9A-2A5E4D9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EA2-52D8-4F79-9782-20677793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B3A-37ED-4814-8DD3-EEF160C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51F3-1FFF-4D23-9B95-EA2880299ED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28D8-E0F9-4BA1-A34C-C2B04455A71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23E1-873F-4E20-925D-4C769E88782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CA58-27B3-43E7-B50D-72FA1485ACE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ребования к планированию коррекционно-развивающих урок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рок чтения – 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тап проверки д/з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жите название текста из букв, разбросанных на панно («Осень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берите цвета осени из полосок, лежащих на столе учителя (10 полосок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помните, что говорилось в тексте о «золотой осени», найдите, прочитайте (выборочное чтение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 чём вам говорит этот цвет полоски; найдите на доске слова, подходящие по смыслу. 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мена видов деятельности учащихся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 слушают (учителя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ют (бесед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умают и пишут (программированные задани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сказывают (рассказ ученика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грают (кроссворд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итают (работа с текстовым материалом) и т. д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глядные пособ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на уроках  должн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имулировать интеллектуальный компонен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 выступать в роли эмоционального (развлекательного) фон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шать определенную дидактическую задач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креплять зрительный образ изучаемого объекта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ктивизировать устное высказывание учащихс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демонстрации наглядного пособ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етко поставить перед учащимися задач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ть им время на ее реш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рией вопросов направить внимание в нужном направлении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яснить рассматриваемый объек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сти словарную работу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слушать ответы (рассказы) ученик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Picture 3" descr="C:\Users\USER\Desktop\1.jpg"/>
          <p:cNvPicPr/>
          <p:nvPr/>
        </p:nvPicPr>
        <p:blipFill>
          <a:blip r:embed="rId1"/>
          <a:stretch/>
        </p:blipFill>
        <p:spPr>
          <a:xfrm>
            <a:off x="0" y="4869000"/>
            <a:ext cx="2448000" cy="170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2.jpg"/>
          <p:cNvPicPr/>
          <p:nvPr/>
        </p:nvPicPr>
        <p:blipFill>
          <a:blip r:embed="rId2"/>
          <a:stretch/>
        </p:blipFill>
        <p:spPr>
          <a:xfrm>
            <a:off x="3132000" y="4508640"/>
            <a:ext cx="2675160" cy="14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3.gif"/>
          <p:cNvPicPr/>
          <p:nvPr/>
        </p:nvPicPr>
        <p:blipFill>
          <a:blip r:embed="rId3"/>
          <a:stretch/>
        </p:blipFill>
        <p:spPr>
          <a:xfrm>
            <a:off x="6377040" y="4570560"/>
            <a:ext cx="2766960" cy="22874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9"/>
          <p:cNvSpPr/>
          <p:nvPr/>
        </p:nvSpPr>
        <p:spPr>
          <a:xfrm>
            <a:off x="1908000" y="126828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должна быть схематичного плана, то есть рисунки, которые поэтапно воссоздают объект, предмет; схемы, последовательно рисующиеся на глазах учащихся; составление букв, цифр из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C:\Users\USER\Desktop\4.png"/>
          <p:cNvPicPr/>
          <p:nvPr/>
        </p:nvPicPr>
        <p:blipFill>
          <a:blip r:embed="rId4"/>
          <a:stretch/>
        </p:blipFill>
        <p:spPr>
          <a:xfrm>
            <a:off x="179280" y="2349360"/>
            <a:ext cx="189252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ррекционная це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 мыслительная деятельность, процессы анализа, синтеза, классификация и сравне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 изобразительного искусства 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енсорная деятельность и мелкая моторика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процессы запоминания и воспроизведения вербальной памяти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развития реч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внимание и сосредоточенность, восприятие и зрительную память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уроке письм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уховые, зрительные и речедвигательные анализатор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уроке труд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лкая моторика рук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Формулировки  коррекционных задач для разных учебных дисциплин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аналитико-синтетической деятельности учащихся на основе упражнений в составлении целого как способ развития логического мышления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вербальной памяти на основе упражнений учащихся в запоминании слов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истор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слухового восприятия учащихся на основе упражнений в узнавании и соотнесении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биолог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зрительного восприятия на основе упражнений на внимание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оспитательная задач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-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 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оспитание мотивации к учен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78100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ррекционно-развивающие уро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- это уроки, на которых происходит отработка учебной информации с позиции максимальной активности работы всех анализаторов каждого конкретного ученика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стема принципов коррекционно-развивающего сопровождения ( Е.Д.Худенко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динамичности восприяти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продуктивности обработки информаци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развития и коррекции высших психических функций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мотивации к учению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325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Дидактическая цель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 определяет, чему будет учитель учить на данном уроке, и от нее зависит тип и структура урока, то есть,  как его спланировать. 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Познакомить учащихся с решением задач в два действия» — это будет урок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зучения нового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Дать понятие о числе и цифре 2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рок изучения новог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Выяснить уровень знаний учащихся по теме «Овощи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вод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Обобщить и систематизировать знания учащихся по теме…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общающи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Закрепить математические умения сложения и вычитания в пределах 10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рок закрепле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Закрепить знания учащихся по теме «Овощи»; выяснить их представления по теме «Фрукты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Обобщить и систематизировать знания учащихся по теме «Домашние животные». Дать понятие о диких животных на основе знакомства с лисой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26792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ипы и структура урок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дели урока изучения нового материа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                                                                    Б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                          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ведение в тему                                           Проверка д/з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ение нового                                         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бщение                                                    Закрепл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                                        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                                                                    Г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                           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ктуализация опорных знаний              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 представлений учащихся                          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ановка проблемы                                Закрепл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стные отчёты учащихся  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рок обобщения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Орг. момен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Введение в те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Обобщени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ающая бесе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граммированные зад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сказы ученик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Ито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структура зависит от целей урок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                                          Б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. момент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                       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                Введение в тем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опорных зн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водный урок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ведение в тем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ктуализация опорных знаний и представле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етоды работ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юбой учебный метод, включенный в урок, должен решать конкретную задачу по обработке учебной информации: повторять, закреплять, изучать и т. 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направленность урока предполагает, что методы, включенные в урок, будут выполнять не только учебную, но и развивающую функци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3:20:41Z</dcterms:created>
  <dc:creator>user</dc:creator>
  <dc:description/>
  <dc:language>en-US</dc:language>
  <cp:lastModifiedBy>RePack by SPecialiST</cp:lastModifiedBy>
  <dcterms:modified xsi:type="dcterms:W3CDTF">2020-12-22T15:03:47Z</dcterms:modified>
  <cp:revision>20</cp:revision>
  <dc:subject/>
  <dc:title>Слайд 1</dc:title>
</cp:coreProperties>
</file>