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EA6-6FC2-4ACF-8569-F7C52C6F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846-120A-4E7B-B06A-E652C92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866-B052-49FF-BF40-3CF55417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AC5-1146-4194-ABA7-37C3865E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662-BDF8-4654-94C6-786151A5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6E8-D6AF-4CE8-A7A5-98F40EA1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FEA-E302-42F4-AD1C-E4BAE19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E8E-5CEB-46D0-A746-FA2BCA1A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595-3CBD-4904-AD12-168979BA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D26-BB14-4EA6-B447-8E795B4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DAC-F8AB-49D3-8C95-E8B6582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0A8-3437-4768-8A56-D7DE895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CBF-240A-453F-9DB6-4A243D59A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775480" y="33051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5003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0" descr="0_831e6_cd2075d3_XX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2"/>
          <p:cNvSpPr txBox="1"/>
          <p:nvPr/>
        </p:nvSpPr>
        <p:spPr>
          <a:xfrm rot="19855200">
            <a:off x="2735280" y="2033280"/>
            <a:ext cx="45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4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4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4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?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4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4664160" y="4714920"/>
            <a:ext cx="41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оматина Наталья Никола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1" descr="374543636"/>
          <p:cNvPicPr/>
          <p:nvPr/>
        </p:nvPicPr>
        <p:blipFill>
          <a:blip r:embed="rId2"/>
          <a:stretch/>
        </p:blipFill>
        <p:spPr>
          <a:xfrm>
            <a:off x="0" y="4148280"/>
            <a:ext cx="2484360" cy="2469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971640" y="141300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360" y="1406520"/>
            <a:ext cx="453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Снегурочки с ут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огодних дел гор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жно снежной бахром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й украсить лес родн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зверят пирог испеч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фонарики зажеч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потом на праздник к детя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олотой лететь каре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80671411_large_0_4a3cb_150978fb_XL"/>
          <p:cNvPicPr/>
          <p:nvPr/>
        </p:nvPicPr>
        <p:blipFill>
          <a:blip r:embed="rId2"/>
          <a:stretch/>
        </p:blipFill>
        <p:spPr>
          <a:xfrm>
            <a:off x="5295960" y="1774800"/>
            <a:ext cx="38480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725400" y="692280"/>
            <a:ext cx="353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лка в праздник Новый Год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рослых и детей зов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лашает весь народ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огодний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хоровод)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086440" y="615960"/>
            <a:ext cx="37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юду в этот праздник грохот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рыв, за ним веселый хохот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ень шумная игрушка –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огодняя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хлопушка.) 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385000" y="2349360"/>
            <a:ext cx="401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д мороз пришел к нам в го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хрупкой, белоснежной гостье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назвал ее дочурк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 девочка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Снегурк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71760" y="3933720"/>
            <a:ext cx="380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ебесах она сверкае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у елку украша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померкнет никогда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огодний день 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звезда)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141880" y="3933720"/>
            <a:ext cx="382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ый Год мы не грустим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под елочкой сиди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руг другу с выраженьем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ворим мы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поздравленья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80709017_preview_f6"/>
          <p:cNvPicPr/>
          <p:nvPr/>
        </p:nvPicPr>
        <p:blipFill>
          <a:blip r:embed="rId2"/>
          <a:stretch/>
        </p:blipFill>
        <p:spPr>
          <a:xfrm>
            <a:off x="3924360" y="4853160"/>
            <a:ext cx="1832040" cy="2004840"/>
          </a:xfrm>
          <a:prstGeom prst="rect">
            <a:avLst/>
          </a:prstGeom>
          <a:ln w="0">
            <a:noFill/>
          </a:ln>
        </p:spPr>
      </p:pic>
      <p:sp>
        <p:nvSpPr>
          <p:cNvPr id="86" name="WordArt 13"/>
          <p:cNvSpPr txBox="1"/>
          <p:nvPr/>
        </p:nvSpPr>
        <p:spPr>
          <a:xfrm>
            <a:off x="284328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1042920" y="2060640"/>
            <a:ext cx="720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НОВЫМ ГОДОМ!!!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8" descr="80671411_large_0_4a3cb_150978fb_XL"/>
          <p:cNvPicPr/>
          <p:nvPr/>
        </p:nvPicPr>
        <p:blipFill>
          <a:blip r:embed="rId2"/>
          <a:stretch/>
        </p:blipFill>
        <p:spPr>
          <a:xfrm>
            <a:off x="6804000" y="4437000"/>
            <a:ext cx="183348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80671414_preview_0_4a3fa_68c0119b_XL"/>
          <p:cNvPicPr/>
          <p:nvPr/>
        </p:nvPicPr>
        <p:blipFill>
          <a:blip r:embed="rId3"/>
          <a:stretch/>
        </p:blipFill>
        <p:spPr>
          <a:xfrm>
            <a:off x="0" y="0"/>
            <a:ext cx="19731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11280" y="189000"/>
            <a:ext cx="85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Что такое Новый год?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Это все наоборот: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Елки в комнате расту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Белки шишек не грызу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айцы рядом с волком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а колючей елке!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Дождик тоже не простой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В Новый год он золотой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Блещет что есть мочи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Никого не мочи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Даже Дедушка Мороз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Никому не щиплет н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 Михайл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1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2" descr="80671417_large_0_783f4_91e716fc_XXXL"/>
          <p:cNvPicPr/>
          <p:nvPr/>
        </p:nvPicPr>
        <p:blipFill>
          <a:blip r:embed="rId2"/>
          <a:stretch/>
        </p:blipFill>
        <p:spPr>
          <a:xfrm>
            <a:off x="539640" y="3429000"/>
            <a:ext cx="2132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26920" y="2349360"/>
            <a:ext cx="792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радициях встречи Нового Года в России такие атрибуты как: елка, новогодний стол, Дед Мороз, фейерверки, массовые гул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1619280" y="549360"/>
            <a:ext cx="590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адиции праздновани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 года в России 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971640" y="112536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очь с 31 декабря на 1 января в каждой семье принято накрывать праздничный стол. Как правило, там неизменно присутствуют три составляющие: салат «оливье», шампанское и мандар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оссии принято усаживаться за праздничный стол около 11 часов вечера, чтобы «проводить» старый г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80709017_preview_f6"/>
          <p:cNvPicPr/>
          <p:nvPr/>
        </p:nvPicPr>
        <p:blipFill>
          <a:blip r:embed="rId2"/>
          <a:stretch/>
        </p:blipFill>
        <p:spPr>
          <a:xfrm>
            <a:off x="3492360" y="4076640"/>
            <a:ext cx="21607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971640" y="981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но в 23 часа 55 минут по всем центральным каналам выступает президент страны, он подводит некоторые итоги уходящего года и желает счастья и удачи всем жителям страны в наступающем году. Затем в 23 часов 55 минут 1 января наступает бой куран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80710252_preview_0_43620_9d595c97_XL"/>
          <p:cNvPicPr/>
          <p:nvPr/>
        </p:nvPicPr>
        <p:blipFill>
          <a:blip r:embed="rId2"/>
          <a:stretch/>
        </p:blipFill>
        <p:spPr>
          <a:xfrm>
            <a:off x="3708360" y="3933720"/>
            <a:ext cx="16542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58920" y="119700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у ночь можно встретить людей, гуляющих по городу в костюме Деда Мороза. Еще одного символа этого праздника. Родители детей нередко заказывают на дом артиста в этом образе для своих любимы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80671257_preview_0_74bec_15df8851_XXXL"/>
          <p:cNvPicPr/>
          <p:nvPr/>
        </p:nvPicPr>
        <p:blipFill>
          <a:blip r:embed="rId2"/>
          <a:stretch/>
        </p:blipFill>
        <p:spPr>
          <a:xfrm>
            <a:off x="3564000" y="3789360"/>
            <a:ext cx="22366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3"/>
          <p:cNvSpPr txBox="1"/>
          <p:nvPr/>
        </p:nvSpPr>
        <p:spPr>
          <a:xfrm>
            <a:off x="1692360" y="549360"/>
            <a:ext cx="4076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 на Рус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916360" y="1628640"/>
            <a:ext cx="5905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а Руси Новый год отмечал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 марта. В XIV век  Московский церковный собор постановил считать началом Нового года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 сентября согласно греческому календарю. В 1699 году Пётр I, возвратившись из путешествия по Европе, специальным указом, повелел «впредь лета исчислять» с 1 январ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6" descr="-"/>
          <p:cNvPicPr/>
          <p:nvPr/>
        </p:nvPicPr>
        <p:blipFill>
          <a:blip r:embed="rId2"/>
          <a:stretch/>
        </p:blipFill>
        <p:spPr>
          <a:xfrm>
            <a:off x="0" y="2322360"/>
            <a:ext cx="312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1341360"/>
            <a:ext cx="5400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Ёлка — неотъемлемый атрибут зимних праздников — также прибыла в Россию вместе с петровскими рефо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днако прибывшая «чужестранка» хоть и не сразу, но пустила корни в русской земле прочно — так, словно бы всегда тут росла: из веток, которыми украшались дома, выросло роскошное дерево в праздничном убор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80671417_large_0_783f4_91e716fc_XXXL"/>
          <p:cNvPicPr/>
          <p:nvPr/>
        </p:nvPicPr>
        <p:blipFill>
          <a:blip r:embed="rId2"/>
          <a:stretch/>
        </p:blipFill>
        <p:spPr>
          <a:xfrm>
            <a:off x="5508720" y="1628640"/>
            <a:ext cx="3309840" cy="491832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1763640" y="333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дней ёлк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2843280" y="1630080"/>
            <a:ext cx="590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в нарядной теплой шубе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линной белой бородой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овый год приходит в гости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умяный, и седой?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играет с нами, пляшет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ним и праздник веселей!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Дед Мороз на елке нашей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й главный из гост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.Черниц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979640" y="549360"/>
            <a:ext cx="5470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ый главный из гостей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7" descr="- (4)"/>
          <p:cNvPicPr/>
          <p:nvPr/>
        </p:nvPicPr>
        <p:blipFill>
          <a:blip r:embed="rId2"/>
          <a:stretch/>
        </p:blipFill>
        <p:spPr>
          <a:xfrm>
            <a:off x="0" y="2133720"/>
            <a:ext cx="29289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4:14:38Z</dcterms:created>
  <dc:creator>Наташа</dc:creator>
  <dc:description/>
  <dc:language>en-US</dc:language>
  <cp:lastModifiedBy>Admin</cp:lastModifiedBy>
  <dcterms:modified xsi:type="dcterms:W3CDTF">2023-12-12T16:36:52Z</dcterms:modified>
  <cp:revision>28</cp:revision>
  <dc:subject/>
  <dc:title>Слайд 1</dc:title>
</cp:coreProperties>
</file>