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3CA1-E31F-4553-BD1F-177DBF4A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EE74-FC13-4944-9AE1-831E2A07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AD91-564E-402A-9B3E-E44B5FB2F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401A-F04D-4114-A3D3-F587E7D87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F048-359F-493F-8427-E94755D9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CF0C-B6DC-4927-8DC0-B958654E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E6C7-A876-4A43-9821-8BF629CD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6D55-5F77-451A-8548-A0335140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D030-D08F-4E05-B074-E8C76FE2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E3C8-EE32-4A06-A1E4-199B3F97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0FBE-A283-431F-985C-47C7E0DA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BE5D-D83E-42E7-A670-9938A907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F757-6BF5-4880-B2C9-CF75C3B060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2"/>
          <p:cNvSpPr/>
          <p:nvPr/>
        </p:nvSpPr>
        <p:spPr>
          <a:xfrm>
            <a:off x="5775480" y="3305160"/>
            <a:ext cx="246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5003640" y="443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0" descr="0_831e6_cd2075d3_XX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22"/>
          <p:cNvSpPr txBox="1"/>
          <p:nvPr/>
        </p:nvSpPr>
        <p:spPr>
          <a:xfrm rot="19855200">
            <a:off x="2735280" y="2033280"/>
            <a:ext cx="4537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348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то такое </a:t>
            </a:r>
            <a:endParaRPr b="1" lang="en-US" sz="1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348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348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овый год?</a:t>
            </a:r>
            <a:endParaRPr b="1" lang="en-US" sz="1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348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Text Box 30"/>
          <p:cNvSpPr/>
          <p:nvPr/>
        </p:nvSpPr>
        <p:spPr>
          <a:xfrm>
            <a:off x="4664160" y="4714920"/>
            <a:ext cx="41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ломатина Наталья Николаев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1" descr="374543636"/>
          <p:cNvPicPr/>
          <p:nvPr/>
        </p:nvPicPr>
        <p:blipFill>
          <a:blip r:embed="rId2"/>
          <a:stretch/>
        </p:blipFill>
        <p:spPr>
          <a:xfrm>
            <a:off x="0" y="4148280"/>
            <a:ext cx="2484360" cy="246996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971640" y="1413000"/>
            <a:ext cx="1839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0_831e1_6087c16e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468360" y="1406520"/>
            <a:ext cx="4535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Снегурочки с утр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вогодних дел гора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ужно снежной бахромой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й украсить лес родной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ля зверят пирог испечь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фонарики зажечь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потом на праздник к детям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золотой лететь карет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8" descr="80671411_large_0_4a3cb_150978fb_XL"/>
          <p:cNvPicPr/>
          <p:nvPr/>
        </p:nvPicPr>
        <p:blipFill>
          <a:blip r:embed="rId2"/>
          <a:stretch/>
        </p:blipFill>
        <p:spPr>
          <a:xfrm>
            <a:off x="5295960" y="1774800"/>
            <a:ext cx="384804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0_831e1_6087c16e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725400" y="692280"/>
            <a:ext cx="353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лка в праздник Новый Год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зрослых и детей зовет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глашает весь народ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новогодний …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(хоровод).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086440" y="615960"/>
            <a:ext cx="379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юду в этот праздник грохот!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зрыв, за ним веселый хохот!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чень шумная игрушка –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вогодняя… 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(хлопушка.) 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2385000" y="2349360"/>
            <a:ext cx="401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д мороз пришел к нам в гост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хрупкой, белоснежной гостьей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н назвал ее дочуркой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а девочка… 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(Снегурка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671760" y="3933720"/>
            <a:ext cx="3804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небесах она сверкает,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шу елку украшает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 померкнет никогда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новогодний день … 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(звезда).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5141880" y="3933720"/>
            <a:ext cx="3826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Новый Год мы не грустим,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ы под елочкой сидим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друг другу с выраженьем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ворим мы… 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(поздравленья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1" descr="80709017_preview_f6"/>
          <p:cNvPicPr/>
          <p:nvPr/>
        </p:nvPicPr>
        <p:blipFill>
          <a:blip r:embed="rId2"/>
          <a:stretch/>
        </p:blipFill>
        <p:spPr>
          <a:xfrm>
            <a:off x="3924360" y="4853160"/>
            <a:ext cx="1832040" cy="2004840"/>
          </a:xfrm>
          <a:prstGeom prst="rect">
            <a:avLst/>
          </a:prstGeom>
          <a:ln w="0">
            <a:noFill/>
          </a:ln>
        </p:spPr>
      </p:pic>
      <p:sp>
        <p:nvSpPr>
          <p:cNvPr id="86" name="WordArt 13"/>
          <p:cNvSpPr txBox="1"/>
          <p:nvPr/>
        </p:nvSpPr>
        <p:spPr>
          <a:xfrm>
            <a:off x="2843280" y="189000"/>
            <a:ext cx="338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гадки</a:t>
            </a:r>
            <a:endParaRPr b="0" lang="en-US" sz="1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0_831e1_6087c16e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WordArt 6"/>
          <p:cNvSpPr txBox="1"/>
          <p:nvPr/>
        </p:nvSpPr>
        <p:spPr>
          <a:xfrm>
            <a:off x="1042920" y="2060640"/>
            <a:ext cx="72010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!!</a:t>
            </a:r>
            <a:endParaRPr b="0" lang="en-US" sz="1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 НОВЫМ ГОДОМ!!!</a:t>
            </a:r>
            <a:endParaRPr b="0" lang="en-US" sz="1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9" name="Picture 8" descr="80671411_large_0_4a3cb_150978fb_XL"/>
          <p:cNvPicPr/>
          <p:nvPr/>
        </p:nvPicPr>
        <p:blipFill>
          <a:blip r:embed="rId2"/>
          <a:stretch/>
        </p:blipFill>
        <p:spPr>
          <a:xfrm>
            <a:off x="6804000" y="4437000"/>
            <a:ext cx="1833480" cy="2421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80671414_preview_0_4a3fa_68c0119b_XL"/>
          <p:cNvPicPr/>
          <p:nvPr/>
        </p:nvPicPr>
        <p:blipFill>
          <a:blip r:embed="rId3"/>
          <a:stretch/>
        </p:blipFill>
        <p:spPr>
          <a:xfrm>
            <a:off x="0" y="0"/>
            <a:ext cx="197316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_831e1_6087c16e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611280" y="189000"/>
            <a:ext cx="8532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Что такое Новый год?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Это все наоборот: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Елки в комнате растут,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Белки шишек не грызут,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Зайцы рядом с волком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На колючей елке!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                         Дождик тоже не простой,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                         В Новый год он золотой,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                         Блещет что есть мочи,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                         Никого не мочит,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                         Даже Дедушка Мороз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                         Никому не щиплет но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. Михайло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7719840" y="49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2" descr="80671417_large_0_783f4_91e716fc_XXXL"/>
          <p:cNvPicPr/>
          <p:nvPr/>
        </p:nvPicPr>
        <p:blipFill>
          <a:blip r:embed="rId2"/>
          <a:stretch/>
        </p:blipFill>
        <p:spPr>
          <a:xfrm>
            <a:off x="539640" y="3429000"/>
            <a:ext cx="21322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0_831e1_6087c16e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826920" y="2349360"/>
            <a:ext cx="7921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традициях встречи Нового Года в России такие атрибуты как: елка, новогодний стол, Дед Мороз, фейерверки, массовые гуля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6"/>
          <p:cNvSpPr txBox="1"/>
          <p:nvPr/>
        </p:nvSpPr>
        <p:spPr>
          <a:xfrm>
            <a:off x="1619280" y="549360"/>
            <a:ext cx="5905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радиции празднования</a:t>
            </a:r>
            <a:endParaRPr b="0" lang="en-US" sz="1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ового года в России </a:t>
            </a:r>
            <a:endParaRPr b="0" lang="en-US" sz="1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0_831e1_6087c16e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971640" y="1125360"/>
            <a:ext cx="741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ночь с 31 декабря на 1 января в каждой семье принято накрывать праздничный стол. Как правило, там неизменно присутствуют три составляющие: салат «оливье», шампанское и мандари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оссии принято усаживаться за праздничный стол около 11 часов вечера, чтобы «проводить» старый го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80709017_preview_f6"/>
          <p:cNvPicPr/>
          <p:nvPr/>
        </p:nvPicPr>
        <p:blipFill>
          <a:blip r:embed="rId2"/>
          <a:stretch/>
        </p:blipFill>
        <p:spPr>
          <a:xfrm>
            <a:off x="3492360" y="4076640"/>
            <a:ext cx="216072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0_831e1_6087c16e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971640" y="981000"/>
            <a:ext cx="741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рно в 23 часа 55 минут по всем центральным каналам выступает президент страны, он подводит некоторые итоги уходящего года и желает счастья и удачи всем жителям страны в наступающем году. Затем в 23 часов 55 минут 1 января наступает бой курант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7" descr="80710252_preview_0_43620_9d595c97_XL"/>
          <p:cNvPicPr/>
          <p:nvPr/>
        </p:nvPicPr>
        <p:blipFill>
          <a:blip r:embed="rId2"/>
          <a:stretch/>
        </p:blipFill>
        <p:spPr>
          <a:xfrm>
            <a:off x="3708360" y="3933720"/>
            <a:ext cx="16542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0_831e1_6087c16e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1258920" y="1197000"/>
            <a:ext cx="68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эту ночь можно встретить людей, гуляющих по городу в костюме Деда Мороза. Еще одного символа этого праздника. Родители детей нередко заказывают на дом артиста в этом образе для своих любимых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80671257_preview_0_74bec_15df8851_XXXL"/>
          <p:cNvPicPr/>
          <p:nvPr/>
        </p:nvPicPr>
        <p:blipFill>
          <a:blip r:embed="rId2"/>
          <a:stretch/>
        </p:blipFill>
        <p:spPr>
          <a:xfrm>
            <a:off x="3564000" y="3789360"/>
            <a:ext cx="223668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1" descr="0_831e1_6087c16e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WordArt 13"/>
          <p:cNvSpPr txBox="1"/>
          <p:nvPr/>
        </p:nvSpPr>
        <p:spPr>
          <a:xfrm>
            <a:off x="1692360" y="549360"/>
            <a:ext cx="4076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овый Год на Руси</a:t>
            </a:r>
            <a:endParaRPr b="0" lang="en-US" sz="1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2916360" y="1628640"/>
            <a:ext cx="590544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На Руси Новый год отмечали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1 марта. В XIV век  Московский церковный собор постановил считать началом Нового года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1 сентября согласно греческому календарю. В 1699 году Пётр I, возвратившись из путешествия по Европе, специальным указом, повелел «впредь лета исчислять» с 1 январ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6" descr="-"/>
          <p:cNvPicPr/>
          <p:nvPr/>
        </p:nvPicPr>
        <p:blipFill>
          <a:blip r:embed="rId2"/>
          <a:stretch/>
        </p:blipFill>
        <p:spPr>
          <a:xfrm>
            <a:off x="0" y="2322360"/>
            <a:ext cx="31291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0_831e1_6087c16e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395280" y="1341360"/>
            <a:ext cx="54007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Ёлка — неотъемлемый атрибут зимних праздников — также прибыла в Россию вместе с петровскими реформам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днако прибывшая «чужестранка» хоть и не сразу, но пустила корни в русской земле прочно — так, словно бы всегда тут росла: из веток, которыми украшались дома, выросло роскошное дерево в праздничном убор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80671417_large_0_783f4_91e716fc_XXXL"/>
          <p:cNvPicPr/>
          <p:nvPr/>
        </p:nvPicPr>
        <p:blipFill>
          <a:blip r:embed="rId2"/>
          <a:stretch/>
        </p:blipFill>
        <p:spPr>
          <a:xfrm>
            <a:off x="5508720" y="1628640"/>
            <a:ext cx="3309840" cy="4918320"/>
          </a:xfrm>
          <a:prstGeom prst="rect">
            <a:avLst/>
          </a:prstGeom>
          <a:ln w="0">
            <a:noFill/>
          </a:ln>
        </p:spPr>
      </p:pic>
      <p:sp>
        <p:nvSpPr>
          <p:cNvPr id="71" name="WordArt 7"/>
          <p:cNvSpPr txBox="1"/>
          <p:nvPr/>
        </p:nvSpPr>
        <p:spPr>
          <a:xfrm>
            <a:off x="1763640" y="333360"/>
            <a:ext cx="540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тория</a:t>
            </a:r>
            <a:endParaRPr b="0" lang="en-US" sz="1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овогодней ёлки</a:t>
            </a:r>
            <a:endParaRPr b="0" lang="en-US" sz="1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0_831e1_6087c16e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2843280" y="1630080"/>
            <a:ext cx="5905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то в нарядной теплой шубе,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длинной белой бородой,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Новый год приходит в гости,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румяный, и седой?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 играет с нами, пляшет,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ним и праздник веселей!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Дед Мороз на елке нашей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амый главный из гостей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.Черницк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WordArt 6"/>
          <p:cNvSpPr txBox="1"/>
          <p:nvPr/>
        </p:nvSpPr>
        <p:spPr>
          <a:xfrm>
            <a:off x="1979640" y="549360"/>
            <a:ext cx="547056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амый главный из гостей</a:t>
            </a:r>
            <a:endParaRPr b="0" lang="en-US" sz="1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5" name="Picture 7" descr="- (4)"/>
          <p:cNvPicPr/>
          <p:nvPr/>
        </p:nvPicPr>
        <p:blipFill>
          <a:blip r:embed="rId2"/>
          <a:stretch/>
        </p:blipFill>
        <p:spPr>
          <a:xfrm>
            <a:off x="0" y="2133720"/>
            <a:ext cx="29289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6T14:14:38Z</dcterms:created>
  <dc:creator>Наташа</dc:creator>
  <dc:description/>
  <dc:language>en-US</dc:language>
  <cp:lastModifiedBy>Admin</cp:lastModifiedBy>
  <dcterms:modified xsi:type="dcterms:W3CDTF">2023-12-12T16:36:52Z</dcterms:modified>
  <cp:revision>28</cp:revision>
  <dc:subject/>
  <dc:title>Слайд 1</dc:title>
</cp:coreProperties>
</file>