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9.png" ContentType="image/png"/>
  <Override PartName="/ppt/media/image46.jpeg" ContentType="image/jpeg"/>
  <Override PartName="/ppt/media/image58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39.png" ContentType="image/png"/>
  <Override PartName="/ppt/media/image37.png" ContentType="image/png"/>
  <Override PartName="/ppt/media/image36.png" ContentType="image/png"/>
  <Override PartName="/ppt/media/image9.jpeg" ContentType="image/jpeg"/>
  <Override PartName="/ppt/media/image35.png" ContentType="image/png"/>
  <Override PartName="/ppt/media/image33.png" ContentType="image/png"/>
  <Override PartName="/ppt/media/image31.png" ContentType="image/png"/>
  <Override PartName="/ppt/media/image8.jpeg" ContentType="image/jpeg"/>
  <Override PartName="/ppt/media/image26.png" ContentType="image/png"/>
  <Override PartName="/ppt/media/image34.png" ContentType="image/png"/>
  <Override PartName="/ppt/media/image12.jpeg" ContentType="image/jpeg"/>
  <Override PartName="/ppt/media/image88.jpeg" ContentType="image/jpeg"/>
  <Override PartName="/ppt/media/image13.png" ContentType="image/png"/>
  <Override PartName="/ppt/media/image38.jpeg" ContentType="image/jpeg"/>
  <Override PartName="/ppt/media/image72.png" ContentType="image/png"/>
  <Override PartName="/ppt/media/image28.png" ContentType="image/png"/>
  <Override PartName="/ppt/media/image19.png" ContentType="image/png"/>
  <Override PartName="/ppt/media/image84.png" ContentType="image/png"/>
  <Override PartName="/ppt/media/image59.png" ContentType="image/png"/>
  <Override PartName="/ppt/media/image22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60.png" ContentType="image/png"/>
  <Override PartName="/ppt/media/image62.png" ContentType="image/png"/>
  <Override PartName="/ppt/media/image63.png" ContentType="image/png"/>
  <Override PartName="/ppt/media/image27.png" ContentType="image/png"/>
  <Override PartName="/ppt/media/image64.png" ContentType="image/png"/>
  <Override PartName="/ppt/media/image65.png" ContentType="image/png"/>
  <Override PartName="/ppt/media/image91.gif" ContentType="image/gif"/>
  <Override PartName="/ppt/media/image29.png" ContentType="image/png"/>
  <Override PartName="/ppt/media/image6.jpeg" ContentType="image/jpeg"/>
  <Override PartName="/ppt/media/image71.png" ContentType="image/png"/>
  <Override PartName="/ppt/media/image66.png" ContentType="image/png"/>
  <Override PartName="/ppt/media/image87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75.png" ContentType="image/png"/>
  <Override PartName="/ppt/media/image85.png" ContentType="image/png"/>
  <Override PartName="/ppt/media/image73.png" ContentType="image/png"/>
  <Override PartName="/ppt/media/image79.png" ContentType="image/png"/>
  <Override PartName="/ppt/media/image67.png" ContentType="image/png"/>
  <Override PartName="/ppt/media/image30.png" ContentType="image/png"/>
  <Override PartName="/ppt/media/image78.png" ContentType="image/png"/>
  <Override PartName="/ppt/media/image77.png" ContentType="image/png"/>
  <Override PartName="/ppt/media/image40.png" ContentType="image/png"/>
  <Override PartName="/ppt/media/image76.png" ContentType="image/png"/>
  <Override PartName="/ppt/media/image74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82.png" ContentType="image/png"/>
  <Override PartName="/ppt/media/image17.png" ContentType="image/png"/>
  <Override PartName="/ppt/media/image86.jpeg" ContentType="image/jpeg"/>
  <Override PartName="/ppt/media/image10.jpeg" ContentType="image/jpeg"/>
  <Override PartName="/ppt/media/image2.png" ContentType="image/png"/>
  <Override PartName="/ppt/media/image14.png" ContentType="image/png"/>
  <Override PartName="/ppt/media/image89.jpeg" ContentType="image/jpeg"/>
  <Override PartName="/ppt/media/image21.png" ContentType="image/png"/>
  <Override PartName="/ppt/media/image1.jpeg" ContentType="image/jpeg"/>
  <Override PartName="/ppt/media/image47.png" ContentType="image/png"/>
  <Override PartName="/ppt/media/image80.png" ContentType="image/png"/>
  <Override PartName="/ppt/media/image15.png" ContentType="image/png"/>
  <Override PartName="/ppt/media/image48.png" ContentType="image/png"/>
  <Override PartName="/ppt/media/image90.png" ContentType="image/png"/>
  <Override PartName="/ppt/media/image25.png" ContentType="image/png"/>
  <Override PartName="/ppt/media/image18.png" ContentType="image/png"/>
  <Override PartName="/ppt/media/image83.png" ContentType="image/png"/>
  <Override PartName="/ppt/media/image20.png" ContentType="image/png"/>
  <Override PartName="/ppt/media/image57.png" ContentType="image/png"/>
  <Override PartName="/ppt/media/image7.jpeg" ContentType="image/jpeg"/>
  <Override PartName="/ppt/media/image81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18FD-0126-49A1-8708-C021193D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0EB-2B1D-4AB8-91B6-D55D1BD9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66F-1E66-465E-B894-A4E621F6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69DD-D402-4A0A-8341-A5CEECF1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7F2E-03A8-45A2-9D1A-C7148299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6A1C-B0A2-4122-A001-9D4D374D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5DBD-B5E5-4152-BEE9-9CE71480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E8C5-724B-43C2-8595-FB916B39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EAB8-43F5-4D95-AD2E-ABE51C3C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85FD-344F-43BF-8746-9EF92D6B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C659-4CDF-4666-96AA-51FE4711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966B-0838-47EB-BBB9-17C36262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AC04-8553-430A-BB0A-4D2B83FAE4D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37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jpeg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image" Target="../media/image49.png"/><Relationship Id="rId1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8.png"/><Relationship Id="rId3" Type="http://schemas.openxmlformats.org/officeDocument/2006/relationships/image" Target="../media/image68.png"/><Relationship Id="rId4" Type="http://schemas.openxmlformats.org/officeDocument/2006/relationships/image" Target="../media/image68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69.png"/><Relationship Id="rId8" Type="http://schemas.openxmlformats.org/officeDocument/2006/relationships/image" Target="../media/image69.png"/><Relationship Id="rId9" Type="http://schemas.openxmlformats.org/officeDocument/2006/relationships/image" Target="../media/image69.png"/><Relationship Id="rId10" Type="http://schemas.openxmlformats.org/officeDocument/2006/relationships/image" Target="../media/image69.png"/><Relationship Id="rId11" Type="http://schemas.openxmlformats.org/officeDocument/2006/relationships/image" Target="../media/image70.png"/><Relationship Id="rId12" Type="http://schemas.openxmlformats.org/officeDocument/2006/relationships/image" Target="../media/image70.png"/><Relationship Id="rId13" Type="http://schemas.openxmlformats.org/officeDocument/2006/relationships/image" Target="../media/image70.png"/><Relationship Id="rId14" Type="http://schemas.openxmlformats.org/officeDocument/2006/relationships/image" Target="../media/image70.png"/><Relationship Id="rId15" Type="http://schemas.openxmlformats.org/officeDocument/2006/relationships/image" Target="../media/image70.png"/><Relationship Id="rId1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45.png"/><Relationship Id="rId4" Type="http://schemas.openxmlformats.org/officeDocument/2006/relationships/image" Target="../media/image73.png"/><Relationship Id="rId5" Type="http://schemas.openxmlformats.org/officeDocument/2006/relationships/image" Target="../media/image52.png"/><Relationship Id="rId6" Type="http://schemas.openxmlformats.org/officeDocument/2006/relationships/image" Target="../media/image74.png"/><Relationship Id="rId7" Type="http://schemas.openxmlformats.org/officeDocument/2006/relationships/image" Target="../media/image75.png"/><Relationship Id="rId8" Type="http://schemas.openxmlformats.org/officeDocument/2006/relationships/image" Target="../media/image76.png"/><Relationship Id="rId9" Type="http://schemas.openxmlformats.org/officeDocument/2006/relationships/image" Target="../media/image77.png"/><Relationship Id="rId10" Type="http://schemas.openxmlformats.org/officeDocument/2006/relationships/image" Target="../media/image78.png"/><Relationship Id="rId11" Type="http://schemas.openxmlformats.org/officeDocument/2006/relationships/image" Target="../media/image79.png"/><Relationship Id="rId12" Type="http://schemas.openxmlformats.org/officeDocument/2006/relationships/image" Target="../media/image80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414360" y="1249200"/>
            <a:ext cx="868680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2928960" y="4071960"/>
            <a:ext cx="621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Эта машина любит трудиться,                   Своею работой очень гордится.               Белью говорит она: «Эй, замарашки,  Пеленки, футболки, штаны и рубашки!         К себе в барабан вас, грязнуль, приглашаю.  И пятна, и грязь с порошком отстираю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ttp://novokuznecktut.ru/upload/board/2012-04/9758af11e9e7d3_big.jpg"/>
          <p:cNvPicPr/>
          <p:nvPr/>
        </p:nvPicPr>
        <p:blipFill>
          <a:blip r:embed="rId1"/>
          <a:stretch/>
        </p:blipFill>
        <p:spPr>
          <a:xfrm>
            <a:off x="142920" y="142920"/>
            <a:ext cx="3857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357120" y="64296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Для белья надежный друг.       По одежде он плывет,               Как горячий пароход. Оставляет нам, ребята,  Любоваться результатом:  Стало все белье на диво     Очень гладким и красивы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http://www.polnotovarov.ru/files/news/Utyug_3.jpg"/>
          <p:cNvPicPr/>
          <p:nvPr/>
        </p:nvPicPr>
        <p:blipFill>
          <a:blip r:embed="rId1"/>
          <a:stretch/>
        </p:blipFill>
        <p:spPr>
          <a:xfrm>
            <a:off x="3929040" y="3214800"/>
            <a:ext cx="42861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4000680" y="4287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 кухне главная она,          Словно воздух нам нужна.  Может жарить, может печь,   Щи и вкусный борщ сварить, Может чайник вскипяти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плита"/>
          <p:cNvPicPr/>
          <p:nvPr/>
        </p:nvPicPr>
        <p:blipFill>
          <a:blip r:embed="rId1"/>
          <a:stretch/>
        </p:blipFill>
        <p:spPr>
          <a:xfrm>
            <a:off x="642960" y="2571840"/>
            <a:ext cx="326088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428760" y="71424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Греет воду моментально,   Стоит лишь его включить, Закипает изнутри                          И пускает пузыри.   Насладиться вечерком       Можно вкусненьким чай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pro-mojki.ucoz.ru/_ph/1/2/696903005.jpg"/>
          <p:cNvPicPr/>
          <p:nvPr/>
        </p:nvPicPr>
        <p:blipFill>
          <a:blip r:embed="rId1"/>
          <a:stretch/>
        </p:blipFill>
        <p:spPr>
          <a:xfrm>
            <a:off x="5572080" y="2857680"/>
            <a:ext cx="31352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2357280" y="4643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мотрю я на экран в квартире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И вижу, что творится в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огода, новости, ки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ро спорт узнаю заодно.</a:t>
            </a:r>
            <a:r>
              <a:rPr b="0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www.110220volts.com/Merchant2/graphics/00000001/HITACHI_L42X01A.jpg"/>
          <p:cNvPicPr/>
          <p:nvPr/>
        </p:nvPicPr>
        <p:blipFill>
          <a:blip r:embed="rId1"/>
          <a:stretch/>
        </p:blipFill>
        <p:spPr>
          <a:xfrm>
            <a:off x="2143080" y="428760"/>
            <a:ext cx="47624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2214720" y="7142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иццу, курицу, котлет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Греет нам зимой и лето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Греет быстро, очень ловк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едь она - … микровол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www.polka.lv/data/products/1185544245_kor_630aa.JPG"/>
          <p:cNvPicPr/>
          <p:nvPr/>
        </p:nvPicPr>
        <p:blipFill>
          <a:blip r:embed="rId1"/>
          <a:stretch/>
        </p:blipFill>
        <p:spPr>
          <a:xfrm>
            <a:off x="2000160" y="3000240"/>
            <a:ext cx="47149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142920" y="428760"/>
            <a:ext cx="5786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Этот комбайн нам на поле не встретить,  Можно его лишь на кухне заметить. Просто бесценный для нас агрегат,  Маме помочь он всегда очень рад. Овощи режет, на терке их трет                   И для пирожного крем он собьет.          Много работы он выполняет –          Время  и силы он нам сберегае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freemarket.kiev.ua/images_goods/First/First-FA-5117.jpg"/>
          <p:cNvPicPr/>
          <p:nvPr/>
        </p:nvPicPr>
        <p:blipFill>
          <a:blip r:embed="rId1"/>
          <a:stretch/>
        </p:blipFill>
        <p:spPr>
          <a:xfrm>
            <a:off x="5000760" y="257184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4286160" y="3500280"/>
            <a:ext cx="4572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осле ванны с мягкой пеной, Волосы мы сушим…                    Ток усердный О-го-го…           Ветром дует из не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mbria Math"/>
                <a:ea typeface="Cambria Math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ушит ветер-сухове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Кудри мамочки мо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www.stinol.ua/upload/iblock/0a4/azfs%20Scarlett%20SC-1073.jpg"/>
          <p:cNvPicPr/>
          <p:nvPr/>
        </p:nvPicPr>
        <p:blipFill>
          <a:blip r:embed="rId1"/>
          <a:stretch/>
        </p:blipFill>
        <p:spPr>
          <a:xfrm>
            <a:off x="285840" y="357120"/>
            <a:ext cx="40003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214200" y="285840"/>
            <a:ext cx="4572000" cy="31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За столом сижу, на экран гляжу. Увлекла меня с утра  Интересная игра.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Умный друг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ам без рук –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Да чужими пользу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юрий\Desktop\ДЕТСКИЕ ПРЕЗЕНТАЦИИ\БЫТОВЫЕ ПРИБОРЫ\комп.jpg"/>
          <p:cNvPicPr/>
          <p:nvPr/>
        </p:nvPicPr>
        <p:blipFill>
          <a:blip r:embed="rId1"/>
          <a:stretch/>
        </p:blipFill>
        <p:spPr>
          <a:xfrm>
            <a:off x="3500280" y="2143080"/>
            <a:ext cx="5229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642960" y="4286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Быстро он коктейль взбива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И уставшим не бы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юрий\Desktop\ДЕТСКИЕ ПРЕЗЕНТАЦИИ\БЫТОВЫЕ ПРИБОРЫ\миксер.jpg"/>
          <p:cNvPicPr/>
          <p:nvPr/>
        </p:nvPicPr>
        <p:blipFill>
          <a:blip r:embed="rId1"/>
          <a:stretch/>
        </p:blipFill>
        <p:spPr>
          <a:xfrm>
            <a:off x="4572000" y="571680"/>
            <a:ext cx="4092480" cy="33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Картинки по запросу предки готовят пищу на костре"/>
          <p:cNvPicPr/>
          <p:nvPr/>
        </p:nvPicPr>
        <p:blipFill>
          <a:blip r:embed="rId1"/>
          <a:stretch/>
        </p:blipFill>
        <p:spPr>
          <a:xfrm>
            <a:off x="785880" y="1571760"/>
            <a:ext cx="7851600" cy="4429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ши предки готовили пищу на костр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4286160" y="114300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ентилятор так похож                На пропеллер самолета.                Не летает? – Ну и что ж!                 У него своя работа.                  Свой мотор ни на мгновенье      Он крутить не устает,                    В жарком, душном помещенье    Свежий ветер созда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юрий\Desktop\ДЕТСКИЕ ПРЕЗЕНТАЦИИ\БЫТОВЫЕ ПРИБОРЫ\вентилятор.jpeg"/>
          <p:cNvPicPr/>
          <p:nvPr/>
        </p:nvPicPr>
        <p:blipFill>
          <a:blip r:embed="rId1"/>
          <a:stretch/>
        </p:blipFill>
        <p:spPr>
          <a:xfrm>
            <a:off x="857160" y="642960"/>
            <a:ext cx="25113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500040" y="5716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рибор он замечательный, Мелодий много знает                   И песен зажигательных.                Со мною рядышком живет, Нажмешь на кнопку – он споет! Только жалко что певца,            Не покажут нам лиц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магнитофон"/>
          <p:cNvPicPr/>
          <p:nvPr/>
        </p:nvPicPr>
        <p:blipFill>
          <a:blip r:embed="rId1"/>
          <a:stretch/>
        </p:blipFill>
        <p:spPr>
          <a:xfrm>
            <a:off x="5000760" y="1785960"/>
            <a:ext cx="325584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юрий\Desktop\ДЕТСКИЕ ПРЕЗЕНТАЦИИ\БЫТОВЫЕ ПРИБОРЫ\микроволновка.jpg"/>
          <p:cNvPicPr/>
          <p:nvPr/>
        </p:nvPicPr>
        <p:blipFill>
          <a:blip r:embed="rId1"/>
          <a:stretch/>
        </p:blipFill>
        <p:spPr>
          <a:xfrm>
            <a:off x="357120" y="2214720"/>
            <a:ext cx="1809720" cy="1411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юрий\Desktop\ДЕТСКИЕ ПРЕЗЕНТАЦИИ\БЫТОВЫЕ ПРИБОРЫ\телик.jpg"/>
          <p:cNvPicPr/>
          <p:nvPr/>
        </p:nvPicPr>
        <p:blipFill>
          <a:blip r:embed="rId2"/>
          <a:stretch/>
        </p:blipFill>
        <p:spPr>
          <a:xfrm>
            <a:off x="6858000" y="2000160"/>
            <a:ext cx="1716120" cy="1508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юрий\Desktop\ДЕТСКИЕ ПРЕЗЕНТАЦИИ\БЫТОВЫЕ ПРИБОРЫ\вентилятор.jpeg"/>
          <p:cNvPicPr/>
          <p:nvPr/>
        </p:nvPicPr>
        <p:blipFill>
          <a:blip r:embed="rId3"/>
          <a:stretch/>
        </p:blipFill>
        <p:spPr>
          <a:xfrm>
            <a:off x="2928960" y="1571760"/>
            <a:ext cx="1082520" cy="2538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юрий\Desktop\ДЕТСКИЕ ПРЕЗЕНТАЦИИ\БЫТОВЫЕ ПРИБОРЫ\миксер.jpg"/>
          <p:cNvPicPr/>
          <p:nvPr/>
        </p:nvPicPr>
        <p:blipFill>
          <a:blip r:embed="rId4"/>
          <a:stretch/>
        </p:blipFill>
        <p:spPr>
          <a:xfrm>
            <a:off x="4643280" y="2143080"/>
            <a:ext cx="1357560" cy="1100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pro-mojki.ucoz.ru/_ph/1/2/696903005.jpg"/>
          <p:cNvPicPr/>
          <p:nvPr/>
        </p:nvPicPr>
        <p:blipFill>
          <a:blip r:embed="rId5"/>
          <a:stretch/>
        </p:blipFill>
        <p:spPr>
          <a:xfrm>
            <a:off x="4929120" y="4500720"/>
            <a:ext cx="1357560" cy="1639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юрий\Desktop\ДЕТСКИЕ ПРЕЗЕНТАЦИИ\БЫТОВЫЕ ПРИБОРЫ\xolodilnik_bol.jpg"/>
          <p:cNvPicPr/>
          <p:nvPr/>
        </p:nvPicPr>
        <p:blipFill>
          <a:blip r:embed="rId6"/>
          <a:stretch/>
        </p:blipFill>
        <p:spPr>
          <a:xfrm>
            <a:off x="7024680" y="4143240"/>
            <a:ext cx="1619280" cy="2430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maxvideo.by/picture/106929.jpg"/>
          <p:cNvPicPr/>
          <p:nvPr/>
        </p:nvPicPr>
        <p:blipFill>
          <a:blip r:embed="rId7"/>
          <a:stretch/>
        </p:blipFill>
        <p:spPr>
          <a:xfrm>
            <a:off x="428760" y="4000680"/>
            <a:ext cx="1571400" cy="226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www.polnotovarov.ru/files/news/Utyug_3.jpg"/>
          <p:cNvPicPr/>
          <p:nvPr/>
        </p:nvPicPr>
        <p:blipFill>
          <a:blip r:embed="rId8"/>
          <a:stretch/>
        </p:blipFill>
        <p:spPr>
          <a:xfrm rot="3457200">
            <a:off x="2834280" y="4926600"/>
            <a:ext cx="1428840" cy="107136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1"/>
          <p:cNvSpPr/>
          <p:nvPr/>
        </p:nvSpPr>
        <p:spPr>
          <a:xfrm>
            <a:off x="142920" y="21420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идите, как много электроприборов нас окружает. Они наши лучшие помощники. Все они делают нашу жизнь удобной и разнообразной. Без них человеку было бы трудно. И все они работают от электрического т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Картинки по запросу физминутка про электроприб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http://z-city.com.ua/images/pictures/authors/7020/13957/sushka-01-verevka-(article-picture1).jpg?key=cbd109fe11hhp8l0sjxrruoq3"/>
          <p:cNvPicPr/>
          <p:nvPr/>
        </p:nvPicPr>
        <p:blipFill>
          <a:blip r:embed="rId1"/>
          <a:stretch/>
        </p:blipFill>
        <p:spPr>
          <a:xfrm>
            <a:off x="0" y="1714680"/>
            <a:ext cx="1735200" cy="1128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http://images.otto.de/asset/mmo/formatg/6195503.jpg"/>
          <p:cNvPicPr/>
          <p:nvPr/>
        </p:nvPicPr>
        <p:blipFill>
          <a:blip r:embed="rId2"/>
          <a:stretch/>
        </p:blipFill>
        <p:spPr>
          <a:xfrm>
            <a:off x="7547040" y="1643040"/>
            <a:ext cx="1596960" cy="1428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://www.polnotovarov.ru/files/news/Utyug_3.jpg"/>
          <p:cNvPicPr/>
          <p:nvPr/>
        </p:nvPicPr>
        <p:blipFill>
          <a:blip r:embed="rId3"/>
          <a:stretch/>
        </p:blipFill>
        <p:spPr>
          <a:xfrm rot="459600">
            <a:off x="279000" y="5162400"/>
            <a:ext cx="1428840" cy="1071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http://imagenes.es.sftcdn.net/es/scrn/316000/316447/expresso-14.png?key=api"/>
          <p:cNvPicPr/>
          <p:nvPr/>
        </p:nvPicPr>
        <p:blipFill>
          <a:blip r:embed="rId4"/>
          <a:stretch/>
        </p:blipFill>
        <p:spPr>
          <a:xfrm>
            <a:off x="6500880" y="17859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http://www.moluch.ru/archive/47/5754/images/m67884c25.jpg"/>
          <p:cNvPicPr/>
          <p:nvPr/>
        </p:nvPicPr>
        <p:blipFill>
          <a:blip r:embed="rId5"/>
          <a:stretch/>
        </p:blipFill>
        <p:spPr>
          <a:xfrm>
            <a:off x="1857240" y="1785960"/>
            <a:ext cx="1600200" cy="1000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юрий\Desktop\ДЕТСКИЕ ПРЕЗЕНТАЦИИ\БЫТОВЫЕ ПРИБОРЫ\xolodilnik_bol.jpg"/>
          <p:cNvPicPr/>
          <p:nvPr/>
        </p:nvPicPr>
        <p:blipFill>
          <a:blip r:embed="rId6"/>
          <a:stretch/>
        </p:blipFill>
        <p:spPr>
          <a:xfrm>
            <a:off x="3500280" y="4429080"/>
            <a:ext cx="1285920" cy="1930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http://about-lady.ru/uploads/posts/2010-07/1280490364_vypryamlenie-volos-posle-ximicheskoj-zavivki.jpg"/>
          <p:cNvPicPr/>
          <p:nvPr/>
        </p:nvPicPr>
        <p:blipFill>
          <a:blip r:embed="rId7"/>
          <a:stretch/>
        </p:blipFill>
        <p:spPr>
          <a:xfrm>
            <a:off x="5429160" y="1571760"/>
            <a:ext cx="1019160" cy="1528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http://elvice24.de/out/pictures/generated/category/thumb/748_150_100/3539_v(11).gif"/>
          <p:cNvPicPr/>
          <p:nvPr/>
        </p:nvPicPr>
        <p:blipFill>
          <a:blip r:embed="rId8"/>
          <a:stretch/>
        </p:blipFill>
        <p:spPr>
          <a:xfrm>
            <a:off x="6143760" y="49291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http://www.megamagnat.ru/images/customer_advices/26.jpg"/>
          <p:cNvPicPr/>
          <p:nvPr/>
        </p:nvPicPr>
        <p:blipFill>
          <a:blip r:embed="rId9"/>
          <a:stretch/>
        </p:blipFill>
        <p:spPr>
          <a:xfrm>
            <a:off x="3643200" y="185724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maxvideo.by/picture/106929.jpg"/>
          <p:cNvPicPr/>
          <p:nvPr/>
        </p:nvPicPr>
        <p:blipFill>
          <a:blip r:embed="rId10"/>
          <a:stretch/>
        </p:blipFill>
        <p:spPr>
          <a:xfrm>
            <a:off x="4857840" y="4714920"/>
            <a:ext cx="1000080" cy="14446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mbria Math"/>
                <a:ea typeface="Cambria Math"/>
              </a:rPr>
              <a:t>Игра: «Что для чего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ttp://pro-mojki.ucoz.ru/_ph/1/2/696903005.jpg"/>
          <p:cNvPicPr/>
          <p:nvPr/>
        </p:nvPicPr>
        <p:blipFill>
          <a:blip r:embed="rId11"/>
          <a:stretch/>
        </p:blipFill>
        <p:spPr>
          <a:xfrm>
            <a:off x="2071800" y="5003640"/>
            <a:ext cx="1000080" cy="1208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http://novokuznecktut.ru/upload/board/2012-04/9758af11e9e7d3_big.jpg"/>
          <p:cNvPicPr/>
          <p:nvPr/>
        </p:nvPicPr>
        <p:blipFill>
          <a:blip r:embed="rId12"/>
          <a:stretch/>
        </p:blipFill>
        <p:spPr>
          <a:xfrm>
            <a:off x="7643880" y="500076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13 -0.00255 L -0.81163 -0.475 E">
                                      <p:cBhvr>
                                        <p:cTn id="113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48148E-006 L -0.14948 -0.44097 E">
                                      <p:cBhvr>
                                        <p:cTn id="117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2106 L -0.10955 -0.43981 E">
                                      <p:cBhvr>
                                        <p:cTn id="121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44444E-006 L -0.07951 -0.42107 E">
                                      <p:cBhvr>
                                        <p:cTn id="125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7 L 0.4941 -0.46204 E">
                                      <p:cBhvr>
                                        <p:cTn id="129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37 -0.02616 L 0.80677 -0.47778 E">
                                      <p:cBhvr>
                                        <p:cTn id="13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юрий\Desktop\ДЕТСКИЕ ПРЕЗЕНТАЦИИ\БЫТОВЫЕ ПРИБОРЫ\вентилятор.jpeg"/>
          <p:cNvPicPr/>
          <p:nvPr/>
        </p:nvPicPr>
        <p:blipFill>
          <a:blip r:embed="rId1"/>
          <a:stretch/>
        </p:blipFill>
        <p:spPr>
          <a:xfrm>
            <a:off x="7929720" y="3500280"/>
            <a:ext cx="930240" cy="2181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плита"/>
          <p:cNvPicPr/>
          <p:nvPr/>
        </p:nvPicPr>
        <p:blipFill>
          <a:blip r:embed="rId2"/>
          <a:stretch/>
        </p:blipFill>
        <p:spPr>
          <a:xfrm>
            <a:off x="6643800" y="5357880"/>
            <a:ext cx="1000080" cy="1225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ideavolgograd.ru/published/publicdata/CL107530SHOP/attachments/SC/products_pictures/usos-uvos-lampa-nastolnaa__0120498_PE277130_S4.JPG"/>
          <p:cNvPicPr/>
          <p:nvPr/>
        </p:nvPicPr>
        <p:blipFill>
          <a:blip r:embed="rId3"/>
          <a:stretch/>
        </p:blipFill>
        <p:spPr>
          <a:xfrm>
            <a:off x="7715160" y="17859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maxvideo.by/picture/106929.jpg"/>
          <p:cNvPicPr/>
          <p:nvPr/>
        </p:nvPicPr>
        <p:blipFill>
          <a:blip r:embed="rId4"/>
          <a:stretch/>
        </p:blipFill>
        <p:spPr>
          <a:xfrm>
            <a:off x="6429240" y="2643120"/>
            <a:ext cx="114300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novokuznecktut.ru/upload/board/2012-04/9758af11e9e7d3_big.jpg"/>
          <p:cNvPicPr/>
          <p:nvPr/>
        </p:nvPicPr>
        <p:blipFill>
          <a:blip r:embed="rId5"/>
          <a:stretch/>
        </p:blipFill>
        <p:spPr>
          <a:xfrm>
            <a:off x="6286680" y="85716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http://arbat.org/images/1adve_14s.jpg"/>
          <p:cNvPicPr/>
          <p:nvPr/>
        </p:nvPicPr>
        <p:blipFill>
          <a:blip r:embed="rId6"/>
          <a:stretch/>
        </p:blipFill>
        <p:spPr>
          <a:xfrm>
            <a:off x="285840" y="1071720"/>
            <a:ext cx="1428840" cy="9111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56800" y="0"/>
            <a:ext cx="7358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mbria Math"/>
                <a:ea typeface="Cambria Math"/>
              </a:rPr>
              <a:t>Игра: «Что было, что есть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10" descr="http://img.achetezfacile.com/photoshopper/aWQ9MTE5NjI5NDc0NTM2MjE2MTkzMzkmbD0yNDQmaD0yNDQmYz0yJmY9d2hpdGUmaW1nPTUwMHwzNzF8anBnfDg1-3633068153"/>
          <p:cNvPicPr/>
          <p:nvPr/>
        </p:nvPicPr>
        <p:blipFill>
          <a:blip r:embed="rId7"/>
          <a:stretch/>
        </p:blipFill>
        <p:spPr>
          <a:xfrm>
            <a:off x="357120" y="2286000"/>
            <a:ext cx="1143000" cy="835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kharkov.sindom.com.ua/upload/s/n/g/c/1_prodam-veniki-sorgo-mylo-tualetnuyu-bumagu.jpg"/>
          <p:cNvPicPr/>
          <p:nvPr/>
        </p:nvPicPr>
        <p:blipFill>
          <a:blip r:embed="rId8"/>
          <a:stretch/>
        </p:blipFill>
        <p:spPr>
          <a:xfrm>
            <a:off x="357120" y="3286080"/>
            <a:ext cx="1285920" cy="965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http://www.u-sity.net/uploads/posts/2012-06/1339804186_35.jpg"/>
          <p:cNvPicPr/>
          <p:nvPr/>
        </p:nvPicPr>
        <p:blipFill>
          <a:blip r:embed="rId9"/>
          <a:stretch/>
        </p:blipFill>
        <p:spPr>
          <a:xfrm>
            <a:off x="357120" y="428616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http://m3.paperblog.com/i/49/497094/michele-angelo-zundet-eine-kerze-an-fur-kevin-L-g3RXBV.jpeg"/>
          <p:cNvPicPr/>
          <p:nvPr/>
        </p:nvPicPr>
        <p:blipFill>
          <a:blip r:embed="rId10"/>
          <a:stretch/>
        </p:blipFill>
        <p:spPr>
          <a:xfrm>
            <a:off x="500040" y="5456160"/>
            <a:ext cx="78588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0.80799 0.39282 E">
                                      <p:cBhvr>
                                        <p:cTn id="13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5 -2.96296E-006 L 0.64722 -0.17777 E">
                                      <p:cBhvr>
                                        <p:cTn id="143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037E-006 L 0.64375 -0.02107 E">
                                      <p:cBhvr>
                                        <p:cTn id="147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6 L 0.68298 0.14699 E">
                                      <p:cBhvr>
                                        <p:cTn id="15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96296E-006 L 0.79618 -0.56551 E">
                                      <p:cBhvr>
                                        <p:cTn id="155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www.stinol.ua/upload/resize_cache/iblock/177/320_255_1/rcxmdjnfb%20Scarlett%20SC-1549.jpg"/>
          <p:cNvPicPr/>
          <p:nvPr/>
        </p:nvPicPr>
        <p:blipFill>
          <a:blip r:embed="rId1"/>
          <a:stretch/>
        </p:blipFill>
        <p:spPr>
          <a:xfrm>
            <a:off x="5143680" y="857160"/>
            <a:ext cx="3214440" cy="2411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://www.fitrecept.ru/images/kulinar/priznaki-i-svojstva-myasa-podmorozhennogo-sverxu_1.jpg"/>
          <p:cNvPicPr/>
          <p:nvPr/>
        </p:nvPicPr>
        <p:blipFill>
          <a:blip r:embed="rId2"/>
          <a:stretch/>
        </p:blipFill>
        <p:spPr>
          <a:xfrm>
            <a:off x="885960" y="1143000"/>
            <a:ext cx="2852640" cy="1928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ttp://kdmart.ru/image/cache/data/SOKOVYZhIMALKA_BOSCH_MES3000_1-500x500.jpg"/>
          <p:cNvPicPr/>
          <p:nvPr/>
        </p:nvPicPr>
        <p:blipFill>
          <a:blip r:embed="rId3"/>
          <a:stretch/>
        </p:blipFill>
        <p:spPr>
          <a:xfrm>
            <a:off x="5572080" y="3714840"/>
            <a:ext cx="2691000" cy="2690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ttp://leohouseclinic.com/wp-content/uploads/2012/08/soki-svezhevizhatie-simptomi-prichini-lechenie-narodnimi-1.jpg"/>
          <p:cNvPicPr/>
          <p:nvPr/>
        </p:nvPicPr>
        <p:blipFill>
          <a:blip r:embed="rId4"/>
          <a:stretch/>
        </p:blipFill>
        <p:spPr>
          <a:xfrm>
            <a:off x="571680" y="3786120"/>
            <a:ext cx="34686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http://lyubimsebya.ru/wp-content/uploads/2012/12/111jpg.jpg"/>
          <p:cNvPicPr/>
          <p:nvPr/>
        </p:nvPicPr>
        <p:blipFill>
          <a:blip r:embed="rId1"/>
          <a:stretch/>
        </p:blipFill>
        <p:spPr>
          <a:xfrm>
            <a:off x="1071720" y="1214280"/>
            <a:ext cx="2428560" cy="1619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http://kofevarkin.ru/products_pictures/espressoColor.jpg"/>
          <p:cNvPicPr/>
          <p:nvPr/>
        </p:nvPicPr>
        <p:blipFill>
          <a:blip r:embed="rId2"/>
          <a:stretch/>
        </p:blipFill>
        <p:spPr>
          <a:xfrm>
            <a:off x="5857920" y="571680"/>
            <a:ext cx="2286000" cy="3076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http://media.steampowered.com/steamcommunity/public/images/avatars/35/35aaafbc62a5442eff8e4dfd7feeb1afeef99c09_full.jpg"/>
          <p:cNvPicPr/>
          <p:nvPr/>
        </p:nvPicPr>
        <p:blipFill>
          <a:blip r:embed="rId3"/>
          <a:stretch/>
        </p:blipFill>
        <p:spPr>
          <a:xfrm>
            <a:off x="5786280" y="4143240"/>
            <a:ext cx="2143440" cy="2143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http://vk-recepty.ru/uploads/posts/2013-04/jrll3l06d0.jpg"/>
          <p:cNvPicPr/>
          <p:nvPr/>
        </p:nvPicPr>
        <p:blipFill>
          <a:blip r:embed="rId4"/>
          <a:stretch/>
        </p:blipFill>
        <p:spPr>
          <a:xfrm>
            <a:off x="642960" y="3857760"/>
            <a:ext cx="27860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mbria Math"/>
                <a:ea typeface="Cambria Math"/>
              </a:rPr>
              <a:t>Игра: «Посчита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http://www.polnotovarov.ru/files/news/Utyug_3.jpg"/>
          <p:cNvPicPr/>
          <p:nvPr/>
        </p:nvPicPr>
        <p:blipFill>
          <a:blip r:embed="rId1"/>
          <a:stretch/>
        </p:blipFill>
        <p:spPr>
          <a:xfrm rot="459600">
            <a:off x="623520" y="1714680"/>
            <a:ext cx="1133640" cy="850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http://www.polnotovarov.ru/files/news/Utyug_3.jpg"/>
          <p:cNvPicPr/>
          <p:nvPr/>
        </p:nvPicPr>
        <p:blipFill>
          <a:blip r:embed="rId2"/>
          <a:stretch/>
        </p:blipFill>
        <p:spPr>
          <a:xfrm rot="459600">
            <a:off x="2266920" y="1500120"/>
            <a:ext cx="1133640" cy="85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www.polnotovarov.ru/files/news/Utyug_3.jpg"/>
          <p:cNvPicPr/>
          <p:nvPr/>
        </p:nvPicPr>
        <p:blipFill>
          <a:blip r:embed="rId3"/>
          <a:stretch/>
        </p:blipFill>
        <p:spPr>
          <a:xfrm rot="459600">
            <a:off x="3981240" y="1714680"/>
            <a:ext cx="1133280" cy="850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www.polnotovarov.ru/files/news/Utyug_3.jpg"/>
          <p:cNvPicPr/>
          <p:nvPr/>
        </p:nvPicPr>
        <p:blipFill>
          <a:blip r:embed="rId4"/>
          <a:stretch/>
        </p:blipFill>
        <p:spPr>
          <a:xfrm rot="459600">
            <a:off x="5838480" y="1571760"/>
            <a:ext cx="1133640" cy="850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ttp://www.polnotovarov.ru/files/news/Utyug_3.jpg"/>
          <p:cNvPicPr/>
          <p:nvPr/>
        </p:nvPicPr>
        <p:blipFill>
          <a:blip r:embed="rId5"/>
          <a:stretch/>
        </p:blipFill>
        <p:spPr>
          <a:xfrm rot="459600">
            <a:off x="7481520" y="1714680"/>
            <a:ext cx="1133640" cy="850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юрий\Desktop\ДЕТСКИЕ ПРЕЗЕНТАЦИИ\БЫТОВЫЕ ПРИБОРЫ\телик.jpg"/>
          <p:cNvPicPr/>
          <p:nvPr/>
        </p:nvPicPr>
        <p:blipFill>
          <a:blip r:embed="rId6"/>
          <a:stretch/>
        </p:blipFill>
        <p:spPr>
          <a:xfrm>
            <a:off x="500040" y="5072040"/>
            <a:ext cx="1228680" cy="1079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юрий\Desktop\ДЕТСКИЕ ПРЕЗЕНТАЦИИ\БЫТОВЫЕ ПРИБОРЫ\телик.jpg"/>
          <p:cNvPicPr/>
          <p:nvPr/>
        </p:nvPicPr>
        <p:blipFill>
          <a:blip r:embed="rId7"/>
          <a:stretch/>
        </p:blipFill>
        <p:spPr>
          <a:xfrm>
            <a:off x="2214720" y="4500720"/>
            <a:ext cx="1228680" cy="1079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Users\юрий\Desktop\ДЕТСКИЕ ПРЕЗЕНТАЦИИ\БЫТОВЫЕ ПРИБОРЫ\телик.jpg"/>
          <p:cNvPicPr/>
          <p:nvPr/>
        </p:nvPicPr>
        <p:blipFill>
          <a:blip r:embed="rId8"/>
          <a:stretch/>
        </p:blipFill>
        <p:spPr>
          <a:xfrm>
            <a:off x="3714840" y="5214960"/>
            <a:ext cx="1228680" cy="1079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юрий\Desktop\ДЕТСКИЕ ПРЕЗЕНТАЦИИ\БЫТОВЫЕ ПРИБОРЫ\телик.jpg"/>
          <p:cNvPicPr/>
          <p:nvPr/>
        </p:nvPicPr>
        <p:blipFill>
          <a:blip r:embed="rId9"/>
          <a:stretch/>
        </p:blipFill>
        <p:spPr>
          <a:xfrm>
            <a:off x="5500800" y="4643280"/>
            <a:ext cx="1228680" cy="1079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юрий\Desktop\ДЕТСКИЕ ПРЕЗЕНТАЦИИ\БЫТОВЫЕ ПРИБОРЫ\телик.jpg"/>
          <p:cNvPicPr/>
          <p:nvPr/>
        </p:nvPicPr>
        <p:blipFill>
          <a:blip r:embed="rId10"/>
          <a:stretch/>
        </p:blipFill>
        <p:spPr>
          <a:xfrm>
            <a:off x="7286760" y="5143680"/>
            <a:ext cx="1228680" cy="1079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http://pro-mojki.ucoz.ru/_ph/1/2/696903005.jpg"/>
          <p:cNvPicPr/>
          <p:nvPr/>
        </p:nvPicPr>
        <p:blipFill>
          <a:blip r:embed="rId11"/>
          <a:stretch/>
        </p:blipFill>
        <p:spPr>
          <a:xfrm>
            <a:off x="714240" y="3071880"/>
            <a:ext cx="941400" cy="1136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ttp://pro-mojki.ucoz.ru/_ph/1/2/696903005.jpg"/>
          <p:cNvPicPr/>
          <p:nvPr/>
        </p:nvPicPr>
        <p:blipFill>
          <a:blip r:embed="rId12"/>
          <a:stretch/>
        </p:blipFill>
        <p:spPr>
          <a:xfrm>
            <a:off x="2286000" y="3000240"/>
            <a:ext cx="941400" cy="1136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http://pro-mojki.ucoz.ru/_ph/1/2/696903005.jpg"/>
          <p:cNvPicPr/>
          <p:nvPr/>
        </p:nvPicPr>
        <p:blipFill>
          <a:blip r:embed="rId13"/>
          <a:stretch/>
        </p:blipFill>
        <p:spPr>
          <a:xfrm>
            <a:off x="4071960" y="3143160"/>
            <a:ext cx="941400" cy="1136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ttp://pro-mojki.ucoz.ru/_ph/1/2/696903005.jpg"/>
          <p:cNvPicPr/>
          <p:nvPr/>
        </p:nvPicPr>
        <p:blipFill>
          <a:blip r:embed="rId14"/>
          <a:stretch/>
        </p:blipFill>
        <p:spPr>
          <a:xfrm>
            <a:off x="5857920" y="3071880"/>
            <a:ext cx="941400" cy="113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ttp://pro-mojki.ucoz.ru/_ph/1/2/696903005.jpg"/>
          <p:cNvPicPr/>
          <p:nvPr/>
        </p:nvPicPr>
        <p:blipFill>
          <a:blip r:embed="rId15"/>
          <a:stretch/>
        </p:blipFill>
        <p:spPr>
          <a:xfrm>
            <a:off x="7643880" y="3214800"/>
            <a:ext cx="94140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юрий\Desktop\ДЕТСКИЕ ПРЕЗЕНТАЦИИ\БЫТОВЫЕ ПРИБОРЫ\микроволновка.jpg"/>
          <p:cNvPicPr/>
          <p:nvPr/>
        </p:nvPicPr>
        <p:blipFill>
          <a:blip r:embed="rId1"/>
          <a:stretch/>
        </p:blipFill>
        <p:spPr>
          <a:xfrm>
            <a:off x="2714760" y="1643040"/>
            <a:ext cx="1571400" cy="1225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юрий\Desktop\ДЕТСКИЕ ПРЕЗЕНТАЦИИ\БЫТОВЫЕ ПРИБОРЫ\телик.jpg"/>
          <p:cNvPicPr/>
          <p:nvPr/>
        </p:nvPicPr>
        <p:blipFill>
          <a:blip r:embed="rId2"/>
          <a:stretch/>
        </p:blipFill>
        <p:spPr>
          <a:xfrm>
            <a:off x="714240" y="1609560"/>
            <a:ext cx="1428840" cy="12560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mbria Math"/>
                <a:ea typeface="Cambria Math"/>
              </a:rPr>
              <a:t>Игра: «Найди лишний предме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18" descr="http://elvice24.de/out/pictures/generated/category/thumb/748_150_100/3539_v(11).gif"/>
          <p:cNvPicPr/>
          <p:nvPr/>
        </p:nvPicPr>
        <p:blipFill>
          <a:blip r:embed="rId3"/>
          <a:stretch/>
        </p:blipFill>
        <p:spPr>
          <a:xfrm>
            <a:off x="7072200" y="154764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://kharkov.sindom.com.ua/upload/s/n/g/c/1_prodam-veniki-sorgo-mylo-tualetnuyu-bumagu.jpg"/>
          <p:cNvPicPr/>
          <p:nvPr/>
        </p:nvPicPr>
        <p:blipFill>
          <a:blip r:embed="rId4"/>
          <a:stretch/>
        </p:blipFill>
        <p:spPr>
          <a:xfrm>
            <a:off x="5000760" y="1554120"/>
            <a:ext cx="1500120" cy="1125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http://ideavolgograd.ru/published/publicdata/CL107530SHOP/attachments/SC/products_pictures/usos-uvos-lampa-nastolnaa__0120498_PE277130_S4.JPG"/>
          <p:cNvPicPr/>
          <p:nvPr/>
        </p:nvPicPr>
        <p:blipFill>
          <a:blip r:embed="rId5"/>
          <a:stretch/>
        </p:blipFill>
        <p:spPr>
          <a:xfrm>
            <a:off x="7429680" y="3357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http://karnizyifoto-ai.ucoz.ru/_ph/1/2/171751187.jpg"/>
          <p:cNvPicPr/>
          <p:nvPr/>
        </p:nvPicPr>
        <p:blipFill>
          <a:blip r:embed="rId6"/>
          <a:stretch/>
        </p:blipFill>
        <p:spPr>
          <a:xfrm>
            <a:off x="5072040" y="300024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http://art-stal.ru/d/82033/d/1402224_4.jpg"/>
          <p:cNvPicPr/>
          <p:nvPr/>
        </p:nvPicPr>
        <p:blipFill>
          <a:blip r:embed="rId7"/>
          <a:stretch/>
        </p:blipFill>
        <p:spPr>
          <a:xfrm>
            <a:off x="714240" y="3286080"/>
            <a:ext cx="1357560" cy="1454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:\Users\юрий\Desktop\ДЕТСКИЕ ПРЕЗЕНТАЦИИ\БЫТОВЫЕ ПРИБОРЫ\вентилятор.jpeg"/>
          <p:cNvPicPr/>
          <p:nvPr/>
        </p:nvPicPr>
        <p:blipFill>
          <a:blip r:embed="rId8"/>
          <a:stretch/>
        </p:blipFill>
        <p:spPr>
          <a:xfrm>
            <a:off x="7500960" y="4786200"/>
            <a:ext cx="1071720" cy="1932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http://www.omar.ru/img/model/886/76886/1-200.jpg"/>
          <p:cNvPicPr/>
          <p:nvPr/>
        </p:nvPicPr>
        <p:blipFill>
          <a:blip r:embed="rId9"/>
          <a:stretch/>
        </p:blipFill>
        <p:spPr>
          <a:xfrm>
            <a:off x="2857680" y="4857840"/>
            <a:ext cx="2071440" cy="1904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10"/>
          <a:stretch/>
        </p:blipFill>
        <p:spPr>
          <a:xfrm>
            <a:off x="5072040" y="5143680"/>
            <a:ext cx="1643040" cy="153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9" name="Picture 4" descr="http://www.polnotovarov.ru/files/news/Utyug_3.jpg"/>
          <p:cNvPicPr/>
          <p:nvPr/>
        </p:nvPicPr>
        <p:blipFill>
          <a:blip r:embed="rId11"/>
          <a:stretch/>
        </p:blipFill>
        <p:spPr>
          <a:xfrm rot="459600">
            <a:off x="2712600" y="3382560"/>
            <a:ext cx="1535040" cy="1150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7" descr="http://img2.alfa.kz/files/alfa/messages/thumbnails_230x173/4/3/6/7/2.jpg?fid=4367036"/>
          <p:cNvPicPr/>
          <p:nvPr/>
        </p:nvPicPr>
        <p:blipFill>
          <a:blip r:embed="rId12"/>
          <a:stretch/>
        </p:blipFill>
        <p:spPr>
          <a:xfrm>
            <a:off x="357120" y="5000760"/>
            <a:ext cx="21909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ревенские жители готовили в печ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Картинки по запросу русская печь"/>
          <p:cNvPicPr/>
          <p:nvPr/>
        </p:nvPicPr>
        <p:blipFill>
          <a:blip r:embed="rId1"/>
          <a:stretch/>
        </p:blipFill>
        <p:spPr>
          <a:xfrm>
            <a:off x="1785960" y="1285920"/>
            <a:ext cx="55087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357200" y="1285920"/>
          <a:ext cx="6643800" cy="2357280"/>
        </p:xfrm>
        <a:graphic>
          <a:graphicData uri="http://schemas.openxmlformats.org/drawingml/2006/table">
            <a:tbl>
              <a:tblPr/>
              <a:tblGrid>
                <a:gridCol w="1328760"/>
                <a:gridCol w="1328760"/>
                <a:gridCol w="1328760"/>
                <a:gridCol w="1328760"/>
                <a:gridCol w="1328760"/>
              </a:tblGrid>
              <a:tr h="23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mbria Math"/>
                <a:ea typeface="Cambria Math"/>
              </a:rPr>
              <a:t>Игра: «Что сначала, что потом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12" descr="http://www.u-sity.net/uploads/posts/2012-06/1339804186_35.jpg"/>
          <p:cNvPicPr/>
          <p:nvPr/>
        </p:nvPicPr>
        <p:blipFill>
          <a:blip r:embed="rId1"/>
          <a:stretch/>
        </p:blipFill>
        <p:spPr>
          <a:xfrm>
            <a:off x="3929040" y="4572000"/>
            <a:ext cx="1500120" cy="1857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ttp://img104.imageshack.us/img104/4238/pirates3kc3.png"/>
          <p:cNvPicPr/>
          <p:nvPr/>
        </p:nvPicPr>
        <p:blipFill>
          <a:blip r:embed="rId2"/>
          <a:stretch/>
        </p:blipFill>
        <p:spPr>
          <a:xfrm>
            <a:off x="1714680" y="38577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m3.paperblog.com/i/49/497094/michele-angelo-zundet-eine-kerze-an-fur-kevin-L-g3RXBV.jpeg"/>
          <p:cNvPicPr/>
          <p:nvPr/>
        </p:nvPicPr>
        <p:blipFill>
          <a:blip r:embed="rId3"/>
          <a:stretch/>
        </p:blipFill>
        <p:spPr>
          <a:xfrm>
            <a:off x="7500960" y="4357800"/>
            <a:ext cx="1357200" cy="2166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http://www.sxc.hu/assets/36/355302/kerosene-lamp-293678-m.jpg"/>
          <p:cNvPicPr/>
          <p:nvPr/>
        </p:nvPicPr>
        <p:blipFill>
          <a:blip r:embed="rId4"/>
          <a:stretch/>
        </p:blipFill>
        <p:spPr>
          <a:xfrm>
            <a:off x="6143760" y="3786120"/>
            <a:ext cx="857160" cy="2143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2" descr="http://ledluks.ru/published/publicdata/FLOCKLEDLUKS/attachments/SC/products_pictures/small_0001321__clas_a_fr_75w_27_osram_300.jpg"/>
          <p:cNvPicPr/>
          <p:nvPr/>
        </p:nvPicPr>
        <p:blipFill>
          <a:blip r:embed="rId5"/>
          <a:stretch/>
        </p:blipFill>
        <p:spPr>
          <a:xfrm>
            <a:off x="285840" y="500076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-0.29931 -0.43033 E">
                                      <p:cBhvr>
                                        <p:cTn id="235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04723 -0.33611 E">
                                      <p:cBhvr>
                                        <p:cTn id="239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47 0.00092 L -0.38663 -0.41922 E">
                                      <p:cBhvr>
                                        <p:cTn id="24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0.01227 L -0.0691 -0.33426 E">
                                      <p:cBhvr>
                                        <p:cTn id="247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L 0.68195 -0.44884 E">
                                      <p:cBhvr>
                                        <p:cTn id="251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3"/>
          <p:cNvSpPr/>
          <p:nvPr/>
        </p:nvSpPr>
        <p:spPr>
          <a:xfrm>
            <a:off x="571680" y="57168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И девочка, и мальчик,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Не суй в розетку пальчик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В розетке круглый год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Живет опасный то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http://www.mchsmedia.ru/files/watermark_backup/r_800_600/bez2_2012229.jpg"/>
          <p:cNvPicPr/>
          <p:nvPr/>
        </p:nvPicPr>
        <p:blipFill>
          <a:blip r:embed="rId1"/>
          <a:stretch/>
        </p:blipFill>
        <p:spPr>
          <a:xfrm>
            <a:off x="428760" y="1928880"/>
            <a:ext cx="3714480" cy="444348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11"/>
          <p:cNvSpPr/>
          <p:nvPr/>
        </p:nvSpPr>
        <p:spPr>
          <a:xfrm>
            <a:off x="4786200" y="492912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Если все приборы разом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Ты в одну розетку включишь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то пожар проводки сразу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в этой комнате получиш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http://kak.znate.ru/pars_docs/refs/72/71960/71960_html_604fd76a.png"/>
          <p:cNvPicPr/>
          <p:nvPr/>
        </p:nvPicPr>
        <p:blipFill>
          <a:blip r:embed="rId2"/>
          <a:stretch/>
        </p:blipFill>
        <p:spPr>
          <a:xfrm>
            <a:off x="4786200" y="285840"/>
            <a:ext cx="364356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http://files.64pokupki.ru/catalog/98/16/76/3.jpg"/>
          <p:cNvPicPr/>
          <p:nvPr/>
        </p:nvPicPr>
        <p:blipFill>
          <a:blip r:embed="rId1"/>
          <a:stretch/>
        </p:blipFill>
        <p:spPr>
          <a:xfrm>
            <a:off x="4500720" y="1928880"/>
            <a:ext cx="4348080" cy="318132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3"/>
          <p:cNvSpPr/>
          <p:nvPr/>
        </p:nvSpPr>
        <p:spPr>
          <a:xfrm>
            <a:off x="357120" y="5000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Пылесос, телевизор, тостер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Пусть включает взросл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1" descr=""/>
          <p:cNvPicPr/>
          <p:nvPr/>
        </p:nvPicPr>
        <p:blipFill>
          <a:blip r:embed="rId2"/>
          <a:stretch/>
        </p:blipFill>
        <p:spPr>
          <a:xfrm>
            <a:off x="428760" y="1571760"/>
            <a:ext cx="3512880" cy="40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Прямоугольник 1" descr=""/>
          <p:cNvPicPr/>
          <p:nvPr/>
        </p:nvPicPr>
        <p:blipFill>
          <a:blip r:embed="rId1"/>
          <a:stretch/>
        </p:blipFill>
        <p:spPr>
          <a:xfrm>
            <a:off x="1060560" y="1773360"/>
            <a:ext cx="6718320" cy="1751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Похожее изображение"/>
          <p:cNvPicPr/>
          <p:nvPr/>
        </p:nvPicPr>
        <p:blipFill>
          <a:blip r:embed="rId2"/>
          <a:stretch/>
        </p:blipFill>
        <p:spPr>
          <a:xfrm>
            <a:off x="3357720" y="4000680"/>
            <a:ext cx="25333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Картинки по запросу керосиновая лампа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269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Картинки по запросу приготовление еды на керосиновой лампе"/>
          <p:cNvPicPr/>
          <p:nvPr/>
        </p:nvPicPr>
        <p:blipFill>
          <a:blip r:embed="rId2"/>
          <a:stretch/>
        </p:blipFill>
        <p:spPr>
          <a:xfrm>
            <a:off x="1285920" y="142920"/>
            <a:ext cx="678636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285840" y="285840"/>
            <a:ext cx="86439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Очень давно, в древности единственным источником света для человека было солнце. Но когда наступала ночь, людям грозили дикие звери, которые могли напасть на человека. Трудно приходилось человеку, пока он научился пользоваться огн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ервым «осветительным прибором» стал для человека костер. Он горел в пещере, давая и свет и тепло, а также служил защитой от хищ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ttp://www.infoniac.ru/upload/medialibrary/001/0012fb086e476de4a4ab4198dfd2002e.jpg"/>
          <p:cNvPicPr/>
          <p:nvPr/>
        </p:nvPicPr>
        <p:blipFill>
          <a:blip r:embed="rId1"/>
          <a:stretch/>
        </p:blipFill>
        <p:spPr>
          <a:xfrm>
            <a:off x="2714760" y="2428920"/>
            <a:ext cx="6095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428760" y="428760"/>
            <a:ext cx="84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озже люди освещали свои жилища факелами, свечами, керосиновыми лампами. Затем в дома пришло электрическое осве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www.otvisay.ru/uploads/posts/2013-05/thumbs/1369645276_up-helly-aa-13.jpg"/>
          <p:cNvPicPr/>
          <p:nvPr/>
        </p:nvPicPr>
        <p:blipFill>
          <a:blip r:embed="rId1"/>
          <a:stretch/>
        </p:blipFill>
        <p:spPr>
          <a:xfrm>
            <a:off x="857160" y="1428840"/>
            <a:ext cx="3357720" cy="235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es.palabras.jp/wp-content/uploads/2011/11/Matthias_stom_young_man_reading_by_candlelight-300x240.jpg"/>
          <p:cNvPicPr/>
          <p:nvPr/>
        </p:nvPicPr>
        <p:blipFill>
          <a:blip r:embed="rId2"/>
          <a:stretch/>
        </p:blipFill>
        <p:spPr>
          <a:xfrm>
            <a:off x="4786200" y="1428840"/>
            <a:ext cx="3357720" cy="235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img15.nnm.me/3/4/0/f/5/9643b6606cda0db45d0cb60a993_prev.jpg"/>
          <p:cNvPicPr/>
          <p:nvPr/>
        </p:nvPicPr>
        <p:blipFill>
          <a:blip r:embed="rId3"/>
          <a:stretch/>
        </p:blipFill>
        <p:spPr>
          <a:xfrm>
            <a:off x="857160" y="4071960"/>
            <a:ext cx="3357720" cy="2357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http://worldseo.ru/wp-content/uploads/2012/05/osvecchenie-300x187.jpg"/>
          <p:cNvPicPr/>
          <p:nvPr/>
        </p:nvPicPr>
        <p:blipFill>
          <a:blip r:embed="rId4"/>
          <a:stretch/>
        </p:blipFill>
        <p:spPr>
          <a:xfrm>
            <a:off x="4786200" y="4071960"/>
            <a:ext cx="3357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http://www.merten-catalog.ru/upl/catimg/minithumb/3800_abb-catalog.ru_MPlan_486119_237319_new.jpg"/>
          <p:cNvPicPr/>
          <p:nvPr/>
        </p:nvPicPr>
        <p:blipFill>
          <a:blip r:embed="rId1"/>
          <a:stretch/>
        </p:blipFill>
        <p:spPr>
          <a:xfrm>
            <a:off x="7143840" y="221472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6"/>
          <p:cNvSpPr/>
          <p:nvPr/>
        </p:nvSpPr>
        <p:spPr>
          <a:xfrm>
            <a:off x="285840" y="357120"/>
            <a:ext cx="842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Электричество вырабатывается на электростанциях и приходит к нам в дом по проводам, спрятанным глубоко в земле или очень высоко над землей, приходит  в дома и помогает челове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 наших квартирах ток  «живет» в проводах , лампочках , выключателях и розет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571680" y="492912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Электричество  наш друг.  Оно помогает работать нашим помощникам – электрическим прибо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http://www.splyse.ru/netcat_files/11/3/knopka_simv_lampy_podsvet.jpeg"/>
          <p:cNvPicPr/>
          <p:nvPr/>
        </p:nvPicPr>
        <p:blipFill>
          <a:blip r:embed="rId2"/>
          <a:stretch/>
        </p:blipFill>
        <p:spPr>
          <a:xfrm>
            <a:off x="5000760" y="2071800"/>
            <a:ext cx="1725480" cy="1928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pokrou.com/wp-content/uploads/2012/03/electro.jpg"/>
          <p:cNvPicPr/>
          <p:nvPr/>
        </p:nvPicPr>
        <p:blipFill>
          <a:blip r:embed="rId3"/>
          <a:stretch/>
        </p:blipFill>
        <p:spPr>
          <a:xfrm>
            <a:off x="500040" y="2000160"/>
            <a:ext cx="2143080" cy="1954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http://ledluks.ru/published/publicdata/FLOCKLEDLUKS/attachments/SC/products_pictures/small_0001321__clas_a_fr_75w_27_osram_300.jpg"/>
          <p:cNvPicPr/>
          <p:nvPr/>
        </p:nvPicPr>
        <p:blipFill>
          <a:blip r:embed="rId4"/>
          <a:stretch/>
        </p:blipFill>
        <p:spPr>
          <a:xfrm>
            <a:off x="3000240" y="22147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4286160" y="15717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олюбуйся, посмотр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олюс Северный внутр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Там сверкает снег и ле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Там сама зима жи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Навсегда нам эту зи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ривезли из магаз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юрий\Desktop\ДЕТСКИЕ ПРЕЗЕНТАЦИИ\БЫТОВЫЕ ПРИБОРЫ\xolodilnik_bol.jpg"/>
          <p:cNvPicPr/>
          <p:nvPr/>
        </p:nvPicPr>
        <p:blipFill>
          <a:blip r:embed="rId1"/>
          <a:stretch/>
        </p:blipFill>
        <p:spPr>
          <a:xfrm>
            <a:off x="428760" y="785880"/>
            <a:ext cx="33573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357120" y="7858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Есть у нас в квартире робот,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У него огромный хобо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Любит робот чистот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И гудит, как лайнер: «Туу-у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Он с  охотой пыль глота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Не  болеет, не чих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«Берегитесь, пыль и мус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Живо с вами разберусь 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maxvideo.by/picture/106929.jpg"/>
          <p:cNvPicPr/>
          <p:nvPr/>
        </p:nvPicPr>
        <p:blipFill>
          <a:blip r:embed="rId1"/>
          <a:stretch/>
        </p:blipFill>
        <p:spPr>
          <a:xfrm>
            <a:off x="5000760" y="1285920"/>
            <a:ext cx="3429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17:12:54Z</dcterms:created>
  <dc:creator>юрий</dc:creator>
  <dc:description/>
  <dc:language>en-US</dc:language>
  <cp:lastModifiedBy>user</cp:lastModifiedBy>
  <dcterms:modified xsi:type="dcterms:W3CDTF">2019-11-24T12:39:32Z</dcterms:modified>
  <cp:revision>60</cp:revision>
  <dc:subject/>
  <dc:title>ПРЕЗЕНТАЦИЯ  ПО  ТЕМЕ «БЫТОВЫЕ  ЭЛЕКТРОПРИБОРЫ»</dc:title>
</cp:coreProperties>
</file>