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33.png" ContentType="image/png"/>
  <Override PartName="/ppt/media/image31.png" ContentType="image/png"/>
  <Override PartName="/ppt/media/image8.jpeg" ContentType="image/jpeg"/>
  <Override PartName="/ppt/media/image26.png" ContentType="image/png"/>
  <Override PartName="/ppt/media/image34.png" ContentType="image/png"/>
  <Override PartName="/ppt/media/image12.jpeg" ContentType="image/jpeg"/>
  <Override PartName="/ppt/media/image88.jpeg" ContentType="image/jpeg"/>
  <Override PartName="/ppt/media/image13.png" ContentType="image/png"/>
  <Override PartName="/ppt/media/image38.jpeg" ContentType="image/jpeg"/>
  <Override PartName="/ppt/media/image72.png" ContentType="image/png"/>
  <Override PartName="/ppt/media/image28.png" ContentType="image/png"/>
  <Override PartName="/ppt/media/image19.png" ContentType="image/png"/>
  <Override PartName="/ppt/media/image84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91.gif" ContentType="image/gif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86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89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81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4BC-E4F4-41FD-A6AA-4B926CD4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BDD-FC21-4077-B4E3-38F41124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3E1-16AC-4BEC-BDD8-D5B42071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C15-39FD-4798-AC5F-8272299B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832-B13A-48EA-8B59-C351F5E7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8A8-7D82-4EB5-B86B-042494F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4C3-0D73-404B-A2B7-C3543BE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473-8BE9-4D15-8591-901AE07B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28D-66AB-4794-A21C-ADE45B9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935-4E92-425A-B28E-25394A4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A34-6A21-4068-A6C8-0CD3EEC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157-63FE-4C05-826A-A317D3F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DFEC-F5B3-414A-ACFD-7E00830EC6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jpe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69.png"/><Relationship Id="rId9" Type="http://schemas.openxmlformats.org/officeDocument/2006/relationships/image" Target="../media/image69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0.pn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45.png"/><Relationship Id="rId4" Type="http://schemas.openxmlformats.org/officeDocument/2006/relationships/image" Target="../media/image73.png"/><Relationship Id="rId5" Type="http://schemas.openxmlformats.org/officeDocument/2006/relationships/image" Target="../media/image52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1249200"/>
            <a:ext cx="86868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928960" y="407196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а машина любит трудиться,                   Своею работой очень гордится.               Белью говорит она: «Эй, замарашки,  Пеленки, футболки, штаны и рубашки!         К себе в барабан вас, грязнуль, приглашаю.  И пятна, и грязь с порошком отстир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novokuznecktut.ru/upload/board/2012-04/9758af11e9e7d3_big.jpg"/>
          <p:cNvPicPr/>
          <p:nvPr/>
        </p:nvPicPr>
        <p:blipFill>
          <a:blip r:embed="rId1"/>
          <a:stretch/>
        </p:blipFill>
        <p:spPr>
          <a:xfrm>
            <a:off x="142920" y="1429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642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белья надежный друг.       По одежде он плывет,               Как горячий пароход. Оставляет нам, ребята,  Любоваться результатом:  Стало все белье на диво     Очень гладким и краси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polnotovarov.ru/files/news/Utyug_3.jpg"/>
          <p:cNvPicPr/>
          <p:nvPr/>
        </p:nvPicPr>
        <p:blipFill>
          <a:blip r:embed="rId1"/>
          <a:stretch/>
        </p:blipFill>
        <p:spPr>
          <a:xfrm>
            <a:off x="3929040" y="321480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000680" y="4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кухне главная она,          Словно воздух нам нужна.  Может жарить, может печь,   Щи и вкусный борщ сварить, Может чайник вскипят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плита"/>
          <p:cNvPicPr/>
          <p:nvPr/>
        </p:nvPicPr>
        <p:blipFill>
          <a:blip r:embed="rId1"/>
          <a:stretch/>
        </p:blipFill>
        <p:spPr>
          <a:xfrm>
            <a:off x="642960" y="2571840"/>
            <a:ext cx="3260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28760" y="714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воду моментально,   Стоит лишь его включить, Закипает изнутри                          И пускает пузыри.   Насладиться вечерком       Можно вкусненьким ч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pro-mojki.ucoz.ru/_ph/1/2/696903005.jpg"/>
          <p:cNvPicPr/>
          <p:nvPr/>
        </p:nvPicPr>
        <p:blipFill>
          <a:blip r:embed="rId1"/>
          <a:stretch/>
        </p:blipFill>
        <p:spPr>
          <a:xfrm>
            <a:off x="5572080" y="2857680"/>
            <a:ext cx="3135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357280" y="4643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отрю я на экран в квартир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вижу, что творит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года, новости, ки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 спорт узнаю заодно.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110220volts.com/Merchant2/graphics/00000001/HITACHI_L42X01A.jpg"/>
          <p:cNvPicPr/>
          <p:nvPr/>
        </p:nvPicPr>
        <p:blipFill>
          <a:blip r:embed="rId1"/>
          <a:stretch/>
        </p:blipFill>
        <p:spPr>
          <a:xfrm>
            <a:off x="2143080" y="42876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214720" y="714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иццу, курицу, котле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нам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быстро, очень лов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дь она - … микровол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polka.lv/data/products/1185544245_kor_630aa.JPG"/>
          <p:cNvPicPr/>
          <p:nvPr/>
        </p:nvPicPr>
        <p:blipFill>
          <a:blip r:embed="rId1"/>
          <a:stretch/>
        </p:blipFill>
        <p:spPr>
          <a:xfrm>
            <a:off x="2000160" y="3000240"/>
            <a:ext cx="47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2920" y="428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от комбайн нам на поле не встретить,  Можно его лишь на кухне заметить. Просто бесценный для нас агрегат,  Маме помочь он всегда очень рад. Овощи режет, на терке их трет                   И для пирожного крем он собьет.          Много работы он выполняет –          Время  и силы он нам сберега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market.kiev.ua/images_goods/First/First-FA-5117.jpg"/>
          <p:cNvPicPr/>
          <p:nvPr/>
        </p:nvPicPr>
        <p:blipFill>
          <a:blip r:embed="rId1"/>
          <a:stretch/>
        </p:blipFill>
        <p:spPr>
          <a:xfrm>
            <a:off x="5000760" y="25718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286160" y="3500280"/>
            <a:ext cx="457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сле ванны с мягкой пеной, Волосы мы сушим…                    Ток усердный О-го-го…           Ветром дует из 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шит ветер-сухов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Кудри мамочки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stinol.ua/upload/iblock/0a4/azfs%20Scarlett%20SC-1073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4200" y="285840"/>
            <a:ext cx="4572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 столом сижу, на экран гляжу. Увлекла меня с утра  Интересная игра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мн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ам без рук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а чужими 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3500280" y="2143080"/>
            <a:ext cx="522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64296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ыстро он коктейль взбив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уставшим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4572000" y="571680"/>
            <a:ext cx="4092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и по запросу предки готовят пищу на костре"/>
          <p:cNvPicPr/>
          <p:nvPr/>
        </p:nvPicPr>
        <p:blipFill>
          <a:blip r:embed="rId1"/>
          <a:stretch/>
        </p:blipFill>
        <p:spPr>
          <a:xfrm>
            <a:off x="785880" y="1571760"/>
            <a:ext cx="785160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и предки готовили пищу на кост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28616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нтилятор так похож                На пропеллер самолета.                Не летает? – Ну и что ж!                 У него своя работа.                  Свой мотор ни на мгновенье      Он крутить не устает,                    В жарком, душном помещенье    Свежий ветер соз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857160" y="642960"/>
            <a:ext cx="2511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0004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бор он замечательный, Мелодий много знает                   И песен зажигательных.                Со мною рядышком живет, Нажмешь на кнопку – он споет! Только жалко что певца,            Не покажут нам л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магнитофон"/>
          <p:cNvPicPr/>
          <p:nvPr/>
        </p:nvPicPr>
        <p:blipFill>
          <a:blip r:embed="rId1"/>
          <a:stretch/>
        </p:blipFill>
        <p:spPr>
          <a:xfrm>
            <a:off x="5000760" y="1785960"/>
            <a:ext cx="3255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357120" y="2214720"/>
            <a:ext cx="1809720" cy="14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6858000" y="2000160"/>
            <a:ext cx="17161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юрий\Desktop\ДЕТСКИЕ ПРЕЗЕНТАЦИИ\БЫТОВЫЕ ПРИБОРЫ\вентилятор.jpeg"/>
          <p:cNvPicPr/>
          <p:nvPr/>
        </p:nvPicPr>
        <p:blipFill>
          <a:blip r:embed="rId3"/>
          <a:stretch/>
        </p:blipFill>
        <p:spPr>
          <a:xfrm>
            <a:off x="2928960" y="1571760"/>
            <a:ext cx="10825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юрий\Desktop\ДЕТСКИЕ ПРЕЗЕНТАЦИИ\БЫТОВЫЕ ПРИБОРЫ\миксер.jpg"/>
          <p:cNvPicPr/>
          <p:nvPr/>
        </p:nvPicPr>
        <p:blipFill>
          <a:blip r:embed="rId4"/>
          <a:stretch/>
        </p:blipFill>
        <p:spPr>
          <a:xfrm>
            <a:off x="4643280" y="2143080"/>
            <a:ext cx="1357560" cy="110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ro-mojki.ucoz.ru/_ph/1/2/696903005.jpg"/>
          <p:cNvPicPr/>
          <p:nvPr/>
        </p:nvPicPr>
        <p:blipFill>
          <a:blip r:embed="rId5"/>
          <a:stretch/>
        </p:blipFill>
        <p:spPr>
          <a:xfrm>
            <a:off x="4929120" y="4500720"/>
            <a:ext cx="1357560" cy="163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7024680" y="414324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maxvideo.by/picture/106929.jpg"/>
          <p:cNvPicPr/>
          <p:nvPr/>
        </p:nvPicPr>
        <p:blipFill>
          <a:blip r:embed="rId7"/>
          <a:stretch/>
        </p:blipFill>
        <p:spPr>
          <a:xfrm>
            <a:off x="428760" y="4000680"/>
            <a:ext cx="1571400" cy="226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polnotovarov.ru/files/news/Utyug_3.jpg"/>
          <p:cNvPicPr/>
          <p:nvPr/>
        </p:nvPicPr>
        <p:blipFill>
          <a:blip r:embed="rId8"/>
          <a:stretch/>
        </p:blipFill>
        <p:spPr>
          <a:xfrm rot="3457200">
            <a:off x="2834280" y="49266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14292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идите, как много электроприборов нас окружает. Они наши лучшие помощники. Все они делают нашу жизнь удобной и разнообразной. Без них человеку было бы трудно. И все они работают от электрического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и по запросу физминутка про электроприб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http://z-city.com.ua/images/pictures/authors/7020/13957/sushka-01-verevka-(article-picture1).jpg?key=cbd109fe11hhp8l0sjxrruoq3"/>
          <p:cNvPicPr/>
          <p:nvPr/>
        </p:nvPicPr>
        <p:blipFill>
          <a:blip r:embed="rId1"/>
          <a:stretch/>
        </p:blipFill>
        <p:spPr>
          <a:xfrm>
            <a:off x="0" y="1714680"/>
            <a:ext cx="1735200" cy="112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ages.otto.de/asset/mmo/formatg/6195503.jpg"/>
          <p:cNvPicPr/>
          <p:nvPr/>
        </p:nvPicPr>
        <p:blipFill>
          <a:blip r:embed="rId2"/>
          <a:stretch/>
        </p:blipFill>
        <p:spPr>
          <a:xfrm>
            <a:off x="7547040" y="1643040"/>
            <a:ext cx="15969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279000" y="51624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agenes.es.sftcdn.net/es/scrn/316000/316447/expresso-14.png?key=api"/>
          <p:cNvPicPr/>
          <p:nvPr/>
        </p:nvPicPr>
        <p:blipFill>
          <a:blip r:embed="rId4"/>
          <a:stretch/>
        </p:blipFill>
        <p:spPr>
          <a:xfrm>
            <a:off x="650088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http://www.moluch.ru/archive/47/5754/images/m67884c25.jpg"/>
          <p:cNvPicPr/>
          <p:nvPr/>
        </p:nvPicPr>
        <p:blipFill>
          <a:blip r:embed="rId5"/>
          <a:stretch/>
        </p:blipFill>
        <p:spPr>
          <a:xfrm>
            <a:off x="1857240" y="178596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3500280" y="4429080"/>
            <a:ext cx="1285920" cy="193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about-lady.ru/uploads/posts/2010-07/1280490364_vypryamlenie-volos-posle-ximicheskoj-zavivki.jpg"/>
          <p:cNvPicPr/>
          <p:nvPr/>
        </p:nvPicPr>
        <p:blipFill>
          <a:blip r:embed="rId7"/>
          <a:stretch/>
        </p:blipFill>
        <p:spPr>
          <a:xfrm>
            <a:off x="5429160" y="1571760"/>
            <a:ext cx="1019160" cy="152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elvice24.de/out/pictures/generated/category/thumb/748_150_100/3539_v(11).gif"/>
          <p:cNvPicPr/>
          <p:nvPr/>
        </p:nvPicPr>
        <p:blipFill>
          <a:blip r:embed="rId8"/>
          <a:stretch/>
        </p:blipFill>
        <p:spPr>
          <a:xfrm>
            <a:off x="6143760" y="4929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www.megamagnat.ru/images/customer_advices/26.jpg"/>
          <p:cNvPicPr/>
          <p:nvPr/>
        </p:nvPicPr>
        <p:blipFill>
          <a:blip r:embed="rId9"/>
          <a:stretch/>
        </p:blipFill>
        <p:spPr>
          <a:xfrm>
            <a:off x="3643200" y="1857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xvideo.by/picture/106929.jpg"/>
          <p:cNvPicPr/>
          <p:nvPr/>
        </p:nvPicPr>
        <p:blipFill>
          <a:blip r:embed="rId10"/>
          <a:stretch/>
        </p:blipFill>
        <p:spPr>
          <a:xfrm>
            <a:off x="4857840" y="4714920"/>
            <a:ext cx="1000080" cy="1444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для чег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2071800" y="5003640"/>
            <a:ext cx="1000080" cy="120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novokuznecktut.ru/upload/board/2012-04/9758af11e9e7d3_big.jpg"/>
          <p:cNvPicPr/>
          <p:nvPr/>
        </p:nvPicPr>
        <p:blipFill>
          <a:blip r:embed="rId12"/>
          <a:stretch/>
        </p:blipFill>
        <p:spPr>
          <a:xfrm>
            <a:off x="7643880" y="50007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255 L -0.81163 -0.475 E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4948 -0.44097 E">
                                      <p:cBhvr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06 L -0.10955 -0.43981 E">
                                      <p:cBhvr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07951 -0.42107 E"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4941 -0.46204 E">
                                      <p:cBhvr>
                                        <p:cTn id="12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2616 L 0.80677 -0.47778 E">
                                      <p:cBhvr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7929720" y="3500280"/>
            <a:ext cx="93024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плита"/>
          <p:cNvPicPr/>
          <p:nvPr/>
        </p:nvPicPr>
        <p:blipFill>
          <a:blip r:embed="rId2"/>
          <a:stretch/>
        </p:blipFill>
        <p:spPr>
          <a:xfrm>
            <a:off x="6643800" y="53578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3"/>
          <a:stretch/>
        </p:blipFill>
        <p:spPr>
          <a:xfrm>
            <a:off x="771516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maxvideo.by/picture/106929.jpg"/>
          <p:cNvPicPr/>
          <p:nvPr/>
        </p:nvPicPr>
        <p:blipFill>
          <a:blip r:embed="rId4"/>
          <a:stretch/>
        </p:blipFill>
        <p:spPr>
          <a:xfrm>
            <a:off x="6429240" y="2643120"/>
            <a:ext cx="114300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novokuznecktut.ru/upload/board/2012-04/9758af11e9e7d3_big.jpg"/>
          <p:cNvPicPr/>
          <p:nvPr/>
        </p:nvPicPr>
        <p:blipFill>
          <a:blip r:embed="rId5"/>
          <a:stretch/>
        </p:blipFill>
        <p:spPr>
          <a:xfrm>
            <a:off x="6286680" y="857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arbat.org/images/1adve_14s.jpg"/>
          <p:cNvPicPr/>
          <p:nvPr/>
        </p:nvPicPr>
        <p:blipFill>
          <a:blip r:embed="rId6"/>
          <a:stretch/>
        </p:blipFill>
        <p:spPr>
          <a:xfrm>
            <a:off x="285840" y="1071720"/>
            <a:ext cx="1428840" cy="911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было, что е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0" descr="http://img.achetezfacile.com/photoshopper/aWQ9MTE5NjI5NDc0NTM2MjE2MTkzMzkmbD0yNDQmaD0yNDQmYz0yJmY9d2hpdGUmaW1nPTUwMHwzNzF8anBnfDg1-3633068153"/>
          <p:cNvPicPr/>
          <p:nvPr/>
        </p:nvPicPr>
        <p:blipFill>
          <a:blip r:embed="rId7"/>
          <a:stretch/>
        </p:blipFill>
        <p:spPr>
          <a:xfrm>
            <a:off x="357120" y="2286000"/>
            <a:ext cx="1143000" cy="83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kharkov.sindom.com.ua/upload/s/n/g/c/1_prodam-veniki-sorgo-mylo-tualetnuyu-bumagu.jpg"/>
          <p:cNvPicPr/>
          <p:nvPr/>
        </p:nvPicPr>
        <p:blipFill>
          <a:blip r:embed="rId8"/>
          <a:stretch/>
        </p:blipFill>
        <p:spPr>
          <a:xfrm>
            <a:off x="357120" y="32860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http://www.u-sity.net/uploads/posts/2012-06/1339804186_35.jpg"/>
          <p:cNvPicPr/>
          <p:nvPr/>
        </p:nvPicPr>
        <p:blipFill>
          <a:blip r:embed="rId9"/>
          <a:stretch/>
        </p:blipFill>
        <p:spPr>
          <a:xfrm>
            <a:off x="357120" y="4286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m3.paperblog.com/i/49/497094/michele-angelo-zundet-eine-kerze-an-fur-kevin-L-g3RXBV.jpeg"/>
          <p:cNvPicPr/>
          <p:nvPr/>
        </p:nvPicPr>
        <p:blipFill>
          <a:blip r:embed="rId10"/>
          <a:stretch/>
        </p:blipFill>
        <p:spPr>
          <a:xfrm>
            <a:off x="500040" y="5456160"/>
            <a:ext cx="785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80799 0.39282 E">
                                      <p:cBhvr>
                                        <p:cTn id="1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96296E-006 L 0.64722 -0.17777 E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64375 -0.02107 E">
                                      <p:cBhvr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68298 0.14699 E">
                                      <p:cBhvr>
                                        <p:cTn id="15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79618 -0.56551 E">
                                      <p:cBhvr>
                                        <p:cTn id="15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www.stinol.ua/upload/resize_cache/iblock/177/320_255_1/rcxmdjnfb%20Scarlett%20SC-1549.jpg"/>
          <p:cNvPicPr/>
          <p:nvPr/>
        </p:nvPicPr>
        <p:blipFill>
          <a:blip r:embed="rId1"/>
          <a:stretch/>
        </p:blipFill>
        <p:spPr>
          <a:xfrm>
            <a:off x="5143680" y="85716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fitrecept.ru/images/kulinar/priznaki-i-svojstva-myasa-podmorozhennogo-sverxu_1.jpg"/>
          <p:cNvPicPr/>
          <p:nvPr/>
        </p:nvPicPr>
        <p:blipFill>
          <a:blip r:embed="rId2"/>
          <a:stretch/>
        </p:blipFill>
        <p:spPr>
          <a:xfrm>
            <a:off x="885960" y="1143000"/>
            <a:ext cx="285264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kdmart.ru/image/cache/data/SOKOVYZhIMALKA_BOSCH_MES3000_1-500x500.jpg"/>
          <p:cNvPicPr/>
          <p:nvPr/>
        </p:nvPicPr>
        <p:blipFill>
          <a:blip r:embed="rId3"/>
          <a:stretch/>
        </p:blipFill>
        <p:spPr>
          <a:xfrm>
            <a:off x="5572080" y="3714840"/>
            <a:ext cx="2691000" cy="269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leohouseclinic.com/wp-content/uploads/2012/08/soki-svezhevizhatie-simptomi-prichini-lechenie-narodnimi-1.jpg"/>
          <p:cNvPicPr/>
          <p:nvPr/>
        </p:nvPicPr>
        <p:blipFill>
          <a:blip r:embed="rId4"/>
          <a:stretch/>
        </p:blipFill>
        <p:spPr>
          <a:xfrm>
            <a:off x="571680" y="3786120"/>
            <a:ext cx="3468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lyubimsebya.ru/wp-content/uploads/2012/12/111jpg.jpg"/>
          <p:cNvPicPr/>
          <p:nvPr/>
        </p:nvPicPr>
        <p:blipFill>
          <a:blip r:embed="rId1"/>
          <a:stretch/>
        </p:blipFill>
        <p:spPr>
          <a:xfrm>
            <a:off x="1071720" y="121428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kofevarkin.ru/products_pictures/espressoColor.jpg"/>
          <p:cNvPicPr/>
          <p:nvPr/>
        </p:nvPicPr>
        <p:blipFill>
          <a:blip r:embed="rId2"/>
          <a:stretch/>
        </p:blipFill>
        <p:spPr>
          <a:xfrm>
            <a:off x="5857920" y="57168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media.steampowered.com/steamcommunity/public/images/avatars/35/35aaafbc62a5442eff8e4dfd7feeb1afeef99c09_full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vk-recepty.ru/uploads/posts/2013-04/jrll3l06d0.jpg"/>
          <p:cNvPicPr/>
          <p:nvPr/>
        </p:nvPicPr>
        <p:blipFill>
          <a:blip r:embed="rId4"/>
          <a:stretch/>
        </p:blipFill>
        <p:spPr>
          <a:xfrm>
            <a:off x="642960" y="38577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Посчит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polnotovarov.ru/files/news/Utyug_3.jpg"/>
          <p:cNvPicPr/>
          <p:nvPr/>
        </p:nvPicPr>
        <p:blipFill>
          <a:blip r:embed="rId1"/>
          <a:stretch/>
        </p:blipFill>
        <p:spPr>
          <a:xfrm rot="459600">
            <a:off x="623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www.polnotovarov.ru/files/news/Utyug_3.jpg"/>
          <p:cNvPicPr/>
          <p:nvPr/>
        </p:nvPicPr>
        <p:blipFill>
          <a:blip r:embed="rId2"/>
          <a:stretch/>
        </p:blipFill>
        <p:spPr>
          <a:xfrm rot="459600">
            <a:off x="2266920" y="1500120"/>
            <a:ext cx="1133640" cy="85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3981240" y="1714680"/>
            <a:ext cx="1133280" cy="85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polnotovarov.ru/files/news/Utyug_3.jpg"/>
          <p:cNvPicPr/>
          <p:nvPr/>
        </p:nvPicPr>
        <p:blipFill>
          <a:blip r:embed="rId4"/>
          <a:stretch/>
        </p:blipFill>
        <p:spPr>
          <a:xfrm rot="459600">
            <a:off x="5838480" y="157176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www.polnotovarov.ru/files/news/Utyug_3.jpg"/>
          <p:cNvPicPr/>
          <p:nvPr/>
        </p:nvPicPr>
        <p:blipFill>
          <a:blip r:embed="rId5"/>
          <a:stretch/>
        </p:blipFill>
        <p:spPr>
          <a:xfrm rot="459600">
            <a:off x="7481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юрий\Desktop\ДЕТСКИЕ ПРЕЗЕНТАЦИИ\БЫТОВЫЕ ПРИБОРЫ\телик.jpg"/>
          <p:cNvPicPr/>
          <p:nvPr/>
        </p:nvPicPr>
        <p:blipFill>
          <a:blip r:embed="rId6"/>
          <a:stretch/>
        </p:blipFill>
        <p:spPr>
          <a:xfrm>
            <a:off x="500040" y="507204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юрий\Desktop\ДЕТСКИЕ ПРЕЗЕНТАЦИИ\БЫТОВЫЕ ПРИБОРЫ\телик.jpg"/>
          <p:cNvPicPr/>
          <p:nvPr/>
        </p:nvPicPr>
        <p:blipFill>
          <a:blip r:embed="rId7"/>
          <a:stretch/>
        </p:blipFill>
        <p:spPr>
          <a:xfrm>
            <a:off x="2214720" y="450072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юрий\Desktop\ДЕТСКИЕ ПРЕЗЕНТАЦИИ\БЫТОВЫЕ ПРИБОРЫ\телик.jpg"/>
          <p:cNvPicPr/>
          <p:nvPr/>
        </p:nvPicPr>
        <p:blipFill>
          <a:blip r:embed="rId8"/>
          <a:stretch/>
        </p:blipFill>
        <p:spPr>
          <a:xfrm>
            <a:off x="3714840" y="521496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юрий\Desktop\ДЕТСКИЕ ПРЕЗЕНТАЦИИ\БЫТОВЫЕ ПРИБОРЫ\телик.jpg"/>
          <p:cNvPicPr/>
          <p:nvPr/>
        </p:nvPicPr>
        <p:blipFill>
          <a:blip r:embed="rId9"/>
          <a:stretch/>
        </p:blipFill>
        <p:spPr>
          <a:xfrm>
            <a:off x="5500800" y="464328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юрий\Desktop\ДЕТСКИЕ ПРЕЗЕНТАЦИИ\БЫТОВЫЕ ПРИБОРЫ\телик.jpg"/>
          <p:cNvPicPr/>
          <p:nvPr/>
        </p:nvPicPr>
        <p:blipFill>
          <a:blip r:embed="rId10"/>
          <a:stretch/>
        </p:blipFill>
        <p:spPr>
          <a:xfrm>
            <a:off x="7286760" y="514368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71424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pro-mojki.ucoz.ru/_ph/1/2/696903005.jpg"/>
          <p:cNvPicPr/>
          <p:nvPr/>
        </p:nvPicPr>
        <p:blipFill>
          <a:blip r:embed="rId12"/>
          <a:stretch/>
        </p:blipFill>
        <p:spPr>
          <a:xfrm>
            <a:off x="2286000" y="300024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pro-mojki.ucoz.ru/_ph/1/2/696903005.jpg"/>
          <p:cNvPicPr/>
          <p:nvPr/>
        </p:nvPicPr>
        <p:blipFill>
          <a:blip r:embed="rId13"/>
          <a:stretch/>
        </p:blipFill>
        <p:spPr>
          <a:xfrm>
            <a:off x="4071960" y="314316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ro-mojki.ucoz.ru/_ph/1/2/696903005.jpg"/>
          <p:cNvPicPr/>
          <p:nvPr/>
        </p:nvPicPr>
        <p:blipFill>
          <a:blip r:embed="rId14"/>
          <a:stretch/>
        </p:blipFill>
        <p:spPr>
          <a:xfrm>
            <a:off x="585792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pro-mojki.ucoz.ru/_ph/1/2/696903005.jpg"/>
          <p:cNvPicPr/>
          <p:nvPr/>
        </p:nvPicPr>
        <p:blipFill>
          <a:blip r:embed="rId15"/>
          <a:stretch/>
        </p:blipFill>
        <p:spPr>
          <a:xfrm>
            <a:off x="7643880" y="3214800"/>
            <a:ext cx="941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2714760" y="1643040"/>
            <a:ext cx="1571400" cy="122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714240" y="1609560"/>
            <a:ext cx="1428840" cy="1256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Найди лишний предм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8" descr="http://elvice24.de/out/pictures/generated/category/thumb/748_150_100/3539_v(11).gif"/>
          <p:cNvPicPr/>
          <p:nvPr/>
        </p:nvPicPr>
        <p:blipFill>
          <a:blip r:embed="rId3"/>
          <a:stretch/>
        </p:blipFill>
        <p:spPr>
          <a:xfrm>
            <a:off x="7072200" y="1547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kharkov.sindom.com.ua/upload/s/n/g/c/1_prodam-veniki-sorgo-mylo-tualetnuyu-bumagu.jpg"/>
          <p:cNvPicPr/>
          <p:nvPr/>
        </p:nvPicPr>
        <p:blipFill>
          <a:blip r:embed="rId4"/>
          <a:stretch/>
        </p:blipFill>
        <p:spPr>
          <a:xfrm>
            <a:off x="5000760" y="155412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5"/>
          <a:stretch/>
        </p:blipFill>
        <p:spPr>
          <a:xfrm>
            <a:off x="7429680" y="33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://karnizyifoto-ai.ucoz.ru/_ph/1/2/171751187.jpg"/>
          <p:cNvPicPr/>
          <p:nvPr/>
        </p:nvPicPr>
        <p:blipFill>
          <a:blip r:embed="rId6"/>
          <a:stretch/>
        </p:blipFill>
        <p:spPr>
          <a:xfrm>
            <a:off x="5072040" y="30002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http://art-stal.ru/d/82033/d/1402224_4.jpg"/>
          <p:cNvPicPr/>
          <p:nvPr/>
        </p:nvPicPr>
        <p:blipFill>
          <a:blip r:embed="rId7"/>
          <a:stretch/>
        </p:blipFill>
        <p:spPr>
          <a:xfrm>
            <a:off x="714240" y="3286080"/>
            <a:ext cx="1357560" cy="145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юрий\Desktop\ДЕТСКИЕ ПРЕЗЕНТАЦИИ\БЫТОВЫЕ ПРИБОРЫ\вентилятор.jpeg"/>
          <p:cNvPicPr/>
          <p:nvPr/>
        </p:nvPicPr>
        <p:blipFill>
          <a:blip r:embed="rId8"/>
          <a:stretch/>
        </p:blipFill>
        <p:spPr>
          <a:xfrm>
            <a:off x="7500960" y="4786200"/>
            <a:ext cx="1071720" cy="19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http://www.omar.ru/img/model/886/76886/1-200.jpg"/>
          <p:cNvPicPr/>
          <p:nvPr/>
        </p:nvPicPr>
        <p:blipFill>
          <a:blip r:embed="rId9"/>
          <a:stretch/>
        </p:blipFill>
        <p:spPr>
          <a:xfrm>
            <a:off x="2857680" y="4857840"/>
            <a:ext cx="207144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10"/>
          <a:stretch/>
        </p:blipFill>
        <p:spPr>
          <a:xfrm>
            <a:off x="5072040" y="5143680"/>
            <a:ext cx="1643040" cy="153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Picture 4" descr="http://www.polnotovarov.ru/files/news/Utyug_3.jpg"/>
          <p:cNvPicPr/>
          <p:nvPr/>
        </p:nvPicPr>
        <p:blipFill>
          <a:blip r:embed="rId11"/>
          <a:stretch/>
        </p:blipFill>
        <p:spPr>
          <a:xfrm rot="459600">
            <a:off x="2712600" y="338256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ttp://img2.alfa.kz/files/alfa/messages/thumbnails_230x173/4/3/6/7/2.jpg?fid=4367036"/>
          <p:cNvPicPr/>
          <p:nvPr/>
        </p:nvPicPr>
        <p:blipFill>
          <a:blip r:embed="rId12"/>
          <a:stretch/>
        </p:blipFill>
        <p:spPr>
          <a:xfrm>
            <a:off x="357120" y="5000760"/>
            <a:ext cx="2190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енские жители готовили в п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и по запросу русская печь"/>
          <p:cNvPicPr/>
          <p:nvPr/>
        </p:nvPicPr>
        <p:blipFill>
          <a:blip r:embed="rId1"/>
          <a:stretch/>
        </p:blipFill>
        <p:spPr>
          <a:xfrm>
            <a:off x="1785960" y="1285920"/>
            <a:ext cx="5508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357200" y="1285920"/>
          <a:ext cx="6643800" cy="2357280"/>
        </p:xfrm>
        <a:graphic>
          <a:graphicData uri="http://schemas.openxmlformats.org/drawingml/2006/table">
            <a:tbl>
              <a:tblPr/>
              <a:tblGrid>
                <a:gridCol w="1328760"/>
                <a:gridCol w="1328760"/>
                <a:gridCol w="1328760"/>
                <a:gridCol w="1328760"/>
                <a:gridCol w="1328760"/>
              </a:tblGrid>
              <a:tr h="23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сначала, что потом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" descr="http://www.u-sity.net/uploads/posts/2012-06/1339804186_35.jpg"/>
          <p:cNvPicPr/>
          <p:nvPr/>
        </p:nvPicPr>
        <p:blipFill>
          <a:blip r:embed="rId1"/>
          <a:stretch/>
        </p:blipFill>
        <p:spPr>
          <a:xfrm>
            <a:off x="3929040" y="457200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g104.imageshack.us/img104/4238/pirates3kc3.png"/>
          <p:cNvPicPr/>
          <p:nvPr/>
        </p:nvPicPr>
        <p:blipFill>
          <a:blip r:embed="rId2"/>
          <a:stretch/>
        </p:blipFill>
        <p:spPr>
          <a:xfrm>
            <a:off x="171468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m3.paperblog.com/i/49/497094/michele-angelo-zundet-eine-kerze-an-fur-kevin-L-g3RXBV.jpeg"/>
          <p:cNvPicPr/>
          <p:nvPr/>
        </p:nvPicPr>
        <p:blipFill>
          <a:blip r:embed="rId3"/>
          <a:stretch/>
        </p:blipFill>
        <p:spPr>
          <a:xfrm>
            <a:off x="7500960" y="4357800"/>
            <a:ext cx="1357200" cy="216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sxc.hu/assets/36/355302/kerosene-lamp-293678-m.jpg"/>
          <p:cNvPicPr/>
          <p:nvPr/>
        </p:nvPicPr>
        <p:blipFill>
          <a:blip r:embed="rId4"/>
          <a:stretch/>
        </p:blipFill>
        <p:spPr>
          <a:xfrm>
            <a:off x="6143760" y="37861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http://ledluks.ru/published/publicdata/FLOCKLEDLUKS/attachments/SC/products_pictures/small_0001321__clas_a_fr_75w_27_osram_300.jpg"/>
          <p:cNvPicPr/>
          <p:nvPr/>
        </p:nvPicPr>
        <p:blipFill>
          <a:blip r:embed="rId5"/>
          <a:stretch/>
        </p:blipFill>
        <p:spPr>
          <a:xfrm>
            <a:off x="2858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9931 -0.43033 E">
                                      <p:cBhvr>
                                        <p:cTn id="23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23 -0.33611 E">
                                      <p:cBhvr>
                                        <p:cTn id="2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7 0.00092 L -0.38663 -0.41922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1227 L -0.0691 -0.33426 E">
                                      <p:cBhvr>
                                        <p:cTn id="24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68195 -0.44884 E">
                                      <p:cBhvr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571680" y="5716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И девочка, и мальчик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Не суй в розетку пальчик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розетке круглый год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Живет опасный т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http://www.mchsmedia.ru/files/watermark_backup/r_800_600/bez2_2012229.jpg"/>
          <p:cNvPicPr/>
          <p:nvPr/>
        </p:nvPicPr>
        <p:blipFill>
          <a:blip r:embed="rId1"/>
          <a:stretch/>
        </p:blipFill>
        <p:spPr>
          <a:xfrm>
            <a:off x="428760" y="1928880"/>
            <a:ext cx="3714480" cy="44434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1"/>
          <p:cNvSpPr/>
          <p:nvPr/>
        </p:nvSpPr>
        <p:spPr>
          <a:xfrm>
            <a:off x="4786200" y="49291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Если все приборы разом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ы в одну розетку включишь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о пожар проводки сразу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этой комнате получиш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kak.znate.ru/pars_docs/refs/72/71960/71960_html_604fd76a.png"/>
          <p:cNvPicPr/>
          <p:nvPr/>
        </p:nvPicPr>
        <p:blipFill>
          <a:blip r:embed="rId2"/>
          <a:stretch/>
        </p:blipFill>
        <p:spPr>
          <a:xfrm>
            <a:off x="4786200" y="285840"/>
            <a:ext cx="3643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files.64pokupki.ru/catalog/98/16/76/3.jpg"/>
          <p:cNvPicPr/>
          <p:nvPr/>
        </p:nvPicPr>
        <p:blipFill>
          <a:blip r:embed="rId1"/>
          <a:stretch/>
        </p:blipFill>
        <p:spPr>
          <a:xfrm>
            <a:off x="4500720" y="1928880"/>
            <a:ext cx="4348080" cy="31813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3"/>
          <p:cNvSpPr/>
          <p:nvPr/>
        </p:nvSpPr>
        <p:spPr>
          <a:xfrm>
            <a:off x="35712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ылесос, телевизор, тостер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усть включает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512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73360"/>
            <a:ext cx="6718320" cy="17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3357720" y="4000680"/>
            <a:ext cx="2533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и по запросу керосиновая лампа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269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и по запросу приготовление еды на керосиновой лампе"/>
          <p:cNvPicPr/>
          <p:nvPr/>
        </p:nvPicPr>
        <p:blipFill>
          <a:blip r:embed="rId2"/>
          <a:stretch/>
        </p:blipFill>
        <p:spPr>
          <a:xfrm>
            <a:off x="1285920" y="142920"/>
            <a:ext cx="678636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85840" y="285840"/>
            <a:ext cx="8643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чень давно, в древности единственным источником света для человека было солнце. Но когда наступала ночь, людям грозили дикие звери, которые могли напасть на человека. Трудно приходилось человеку, пока он научился пользоваться ог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ервым «осветительным прибором» стал для человека костер. Он горел в пещере, давая и свет и тепло, а также служил защитой от хищ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infoniac.ru/upload/medialibrary/001/0012fb086e476de4a4ab4198dfd2002e.jpg"/>
          <p:cNvPicPr/>
          <p:nvPr/>
        </p:nvPicPr>
        <p:blipFill>
          <a:blip r:embed="rId1"/>
          <a:stretch/>
        </p:blipFill>
        <p:spPr>
          <a:xfrm>
            <a:off x="2714760" y="24289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же люди освещали свои жилища факелами, свечами, керосиновыми лампами. Затем в дома пришло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otvisay.ru/uploads/posts/2013-05/thumbs/1369645276_up-helly-aa-13.jpg"/>
          <p:cNvPicPr/>
          <p:nvPr/>
        </p:nvPicPr>
        <p:blipFill>
          <a:blip r:embed="rId1"/>
          <a:stretch/>
        </p:blipFill>
        <p:spPr>
          <a:xfrm>
            <a:off x="85716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es.palabras.jp/wp-content/uploads/2011/11/Matthias_stom_young_man_reading_by_candlelight-300x240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img15.nnm.me/3/4/0/f/5/9643b6606cda0db45d0cb60a993_prev.jpg"/>
          <p:cNvPicPr/>
          <p:nvPr/>
        </p:nvPicPr>
        <p:blipFill>
          <a:blip r:embed="rId3"/>
          <a:stretch/>
        </p:blipFill>
        <p:spPr>
          <a:xfrm>
            <a:off x="857160" y="407196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orldseo.ru/wp-content/uploads/2012/05/osvecchenie-300x187.jpg"/>
          <p:cNvPicPr/>
          <p:nvPr/>
        </p:nvPicPr>
        <p:blipFill>
          <a:blip r:embed="rId4"/>
          <a:stretch/>
        </p:blipFill>
        <p:spPr>
          <a:xfrm>
            <a:off x="4786200" y="4071960"/>
            <a:ext cx="3357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merten-catalog.ru/upl/catimg/minithumb/3800_abb-catalog.ru_MPlan_486119_237319_new.jpg"/>
          <p:cNvPicPr/>
          <p:nvPr/>
        </p:nvPicPr>
        <p:blipFill>
          <a:blip r:embed="rId1"/>
          <a:stretch/>
        </p:blipFill>
        <p:spPr>
          <a:xfrm>
            <a:off x="7143840" y="22147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285840" y="35712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вырабатывается на электростанциях и приходит к нам в дом по проводам, спрятанным глубоко в земле или очень высоко над землей, приходит  в дома и помогает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наших квартирах ток  «живет» в проводах , лампочках , выключателях и роз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71680" y="4929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 наш друг.  Оно помогает работать нашим помощникам – электрическим приб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http://www.splyse.ru/netcat_files/11/3/knopka_simv_lampy_podsvet.jpeg"/>
          <p:cNvPicPr/>
          <p:nvPr/>
        </p:nvPicPr>
        <p:blipFill>
          <a:blip r:embed="rId2"/>
          <a:stretch/>
        </p:blipFill>
        <p:spPr>
          <a:xfrm>
            <a:off x="5000760" y="2071800"/>
            <a:ext cx="172548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okrou.com/wp-content/uploads/2012/03/electro.jpg"/>
          <p:cNvPicPr/>
          <p:nvPr/>
        </p:nvPicPr>
        <p:blipFill>
          <a:blip r:embed="rId3"/>
          <a:stretch/>
        </p:blipFill>
        <p:spPr>
          <a:xfrm>
            <a:off x="500040" y="2000160"/>
            <a:ext cx="2143080" cy="195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http://ledluks.ru/published/publicdata/FLOCKLEDLUKS/attachments/SC/products_pictures/small_0001321__clas_a_fr_75w_27_osram_300.jpg"/>
          <p:cNvPicPr/>
          <p:nvPr/>
        </p:nvPicPr>
        <p:blipFill>
          <a:blip r:embed="rId4"/>
          <a:stretch/>
        </p:blipFill>
        <p:spPr>
          <a:xfrm>
            <a:off x="3000240" y="2214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286160" y="1571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буйся, посмот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с Северный вну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веркает снег и 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ама зима жи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всегда нам эту зи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везли из магаз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428760" y="785880"/>
            <a:ext cx="3357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57120" y="785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Есть у нас в квартире робот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 него огромный хо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Любит робот чисто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гудит, как лайнер: «Туу-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н с  охотой пыль гло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  болеет, не ч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Берегитесь, пыль и мус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Живо с вами разберусь 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maxvideo.by/picture/106929.jpg"/>
          <p:cNvPicPr/>
          <p:nvPr/>
        </p:nvPicPr>
        <p:blipFill>
          <a:blip r:embed="rId1"/>
          <a:stretch/>
        </p:blipFill>
        <p:spPr>
          <a:xfrm>
            <a:off x="5000760" y="1285920"/>
            <a:ext cx="3429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user</cp:lastModifiedBy>
  <dcterms:modified xsi:type="dcterms:W3CDTF">2019-11-24T12:39:32Z</dcterms:modified>
  <cp:revision>60</cp:revision>
  <dc:subject/>
  <dc:title>ПРЕЗЕНТАЦИЯ  ПО  ТЕМЕ «БЫТОВЫЕ  ЭЛЕКТРОПРИБОРЫ»</dc:title>
</cp:coreProperties>
</file>