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E29-E25D-406C-BBCF-A7E2316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67D-E799-481D-89A3-1F7A32C7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CF5-CE3F-4BD5-B573-D489956F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AB1-1DD2-4E59-A2A7-814EFD01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402-6052-43C0-9001-1C59AAD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C42-7D0F-4C4D-8B93-133655E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05F-4EA2-4624-AC63-A2C3B1A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FAA-BD50-4788-94E2-4603757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304-1089-4D25-9FA7-8DA803E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252-1913-491D-8883-82BB019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89E-CA61-4C92-8921-947A3D4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3C8-DE9B-448B-BEC2-9190BDF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3FE-CE7B-408E-B41B-E119B8BB7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6" descr="http://shkolnye-prezentacii.ru/wp-content/uploads/2012/08/prezent164-300x207.jpg"/>
          <p:cNvPicPr/>
          <p:nvPr/>
        </p:nvPicPr>
        <p:blipFill>
          <a:blip r:embed="rId1"/>
          <a:stretch/>
        </p:blipFill>
        <p:spPr>
          <a:xfrm>
            <a:off x="1908000" y="2332080"/>
            <a:ext cx="5911920" cy="433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124"/>
                </a:solidFill>
                <a:latin typeface="Google Sans"/>
              </a:rPr>
              <a:t>8 сент. 1941 г. – 27 янв. 1944 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6"/>
          <p:cNvSpPr txBox="1"/>
          <p:nvPr/>
        </p:nvSpPr>
        <p:spPr>
          <a:xfrm rot="21198600">
            <a:off x="866520" y="1142640"/>
            <a:ext cx="77914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Т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ОКАДНОГ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НИНГРАД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-3960" y="0"/>
            <a:ext cx="92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довольствие в Ленинграде закончилось. 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коло 2,5 млн. людей. Чем их кормить? Далеко за коль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ы есть продовольствие – мука, мясо, масло.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х доставить? Только одна дорога связывала блок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род с Большой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орога шла по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ольствие в Ленинграде закончилось. А в городе около 2,5 млн. людей. Чем их кормить? Далеко за кольцом блокады есть продовольствие – мука, мясо, масло. Как их доставить? Только одна дорога связывала блокадный город с Большой землёй. Эта дорога шла по в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4392720" cy="31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105440" cy="2873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320400" y="544500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мой страшной оказалась зима 1942 года.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енно - автомобильная дорога, проложенная по ль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адожского озера помогла выжить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333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Как опустели целые кварт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как трамваи мёрзли на пу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матерей, которые не в с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Своих детей на кладбище н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248000" cy="2846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пустели целые кварталы, И как трамваи мёрзли на путях, И матерей, которые не в силах Своих детей на кладбище не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81600" cy="297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91040" cy="3063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179280" y="4869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воды, без тепла, без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нь похож на чёрную 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т, в мире силы н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бы всё это превозм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8 сентября 1941 года началась 872-дневная блокада Ленинграда - Российское  историческое общество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5435640" y="5445000"/>
            <a:ext cx="45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5 граммов хле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цел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глядись в эти фотографии и ты поймёшь, как жили ленинградцы первой блока- дной зимой. 125 граммов хлеба на целый д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-17640" y="3198960"/>
            <a:ext cx="50040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692520" cy="4754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20920" y="279360"/>
            <a:ext cx="452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осаждённом Ленингр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евочка ж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ученической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дневник она в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дни войны погибла Та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аня в памяти ж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таив на миг дых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лышит мир её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Женя умерла 28 декабр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2 часов 30 минут утра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да. Бабушка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25 января в 3 часа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саждённом Ленинграде Эта девочка жила. В ученической тетради Свой дневник она вела. В дни войны погибла Таня, Таня в памяти жива: Затаив на миг дыханье, Слышит мир её слова: «Женя умерла 28 декабря в 12 часов 30 минут утра 1941 года. Бабушка умерла 25 ян- варя в 3 часа дня 1942 года..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5156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2720" y="404640"/>
            <a:ext cx="580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в ночи пронзает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рый свет прож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ома нет ни крошки хле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найдёшь полена 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 коптилки не согре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арандаш дрожит в ру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 выводит кровью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сокровенном днев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Лека умер 12 марта в 8 часов у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 Дядя Вася умер 13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2 часа дня 1942 года»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 ночи пронзает небо Острый свет прожекторов. Дома нет ни крошки хлеба, Не найдёшь полена дров. От коптилки не согреться Карандаш дрожит в руке, Но выводит кровью сердце В сокровенном дневнике: «Лека умер 12 марта в 8 часов утра 1942 года. Дядя Вася умер 13 апреля в 2 часа дня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2360" y="981000"/>
            <a:ext cx="466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шумела, отгрем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рудийная г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лько память то и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мотрит пристально в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 солнцу тянутся берё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бивается тр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на скорбном Пискарё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ановят вдруг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Дядя Лёша умер 10 м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4 часа дня 194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ама – 13 мая в 7 ч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 минут утра 1942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818160" cy="4608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шумела, отгремела Орудийная гроза, Только память то и дело Смотрит пристально в глаза. К солнцу тянутся берёзки, Пробивается трава, А на скорбном Пискарёвском Остановят вдруг слова: «Дядя Лёша умер 10 мая в 4 часа дня 1942 года. Мама – 13 мая в 7 часов 30 минут утра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2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76360" y="3637080"/>
            <a:ext cx="6048360" cy="30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0920" y="260280"/>
            <a:ext cx="85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 планеты нашей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ьётся гулко, как наб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забыть земле Освенц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ухенвальд и Лен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етлый день встречайте,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юди, вслушайтесь в  дне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н звучит сильней оруд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т безмолвный детский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Савичевы умерли. Умерли все. Осталась одна Тан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планеты нашей сердце Бьётся гулко, как набат. Не забыть земле Освенцим, Бухенвальд и Ленинград. Светлый день встречайте, люди, Люди, вслушайтесь в дневник: Он звучит сильней орудий, Тот безмолвный детский крик: «Савичевы умерли. Умерли все. Осталась одна Таня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924360" y="260280"/>
            <a:ext cx="489564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Но школы продолжали работ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подвигом юных жителей города была учеба. Тридцать девять ленинградских школ работали без перерыва даже в самые тяжёлые зимние дни. Это было невероятно трудно из-за морозов и голод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сидели в шубах, шапках и рукави-цах. Писали на старых газетах карандашами. Чернила замерзали на мороз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от что было написано в отчете одной из таких школ – 251 - й Октябрьского района: “Из двухсот двадцати учащихся пришедших в школу третьего ноября, систематически продолжали занятия 55. Это одна четвёртая часть. Недостаток питания сказывался на всех. В декабре – январе умерло одиннадцать мальчиков. Остальные мальчики лежали и не могли посещать школу. Остались только девочки, но и те еле ходили. «Но учеба шла. Шла и пионерская работа. В том числе сбор подарков – папирос, мыла, карандашей, блокнотов для бойцов Ленинградского фронта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после школы дети шли на крышу и дежурили там, тушили зажигательные бомбы или работали в госпит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 школы продолжали работать. В классах было холодно. Везде стояли печки «буржуй-ки». Все сидели в шу-бах, шапках и рукави-цах. Писали на старых газетах карандашами. Чернила замерзали на морозе. А после школы дети шли на крышу и дежурили там, тушили зажигательные бомбы или работали в госпи-та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095640" cy="198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27370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-1440" y="5734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провод не работал. Люди ходили за водой на Н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593880" cy="497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ровод не работал. Люди ходили за водой на Нев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120" y="63360"/>
            <a:ext cx="904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йскам Ленинградского и Волховского фронта 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иказ: перейти в наступление, пробиваясь навстре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руг другу, разбить осаду города Ленина и соединить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187280" y="1320840"/>
            <a:ext cx="7129800" cy="534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ам Ленинградского и Волховского фронта дан приказ: перейти в наступление, пробиваясь навстречу друг другу, разбить осаду города Ленина и соедини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этой плитой похоронены ленинградц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гибшие в 1942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50" descr="x_153da10186 Пискар"/>
          <p:cNvPicPr/>
          <p:nvPr/>
        </p:nvPicPr>
        <p:blipFill>
          <a:blip r:embed="rId1"/>
          <a:stretch/>
        </p:blipFill>
        <p:spPr>
          <a:xfrm>
            <a:off x="1908000" y="1916280"/>
            <a:ext cx="532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Памятная дата: Пережили и выстояли — Макарьевский вестник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-25560" y="0"/>
            <a:ext cx="896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 залпом залп, гремит сал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кеты в воздухе горя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Цветами пёстрыми цве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ленинградцы тихо плач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 успокаивать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тешать людей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радость слишком вел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мит салют над Ленингр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537080" cy="3019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залпом залп, гремит салют. Ракеты в воздухе горячем Цветами пёстрыми цветут. А ленинградцы тихо плачут. Ни успокаивать пока, Не утешать людей не надо. Их радость слишком велика – Гремит салют над Ленингр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690200" y="33336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город отстояв ценою 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сдали Ленинграда ленинградц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а, в нём ключи чужих столиц хранятс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лючей к нему в чужих столицах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429680" cy="450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 город отстояв ценою бед, Не сдали Ленинграда ленинградцы – Да, в нём ключи чужих столиц хранятся,- Ключей к нему в чужих столицах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ДНЕЙ БЛОКАДЫ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БЕРЁ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35" descr="x_7896c644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защитникам Ленинг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41" descr="12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4000" cy="623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547880" y="3573360"/>
            <a:ext cx="46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нкт-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искарёвское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десь похоронены во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щищавшие город и ж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гибшие в блок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36560" y="552600"/>
            <a:ext cx="7670880" cy="5752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71640" y="620640"/>
            <a:ext cx="5997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3399"/>
                </a:solidFill>
                <a:latin typeface="Arial Narrow"/>
              </a:rPr>
              <a:t>Побед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зади Нарвские были ворот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переди была только смерть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Так советская шла пехот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Прямо в желтые жерла «бер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о вас напишут книжк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«Жизнь свою за други своя»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Незатейливые парн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аньки, Васьки, Алешки, Гр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нуки, братики, сыновь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на Ахматова 194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ня Победы: Стихотворения. Л.: Детская литература, 19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34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7 января - День снятия блокады города Ленинграда | СГЭ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День памяти жертв блокады Ленингр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2000" y="260280"/>
            <a:ext cx="3754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нятия дети и война несовместим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юным ленинградцам-детям блокадного города-пришлось вместе со взрослыми перенести всю трагедию осажденного г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было х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зросл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не понимали,что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нет папы, почему мама постоянно плачет, почему постоянно хочется есть, почему по визгу сирены надо бежать в бомбоубежищ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Много детского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детским чутьём они понимали, что в их дом пришла большая бе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35280" y="4221000"/>
            <a:ext cx="54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 нас полки сосредоточ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аг напал на мирную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лой ноч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й белой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 эту страшную вой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212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 нас полки сосредоточив, Враг напал на мирную страну. Белой ночью, самой белой ночью Начал эту страшную вой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4778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51280" y="260280"/>
            <a:ext cx="529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защиту города поднялись все его жители: 500 тысяч ленинградцев строили оборонительные соору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300 тысяч ушли добровольцами  в народное ополч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фронт и в партизанские от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5041800" cy="4365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защиту города поднялись все его жители: 500 тысяч ленинградцев строили оборонительные сооружения, 300 тысяч ушли добровольцам в народное ополчение, на фронт и в партизанские отряды. Женский стрелковый баталь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243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452920" y="1484280"/>
            <a:ext cx="3544920" cy="537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08000" y="1550880"/>
            <a:ext cx="6011640" cy="5307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ги подошли близко к Ленинграду и теперь могли обстреливать из пушек все ленинградские у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115920"/>
            <a:ext cx="86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раг окружил город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подошли близко к Ленинграду и теперь могли  обстреливать из пушек все ленинградские улицы.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енинград оказался в блокадном  кольце. Когда в сентябре 1941 года замкнулось блокадное кольцо, в Ленинграде оставалось четыреста тысяч детей - от младенцев до школьников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-720" y="2602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пустели цеха ленинградских заводов. Многи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шли на фронт. К станкам встали их жёны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357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устели цеха ленинградских заводов. Многие рабочие ушли на фронт. К станкам встали их жёны и де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25080" y="4797360"/>
            <a:ext cx="4269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…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лёзы на глазах у тех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провожал отца иль муж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куклы побросали, взяв лопа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или не наряды, а кисеты…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897360" cy="54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5:44:30Z</dcterms:created>
  <dc:creator>Admin</dc:creator>
  <dc:description/>
  <dc:language>en-US</dc:language>
  <cp:lastModifiedBy>Stanislav Firago</cp:lastModifiedBy>
  <dcterms:modified xsi:type="dcterms:W3CDTF">2023-12-13T05:39:50Z</dcterms:modified>
  <cp:revision>18</cp:revision>
  <dc:subject/>
  <dc:title>Слайд 1</dc:title>
</cp:coreProperties>
</file>