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2D37-67CE-41B1-B1A1-52F48F0E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631D-D4EF-4041-98CE-4EBEEC3A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2A39-2CE4-4A5B-93B4-8EAE1CB8E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1FCA-C4EA-4AC6-ADE0-CFF3C039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D35E-8919-4D07-9275-DF1CF115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F2F1-4495-4A9F-9F26-E81B537B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E0E9-8229-4728-A72B-F2170F11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35B3-85BF-425A-813D-16A129F1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0E03-8D7C-4828-8656-74E88A68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E39B-46D5-4973-965A-DBD2EEE8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CB36-98FE-4854-9A0D-56A3B9BC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C3CF-E8B5-4202-B2C4-979FEFA2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F3AF-92E3-48B2-A191-4B5559C8CD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56" descr="http://shkolnye-prezentacii.ru/wp-content/uploads/2012/08/prezent164-300x207.jpg"/>
          <p:cNvPicPr/>
          <p:nvPr/>
        </p:nvPicPr>
        <p:blipFill>
          <a:blip r:embed="rId1"/>
          <a:stretch/>
        </p:blipFill>
        <p:spPr>
          <a:xfrm>
            <a:off x="1908000" y="2332080"/>
            <a:ext cx="5911920" cy="4330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02124"/>
                </a:solidFill>
                <a:latin typeface="Google Sans"/>
              </a:rPr>
              <a:t>8 сент. 1941 г. – 27 янв. 1944 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16"/>
          <p:cNvSpPr txBox="1"/>
          <p:nvPr/>
        </p:nvSpPr>
        <p:spPr>
          <a:xfrm rot="21198600">
            <a:off x="866520" y="1142640"/>
            <a:ext cx="77914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ЕТИ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ЛОКАДНОГО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НИНГРАД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-3960" y="0"/>
            <a:ext cx="92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Продовольствие в Ленинграде закончилось. А в го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около 2,5 млн. людей. Чем их кормить? Далеко за кольц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блокады есть продовольствие – мука, мясо, масло.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их доставить? Только одна дорога связывала блока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город с Большой землё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                             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Эта дорога шла по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довольствие в Ленинграде закончилось. А в городе около 2,5 млн. людей. Чем их кормить? Далеко за кольцом блокады есть продовольствие – мука, мясо, масло. Как их доставить? Только одна дорога связывала блокадный город с Большой землёй. Эта дорога шла по вод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tretch/>
        </p:blipFill>
        <p:spPr>
          <a:xfrm>
            <a:off x="108000" y="1916280"/>
            <a:ext cx="4392720" cy="3171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2"/>
          <a:stretch/>
        </p:blipFill>
        <p:spPr>
          <a:xfrm>
            <a:off x="4716360" y="2276640"/>
            <a:ext cx="4105440" cy="2873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0"/>
          <p:cNvSpPr/>
          <p:nvPr/>
        </p:nvSpPr>
        <p:spPr>
          <a:xfrm>
            <a:off x="320400" y="5445000"/>
            <a:ext cx="865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Самой страшной оказалась зима 1942 года. Толь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оенно - автомобильная дорога, проложенная по ль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Ладожского озера помогла выжить люд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24000" y="333360"/>
            <a:ext cx="43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  <a:ea typeface="Arial"/>
              </a:rPr>
              <a:t>Как опустели целые квартал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  <a:ea typeface="Arial"/>
              </a:rPr>
              <a:t>И как трамваи мёрзли на путя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  <a:ea typeface="Arial"/>
              </a:rPr>
              <a:t>И матерей, которые не в сил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  <a:ea typeface="Arial"/>
              </a:rPr>
              <a:t>Своих детей на кладбище не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248000" cy="28461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опустели целые кварталы, И как трамваи мёрзли на путях, И матерей, которые не в силах Своих детей на кладбище нес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2"/>
          <a:stretch/>
        </p:blipFill>
        <p:spPr>
          <a:xfrm>
            <a:off x="4932360" y="404640"/>
            <a:ext cx="3981600" cy="2975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"/>
          <p:cNvPicPr/>
          <p:nvPr/>
        </p:nvPicPr>
        <p:blipFill>
          <a:blip r:embed="rId3"/>
          <a:stretch/>
        </p:blipFill>
        <p:spPr>
          <a:xfrm>
            <a:off x="4643280" y="3500280"/>
            <a:ext cx="4091040" cy="30639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3"/>
          <p:cNvSpPr/>
          <p:nvPr/>
        </p:nvSpPr>
        <p:spPr>
          <a:xfrm>
            <a:off x="179280" y="4869000"/>
            <a:ext cx="42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ез воды, без тепла, без с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нь похож на чёрную но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жет, в мире силы нет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обы всё это превозмо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1" descr="8 сентября 1941 года началась 872-дневная блокада Ленинграда - Российское  историческое общество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4732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5435640" y="5445000"/>
            <a:ext cx="458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25 граммов хлеб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целы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глядись в эти фотографии и ты поймёшь, как жили ленинградцы первой блока- дной зимой. 125 граммов хлеба на целый ден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"/>
          <p:cNvPicPr/>
          <p:nvPr/>
        </p:nvPicPr>
        <p:blipFill>
          <a:blip r:embed="rId2"/>
          <a:stretch/>
        </p:blipFill>
        <p:spPr>
          <a:xfrm>
            <a:off x="-17640" y="3198960"/>
            <a:ext cx="5004000" cy="36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5219640" y="1341360"/>
            <a:ext cx="3692520" cy="47545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520920" y="279360"/>
            <a:ext cx="4524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 осаждённом Ленингра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Эта девочка жи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 ученической тетр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Свой дневник она в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 дни войны погибла Тан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Таня в памяти жи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Затаив на миг дыхань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Слышит мир её сло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«Женя умерла 28 декабря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12 часов 30 минут утра 19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года. Бабушка умер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25 января в 3 часа д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1942 года.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осаждённом Ленинграде Эта девочка жила. В ученической тетради Свой дневник она вела. В дни войны погибла Таня, Таня в памяти жива: Затаив на миг дыханье, Слышит мир её слова: «Женя умерла 28 декабря в 12 часов 30 минут утра 1941 года. Бабушка умерла 25 ян- варя в 3 часа дня 1942 года..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5148360" y="189000"/>
            <a:ext cx="3456000" cy="51562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252720" y="404640"/>
            <a:ext cx="5801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А в ночи пронзает не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Острый свет прожек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Дома нет ни крошки хлеб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Не найдёшь полена д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От коптилки не согре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Карандаш дрожит в ру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Но выводит кровью серд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 сокровенном дневни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«Лека умер 12 марта в 8 часов ут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1942 года. Дядя Вася умер 13 апр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 2 часа дня 1942 года».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в ночи пронзает небо Острый свет прожекторов. Дома нет ни крошки хлеба, Не найдёшь полена дров. От коптилки не согреться Карандаш дрожит в руке, Но выводит кровью сердце В сокровенном дневнике: «Лека умер 12 марта в 8 часов утра 1942 года. Дядя Вася умер 13 апреля в 2 часа дня 1942 года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252360" y="981000"/>
            <a:ext cx="466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Отшумела, отгрем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Орудийная гроз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Только память то и д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Смотрит пристально в гл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К солнцу тянутся берёз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Пробивается тра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А на скорбном Пискарёвс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Остановят вдруг сло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«Дядя Лёша умер 10 м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 4 часа дня 1942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Мама – 13 мая в 7 ча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30 минут утра 1942 год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5076720" y="189000"/>
            <a:ext cx="3818160" cy="46083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шумела, отгремела Орудийная гроза, Только память то и дело Смотрит пристально в глаза. К солнцу тянутся берёзки, Пробивается трава, А на скорбном Пискарёвском Остановят вдруг слова: «Дядя Лёша умер 10 мая в 4 часа дня 1942 года. Мама – 13 мая в 7 часов 30 минут утра 1942 года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02.mp3" descr=""/>
          <p:cNvPicPr/>
          <p:nvPr/>
        </p:nvPicPr>
        <p:blipFill>
          <a:blip r:embed="rId2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476360" y="3637080"/>
            <a:ext cx="6048360" cy="30938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250920" y="260280"/>
            <a:ext cx="8564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У планеты нашей серд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Бьётся гулко, как наб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Не забыть земле Освенци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Бухенвальд и Ленингр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Светлый день встречайте, люд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Люди, вслушайтесь в  дневни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Он звучит сильней оруд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Тот безмолвный детский кри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«Савичевы умерли. Умерли все. Осталась одна Таня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 планеты нашей сердце Бьётся гулко, как набат. Не забыть земле Освенцим, Бухенвальд и Ленинград. Светлый день встречайте, люди, Люди, вслушайтесь в дневник: Он звучит сильней орудий, Тот безмолвный детский крик: «Савичевы умерли. Умерли все. Осталась одна Таня!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3924360" y="260280"/>
            <a:ext cx="4895640" cy="63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i="1" lang="ru-RU" sz="1600" spc="-1" strike="noStrike" u="sng">
                <a:solidFill>
                  <a:srgbClr val="ff3399"/>
                </a:solidFill>
                <a:uFillTx/>
                <a:latin typeface="Arial"/>
                <a:ea typeface="Arial"/>
              </a:rPr>
              <a:t>Но школы продолжали работа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лавным подвигом юных жителей города была учеба. Тридцать девять ленинградских школ работали без перерыва даже в самые тяжёлые зимние дни. Это было невероятно трудно из-за морозов и голода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се сидели в шубах, шапках и рукави-цах. Писали на старых газетах карандашами. Чернила замерзали на мороз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Вот что было написано в отчете одной из таких школ – 251 - й Октябрьского района: “Из двухсот двадцати учащихся пришедших в школу третьего ноября, систематически продолжали занятия 55. Это одна четвёртая часть. Недостаток питания сказывался на всех. В декабре – январе умерло одиннадцать мальчиков. Остальные мальчики лежали и не могли посещать школу. Остались только девочки, но и те еле ходили. «Но учеба шла. Шла и пионерская работа. В том числе сбор подарков – папирос, мыла, карандашей, блокнотов для бойцов Ленинградского фронта»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 после школы дети шли на крышу и дежурили там, тушили зажигательные бомбы или работали в госпита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 школы продолжали работать. В классах было холодно. Везде стояли печки «буржуй-ки». Все сидели в шу-бах, шапках и рукави-цах. Писали на старых газетах карандашами. Чернила замерзали на морозе. А после школы дети шли на крышу и дежурили там, тушили зажигательные бомбы или работали в госпи-тал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311640" cy="2183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2"/>
          <a:stretch/>
        </p:blipFill>
        <p:spPr>
          <a:xfrm>
            <a:off x="539640" y="2708280"/>
            <a:ext cx="3095640" cy="1989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"/>
          <p:cNvPicPr/>
          <p:nvPr/>
        </p:nvPicPr>
        <p:blipFill>
          <a:blip r:embed="rId3"/>
          <a:stretch/>
        </p:blipFill>
        <p:spPr>
          <a:xfrm>
            <a:off x="539640" y="4797360"/>
            <a:ext cx="2737080" cy="180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-1440" y="5734080"/>
            <a:ext cx="88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допровод не работал. Люди ходили за водой на Не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3593880" cy="49784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допровод не работал. Люди ходили за водой на Нев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"/>
          <p:cNvPicPr/>
          <p:nvPr/>
        </p:nvPicPr>
        <p:blipFill>
          <a:blip r:embed="rId2"/>
          <a:stretch/>
        </p:blipFill>
        <p:spPr>
          <a:xfrm>
            <a:off x="4427640" y="333360"/>
            <a:ext cx="396072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31120" y="63360"/>
            <a:ext cx="904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ойскам Ленинградского и Волховского фронта  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приказ: перейти в наступление, пробиваясь навстреч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друг другу, разбить осаду города Ленина и соединитьс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1187280" y="1320840"/>
            <a:ext cx="7129800" cy="53481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йскам Ленинградского и Волховского фронта дан приказ: перейти в наступление, пробиваясь навстречу друг другу, разбить осаду города Ленина и соединить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д этой плитой похоронены ленинградцы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гибшие в 1942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250" descr="x_153da10186 Пискар"/>
          <p:cNvPicPr/>
          <p:nvPr/>
        </p:nvPicPr>
        <p:blipFill>
          <a:blip r:embed="rId1"/>
          <a:stretch/>
        </p:blipFill>
        <p:spPr>
          <a:xfrm>
            <a:off x="1908000" y="1916280"/>
            <a:ext cx="5328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Памятная дата: Пережили и выстояли — Макарьевский вестник"/>
          <p:cNvPicPr/>
          <p:nvPr/>
        </p:nvPicPr>
        <p:blipFill>
          <a:blip r:embed="rId1"/>
          <a:stretch/>
        </p:blipFill>
        <p:spPr>
          <a:xfrm>
            <a:off x="0" y="0"/>
            <a:ext cx="919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-25560" y="0"/>
            <a:ext cx="89665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За залпом залп, гремит сал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Ракеты в воздухе горяч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Цветами пёстрыми цвет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А ленинградцы тихо плач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и успокаивать по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утешать людей не на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х радость слишком велик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ремит салют над Ленингра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788000" y="260280"/>
            <a:ext cx="4105080" cy="3565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4537080" cy="30196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7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 залпом залп, гремит салют. Ракеты в воздухе горячем Цветами пёстрыми цветут. А ленинградцы тихо плачут. Ни успокаивать пока, Не утешать людей не надо. Их радость слишком велика – Гремит салют над Ленингр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690200" y="333360"/>
            <a:ext cx="646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Свой город отстояв ценою бе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Не сдали Ленинграда ленинградцы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Да, в нём ключи чужих столиц хранятся,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Ключей к нему в чужих столицах н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429680" cy="45054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вой город отстояв ценою бед, Не сдали Ленинграда ленинградцы – Да, в нём ключи чужих столиц хранятся,- Ключей к нему в чужих столицах нет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900 ДНЕЙ БЛОКАДЫ –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900 БЕРЁ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235" descr="x_7896c644"/>
          <p:cNvPicPr/>
          <p:nvPr/>
        </p:nvPicPr>
        <p:blipFill>
          <a:blip r:embed="rId1"/>
          <a:stretch/>
        </p:blipFill>
        <p:spPr>
          <a:xfrm>
            <a:off x="900000" y="1773360"/>
            <a:ext cx="7344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мятник защитникам Ленингра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241" descr="12"/>
          <p:cNvPicPr/>
          <p:nvPr/>
        </p:nvPicPr>
        <p:blipFill>
          <a:blip r:embed="rId1"/>
          <a:stretch/>
        </p:blipFill>
        <p:spPr>
          <a:xfrm>
            <a:off x="1258920" y="1844640"/>
            <a:ext cx="6624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194000" cy="6234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4788000" y="404640"/>
            <a:ext cx="3671640" cy="27543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4547880" y="3573360"/>
            <a:ext cx="468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Санкт-Петербур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Пискарёвское кладби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Здесь похоронены вои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защищавшие город и жите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погибшие в блока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нкт-Петербург. Пискарёвское кладбище. Здесь похоронены воины, защищавшие город и жители, погибшие в блокад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736560" y="552600"/>
            <a:ext cx="7670880" cy="57528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нкт-Петербург. Пискарёвское кладбище. Здесь похоронены воины, защищавшие город и жители, погибшие в блокад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771640" y="620640"/>
            <a:ext cx="5997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2400" spc="-1" strike="noStrike">
                <a:solidFill>
                  <a:srgbClr val="ff3399"/>
                </a:solidFill>
                <a:latin typeface="Arial Narrow"/>
              </a:rPr>
              <a:t>Победител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зади Нарвские были ворота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Впереди была только смерть..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Так советская шла пехот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Прямо в желтые жерла «берт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т о вас напишут книжки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«Жизнь свою за други своя»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Незатейливые парнишки, —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Ваньки, Васьки, Алешки, Гришки, —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Внуки, братики, сыновья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на Ахматова 194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дание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сня Победы: Стихотворения. Л.: Детская литература, 19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8340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27 января - День снятия блокады города Ленинграда | СГЭУ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День памяти жертв блокады Ленинград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932000" y="260280"/>
            <a:ext cx="3754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Понятия дети и война несовместимы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ко юным ленинградцам-детям блокадного города-пришлось вместе со взрослыми перенести всю трагедию осажденного гор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ям было хуж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взрослы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не понимали,что происход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 нет папы, почему мама постоянно плачет, почему постоянно хочется есть, почему по визгу сирены надо бежать в бомбоубежищ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..Много детского почему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детским чутьём они понимали, что в их дом пришла большая бед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4572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635280" y="4221000"/>
            <a:ext cx="541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тив нас полки сосредоточи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раг напал на мирную стр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елой ночь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й белой ноч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чал эту страшную вой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372120" cy="54356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тив нас полки сосредоточив, Враг напал на мирную страну. Белой ночью, самой белой ночью Начал эту страшную войн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2"/>
          <a:stretch/>
        </p:blipFill>
        <p:spPr>
          <a:xfrm>
            <a:off x="3924360" y="549360"/>
            <a:ext cx="4778280" cy="31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851280" y="260280"/>
            <a:ext cx="5292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  <a:ea typeface="Arial"/>
              </a:rPr>
              <a:t>На защиту города поднялись все его жители: 500 тысяч ленинградцев строили оборонительные сооруж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  <a:ea typeface="Arial"/>
              </a:rPr>
              <a:t>300 тысяч ушли добровольцами  в народное ополче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  <a:ea typeface="Arial"/>
              </a:rPr>
              <a:t>на фронт и в партизанские отря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3851280" y="2349360"/>
            <a:ext cx="5041800" cy="43657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7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защиту города поднялись все его жители: 500 тысяч ленинградцев строили оборонительные сооружения, 300 тысяч ушли добровольцам в народное ополчение, на фронт и в партизанские отряды. Женский стрелковый батальо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24324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"/>
          <p:cNvPicPr/>
          <p:nvPr/>
        </p:nvPicPr>
        <p:blipFill>
          <a:blip r:embed="rId1"/>
          <a:stretch/>
        </p:blipFill>
        <p:spPr>
          <a:xfrm>
            <a:off x="5452920" y="1484280"/>
            <a:ext cx="3544920" cy="5373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108000" y="1550880"/>
            <a:ext cx="6011640" cy="53071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раги подошли близко к Ленинграду и теперь могли обстреливать из пушек все ленинградские улиц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79280" y="115920"/>
            <a:ext cx="869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раг окружил город: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  <a:ea typeface="Arial"/>
              </a:rPr>
              <a:t>подошли близко к Ленинграду и теперь могли  обстреливать из пушек все ленинградские улицы.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Ленинград оказался в блокадном  кольце. Когда в сентябре 1941 года замкнулось блокадное кольцо, в Ленинграде оставалось четыреста тысяч детей - от младенцев до школьников.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-720" y="260280"/>
            <a:ext cx="900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Опустели цеха ленинградских заводов. Многие рабо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ушли на фронт. К станкам встали их жёны и де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321080" cy="35751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устели цеха ленинградских заводов. Многие рабочие ушли на фронт. К станкам встали их жёны и де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25080" y="4797360"/>
            <a:ext cx="42696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…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слёзы на глазах у тех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то провожал отца иль мужа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 куклы побросали, взяв лопаты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шили не наряды, а кисеты….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"/>
          <p:cNvPicPr/>
          <p:nvPr/>
        </p:nvPicPr>
        <p:blipFill>
          <a:blip r:embed="rId2"/>
          <a:stretch/>
        </p:blipFill>
        <p:spPr>
          <a:xfrm>
            <a:off x="4788000" y="1052640"/>
            <a:ext cx="3897360" cy="5460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5:44:30Z</dcterms:created>
  <dc:creator>Admin</dc:creator>
  <dc:description/>
  <dc:language>en-US</dc:language>
  <cp:lastModifiedBy>Stanislav Firago</cp:lastModifiedBy>
  <dcterms:modified xsi:type="dcterms:W3CDTF">2023-12-13T05:39:50Z</dcterms:modified>
  <cp:revision>18</cp:revision>
  <dc:subject/>
  <dc:title>Слайд 1</dc:title>
</cp:coreProperties>
</file>