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18.gif" ContentType="image/gif"/>
  <Override PartName="/ppt/media/image4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C47-A243-4076-B00E-EA692CF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E9A-BA47-4B99-9C18-CAA1034B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E5A-42FC-48D3-BEB4-83895462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F5C-F83D-46BF-A11A-9E40E210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7749-6554-4087-9B9A-6F3C9228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EDBC-5A64-4773-99E5-475ACA7A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43F5-68D7-42AA-A320-33BFB6E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96C-036F-44C3-9D2B-733D288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37B9-FAF5-46E9-90A6-28A18ED1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902-4101-4F05-BF02-7AF9960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10D-FD3B-421D-B37A-E0BC087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7E2-FDA9-436B-BF47-750AADFD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01A4-AA58-4360-B2A9-C3FE5DD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201-6BF1-493A-81AC-7475E96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63BE-0BE1-4BC9-BBDA-F45F7A12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7D2-388C-46C5-B268-6A68C96A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D8C-59B9-413B-9147-79D62BC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5E50-DAB8-4D63-ACFC-AA474D25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0EF8-D245-4137-88C6-16F96BEE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F85C-7CC5-4A63-B541-1A8DFB6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2B4F-554D-46D5-BD78-E0B8F68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B98A-0B48-4EDD-BCB5-8300B4D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90B-E445-4FFF-B894-0D1969B2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04DA-E852-4C88-96AD-50ABC4C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C92A-A733-4233-8996-7F5BA01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F93F-881E-49BC-BA70-9F36B34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2ABC-5B5A-41C2-9940-8C097AA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01A2-91A3-4C21-A6FF-56200CC2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C38D-34AD-4992-BD47-BCBFED0D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7AAA-1630-4A2E-A112-34B1D3F7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9371-0BB2-4544-A6F7-0EEAECA5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9C5F-98A9-4F3E-8C78-D5DBEE48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AACD-909E-475E-AA80-16156FF0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B06-9917-47DB-ADC6-B9A031F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E4BF-E610-40D4-A2C9-58DCF8A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C1CB-4FD1-48F1-88D8-7AAD8796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0183-6BCE-4F87-A9BF-19CA000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6F43-8B5D-4217-B5B7-3B0AA2C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3E0F-A061-4793-8006-39D0C31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1FFB-53EA-498A-9A10-A4C48B63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C146-0449-4043-B013-D92C99F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B00B-A580-461D-BEAE-E8C144BB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00E3-5331-4049-B10B-2EC40C2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4F56-B55B-4309-B421-FDDA525A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7F6-527B-43CE-9B65-763FAF4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9EE6-6E98-4A67-9502-3BEA6AE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918E-25D4-4486-8FF7-A291799F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EA59-7C6D-4031-94B1-F3F61D1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C85E-6270-424C-9B07-3BF3934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EACC-F3F1-4470-9AC9-073CED6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8E3A-B244-45F4-ADD7-A2A514A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CE94-D67D-443B-B45C-996C5AF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D01E-EEDC-41CA-9C87-D0AE4CE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ABAA-D42C-4665-9054-7B5AA0E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B6CD-6425-4F22-B536-BD79589C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662-2747-4C19-9271-CB5D99F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8FF0-E1BF-4E9E-BC3F-27347AD4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5EC9-1B33-409C-A178-B7FA5EA8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0E48-F5A4-4CB8-B7EB-257ACA06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A169F-EA15-4578-BACF-AC74BE88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3607-03DE-4911-973A-D203FE3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4644-9CEA-44C0-B962-4ECA7CD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C70B-ACF3-4E79-AA5A-9B12D7A1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0848-C138-4173-AB50-375A2A3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B8AA-C32F-4AEF-9775-03A519F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3D12-08B5-4E62-A63B-B92EB3C1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8FE-CC89-4E59-AB86-6EC210A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7355-C857-4F81-B009-1642694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08CF-3795-4E04-8FD2-20AEFEDC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EC29-36C5-4553-9632-6420E099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A121-6C75-4D66-8622-338B951A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8C8F-7CBA-453A-B311-4CE1DD2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FF5F-15E4-48A4-89CE-E8AB5AF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EA5A-88EA-43CC-A046-C41B82ED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CD31-1C69-4C79-ACCE-41CFED3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AC32-F747-4543-B444-0FD2B8B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9C863-6783-49F9-808E-AE09887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6C8-86F0-4046-A5D9-259DE14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6188-668F-46EC-82FE-3EF69A5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5E2E-C995-43B2-A10C-6E0A828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B4E6-C40D-486C-BDAA-96FF468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DD93E-38CD-4995-9E01-0F50EB63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9A98B-E398-40E3-85DD-C25FAEAC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CC4-9102-46E0-A6DC-4C463A8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F8C-EA41-44E4-9AD6-65C668E3DB7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334-1430-44B5-B1F4-C2A9BA1EAD7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ED5-7BEE-40BC-8A73-4AC061C6F05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67EB-4789-46BE-8ADC-C310492E68F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73AB-AF67-468C-B225-C36134CDD6C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C718-96A1-476B-92C2-916E0663505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B2B-3FFE-48D8-AA62-729E3CA7CA9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24000" y="577800"/>
            <a:ext cx="85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КДОУ Детский сад №54 УК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звитие ре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 В ожидании Нового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 1 младшей группе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ставила Склярова О.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50920" y="40464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ро наступит праздник Новый Год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егодня мы поиграем в игру «Нелепица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 мне скажете, без чего не бывает Нового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ведем графическую работу (обведем по точкам снеговика с елочками), раскрасим их, подарим елочке шарики из пластилина. Поиграем в пальчиковую игру «Елочка» и нарядим елочку новогодними игруш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250920" y="399960"/>
            <a:ext cx="864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равьте предложения и повторите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Новый год наступает, потому что нарядили елку.  (Елку нарядили, потому, что, наступает Новый г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Замерзла вода в реке, поэтому ударили морозы.(Ударили морозы, поэтому вода в реке замерз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Катя катается на коньках по зеленой траве.  (Катя катается на коньках по ль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елочка нарядная"/>
          <p:cNvPicPr/>
          <p:nvPr/>
        </p:nvPicPr>
        <p:blipFill>
          <a:blip r:embed="rId1"/>
          <a:stretch/>
        </p:blipFill>
        <p:spPr>
          <a:xfrm>
            <a:off x="2195640" y="2006640"/>
            <a:ext cx="3244680" cy="4822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снеговичок"/>
          <p:cNvPicPr/>
          <p:nvPr/>
        </p:nvPicPr>
        <p:blipFill>
          <a:blip r:embed="rId2"/>
          <a:stretch/>
        </p:blipFill>
        <p:spPr>
          <a:xfrm>
            <a:off x="7236000" y="4334040"/>
            <a:ext cx="2003400" cy="25239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250920" y="26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зови, без чего не бывает Нового Года (Без елки, Деда Мороза, Снегурочки, подарков, снеговика, елочных игруш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https://i.pinimg.com/736x/46/a5/6f/46a56fe818b237a225a28e1ac0304f17.jpg"/>
          <p:cNvPicPr/>
          <p:nvPr/>
        </p:nvPicPr>
        <p:blipFill>
          <a:blip r:embed="rId3"/>
          <a:stretch/>
        </p:blipFill>
        <p:spPr>
          <a:xfrm>
            <a:off x="4788000" y="2997360"/>
            <a:ext cx="2678040" cy="357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https://nsportal.ru/sites/default/files/styles/large/public/media/2014/11/22/snegurochka.jpg?itok=nlBxQUjn"/>
          <p:cNvPicPr/>
          <p:nvPr/>
        </p:nvPicPr>
        <p:blipFill>
          <a:blip r:embed="rId4"/>
          <a:stretch/>
        </p:blipFill>
        <p:spPr>
          <a:xfrm>
            <a:off x="108000" y="3494160"/>
            <a:ext cx="2452680" cy="3363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https://novogodnyaya-igrushka.ru/image/catalog/banners/333.png"/>
          <p:cNvPicPr/>
          <p:nvPr/>
        </p:nvPicPr>
        <p:blipFill>
          <a:blip r:embed="rId5"/>
          <a:stretch/>
        </p:blipFill>
        <p:spPr>
          <a:xfrm>
            <a:off x="7380360" y="2276640"/>
            <a:ext cx="1152360" cy="1347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https://sun9-69.userapi.com/c629506/v629506677/2d856/qzTvAdV0wlw.jpg"/>
          <p:cNvPicPr/>
          <p:nvPr/>
        </p:nvPicPr>
        <p:blipFill>
          <a:blip r:embed="rId6"/>
          <a:stretch/>
        </p:blipFill>
        <p:spPr>
          <a:xfrm>
            <a:off x="4427640" y="5805360"/>
            <a:ext cx="1217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s://doc4web.ru/uploads/files/75/75950/hello_html_m743edd12.png"/>
          <p:cNvPicPr/>
          <p:nvPr/>
        </p:nvPicPr>
        <p:blipFill>
          <a:blip r:embed="rId1"/>
          <a:stretch/>
        </p:blipFill>
        <p:spPr>
          <a:xfrm>
            <a:off x="5796000" y="2637000"/>
            <a:ext cx="3184560" cy="4027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s://ds04.infourok.ru/uploads/ex/09a8/000eea3f-8fdfae18/img49.jpg"/>
          <p:cNvPicPr/>
          <p:nvPr/>
        </p:nvPicPr>
        <p:blipFill>
          <a:blip r:embed="rId2"/>
          <a:srcRect l="0" t="-1377" r="-103" b="0"/>
          <a:stretch/>
        </p:blipFill>
        <p:spPr>
          <a:xfrm>
            <a:off x="179280" y="2414520"/>
            <a:ext cx="5600880" cy="4443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395280" y="189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теперь бери карандаш или фломастер и обведи по точкам снеговика с елочками. А затем раскрась их и  подари второй елочке шарики!  Их можно скатать из пласти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училось?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https://ds04.infourok.ru/uploads/ex/09a8/000eea3f-8fdfae18/img49.jpg"/>
          <p:cNvPicPr/>
          <p:nvPr/>
        </p:nvPicPr>
        <p:blipFill>
          <a:blip r:embed="rId1"/>
          <a:srcRect l="0" t="-1385" r="-105" b="0"/>
          <a:stretch/>
        </p:blipFill>
        <p:spPr>
          <a:xfrm>
            <a:off x="324000" y="515880"/>
            <a:ext cx="828036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3"/>
          <p:cNvSpPr/>
          <p:nvPr/>
        </p:nvSpPr>
        <p:spPr>
          <a:xfrm>
            <a:off x="324000" y="307800"/>
            <a:ext cx="82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вай разомнем с тобой пальчики в игре «Ел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тром дети удивились –(разводят руки в сторо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за чудеса случ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й ночью нового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идали, что угодно, (сжимают и разжимают паль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увидели парад. –(руками рисуют в воздухе три круг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яд снеговики сто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зки весело горят. (моргают глазк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еред ними елочка,- (хлопают в ладош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шистая, в игол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https://cdn1.ozone.ru/multimedia/1020974407.jpg"/>
          <p:cNvPicPr/>
          <p:nvPr/>
        </p:nvPicPr>
        <p:blipFill>
          <a:blip r:embed="rId1"/>
          <a:stretch/>
        </p:blipFill>
        <p:spPr>
          <a:xfrm>
            <a:off x="4140360" y="620640"/>
            <a:ext cx="1460520" cy="15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s://clipart-best.com/img/fir-tree/fir-tree-clip-art-7.png"/>
          <p:cNvPicPr/>
          <p:nvPr/>
        </p:nvPicPr>
        <p:blipFill>
          <a:blip r:embed="rId2"/>
          <a:stretch/>
        </p:blipFill>
        <p:spPr>
          <a:xfrm>
            <a:off x="2556000" y="1773360"/>
            <a:ext cx="4680000" cy="5203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3"/>
          <a:srcRect l="0" t="-18810" r="0" b="0"/>
          <a:stretch/>
        </p:blipFill>
        <p:spPr>
          <a:xfrm>
            <a:off x="5003640" y="2565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6" descr="https://breras.com/wp-content/uploads/woocommerce_uploads/items_happygifts/b4a1a046-5f71-11e9-945b-00155d640301.jpg"/>
          <p:cNvPicPr/>
          <p:nvPr/>
        </p:nvPicPr>
        <p:blipFill>
          <a:blip r:embed="rId4"/>
          <a:stretch/>
        </p:blipFill>
        <p:spPr>
          <a:xfrm>
            <a:off x="3203640" y="386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https://ds03.infourok.ru/uploads/ex/013d/00061bbc-3fb242d2/img2.jpg"/>
          <p:cNvPicPr/>
          <p:nvPr/>
        </p:nvPicPr>
        <p:blipFill>
          <a:blip r:embed="rId5"/>
          <a:stretch/>
        </p:blipFill>
        <p:spPr>
          <a:xfrm>
            <a:off x="3708360" y="22050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s://novogodnyaya-igrushka.ru/image/catalog/banners/333.png"/>
          <p:cNvPicPr/>
          <p:nvPr/>
        </p:nvPicPr>
        <p:blipFill>
          <a:blip r:embed="rId6"/>
          <a:stretch/>
        </p:blipFill>
        <p:spPr>
          <a:xfrm rot="19025400">
            <a:off x="5974920" y="5114520"/>
            <a:ext cx="946080" cy="1109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https://breras.com/wp-content/uploads/woocommerce_uploads/items_happygifts/b4a1a046-5f71-11e9-945b-00155d640301.jpg"/>
          <p:cNvPicPr/>
          <p:nvPr/>
        </p:nvPicPr>
        <p:blipFill>
          <a:blip r:embed="rId7"/>
          <a:stretch/>
        </p:blipFill>
        <p:spPr>
          <a:xfrm>
            <a:off x="4932360" y="5678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santaclaus.su/i/hand-painted/b/ruchnaja-rospis/d100/h2-100-0002-N014-Snegovik-na-prozrachnom.JPG"/>
          <p:cNvPicPr/>
          <p:nvPr/>
        </p:nvPicPr>
        <p:blipFill>
          <a:blip r:embed="rId8"/>
          <a:stretch/>
        </p:blipFill>
        <p:spPr>
          <a:xfrm>
            <a:off x="4427640" y="3933720"/>
            <a:ext cx="865080" cy="916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https://cdn.clipart.email/76daf4a4eac03b641677f0a9a5d4739a_transparent-christmas-snowman-clipart-hd-png-download-_860-1469.png"/>
          <p:cNvPicPr/>
          <p:nvPr/>
        </p:nvPicPr>
        <p:blipFill>
          <a:blip r:embed="rId9"/>
          <a:stretch/>
        </p:blipFill>
        <p:spPr>
          <a:xfrm>
            <a:off x="3564000" y="5300640"/>
            <a:ext cx="647640" cy="110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https://breras.com/wp-content/uploads/woocommerce_uploads/items_happygifts/b4a1a046-5f71-11e9-945b-00155d640301.jpg"/>
          <p:cNvPicPr/>
          <p:nvPr/>
        </p:nvPicPr>
        <p:blipFill>
          <a:blip r:embed="rId10"/>
          <a:stretch/>
        </p:blipFill>
        <p:spPr>
          <a:xfrm>
            <a:off x="2627280" y="5373720"/>
            <a:ext cx="1152720" cy="1150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11"/>
          <a:srcRect l="0" t="-18810" r="0" b="0"/>
          <a:stretch/>
        </p:blipFill>
        <p:spPr>
          <a:xfrm>
            <a:off x="3995640" y="4797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s://ds03.infourok.ru/uploads/ex/013d/00061bbc-3fb242d2/img2.jpg"/>
          <p:cNvPicPr/>
          <p:nvPr/>
        </p:nvPicPr>
        <p:blipFill>
          <a:blip r:embed="rId12"/>
          <a:stretch/>
        </p:blipFill>
        <p:spPr>
          <a:xfrm>
            <a:off x="5435640" y="4149720"/>
            <a:ext cx="1297080" cy="9716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"/>
          <p:cNvSpPr/>
          <p:nvPr/>
        </p:nvSpPr>
        <p:spPr>
          <a:xfrm>
            <a:off x="179280" y="189000"/>
            <a:ext cx="309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, что ты видишь на картинке? (елоч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что на елочке висят? ( игрушки) А  какие игрушки, назов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колько здесь шариков?  (мно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неговиков? (один).А какого цвета ша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https://frm-wows-ru.wgcdn.co/wows_forum_ru/monthly_2017_12/ded.gif.2507f620ad79fbd28f90af95b63e10e6.gif"/>
          <p:cNvPicPr/>
          <p:nvPr/>
        </p:nvPicPr>
        <p:blipFill>
          <a:blip r:embed="rId1"/>
          <a:stretch/>
        </p:blipFill>
        <p:spPr>
          <a:xfrm>
            <a:off x="5651640" y="3916440"/>
            <a:ext cx="2016000" cy="29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sunveter.ru/uploads/posts/2015-11/1447655877_snegurochka1.gif"/>
          <p:cNvPicPr/>
          <p:nvPr/>
        </p:nvPicPr>
        <p:blipFill>
          <a:blip r:embed="rId2"/>
          <a:stretch/>
        </p:blipFill>
        <p:spPr>
          <a:xfrm>
            <a:off x="250920" y="3500280"/>
            <a:ext cx="1562040" cy="234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https://novogodnyaya-igrushka.ru/image/catalog/banners/333.png"/>
          <p:cNvPicPr/>
          <p:nvPr/>
        </p:nvPicPr>
        <p:blipFill>
          <a:blip r:embed="rId3"/>
          <a:stretch/>
        </p:blipFill>
        <p:spPr>
          <a:xfrm>
            <a:off x="324000" y="2492280"/>
            <a:ext cx="863280" cy="1011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https://cdn.clipart.email/76daf4a4eac03b641677f0a9a5d4739a_transparent-christmas-snowman-clipart-hd-png-download-_860-1469.png"/>
          <p:cNvPicPr/>
          <p:nvPr/>
        </p:nvPicPr>
        <p:blipFill>
          <a:blip r:embed="rId4"/>
          <a:stretch/>
        </p:blipFill>
        <p:spPr>
          <a:xfrm>
            <a:off x="7812000" y="4851360"/>
            <a:ext cx="1176480" cy="20066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250920" y="62064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теперь приготовься к разминк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s://otvet.imgsmail.ru/download/3528acc5496b96dc3cbf43a6052e6521_i-16672.gif"/>
          <p:cNvPicPr/>
          <p:nvPr/>
        </p:nvPicPr>
        <p:blipFill>
          <a:blip r:embed="rId5"/>
          <a:stretch/>
        </p:blipFill>
        <p:spPr>
          <a:xfrm>
            <a:off x="-612720" y="4365720"/>
            <a:ext cx="6124680" cy="30621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324000" y="148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07:07:35Z</dcterms:created>
  <dc:creator>user</dc:creator>
  <dc:description/>
  <dc:language>en-US</dc:language>
  <cp:lastModifiedBy>Дом</cp:lastModifiedBy>
  <dcterms:modified xsi:type="dcterms:W3CDTF">2023-12-14T08:38:22Z</dcterms:modified>
  <cp:revision>36</cp:revision>
  <dc:subject/>
  <dc:title>Фотоальбом</dc:title>
</cp:coreProperties>
</file>