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png" ContentType="image/png"/>
  <Override PartName="/ppt/media/image18.gif" ContentType="image/gif"/>
  <Override PartName="/ppt/media/image4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A87-239B-4985-A797-2F4F4177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9FE-0E28-4E0E-AC41-85452A83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ED8-388E-4E87-963F-0B42BB7B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620-FEB0-4CD7-847B-FCBD5247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3299-EBC5-463D-B834-9CF1FF9A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A846-CCC2-4A1B-BE8D-0A381991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0EB2-CC58-4CF7-9457-C64C8CF0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6A68-9FD6-4E7C-AB14-80F2A697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A25C-85D5-41FD-9DB8-50BC49A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24DF-6F00-4B0E-9A14-B5788FE9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2E1B-7D8F-4EF3-8B80-0CE6FC7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D44-A114-443C-A96D-BCCA98B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ED1E-12F4-4DC2-944E-A5F07E8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CC60-5DBE-4B2F-90C4-48DF555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E2A5-0261-4761-B75A-549A4C92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F68E-1CC4-4939-86B5-B9175A34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C897-7185-4E82-A8D4-36F8514A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6DA2-3F49-41A5-8C03-47414CB3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FDC9-1689-4914-9438-93EF3B80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2CA6-E8DD-4ABE-A0A4-02984BD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1A78B-2CAF-4CF0-B26E-628310BA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D651-3DDF-4412-BDE7-60FAD223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5CB-CD4C-40EA-811D-BF94C00D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10BF-A81E-460D-A40D-CFC8345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C76B-69EE-409C-87E1-3788862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CC18-E299-4764-B1A3-6102EB1F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B499-F927-4FF0-8897-1A8EF2E5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6BD2-CF71-4EB8-8A5F-37127F2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49E1-2BFF-490D-8A03-32CC0391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74CB-297B-4CF8-B521-D291FC76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B82D-79CF-4404-B040-6ED937BD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EF33E-58D0-43AA-8050-37EEC032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D262-5B52-45B9-B55D-026A89B6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67A-32FF-4161-956B-7B784BFB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3C4F-237A-4C21-B19D-B0643976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38FD-647F-49C8-B880-D0D0DEF4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9A87-6F7F-4683-8991-C175B4BC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0468-832A-4EA3-BA19-2C3B1B15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D627-37F7-4E4E-8D6E-A40EBE8E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1CC5-EC10-4AC0-BFCE-5E71EEC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A9C9D-9EBD-4995-BA47-198CDAAD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EA35-E76F-4221-B7BD-85FCF2C4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F31F6-1F80-4AB0-A829-14F57FF2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985F0-2CD9-4B4D-968E-4D5AE9B6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44E-3D86-4707-8E75-F87E4AA4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B01CA-2C0C-46DB-9936-95406A0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D2294-659A-496F-8A0C-C8EBC00C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B65C-3181-420B-AB35-1D3DE25C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580D-D758-4AD6-BC9A-F04A49DB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E241C-C159-4640-A625-7368B895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4F4E9-B39B-4B9D-845D-812D1B7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EE6CC-A164-46B0-9E63-B9B4719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9248-2005-460D-911B-9E2946FC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6A5A-25F0-46BF-8B51-8FEB8BF3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31F3-6432-4FFF-B37F-95692B44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705-4EF4-4897-8DE4-13CB378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4984A-1322-438B-B524-21E73A9C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CAC72-FF6A-4447-8A3E-249435A6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FEE0F-ECD7-40FF-BD44-EE23A47D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A30D-DF89-4818-B262-47617D0B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A06F7-27C3-4670-AAA0-66E98673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4600-B064-4AC2-93AB-779A6CFD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150BD-277B-48C6-B525-211FF502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6D113-4426-4588-99C7-D4931421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C012D-0D2F-40C3-AE30-5DE8CD1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1FD4-976A-47EC-89DD-A9C09498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CE9-E055-4746-AB54-8087178C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C276-2E4C-4F95-8CC3-DF233BD2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AA669-2676-4ACB-9AB6-96F12DE7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1F49D-6825-445D-9A13-5152E2D2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6D9FF-E112-4975-A0C7-5D9C5FA6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2F0D-312C-4353-93EA-52A5E3C4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2A2CA-A403-4B55-93AB-A44F68C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8381E-487D-44CB-A935-91902728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E6A35-357C-4D3F-9F72-E686BD20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2F5A7-71F7-4772-8AAA-5FA4F20F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1A9E8-494F-4D6E-97C6-E037DF45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86C-DFCC-4020-860A-84E1CC9F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FA39E-1D29-4B5D-92DF-69C4536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CA731-42FD-4E9D-B22E-23801413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4FDC1-1E4C-4061-8437-7FB5469D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EA051-31BF-4079-918A-2C2CA38A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76CE9-9C40-4699-8C54-779E1A39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CD2-B558-4981-A281-4F13D58C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C527-1446-4821-A06B-C318B12986C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07B0-16DC-4642-A701-6B28B8E6589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FF7A-178E-46F1-8A52-BADE355445B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0977-B6D7-4921-AE15-DB114A410F3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F6B4-D67B-46A8-9FA6-D1B581C01D9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9E7C-5235-40D6-B184-F85C64E2C8A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F079-7757-4D4D-B12E-9BFC4E769B6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24000" y="577800"/>
            <a:ext cx="85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КДОУ Детский сад №54 УК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азвитие ре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 В ожидании Нового Го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 1 младшей группе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оставила Склярова О.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250920" y="40464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оро наступит праздник Новый Год!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сегодня мы поиграем в игру «Нелепица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 мне скажете, без чего не бывает Нового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ведем графическую работу (обведем по точкам снеговика с елочками), раскрасим их, подарим елочке шарики из пластилина. Поиграем в пальчиковую игру «Елочка» и нарядим елочку новогодними игруш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250920" y="399960"/>
            <a:ext cx="86421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равьте предложения и повторите прави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Новый год наступает, потому что нарядили елку.  (Елку нарядили, потому, что, наступает Новый г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Замерзла вода в реке, поэтому ударили морозы.(Ударили морозы, поэтому вода в реке замерз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Катя катается на коньках по зеленой траве.  (Катя катается на коньках по льд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2" descr="елочка нарядная"/>
          <p:cNvPicPr/>
          <p:nvPr/>
        </p:nvPicPr>
        <p:blipFill>
          <a:blip r:embed="rId1"/>
          <a:stretch/>
        </p:blipFill>
        <p:spPr>
          <a:xfrm>
            <a:off x="2195640" y="2006640"/>
            <a:ext cx="3244680" cy="4822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снеговичок"/>
          <p:cNvPicPr/>
          <p:nvPr/>
        </p:nvPicPr>
        <p:blipFill>
          <a:blip r:embed="rId2"/>
          <a:stretch/>
        </p:blipFill>
        <p:spPr>
          <a:xfrm>
            <a:off x="7236000" y="4334040"/>
            <a:ext cx="2003400" cy="25239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250920" y="2602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зови, без чего не бывает Нового Года (Без елки, Деда Мороза, Снегурочки, подарков, снеговика, елочных игруш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https://i.pinimg.com/736x/46/a5/6f/46a56fe818b237a225a28e1ac0304f17.jpg"/>
          <p:cNvPicPr/>
          <p:nvPr/>
        </p:nvPicPr>
        <p:blipFill>
          <a:blip r:embed="rId3"/>
          <a:stretch/>
        </p:blipFill>
        <p:spPr>
          <a:xfrm>
            <a:off x="4788000" y="2997360"/>
            <a:ext cx="2678040" cy="3573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https://nsportal.ru/sites/default/files/styles/large/public/media/2014/11/22/snegurochka.jpg?itok=nlBxQUjn"/>
          <p:cNvPicPr/>
          <p:nvPr/>
        </p:nvPicPr>
        <p:blipFill>
          <a:blip r:embed="rId4"/>
          <a:stretch/>
        </p:blipFill>
        <p:spPr>
          <a:xfrm>
            <a:off x="108000" y="3494160"/>
            <a:ext cx="2452680" cy="3363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https://novogodnyaya-igrushka.ru/image/catalog/banners/333.png"/>
          <p:cNvPicPr/>
          <p:nvPr/>
        </p:nvPicPr>
        <p:blipFill>
          <a:blip r:embed="rId5"/>
          <a:stretch/>
        </p:blipFill>
        <p:spPr>
          <a:xfrm>
            <a:off x="7380360" y="2276640"/>
            <a:ext cx="1152360" cy="1347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" descr="https://sun9-69.userapi.com/c629506/v629506677/2d856/qzTvAdV0wlw.jpg"/>
          <p:cNvPicPr/>
          <p:nvPr/>
        </p:nvPicPr>
        <p:blipFill>
          <a:blip r:embed="rId6"/>
          <a:stretch/>
        </p:blipFill>
        <p:spPr>
          <a:xfrm>
            <a:off x="4427640" y="5805360"/>
            <a:ext cx="12175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s://doc4web.ru/uploads/files/75/75950/hello_html_m743edd12.png"/>
          <p:cNvPicPr/>
          <p:nvPr/>
        </p:nvPicPr>
        <p:blipFill>
          <a:blip r:embed="rId1"/>
          <a:stretch/>
        </p:blipFill>
        <p:spPr>
          <a:xfrm>
            <a:off x="5796000" y="2637000"/>
            <a:ext cx="3184560" cy="4027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s://ds04.infourok.ru/uploads/ex/09a8/000eea3f-8fdfae18/img49.jpg"/>
          <p:cNvPicPr/>
          <p:nvPr/>
        </p:nvPicPr>
        <p:blipFill>
          <a:blip r:embed="rId2"/>
          <a:srcRect l="0" t="-1377" r="-103" b="0"/>
          <a:stretch/>
        </p:blipFill>
        <p:spPr>
          <a:xfrm>
            <a:off x="179280" y="2414520"/>
            <a:ext cx="5600880" cy="44434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3"/>
          <p:cNvSpPr/>
          <p:nvPr/>
        </p:nvSpPr>
        <p:spPr>
          <a:xfrm>
            <a:off x="395280" y="189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теперь бери карандаш или фломастер и обведи по точкам снеговика с елочками. А затем раскрась их и  подари второй елочке шарики!  Их можно скатать из пластил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училось? 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https://ds04.infourok.ru/uploads/ex/09a8/000eea3f-8fdfae18/img49.jpg"/>
          <p:cNvPicPr/>
          <p:nvPr/>
        </p:nvPicPr>
        <p:blipFill>
          <a:blip r:embed="rId1"/>
          <a:srcRect l="0" t="-1385" r="-105" b="0"/>
          <a:stretch/>
        </p:blipFill>
        <p:spPr>
          <a:xfrm>
            <a:off x="324000" y="515880"/>
            <a:ext cx="828036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3"/>
          <p:cNvSpPr/>
          <p:nvPr/>
        </p:nvSpPr>
        <p:spPr>
          <a:xfrm>
            <a:off x="324000" y="307800"/>
            <a:ext cx="8208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вай разомнем с тобой пальчики в игре «Ел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тром дети удивились –(разводят руки в сторо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за чудеса случи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ой ночью новогод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жидали, что угодно, (сжимают и разжимают пальц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увидели парад. –(руками рисуют в воздухе три круг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яд снеговики сто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зки весело горят. (моргают глазк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еред ними елочка,- (хлопают в ладош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ушистая, в иголо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0" descr="https://cdn1.ozone.ru/multimedia/1020974407.jpg"/>
          <p:cNvPicPr/>
          <p:nvPr/>
        </p:nvPicPr>
        <p:blipFill>
          <a:blip r:embed="rId1"/>
          <a:stretch/>
        </p:blipFill>
        <p:spPr>
          <a:xfrm>
            <a:off x="4140360" y="620640"/>
            <a:ext cx="1460520" cy="1513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https://clipart-best.com/img/fir-tree/fir-tree-clip-art-7.png"/>
          <p:cNvPicPr/>
          <p:nvPr/>
        </p:nvPicPr>
        <p:blipFill>
          <a:blip r:embed="rId2"/>
          <a:stretch/>
        </p:blipFill>
        <p:spPr>
          <a:xfrm>
            <a:off x="2556000" y="1773360"/>
            <a:ext cx="4680000" cy="5203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https://image.freepik.com/free-vector/colorful-christmas-balls-on-white-surface-set-of-isolated-realistic-decorations-vector-illustration-christmas-baubles-with-snowflakes_1378-643.jpg"/>
          <p:cNvPicPr/>
          <p:nvPr/>
        </p:nvPicPr>
        <p:blipFill>
          <a:blip r:embed="rId3"/>
          <a:srcRect l="0" t="-18810" r="0" b="0"/>
          <a:stretch/>
        </p:blipFill>
        <p:spPr>
          <a:xfrm>
            <a:off x="5003640" y="2565360"/>
            <a:ext cx="1152720" cy="143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6" descr="https://breras.com/wp-content/uploads/woocommerce_uploads/items_happygifts/b4a1a046-5f71-11e9-945b-00155d640301.jpg"/>
          <p:cNvPicPr/>
          <p:nvPr/>
        </p:nvPicPr>
        <p:blipFill>
          <a:blip r:embed="rId4"/>
          <a:stretch/>
        </p:blipFill>
        <p:spPr>
          <a:xfrm>
            <a:off x="3203640" y="386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https://ds03.infourok.ru/uploads/ex/013d/00061bbc-3fb242d2/img2.jpg"/>
          <p:cNvPicPr/>
          <p:nvPr/>
        </p:nvPicPr>
        <p:blipFill>
          <a:blip r:embed="rId5"/>
          <a:stretch/>
        </p:blipFill>
        <p:spPr>
          <a:xfrm>
            <a:off x="3708360" y="220500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https://novogodnyaya-igrushka.ru/image/catalog/banners/333.png"/>
          <p:cNvPicPr/>
          <p:nvPr/>
        </p:nvPicPr>
        <p:blipFill>
          <a:blip r:embed="rId6"/>
          <a:stretch/>
        </p:blipFill>
        <p:spPr>
          <a:xfrm rot="19025400">
            <a:off x="5974920" y="5114520"/>
            <a:ext cx="946080" cy="1109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https://breras.com/wp-content/uploads/woocommerce_uploads/items_happygifts/b4a1a046-5f71-11e9-945b-00155d640301.jpg"/>
          <p:cNvPicPr/>
          <p:nvPr/>
        </p:nvPicPr>
        <p:blipFill>
          <a:blip r:embed="rId7"/>
          <a:stretch/>
        </p:blipFill>
        <p:spPr>
          <a:xfrm>
            <a:off x="4932360" y="5678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santaclaus.su/i/hand-painted/b/ruchnaja-rospis/d100/h2-100-0002-N014-Snegovik-na-prozrachnom.JPG"/>
          <p:cNvPicPr/>
          <p:nvPr/>
        </p:nvPicPr>
        <p:blipFill>
          <a:blip r:embed="rId8"/>
          <a:stretch/>
        </p:blipFill>
        <p:spPr>
          <a:xfrm>
            <a:off x="4427640" y="3933720"/>
            <a:ext cx="865080" cy="916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https://cdn.clipart.email/76daf4a4eac03b641677f0a9a5d4739a_transparent-christmas-snowman-clipart-hd-png-download-_860-1469.png"/>
          <p:cNvPicPr/>
          <p:nvPr/>
        </p:nvPicPr>
        <p:blipFill>
          <a:blip r:embed="rId9"/>
          <a:stretch/>
        </p:blipFill>
        <p:spPr>
          <a:xfrm>
            <a:off x="3564000" y="5300640"/>
            <a:ext cx="647640" cy="1108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https://breras.com/wp-content/uploads/woocommerce_uploads/items_happygifts/b4a1a046-5f71-11e9-945b-00155d640301.jpg"/>
          <p:cNvPicPr/>
          <p:nvPr/>
        </p:nvPicPr>
        <p:blipFill>
          <a:blip r:embed="rId10"/>
          <a:stretch/>
        </p:blipFill>
        <p:spPr>
          <a:xfrm>
            <a:off x="2627280" y="5373720"/>
            <a:ext cx="1152720" cy="1150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https://image.freepik.com/free-vector/colorful-christmas-balls-on-white-surface-set-of-isolated-realistic-decorations-vector-illustration-christmas-baubles-with-snowflakes_1378-643.jpg"/>
          <p:cNvPicPr/>
          <p:nvPr/>
        </p:nvPicPr>
        <p:blipFill>
          <a:blip r:embed="rId11"/>
          <a:srcRect l="0" t="-18810" r="0" b="0"/>
          <a:stretch/>
        </p:blipFill>
        <p:spPr>
          <a:xfrm>
            <a:off x="3995640" y="4797360"/>
            <a:ext cx="1152720" cy="1436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https://ds03.infourok.ru/uploads/ex/013d/00061bbc-3fb242d2/img2.jpg"/>
          <p:cNvPicPr/>
          <p:nvPr/>
        </p:nvPicPr>
        <p:blipFill>
          <a:blip r:embed="rId12"/>
          <a:stretch/>
        </p:blipFill>
        <p:spPr>
          <a:xfrm>
            <a:off x="5435640" y="4149720"/>
            <a:ext cx="1297080" cy="971640"/>
          </a:xfrm>
          <a:prstGeom prst="rect">
            <a:avLst/>
          </a:prstGeom>
          <a:ln w="0">
            <a:noFill/>
          </a:ln>
        </p:spPr>
      </p:pic>
      <p:sp>
        <p:nvSpPr>
          <p:cNvPr id="362" name="TextBox 3"/>
          <p:cNvSpPr/>
          <p:nvPr/>
        </p:nvSpPr>
        <p:spPr>
          <a:xfrm>
            <a:off x="179280" y="189000"/>
            <a:ext cx="3097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, что ты видишь на картинке? (елоч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что на елочке висят? ( игрушки) А  какие игрушки, назов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колько здесь шариков?  (мног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неговиков? (один).А какого цвета ша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https://frm-wows-ru.wgcdn.co/wows_forum_ru/monthly_2017_12/ded.gif.2507f620ad79fbd28f90af95b63e10e6.gif"/>
          <p:cNvPicPr/>
          <p:nvPr/>
        </p:nvPicPr>
        <p:blipFill>
          <a:blip r:embed="rId1"/>
          <a:stretch/>
        </p:blipFill>
        <p:spPr>
          <a:xfrm>
            <a:off x="5651640" y="3916440"/>
            <a:ext cx="2016000" cy="2943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s://sunveter.ru/uploads/posts/2015-11/1447655877_snegurochka1.gif"/>
          <p:cNvPicPr/>
          <p:nvPr/>
        </p:nvPicPr>
        <p:blipFill>
          <a:blip r:embed="rId2"/>
          <a:stretch/>
        </p:blipFill>
        <p:spPr>
          <a:xfrm>
            <a:off x="250920" y="3500280"/>
            <a:ext cx="1562040" cy="2341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https://novogodnyaya-igrushka.ru/image/catalog/banners/333.png"/>
          <p:cNvPicPr/>
          <p:nvPr/>
        </p:nvPicPr>
        <p:blipFill>
          <a:blip r:embed="rId3"/>
          <a:stretch/>
        </p:blipFill>
        <p:spPr>
          <a:xfrm>
            <a:off x="324000" y="2492280"/>
            <a:ext cx="863280" cy="1011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https://cdn.clipart.email/76daf4a4eac03b641677f0a9a5d4739a_transparent-christmas-snowman-clipart-hd-png-download-_860-1469.png"/>
          <p:cNvPicPr/>
          <p:nvPr/>
        </p:nvPicPr>
        <p:blipFill>
          <a:blip r:embed="rId4"/>
          <a:stretch/>
        </p:blipFill>
        <p:spPr>
          <a:xfrm>
            <a:off x="7812000" y="4851360"/>
            <a:ext cx="1176480" cy="20066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250920" y="62064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теперь приготовься к разминк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https://otvet.imgsmail.ru/download/3528acc5496b96dc3cbf43a6052e6521_i-16672.gif"/>
          <p:cNvPicPr/>
          <p:nvPr/>
        </p:nvPicPr>
        <p:blipFill>
          <a:blip r:embed="rId5"/>
          <a:stretch/>
        </p:blipFill>
        <p:spPr>
          <a:xfrm>
            <a:off x="-612720" y="4365720"/>
            <a:ext cx="6124680" cy="30621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1"/>
          <p:cNvSpPr/>
          <p:nvPr/>
        </p:nvSpPr>
        <p:spPr>
          <a:xfrm>
            <a:off x="324000" y="148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07:07:35Z</dcterms:created>
  <dc:creator>user</dc:creator>
  <dc:description/>
  <dc:language>en-US</dc:language>
  <cp:lastModifiedBy>Дом</cp:lastModifiedBy>
  <dcterms:modified xsi:type="dcterms:W3CDTF">2023-12-14T08:38:22Z</dcterms:modified>
  <cp:revision>36</cp:revision>
  <dc:subject/>
  <dc:title>Фотоальбом</dc:title>
</cp:coreProperties>
</file>