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png" ContentType="image/png"/>
  <Override PartName="/ppt/media/image18.gif" ContentType="image/gif"/>
  <Override PartName="/ppt/media/image4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EBF-1D6E-4D81-B9BA-E103720A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F5E-238A-42D3-8AA6-F54FE088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0F4-BBB0-488B-8DF6-74A961E7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56A-3B89-49BF-86C6-6834E7F2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EE12-C619-4E82-8AB4-C017B6E2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6A5E-035F-47DB-94F3-88E971AF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D44C-D1D0-424A-AD5A-2DCFAB91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1AD6-995F-4410-9CC2-2B361444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E44B-FDD7-4606-9D78-C0D07DEB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9EA3-6A12-44C1-82DE-B38CA199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9CB8-F2CF-4025-AB7F-852CE4DE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785-47DC-4B6E-9FC8-C6C7216D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B952-C039-4C53-BA4B-9198596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4EDF-0816-4D1B-976A-B1801EE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E2BC-0688-4569-BB98-3934DEB9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8A1E-B507-4870-8CAD-CCCF30B9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B557-BB32-4D25-871B-AC9E4456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FA21-3C3B-43FE-BD2A-271453CB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8D86-EA2F-4DE4-9A62-2E24187E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6408-A282-41CB-9C17-1F743C68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48E6-CE11-41D2-8AC0-C6B5B542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4AAF-BDBD-45B6-ADB2-D3C51A5E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606-0AB6-4A79-9090-5EDDD9D2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20A2-76D4-4BB5-8429-17C7C283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7306-69EB-41EB-BEFD-FED3A36E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F767-6E94-45CC-B71F-9A32F61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A248-83B9-4C88-B6B1-A510648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7449-E228-4CC8-B8B0-A72BCC3D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1F069-6CEE-4AC8-8DC8-A439564A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FE5F-90FD-4A6D-97CC-A780C89D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5325-048D-4D73-B60E-8560F45A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13AF-619B-49C0-B303-C77ED464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1AF9C-9C1A-4F1F-B535-A78FE75D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BFF-9134-460C-88A9-FAC4A9C8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F5A2-238C-47A9-AB0C-5BB96E79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9B485-105C-46CA-AE2A-D562E464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BC31-F130-4D89-AB59-A064C65E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E0C2-C76D-4BB6-862E-79B9C4AF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ECA5D-6895-4777-BB76-F8487728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7E8F-F0C6-4B3D-9531-B2E568A7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2D17-A23D-4469-9D99-00B68B1E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A567-B942-43AB-B3FC-4F4750C1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DD84-85CA-45A4-ACD2-99EF0660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2DC6D-C597-4E4C-A65B-06AC5406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E16-BFC6-4294-8D11-9E036287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C380A-644D-42E0-BED7-5C56118F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B1878-0573-43A0-B84C-271B92DF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C6D75-D515-4587-92A5-D15E4291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0485D-1558-490F-B790-CFC048C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4E23-4B2E-4A39-B4B0-09CDA0F6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88F0-89C8-48CD-9512-2E89D148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58DC-1242-4CA1-9734-4C10C7D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62D3-43F9-444E-A1C8-5F90BFC3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DA66-7792-4D5D-8741-854B9283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2683-3563-4CE1-A7BC-604B02C8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612-F476-4E2D-AB73-7583EE45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DD46-761F-4EEE-BEDD-91B16E32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63865-1B5D-4E28-8354-E1ACEED0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41E3-BA72-4AD0-871D-6AAC579D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A394-715D-44F7-B564-4BE2373D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0F503-10FA-4C68-9EDF-49CB0A83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6E758-B56C-43AD-BF85-0A57E209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A2087-CB6D-4063-BB1C-535D5CE3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0E09-DF74-4244-9627-908E4475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000DF-7CDD-4632-87A9-A82A0F0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28B69-532A-4447-AF75-DB8A697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3DB-0CAD-40AE-8A04-FF17BD2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ED588-31DB-4650-A456-0A07A2E4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0CE09-9413-4E30-B6D8-B03FA13D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D5176-9935-44DC-A9BA-50D53099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4485E-7E33-4A60-B2B9-3ADDB5DB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9DE96-B5DA-4A86-B567-DA88C43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D66FA-36D0-48FE-93ED-01236A5D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1E84B-0C98-4B9B-9B37-6D387B3D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599C3-2CA3-4858-A856-5D1D1CBF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B2388-2626-49F4-8384-C2E5F1F7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2BA8-7EE9-4833-A413-11FAC47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2B5-531F-43C3-87F3-99FC50DC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50EF9-0259-4A75-B280-A89A2D2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B13A7-D93F-4CF1-BE16-A78A5C0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D43C5-EDA7-4879-B429-06BCB8E8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7D35-12A4-4031-BA9B-337A28F1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61784-FDB7-414C-A777-5A683A9F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20B-5F41-4D3E-B80E-4B53CA9A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F099-199C-4F6A-A25C-F50006D1029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E468-72A9-4971-9EA3-83FC584E80B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857D-0771-43E7-87ED-4B2B291298E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E254-E860-4E78-8CBF-9C6C15EC5B4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FDEF-EA37-4FA9-B5C5-5AAE0227E9C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F32E-CBCF-46B5-8F8B-C9A0EE71B1A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5CBA-FDE3-4BA9-A9D1-59C2E383932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24000" y="577800"/>
            <a:ext cx="85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КДОУ Детский сад №54 УК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азвитие ре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 В ожидании Нового Го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 1 младшей группе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оставила Склярова О.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250920" y="40464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оро наступит праздник Новый Год!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сегодня мы поиграем в игру «Нелепица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 мне скажете, без чего не бывает Нового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ведем графическую работу (обведем по точкам снеговика с елочками), раскрасим их, подарим елочке шарики из пластилина. Поиграем в пальчиковую игру «Елочка» и нарядим елочку новогодними игруш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250920" y="399960"/>
            <a:ext cx="86421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равьте предложения и повторите прави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Новый год наступает, потому что нарядили елку.  (Елку нарядили, потому, что, наступает Новый г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Замерзла вода в реке, поэтому ударили морозы.(Ударили морозы, поэтому вода в реке замерз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Катя катается на коньках по зеленой траве.  (Катя катается на коньках по льд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2" descr="елочка нарядная"/>
          <p:cNvPicPr/>
          <p:nvPr/>
        </p:nvPicPr>
        <p:blipFill>
          <a:blip r:embed="rId1"/>
          <a:stretch/>
        </p:blipFill>
        <p:spPr>
          <a:xfrm>
            <a:off x="2195640" y="2006640"/>
            <a:ext cx="3244680" cy="4822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снеговичок"/>
          <p:cNvPicPr/>
          <p:nvPr/>
        </p:nvPicPr>
        <p:blipFill>
          <a:blip r:embed="rId2"/>
          <a:stretch/>
        </p:blipFill>
        <p:spPr>
          <a:xfrm>
            <a:off x="7236000" y="4334040"/>
            <a:ext cx="2003400" cy="25239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250920" y="2602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зови, без чего не бывает Нового Года (Без елки, Деда Мороза, Снегурочки, подарков, снеговика, елочных игруш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https://i.pinimg.com/736x/46/a5/6f/46a56fe818b237a225a28e1ac0304f17.jpg"/>
          <p:cNvPicPr/>
          <p:nvPr/>
        </p:nvPicPr>
        <p:blipFill>
          <a:blip r:embed="rId3"/>
          <a:stretch/>
        </p:blipFill>
        <p:spPr>
          <a:xfrm>
            <a:off x="4788000" y="2997360"/>
            <a:ext cx="2678040" cy="3573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https://nsportal.ru/sites/default/files/styles/large/public/media/2014/11/22/snegurochka.jpg?itok=nlBxQUjn"/>
          <p:cNvPicPr/>
          <p:nvPr/>
        </p:nvPicPr>
        <p:blipFill>
          <a:blip r:embed="rId4"/>
          <a:stretch/>
        </p:blipFill>
        <p:spPr>
          <a:xfrm>
            <a:off x="108000" y="3494160"/>
            <a:ext cx="2452680" cy="3363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https://novogodnyaya-igrushka.ru/image/catalog/banners/333.png"/>
          <p:cNvPicPr/>
          <p:nvPr/>
        </p:nvPicPr>
        <p:blipFill>
          <a:blip r:embed="rId5"/>
          <a:stretch/>
        </p:blipFill>
        <p:spPr>
          <a:xfrm>
            <a:off x="7380360" y="2276640"/>
            <a:ext cx="1152360" cy="1347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" descr="https://sun9-69.userapi.com/c629506/v629506677/2d856/qzTvAdV0wlw.jpg"/>
          <p:cNvPicPr/>
          <p:nvPr/>
        </p:nvPicPr>
        <p:blipFill>
          <a:blip r:embed="rId6"/>
          <a:stretch/>
        </p:blipFill>
        <p:spPr>
          <a:xfrm>
            <a:off x="4427640" y="5805360"/>
            <a:ext cx="12175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s://doc4web.ru/uploads/files/75/75950/hello_html_m743edd12.png"/>
          <p:cNvPicPr/>
          <p:nvPr/>
        </p:nvPicPr>
        <p:blipFill>
          <a:blip r:embed="rId1"/>
          <a:stretch/>
        </p:blipFill>
        <p:spPr>
          <a:xfrm>
            <a:off x="5796000" y="2637000"/>
            <a:ext cx="3184560" cy="4027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s://ds04.infourok.ru/uploads/ex/09a8/000eea3f-8fdfae18/img49.jpg"/>
          <p:cNvPicPr/>
          <p:nvPr/>
        </p:nvPicPr>
        <p:blipFill>
          <a:blip r:embed="rId2"/>
          <a:srcRect l="0" t="-1377" r="-103" b="0"/>
          <a:stretch/>
        </p:blipFill>
        <p:spPr>
          <a:xfrm>
            <a:off x="179280" y="2414520"/>
            <a:ext cx="5600880" cy="44434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3"/>
          <p:cNvSpPr/>
          <p:nvPr/>
        </p:nvSpPr>
        <p:spPr>
          <a:xfrm>
            <a:off x="395280" y="189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теперь бери карандаш или фломастер и обведи по точкам снеговика с елочками. А затем раскрась их и  подари второй елочке шарики!  Их можно скатать из пластил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училось? 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https://ds04.infourok.ru/uploads/ex/09a8/000eea3f-8fdfae18/img49.jpg"/>
          <p:cNvPicPr/>
          <p:nvPr/>
        </p:nvPicPr>
        <p:blipFill>
          <a:blip r:embed="rId1"/>
          <a:srcRect l="0" t="-1385" r="-105" b="0"/>
          <a:stretch/>
        </p:blipFill>
        <p:spPr>
          <a:xfrm>
            <a:off x="324000" y="515880"/>
            <a:ext cx="828036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3"/>
          <p:cNvSpPr/>
          <p:nvPr/>
        </p:nvSpPr>
        <p:spPr>
          <a:xfrm>
            <a:off x="324000" y="307800"/>
            <a:ext cx="8208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вай разомнем с тобой пальчики в игре «Ел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тром дети удивились –(разводят руки в сторо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за чудеса случи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ой ночью новогод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жидали, что угодно, (сжимают и разжимают паль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увидели парад. –(руками рисуют в воздухе три круг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яд снеговики сто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зки весело горят. (моргают глазк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еред ними елочка,- (хлопают в ладош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ушистая, в иголо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0" descr="https://cdn1.ozone.ru/multimedia/1020974407.jpg"/>
          <p:cNvPicPr/>
          <p:nvPr/>
        </p:nvPicPr>
        <p:blipFill>
          <a:blip r:embed="rId1"/>
          <a:stretch/>
        </p:blipFill>
        <p:spPr>
          <a:xfrm>
            <a:off x="4140360" y="620640"/>
            <a:ext cx="1460520" cy="1513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https://clipart-best.com/img/fir-tree/fir-tree-clip-art-7.png"/>
          <p:cNvPicPr/>
          <p:nvPr/>
        </p:nvPicPr>
        <p:blipFill>
          <a:blip r:embed="rId2"/>
          <a:stretch/>
        </p:blipFill>
        <p:spPr>
          <a:xfrm>
            <a:off x="2556000" y="1773360"/>
            <a:ext cx="4680000" cy="5203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https://image.freepik.com/free-vector/colorful-christmas-balls-on-white-surface-set-of-isolated-realistic-decorations-vector-illustration-christmas-baubles-with-snowflakes_1378-643.jpg"/>
          <p:cNvPicPr/>
          <p:nvPr/>
        </p:nvPicPr>
        <p:blipFill>
          <a:blip r:embed="rId3"/>
          <a:srcRect l="0" t="-18810" r="0" b="0"/>
          <a:stretch/>
        </p:blipFill>
        <p:spPr>
          <a:xfrm>
            <a:off x="5003640" y="2565360"/>
            <a:ext cx="1152720" cy="143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6" descr="https://breras.com/wp-content/uploads/woocommerce_uploads/items_happygifts/b4a1a046-5f71-11e9-945b-00155d640301.jpg"/>
          <p:cNvPicPr/>
          <p:nvPr/>
        </p:nvPicPr>
        <p:blipFill>
          <a:blip r:embed="rId4"/>
          <a:stretch/>
        </p:blipFill>
        <p:spPr>
          <a:xfrm>
            <a:off x="3203640" y="386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https://ds03.infourok.ru/uploads/ex/013d/00061bbc-3fb242d2/img2.jpg"/>
          <p:cNvPicPr/>
          <p:nvPr/>
        </p:nvPicPr>
        <p:blipFill>
          <a:blip r:embed="rId5"/>
          <a:stretch/>
        </p:blipFill>
        <p:spPr>
          <a:xfrm>
            <a:off x="3708360" y="22050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https://novogodnyaya-igrushka.ru/image/catalog/banners/333.png"/>
          <p:cNvPicPr/>
          <p:nvPr/>
        </p:nvPicPr>
        <p:blipFill>
          <a:blip r:embed="rId6"/>
          <a:stretch/>
        </p:blipFill>
        <p:spPr>
          <a:xfrm rot="19025400">
            <a:off x="5974920" y="5114520"/>
            <a:ext cx="946080" cy="1109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https://breras.com/wp-content/uploads/woocommerce_uploads/items_happygifts/b4a1a046-5f71-11e9-945b-00155d640301.jpg"/>
          <p:cNvPicPr/>
          <p:nvPr/>
        </p:nvPicPr>
        <p:blipFill>
          <a:blip r:embed="rId7"/>
          <a:stretch/>
        </p:blipFill>
        <p:spPr>
          <a:xfrm>
            <a:off x="4932360" y="5678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santaclaus.su/i/hand-painted/b/ruchnaja-rospis/d100/h2-100-0002-N014-Snegovik-na-prozrachnom.JPG"/>
          <p:cNvPicPr/>
          <p:nvPr/>
        </p:nvPicPr>
        <p:blipFill>
          <a:blip r:embed="rId8"/>
          <a:stretch/>
        </p:blipFill>
        <p:spPr>
          <a:xfrm>
            <a:off x="4427640" y="3933720"/>
            <a:ext cx="865080" cy="916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https://cdn.clipart.email/76daf4a4eac03b641677f0a9a5d4739a_transparent-christmas-snowman-clipart-hd-png-download-_860-1469.png"/>
          <p:cNvPicPr/>
          <p:nvPr/>
        </p:nvPicPr>
        <p:blipFill>
          <a:blip r:embed="rId9"/>
          <a:stretch/>
        </p:blipFill>
        <p:spPr>
          <a:xfrm>
            <a:off x="3564000" y="5300640"/>
            <a:ext cx="647640" cy="1108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https://breras.com/wp-content/uploads/woocommerce_uploads/items_happygifts/b4a1a046-5f71-11e9-945b-00155d640301.jpg"/>
          <p:cNvPicPr/>
          <p:nvPr/>
        </p:nvPicPr>
        <p:blipFill>
          <a:blip r:embed="rId10"/>
          <a:stretch/>
        </p:blipFill>
        <p:spPr>
          <a:xfrm>
            <a:off x="2627280" y="5373720"/>
            <a:ext cx="1152720" cy="1150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https://image.freepik.com/free-vector/colorful-christmas-balls-on-white-surface-set-of-isolated-realistic-decorations-vector-illustration-christmas-baubles-with-snowflakes_1378-643.jpg"/>
          <p:cNvPicPr/>
          <p:nvPr/>
        </p:nvPicPr>
        <p:blipFill>
          <a:blip r:embed="rId11"/>
          <a:srcRect l="0" t="-18810" r="0" b="0"/>
          <a:stretch/>
        </p:blipFill>
        <p:spPr>
          <a:xfrm>
            <a:off x="3995640" y="4797360"/>
            <a:ext cx="1152720" cy="1436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https://ds03.infourok.ru/uploads/ex/013d/00061bbc-3fb242d2/img2.jpg"/>
          <p:cNvPicPr/>
          <p:nvPr/>
        </p:nvPicPr>
        <p:blipFill>
          <a:blip r:embed="rId12"/>
          <a:stretch/>
        </p:blipFill>
        <p:spPr>
          <a:xfrm>
            <a:off x="5435640" y="4149720"/>
            <a:ext cx="1297080" cy="9716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3"/>
          <p:cNvSpPr/>
          <p:nvPr/>
        </p:nvSpPr>
        <p:spPr>
          <a:xfrm>
            <a:off x="179280" y="189000"/>
            <a:ext cx="3097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, что ты видишь на картинке? (елоч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что на елочке висят? ( игрушки) А  какие игрушки, назов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колько здесь шариков?  (мног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неговиков? (один).А какого цвета ша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https://frm-wows-ru.wgcdn.co/wows_forum_ru/monthly_2017_12/ded.gif.2507f620ad79fbd28f90af95b63e10e6.gif"/>
          <p:cNvPicPr/>
          <p:nvPr/>
        </p:nvPicPr>
        <p:blipFill>
          <a:blip r:embed="rId1"/>
          <a:stretch/>
        </p:blipFill>
        <p:spPr>
          <a:xfrm>
            <a:off x="5651640" y="3916440"/>
            <a:ext cx="2016000" cy="2943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s://sunveter.ru/uploads/posts/2015-11/1447655877_snegurochka1.gif"/>
          <p:cNvPicPr/>
          <p:nvPr/>
        </p:nvPicPr>
        <p:blipFill>
          <a:blip r:embed="rId2"/>
          <a:stretch/>
        </p:blipFill>
        <p:spPr>
          <a:xfrm>
            <a:off x="250920" y="3500280"/>
            <a:ext cx="1562040" cy="234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https://novogodnyaya-igrushka.ru/image/catalog/banners/333.png"/>
          <p:cNvPicPr/>
          <p:nvPr/>
        </p:nvPicPr>
        <p:blipFill>
          <a:blip r:embed="rId3"/>
          <a:stretch/>
        </p:blipFill>
        <p:spPr>
          <a:xfrm>
            <a:off x="324000" y="2492280"/>
            <a:ext cx="863280" cy="1011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https://cdn.clipart.email/76daf4a4eac03b641677f0a9a5d4739a_transparent-christmas-snowman-clipart-hd-png-download-_860-1469.png"/>
          <p:cNvPicPr/>
          <p:nvPr/>
        </p:nvPicPr>
        <p:blipFill>
          <a:blip r:embed="rId4"/>
          <a:stretch/>
        </p:blipFill>
        <p:spPr>
          <a:xfrm>
            <a:off x="7812000" y="4851360"/>
            <a:ext cx="1176480" cy="20066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250920" y="62064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теперь приготовься к разминк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https://otvet.imgsmail.ru/download/3528acc5496b96dc3cbf43a6052e6521_i-16672.gif"/>
          <p:cNvPicPr/>
          <p:nvPr/>
        </p:nvPicPr>
        <p:blipFill>
          <a:blip r:embed="rId5"/>
          <a:stretch/>
        </p:blipFill>
        <p:spPr>
          <a:xfrm>
            <a:off x="-612720" y="4365720"/>
            <a:ext cx="6124680" cy="30621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324000" y="148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07:07:35Z</dcterms:created>
  <dc:creator>user</dc:creator>
  <dc:description/>
  <dc:language>en-US</dc:language>
  <cp:lastModifiedBy>Дом</cp:lastModifiedBy>
  <dcterms:modified xsi:type="dcterms:W3CDTF">2023-12-14T08:38:22Z</dcterms:modified>
  <cp:revision>36</cp:revision>
  <dc:subject/>
  <dc:title>Фотоальбом</dc:title>
</cp:coreProperties>
</file>