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4F4-454E-4279-9FCF-1DDD0521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E73-5695-4265-9B0B-39AE77C6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54E-9B5C-490E-A5DB-7DD4376E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B55-600B-427E-92AF-E7DE545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B75B-E248-48AC-82EB-6956A95A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0074-C269-4CD6-B5FA-F9ABC81C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11C-8C0A-4E1C-B4B8-41711690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AD8B-0535-43E9-92D9-00CFFFF8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68C7-4C4B-4487-B399-7573568A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06DA-9EE7-4CA1-AA56-442A7AB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ED62-7846-47AE-B21D-38B08CC8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799-7FB2-414D-B943-FFC92556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E774-2105-4AC3-ACE8-F4D1B97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132-746A-4415-B330-C4253ABE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EF8F-A431-4A7A-BDFA-5E1AB97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7B26-D6BE-4F08-9A76-8B8A3FEA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86B-C6CD-4D24-9B10-AA90476E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C76-D3D1-4CB7-A45C-6F97396B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451-A12B-4740-9965-CD84E1EB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E8F-FE97-46D1-97DF-18F5E5B0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352-79F9-4702-818A-3E8E0C27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483-84E8-451F-9E04-0C53E965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7A5-1851-4352-BEAC-6C59E29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2D6-848A-49AF-8278-6CEF4CC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A77-62D8-45FC-87A2-464D00BE588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E0E0-73E5-4234-B75A-8CAFF7EAF4C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623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Отрицательные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естоимения</a:t>
            </a:r>
            <a:br>
              <a:rPr sz="5000"/>
            </a:br>
            <a:br>
              <a:rPr sz="50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6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класс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5790960"/>
            <a:ext cx="65534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Сравните написание отрицательных местоимений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с предлогом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и</a:t>
            </a:r>
            <a:r>
              <a:rPr b="1" lang="en-US" sz="3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Garamond"/>
              </a:rPr>
              <a:t>без него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ушать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е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 делает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м не убед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вета 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ь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м не уважи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      чём не тужи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и        чём не винов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винять не       ч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447920"/>
            <a:ext cx="914400" cy="76176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438280"/>
            <a:ext cx="990720" cy="76212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3886200"/>
            <a:ext cx="1143000" cy="838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лиц-опро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акие местоимения называются отрицательны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т каких местоимений образуются отрицательные местоим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помощью каких приставок образуются отрицательные местоим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каком случае в отрицательных местоимениях пишется приставка НЕ-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 каком случае местоимения с НЕ и НИ пишутся раздель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Работа с текстом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Про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Жило-было Нич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е умело ниче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е хотело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Взад-вперёд оно хо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И ни с кем не говори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Никого не замеч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Лучше всех себя счит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А про это Ни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И сказать-то НЕ-ЧЕ-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(И. Михайлова</a:t>
            </a:r>
            <a:r>
              <a:rPr b="0" lang="en-US" sz="2000" spc="-1" strike="noStrike">
                <a:solidFill>
                  <a:srgbClr val="3b812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720" y="83808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 смысл шуточного стихотворения И.Михайл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имения какого разряда играют в нём ключевую рол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дите формы одного и того же местои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орфограммы отрицательных местоимений можно повторить на материале стихо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а синтаксическая роль Ничего в 1-ом предлож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приставка используется в отрицательных местоимениях при отрицательных сказуемы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8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7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7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3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7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7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3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7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3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7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Творческий диктант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прашива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мневалс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здав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советова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догад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считы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ропи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радовал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стречаться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ушать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говаривать бы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0" y="9140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, 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ё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, 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ё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е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и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еч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ем, не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7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7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7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7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7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7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3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3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7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7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3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7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9000"/>
                            </p:stCondLst>
                            <p:childTnLst>
                              <p:par>
                                <p:cTn id="5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7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20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7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3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Запишите предложения, обозначьте изученные орфограмм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 решил до самого города (не, ни) (за) что (не) покидать своего поста. Весь вид отца говорил: (не, ни) чего (не) произошло, (не, ни) (о) чём (не) надо спрашивать, а надо сидеть на своём месте как (не, ни) (в) чём (не) бывало и ехать. (Не, ни) (о) каком знакомстве (не, ни) чего было и думать. (Не, ни) кто ему на это (не, ни) чего (не) ответил. В поисках слов нельзя (пре, при) небрегать (не, ни) чем. Я (не) буду спорить (не, ни) (с) кем из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Взаимопроверка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тя решил до самого город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 н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идать своего поста.  Весь вид отца говорил: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ошло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м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о спрашивать, а надо сидеть на своём месте как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м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вало и ехать.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м знакомстве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 было и думать.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ему на это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го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ил.  В поисках слов нельзя пр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регать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. Я  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ду сп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ем из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50"/>
                            </p:stCondLst>
                            <p:childTnLst>
                              <p:par>
                                <p:cTn id="5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69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Тестовое задание</a:t>
            </a:r>
            <a:br>
              <a:rPr sz="2100"/>
            </a:br>
            <a:r>
              <a:rPr b="1" i="1" lang="en-US" sz="2100" spc="-1" strike="noStrike">
                <a:solidFill>
                  <a:srgbClr val="006633"/>
                </a:solidFill>
                <a:latin typeface="Garamond"/>
              </a:rPr>
              <a:t>1. В этих предложениях есть отрицательные местоимения: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Я не хочу печалить вас ни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Некое беспокойство сквозило в её глазах, движениях, похо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ошёл поп по баз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мотреть кой-какого тов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Толком никто ничего не з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2670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Вообрази, я здесь одн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икто меня не поним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Знает ли вас кто-нибудь в доме Троекуров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Только звёзды в чей-то час свидан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удут так же лить свой тихий с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Какие-то носятся зву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 льнут к моему изголо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2. В этих предложениях приставка </a:t>
            </a:r>
            <a:br>
              <a:rPr sz="2400"/>
            </a:b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с местоимением пишется раздельно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Синцов долго не мог ни(у) кого узнать, когда же пойдёт поезд на Минс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Я старался казаться весёлым и равнодушным, дабы не подать (ни)какого подозр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Пусть смерть мне суждена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е (не)чего жале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До сеанса связи с космической станцией осталось (не)сколько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95320" y="1219320"/>
            <a:ext cx="4419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Ответа нет и нет… Ну что ж, бывают горькие урок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огда ни(по)какой дорог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до сердца милой не дойт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Что(то) слышится родно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 долгих песнях ямщи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Не(с)кого спрашивать, когда сам винова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Не видать (ни)чьих след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круг того пустого мес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. В этих предложениях местоимение надо писать с приставкой НИ-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 Жестковат её бровей излом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о глаза н_сколько не сердит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. Н_сколько пуль провизжало над моей голово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. Не презирай совета н_чьего, но прежде выслушай ег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. И мнится, в том уединенье сокрылся н_кто неземно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В сердце его отозвалось н_что похожее на угрызение совести и снова умолк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_кто не знал, откуда он свалился к нам в уез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К тебе н_какие нейдут поез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и в ранний, ни в поздний ча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Наконец оба приятеля вошли в дверь боком и н_сколько притиснули друг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4. </a:t>
            </a: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В этих предложениях местоимение </a:t>
            </a:r>
            <a:br>
              <a:rPr sz="2400"/>
            </a:b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надо писать с НЕ-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42670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то привык браниться, тому н_  с кем не у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то поздно приходит, тот н_чего не на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то оторвался от друзей и товарищей, тому н_  на кого рассчитывать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_  в  чём так свободно не проявляется народный характер, как в песне и в пля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Глуп совсем, кто не знается н_  с  ч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кучен день до вечера, коли делать н_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Родную мать н_кем не замен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дни только грачи н_  на  что не обращали внимания, долбили своими толстыми клювами чёрствую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Синтаксическая пятиминутк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йте схемы предлож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В конце весны выпадали совсем жаркие дни какие бывают только ле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996600"/>
                </a:solidFill>
                <a:latin typeface="Arial"/>
              </a:rPr>
              <a:t>Сколько времени прошло я не зна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Проверка тестового зада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–   1,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–   1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–   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–  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–    1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–    2,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–    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52388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514600"/>
            <a:ext cx="121932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50532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4495680"/>
            <a:ext cx="1219320" cy="6858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600200"/>
            <a:ext cx="114300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2514600"/>
            <a:ext cx="1143000" cy="60948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3581280"/>
            <a:ext cx="1066680" cy="60984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495680"/>
            <a:ext cx="1066680" cy="60984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8000"/>
                            </p:stCondLst>
                            <p:childTnLst>
                              <p:par>
                                <p:cTn id="80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Игра «Третий лишний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3886200"/>
            <a:ext cx="3505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28600" y="419112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914400"/>
            <a:ext cx="380988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Е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И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ЕЧ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380988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НИК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отрица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914400"/>
            <a:ext cx="381024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МЕ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О СЕ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ТОБ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914400"/>
            <a:ext cx="3810240" cy="28195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О СЕБЕ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- ВОЗВРА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3886200"/>
            <a:ext cx="5410080" cy="27432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НЕСКОЛЬ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КОЛЬ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КОЛЬКО-НИБУ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886200"/>
            <a:ext cx="5410080" cy="274320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СКОЛЬКО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6633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ОТНОСИТЕ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Сравните предложения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В некотором царств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в некотором государстве жил нек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Ни в каком царстве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ff6600"/>
                </a:solidFill>
                <a:latin typeface="Arial"/>
              </a:rPr>
              <a:t>ни в каком государстве никто не жи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В каком из этих</a:t>
            </a:r>
            <a:r>
              <a:rPr b="1" i="1" lang="en-US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предложений наличие жильца утверждается, а в каком отрицает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Во втором предложении найдите местоимение, отрицающее наличие жиль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00"/>
                </a:solidFill>
                <a:latin typeface="Arial"/>
              </a:rPr>
              <a:t>Дайте определение отрицательных местоим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86800" y="203040"/>
            <a:ext cx="763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0592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Местоимения, выражающие </a:t>
            </a:r>
            <a:r>
              <a:rPr b="1" i="1" lang="en-US" sz="4400" spc="-1" strike="noStrike">
                <a:solidFill>
                  <a:srgbClr val="006633"/>
                </a:solidFill>
                <a:latin typeface="Arial"/>
              </a:rPr>
              <a:t>отсутствие чего-либо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называютс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br>
              <a:rPr sz="30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ИЦАТЕЛЬНЫ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83059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трицательные местоимения</a:t>
            </a:r>
            <a:br>
              <a:rPr sz="3400"/>
            </a:br>
            <a:br>
              <a:rPr sz="34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Зна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образуются отрицательные местоимения, как изменяются</a:t>
            </a:r>
            <a:br>
              <a:rPr sz="3200"/>
            </a:br>
            <a:br>
              <a:rPr sz="2400"/>
            </a:b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Уме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ьно писать отрицательные местоимения с предло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33"/>
                </a:solidFill>
                <a:latin typeface="Garamond"/>
              </a:rPr>
              <a:t>Склонение отрицательных местоимений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И.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Р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Д.п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 НИКО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В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Т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К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П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 О 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И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Р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Д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М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В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Т.п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НИЧ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</a:rPr>
              <a:t>П.п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И О Ч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Образование </a:t>
            </a:r>
            <a:br>
              <a:rPr sz="3400"/>
            </a:b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отрицательных местоимений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551800" cy="4495680"/>
        </p:xfrm>
        <a:graphic>
          <a:graphicData uri="http://schemas.openxmlformats.org/drawingml/2006/table">
            <a:tbl>
              <a:tblPr/>
              <a:tblGrid>
                <a:gridCol w="2209680"/>
                <a:gridCol w="2075040"/>
                <a:gridCol w="2209680"/>
                <a:gridCol w="20574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вопрос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тнос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неопределё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отриц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Ч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Скольк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ако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то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Который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Выпишите из предложений словосочетания с отрицательными местоимениями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устые речи и слушать неч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удо тому, кто не делает добра ник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прямого ничем не убеди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резирай совета ничьего, а прежде выслушай ег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Худого человека ничем не уважиш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у работа служит, тот ни о чём не тужи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b812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то ни в чём не виноват, того и обвинять не в ч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09-04-10T16:31:4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