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074-3E73-4C8D-8662-5A3FF1C1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EF6-96D7-438F-BC04-82D855DC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747-4309-4A4D-AF6E-614A742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1A2-ED1B-431A-B3C7-B8838CBA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2EF8-93EE-4413-B5BE-D897007D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F963-720F-44F3-9DA6-6DEA3B81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245-94D2-4C4E-88C9-F494744B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8097-6F4B-4ED6-B170-E7404D71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2203-827D-4EE1-A6D2-AA8A650D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E2AC-4F8D-46A8-BF8F-3E701EC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76D-2EE1-4960-8062-AFB0614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C7F-CC2C-44C3-AFBD-9A9E483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0380-0CD8-4F60-87C2-997EA8A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7B1E-7288-4CB9-BE59-9E94E43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3925-6109-4541-883F-47E097E9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62FA-02B1-4D8B-B5D4-FAC23483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09DD-34FE-4EFF-B4E5-7717BA25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BCE-C55F-46E1-9647-C160582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F4F-7B53-45C9-9CA2-9203222C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D6E-05E1-4B63-BD35-AE1A0EBF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A8E-B8C5-4397-B1CF-01BD8640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C9B-7D5B-49B7-B838-62761EC0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DA0-129B-4CB7-910D-1A87F010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FBF-4DA4-40B2-9823-0802E75C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503-E056-4383-A3F4-5E46C6EE21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7DE-39A8-4969-B28B-5AE26A2F11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623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Отрицательные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местоимения</a:t>
            </a:r>
            <a:br>
              <a:rPr sz="5000"/>
            </a:br>
            <a:br>
              <a:rPr sz="50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6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класс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5790960"/>
            <a:ext cx="655344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Сравните написание отрицательных местоимений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Garamond"/>
              </a:rPr>
              <a:t>с предлогом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и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Garamond"/>
              </a:rPr>
              <a:t>без него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ушать 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 делает 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м не убед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вета 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ь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м не уваж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      чём не туж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        чём не винов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винять не       ч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447920"/>
            <a:ext cx="914400" cy="76176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243828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3886200"/>
            <a:ext cx="1143000" cy="838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лиц-опро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кие местоимения называются отрицательны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т каких местоимений образуются отрицательные местоим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помощью каких приставок образуются отрицательные местоим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каком случае в отрицательных местоимениях пишется приставка НЕ-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каком случае местоимения с НЕ и НИ пишутся раздель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Работа с текстом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Про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Жило-было Нич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Не умело нич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Не хотело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Взад-вперёд оно х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И ни с кем не говор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Никого не замеч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Лучше всех себя счит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А про это Ни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И сказать-то НЕ-ЧЕ-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И. Михайлова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9720" y="83808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 смысл шуточного стихотворения И.Михайл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стоимения какого разряда играют в нём ключевую ро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йдите формы одного и того же местои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е орфограммы отрицательных местоимений можно повторить на материале стихо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а синтаксическая роль Ничего в 1-ом предлож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ая приставка используется в отрицательных местоимениях при отрицательных сказуемы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7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7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7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7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3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7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7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Творческий диктант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прашива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омневал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оздав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оветова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догадал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считы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ропи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радовал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стречаться бы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ушать бы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говаривать бы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0" y="914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, ни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ё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, 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ё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е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е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м, 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7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7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7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3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7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7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7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3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7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3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7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3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7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9000"/>
                            </p:stCondLst>
                            <p:childTnLst>
                              <p:par>
                                <p:cTn id="5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7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3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7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3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Запишите предложения, обозначьте изученные орфограмм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я решил до самого города (не, ни) (за) что (не) покидать своего поста. Весь вид отца говорил: (не, ни) чего (не) произошло, (не, ни) (о) чём (не) надо спрашивать, а надо сидеть на своём месте как (не, ни) (в) чём (не) бывало и ехать. (Не, ни) (о) каком знакомстве (не, ни) чего было и думать. (Не, ни) кто ему на это (не, ни) чего (не) ответил. В поисках слов нельзя (пре, при) небрегать (не, ни) чем. Я (не) буду спорить (не, ни) (с) кем из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Взаимопроверк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я решил до самого город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 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идать своего поста.  Весь вид отца говорил: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го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ошло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ём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о спрашивать, а надо сидеть на своём месте как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ём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вало и ехать.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м знакомстве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го  было и думать.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ему на это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го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ил.  В поисках слов нельзя пр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регать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. Я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у сп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ем из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5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269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Тестовое задание</a:t>
            </a:r>
            <a:br>
              <a:rPr sz="2100"/>
            </a:br>
            <a:r>
              <a:rPr b="1" i="1" lang="en-US" sz="2100" spc="-1" strike="noStrike">
                <a:solidFill>
                  <a:srgbClr val="006633"/>
                </a:solidFill>
                <a:latin typeface="Garamond"/>
              </a:rPr>
              <a:t>1. В этих предложениях есть отрицательные местоимения: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Я не хочу печалить вас нич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Некое беспокойство сквозило в её глазах, движениях, похо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ошёл поп по баз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мотреть кой-какого тов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Толком никто ничего не з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2670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Вообрази, я здесь одн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икто меня не поним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Знает ли вас кто-нибудь в доме Троекуров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Только звёзды в чей-то час свидань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удут так же лить свой тихий с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Какие-то носятся зву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 льнут к моему изголо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2. В этих предложениях приставка </a:t>
            </a:r>
            <a:br>
              <a:rPr sz="2400"/>
            </a:b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с местоимением пишется раздельно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Синцов долго не мог ни(у) кого узнать, когда же пойдёт поезд на Минс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Я старался казаться весёлым и равнодушным, дабы не подать (ни)какого подоз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Пусть смерть мне суждена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е (не)чего жале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До сеанса связи с космической станцией осталось (не)сколько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95320" y="121932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Ответа нет и нет… Ну что ж, бывают горькие урок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огда ни(по)какой дорог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о сердца милой не дой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Что(то) слышится родно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 долгих песнях ямщи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Не(с)кого спрашивать, когда сам винова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Не видать (ни)чьих след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круг того пустого мес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3. В этих предложениях местоимение надо писать с приставкой НИ-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 Жестковат её бровей излом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о глаза н_сколько не сердит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 Н_сколько пуль провизжало над моей голово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 Не презирай совета н_чьего, но прежде выслушай ег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 И мнится, в том уединенье сокрылся н_кто неземно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В сердце его отозвалось н_что похожее на угрызение совести и снова умолк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_кто не знал, откуда он свалился к нам в уез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К тебе н_какие нейдут поез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 в ранний, ни в поздний ча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конец оба приятеля вошли в дверь боком и н_сколько притиснули друг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4. </a:t>
            </a: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В этих предложениях местоимение </a:t>
            </a:r>
            <a:br>
              <a:rPr sz="2400"/>
            </a:b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надо писать с НЕ-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то привык браниться, тому н_  с кем не у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то поздно приходит, тот н_чего не на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то оторвался от друзей и товарищей, тому н_  на кого рассчитывать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_  в  чём так свободно не проявляется народный характер, как в песне и в пля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Глуп совсем, кто не знается н_  с  ч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кучен день до вечера, коли делать н_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одную мать н_кем не замен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дни только грачи н_  на  что не обращали внимания, долбили своими толстыми клювами чёрствую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Синтаксическая пятиминутк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йте схемы предлож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000" spc="-1" strike="noStrike">
                <a:solidFill>
                  <a:srgbClr val="996600"/>
                </a:solidFill>
                <a:latin typeface="Arial"/>
              </a:rPr>
              <a:t>В конце весны выпадали совсем жаркие дни какие бывают только ле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i="1" lang="en-US" sz="3000" spc="-1" strike="noStrike">
                <a:solidFill>
                  <a:srgbClr val="996600"/>
                </a:solidFill>
                <a:latin typeface="Arial"/>
              </a:rPr>
              <a:t>Сколько времени прошло я не зна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Проверка тестового зада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–   1,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–  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–   1,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–    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–   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–    1,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–    2,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–   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523880"/>
            <a:ext cx="1219320" cy="6858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514600"/>
            <a:ext cx="1219320" cy="60948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505320"/>
            <a:ext cx="1219320" cy="6858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4495680"/>
            <a:ext cx="1219320" cy="6858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600200"/>
            <a:ext cx="1143000" cy="60948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2514600"/>
            <a:ext cx="1143000" cy="60948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3581280"/>
            <a:ext cx="1066680" cy="60984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4495680"/>
            <a:ext cx="1066680" cy="60984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8000"/>
                            </p:stCondLst>
                            <p:childTnLst>
                              <p:par>
                                <p:cTn id="8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Игра «Третий лишний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38862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600" y="419112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914400"/>
            <a:ext cx="380988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ЕК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ИК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ЕЧ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380988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ИК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отрица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914400"/>
            <a:ext cx="381024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МЕ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О СЕ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ТОБ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914400"/>
            <a:ext cx="381024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О СЕБЕ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- ВОЗВРА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886200"/>
            <a:ext cx="5410080" cy="27432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НЕСКОЛЬ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КОЛЬ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КОЛЬКО-НИБУ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886200"/>
            <a:ext cx="5410080" cy="27432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СКОЛЬКО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6633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ОТНОС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Сравните предложения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В некотором царств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в некотором государстве жил нек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Ни в каком царств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ни в каком государстве никто не жи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В каком из этих</a:t>
            </a:r>
            <a:r>
              <a:rPr b="1" i="1" lang="en-US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предложений наличие жильца утверждается, а в каком отрицает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Во втором предложении найдите местоимение, отрицающее наличие жиль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Дайте определение отрицательных местоим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86800" y="203040"/>
            <a:ext cx="763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30592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Местоимения, выражающие </a:t>
            </a:r>
            <a:r>
              <a:rPr b="1" i="1" lang="en-US" sz="4400" spc="-1" strike="noStrike">
                <a:solidFill>
                  <a:srgbClr val="006633"/>
                </a:solidFill>
                <a:latin typeface="Arial"/>
              </a:rPr>
              <a:t>отсутствие чего-либо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называютс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br>
              <a:rPr sz="30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РИЦАТЕЛЬНЫ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83059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ицательные местоимения</a:t>
            </a:r>
            <a:br>
              <a:rPr sz="3400"/>
            </a:br>
            <a:br>
              <a:rPr sz="34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Знат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образуются отрицательные местоимения, как изменяются</a:t>
            </a:r>
            <a:br>
              <a:rPr sz="3200"/>
            </a:br>
            <a:br>
              <a:rPr sz="24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Умет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ьно писать отрицательные местоимения с предло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33"/>
                </a:solidFill>
                <a:latin typeface="Garamond"/>
              </a:rPr>
              <a:t>Склонение отрицательных местоимений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И.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Р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К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Д.п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 НИК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В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К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Т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К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П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 О 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И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Р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Д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В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Т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П.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И О Ч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Образование 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отрицательных местоимений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551800" cy="4495680"/>
        </p:xfrm>
        <a:graphic>
          <a:graphicData uri="http://schemas.openxmlformats.org/drawingml/2006/table">
            <a:tbl>
              <a:tblPr/>
              <a:tblGrid>
                <a:gridCol w="2209680"/>
                <a:gridCol w="2075040"/>
                <a:gridCol w="2209680"/>
                <a:gridCol w="20574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вопрос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относ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неопределё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отриц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Чт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Скольк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Какой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Кт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Который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Выпишите из предложений словосочетания с отрицательными местоимениями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устые речи и слушать неч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удо тому, кто не делает добра ник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прямого ничем не убедиш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резирай совета ничьего, а прежде выслушай 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удого человека ничем не уважиш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у работа служит, тот ни о чём не туж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то ни в чём не виноват, того и обвинять не в ч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04-10T16:31:4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