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AD2-DA4E-4A97-8D4D-8711CE82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426-D743-4A67-99D6-480463E6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7B58-317A-4E12-A5D4-4AB98B28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AE3-4C1D-4988-B9C5-95F2C094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25AC-033D-41AD-A254-C46465DA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926E-5E9B-472F-83B2-3656DCBE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6B3-A5B1-49C3-BBA7-4B33157D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EDC-46D2-417A-94BF-EE41E82C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8E8-4DF8-4552-AA03-6BDEEAB7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E8E-D34B-4550-ADBB-B1AE64AF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FFE-4CDF-4703-AFA6-DE55661A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7627-7E8B-497A-8B6B-8ADB5D7E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53B3-C38A-4D82-B3EF-A7C75FB7154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5292720" y="1773360"/>
            <a:ext cx="2448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9"/>
          <p:cNvSpPr/>
          <p:nvPr/>
        </p:nvSpPr>
        <p:spPr>
          <a:xfrm>
            <a:off x="1571760" y="5929200"/>
            <a:ext cx="6143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1187280" y="2133720"/>
            <a:ext cx="74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ближенное значение. Округление чисе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1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8"/>
          <p:cNvSpPr/>
          <p:nvPr/>
        </p:nvSpPr>
        <p:spPr>
          <a:xfrm>
            <a:off x="1143000" y="178596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2120" y="1362240"/>
          <a:ext cx="9144000" cy="10429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0429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Между какими соседними натуральными числами лежат дроби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3225240" y="2363760"/>
            <a:ext cx="18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  6,78   &l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3113280" y="312732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  83,84    &l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3256200" y="37972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  126,2    &l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1162800" y="499572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 какому из чисел ближе каждое чис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2704320" y="2355840"/>
            <a:ext cx="5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4982760" y="2370240"/>
            <a:ext cx="5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2374920" y="312120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5076360" y="3102120"/>
            <a:ext cx="68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2463120" y="3716280"/>
            <a:ext cx="86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2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5384880" y="380988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2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5"/>
          <p:cNvSpPr/>
          <p:nvPr/>
        </p:nvSpPr>
        <p:spPr>
          <a:xfrm>
            <a:off x="4976640" y="2800440"/>
            <a:ext cx="444600" cy="0"/>
          </a:xfrm>
          <a:prstGeom prst="line">
            <a:avLst/>
          </a:prstGeom>
          <a:ln w="572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7"/>
          <p:cNvSpPr/>
          <p:nvPr/>
        </p:nvSpPr>
        <p:spPr>
          <a:xfrm>
            <a:off x="5170320" y="3613320"/>
            <a:ext cx="444600" cy="0"/>
          </a:xfrm>
          <a:prstGeom prst="line">
            <a:avLst/>
          </a:prstGeom>
          <a:ln w="572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8"/>
          <p:cNvSpPr/>
          <p:nvPr/>
        </p:nvSpPr>
        <p:spPr>
          <a:xfrm>
            <a:off x="2589120" y="4259160"/>
            <a:ext cx="444600" cy="0"/>
          </a:xfrm>
          <a:prstGeom prst="line">
            <a:avLst/>
          </a:prstGeom>
          <a:ln w="572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03200" y="117792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ис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,78 ≈ 7;   83,84 ≈ 84;   126,2 ≈ 1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362480" y="1222200"/>
          <a:ext cx="4619520" cy="457200"/>
        </p:xfrm>
        <a:graphic>
          <a:graphicData uri="http://schemas.openxmlformats.org/drawingml/2006/table">
            <a:tbl>
              <a:tblPr/>
              <a:tblGrid>
                <a:gridCol w="4619520"/>
              </a:tblGrid>
              <a:tr h="45720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кругление до целы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2" name="TextBox 5"/>
          <p:cNvSpPr/>
          <p:nvPr/>
        </p:nvSpPr>
        <p:spPr>
          <a:xfrm>
            <a:off x="353880" y="2300400"/>
            <a:ext cx="843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руглить,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начит заменить ближайшим к нему чис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2627280" y="6237360"/>
            <a:ext cx="4105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95280" y="3429000"/>
          <a:ext cx="8229600" cy="5223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236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К какому числу ближе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19040" y="4211640"/>
          <a:ext cx="8229600" cy="14922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49220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      ……            2,7;                    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4     ……          1,35;                 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,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       ……            5,7;                 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,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6" name="Прямая соединительная линия 16"/>
          <p:cNvSpPr/>
          <p:nvPr/>
        </p:nvSpPr>
        <p:spPr>
          <a:xfrm>
            <a:off x="2173320" y="12061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8360" y="5805360"/>
          <a:ext cx="8218440" cy="750960"/>
        </p:xfrm>
        <a:graphic>
          <a:graphicData uri="http://schemas.openxmlformats.org/drawingml/2006/table">
            <a:tbl>
              <a:tblPr/>
              <a:tblGrid>
                <a:gridCol w="8218440"/>
              </a:tblGrid>
              <a:tr h="75096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 ≈ 2,7;  1,342 ≈ 1,34;   5,65 ≈  5,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newsflash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830680" y="4762440"/>
            <a:ext cx="539640" cy="927000"/>
          </a:xfrm>
          <a:prstGeom prst="rect">
            <a:avLst/>
          </a:prstGeom>
          <a:solidFill>
            <a:srgbClr val="00ffcc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297160" y="2254320"/>
            <a:ext cx="358560" cy="914400"/>
          </a:xfrm>
          <a:prstGeom prst="rect">
            <a:avLst/>
          </a:prstGeom>
          <a:solidFill>
            <a:srgbClr val="00ffcc"/>
          </a:solidFill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60160" y="1895400"/>
            <a:ext cx="59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23,148070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5"/>
          <p:cNvSpPr/>
          <p:nvPr/>
        </p:nvSpPr>
        <p:spPr>
          <a:xfrm>
            <a:off x="1181160" y="1590840"/>
            <a:ext cx="723960" cy="803160"/>
          </a:xfrm>
          <a:custGeom>
            <a:avLst/>
            <a:gdLst>
              <a:gd name="textAreaLeft" fmla="*/ 0 w 723960"/>
              <a:gd name="textAreaRight" fmla="*/ 723960 w 72396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637" h="241">
                <a:moveTo>
                  <a:pt x="0" y="0"/>
                </a:moveTo>
                <a:lnTo>
                  <a:pt x="637" y="13"/>
                </a:lnTo>
                <a:lnTo>
                  <a:pt x="637" y="241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667560" y="165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6397560" y="1968480"/>
            <a:ext cx="21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Arial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800360" y="439272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9,56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"/>
          <p:cNvSpPr/>
          <p:nvPr/>
        </p:nvSpPr>
        <p:spPr>
          <a:xfrm>
            <a:off x="1811160" y="4257720"/>
            <a:ext cx="792360" cy="696960"/>
          </a:xfrm>
          <a:custGeom>
            <a:avLst/>
            <a:gdLst>
              <a:gd name="textAreaLeft" fmla="*/ 0 w 792360"/>
              <a:gd name="textAreaRight" fmla="*/ 792720 w 79236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610" h="178">
                <a:moveTo>
                  <a:pt x="0" y="0"/>
                </a:moveTo>
                <a:lnTo>
                  <a:pt x="601" y="4"/>
                </a:lnTo>
                <a:lnTo>
                  <a:pt x="610" y="178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719600" y="4502160"/>
            <a:ext cx="21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501840" y="-104760"/>
            <a:ext cx="620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  <a:ea typeface="Arial"/>
              </a:rPr>
              <a:t>До единиц</a:t>
            </a:r>
            <a:r>
              <a:rPr b="1" lang="en-US" sz="9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4"/>
          <p:cNvSpPr/>
          <p:nvPr/>
        </p:nvSpPr>
        <p:spPr>
          <a:xfrm>
            <a:off x="1650960" y="38862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  <a:effectLst>
            <a:outerShdw dist="144956" dir="19329748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2511360" y="4849920"/>
            <a:ext cx="432000" cy="914400"/>
          </a:xfrm>
          <a:prstGeom prst="rect">
            <a:avLst/>
          </a:prstGeom>
          <a:solidFill>
            <a:srgbClr val="00ffcc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471760" y="2684520"/>
            <a:ext cx="466560" cy="987480"/>
          </a:xfrm>
          <a:prstGeom prst="rect">
            <a:avLst/>
          </a:prstGeom>
          <a:solidFill>
            <a:srgbClr val="00ffcc"/>
          </a:solidFill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765000" y="2360520"/>
            <a:ext cx="414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0,8510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6"/>
          <p:cNvSpPr/>
          <p:nvPr/>
        </p:nvSpPr>
        <p:spPr>
          <a:xfrm>
            <a:off x="1366920" y="2095560"/>
            <a:ext cx="1011240" cy="68400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637" h="241">
                <a:moveTo>
                  <a:pt x="0" y="0"/>
                </a:moveTo>
                <a:lnTo>
                  <a:pt x="637" y="13"/>
                </a:lnTo>
                <a:lnTo>
                  <a:pt x="637" y="241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6010200" y="3027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968000" y="2336760"/>
            <a:ext cx="267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0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826920" y="4500720"/>
            <a:ext cx="414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9,2357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0"/>
          <p:cNvSpPr/>
          <p:nvPr/>
        </p:nvSpPr>
        <p:spPr>
          <a:xfrm>
            <a:off x="1441440" y="4379760"/>
            <a:ext cx="968400" cy="738360"/>
          </a:xfrm>
          <a:custGeom>
            <a:avLst/>
            <a:gdLst>
              <a:gd name="textAreaLeft" fmla="*/ 0 w 968400"/>
              <a:gd name="textAreaRight" fmla="*/ 968760 w 96840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610" h="178">
                <a:moveTo>
                  <a:pt x="0" y="0"/>
                </a:moveTo>
                <a:lnTo>
                  <a:pt x="601" y="4"/>
                </a:lnTo>
                <a:lnTo>
                  <a:pt x="610" y="178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4985280" y="4467240"/>
            <a:ext cx="267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9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196200" y="104760"/>
            <a:ext cx="657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  <a:ea typeface="Arial"/>
              </a:rPr>
              <a:t>До десятых</a:t>
            </a:r>
            <a:r>
              <a:rPr b="1" lang="en-US" sz="4000" spc="-1" strike="noStrike">
                <a:solidFill>
                  <a:srgbClr val="00cc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6"/>
          <p:cNvSpPr/>
          <p:nvPr/>
        </p:nvSpPr>
        <p:spPr>
          <a:xfrm>
            <a:off x="1574640" y="18414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  <a:effectLst>
            <a:outerShdw dist="144956" dir="19329748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8399880" y="284040"/>
            <a:ext cx="575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468360" y="1773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ю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9280" y="2781360"/>
          <a:ext cx="9288720" cy="2935080"/>
        </p:xfrm>
        <a:graphic>
          <a:graphicData uri="http://schemas.openxmlformats.org/drawingml/2006/table">
            <a:tbl>
              <a:tblPr/>
              <a:tblGrid>
                <a:gridCol w="9288720"/>
              </a:tblGrid>
              <a:tr h="29350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Если за ней стоит 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,2,3,4</a:t>
                      </a: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, то цифру в разряде 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</a:t>
                      </a: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меняю,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если      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; 6; 7; 8; 9</a:t>
                      </a: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,  то цифру в разряде  увеличиваю  на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2T11:16:49Z</dcterms:created>
  <dc:creator>Igor</dc:creator>
  <dc:description/>
  <dc:language>en-US</dc:language>
  <cp:lastModifiedBy>1</cp:lastModifiedBy>
  <dcterms:modified xsi:type="dcterms:W3CDTF">2017-03-14T10:40:46Z</dcterms:modified>
  <cp:revision>384</cp:revision>
  <dc:subject/>
  <dc:title>Слайд 1</dc:title>
</cp:coreProperties>
</file>