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586-1918-4165-8993-58A9CED2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E68-5C60-46CD-96F4-3B7FA383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B0C-2911-4648-851F-90B5097C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0BC-DE94-4D28-A369-0AAEB585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795-8396-4CE8-91A9-692AE98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ABA-698A-4CEC-B674-AE22E55D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1F1-4703-4DB8-93CA-04A117A1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451-7280-4218-BDD9-FFB589F3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E46-27B7-4CAA-A170-C1E95302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457-E0C5-48ED-B7B9-B69B1183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E4F-CE01-454D-9BEB-F2CDF135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C77-8D3D-4F8B-AC2B-65D822D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6EB-4FBD-4CA4-A522-AFF10B0C0F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292720" y="1773360"/>
            <a:ext cx="244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1571760" y="5929200"/>
            <a:ext cx="6143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187280" y="21337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ближенное значение. Округление чисе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1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1143000" y="178596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2120" y="1362240"/>
          <a:ext cx="9144000" cy="1042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0429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Между какими соседними натуральными числами лежат дроби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3225240" y="2363760"/>
            <a:ext cx="18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6,78   &l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113280" y="312732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83,84    &l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3256200" y="3797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 126,2    &l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162800" y="499572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 какому из чисел ближе каждое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2704320" y="235584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4982760" y="2370240"/>
            <a:ext cx="5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374920" y="3121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076360" y="3102120"/>
            <a:ext cx="6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2463120" y="3716280"/>
            <a:ext cx="8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2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5384880" y="380988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2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5"/>
          <p:cNvSpPr/>
          <p:nvPr/>
        </p:nvSpPr>
        <p:spPr>
          <a:xfrm>
            <a:off x="4976640" y="2800440"/>
            <a:ext cx="44460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>
            <a:off x="5170320" y="3613320"/>
            <a:ext cx="44460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8"/>
          <p:cNvSpPr/>
          <p:nvPr/>
        </p:nvSpPr>
        <p:spPr>
          <a:xfrm>
            <a:off x="2589120" y="4259160"/>
            <a:ext cx="44460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03200" y="117792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ис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,78 ≈ 7;   83,84 ≈ 84;   126,2 ≈ 1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362480" y="1222200"/>
          <a:ext cx="4619520" cy="457200"/>
        </p:xfrm>
        <a:graphic>
          <a:graphicData uri="http://schemas.openxmlformats.org/drawingml/2006/table">
            <a:tbl>
              <a:tblPr/>
              <a:tblGrid>
                <a:gridCol w="4619520"/>
              </a:tblGrid>
              <a:tr h="4572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кругление до целы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5"/>
          <p:cNvSpPr/>
          <p:nvPr/>
        </p:nvSpPr>
        <p:spPr>
          <a:xfrm>
            <a:off x="353880" y="230040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руглить,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ит заменить ближайшим к нему чис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627280" y="6237360"/>
            <a:ext cx="410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5280" y="3429000"/>
          <a:ext cx="8229600" cy="522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 какому числу ближе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19040" y="4211640"/>
          <a:ext cx="8229600" cy="14922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4922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      ……            2,7;   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4     ……          1,35;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3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       ……            5,7;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,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ая соединительная линия 16"/>
          <p:cNvSpPr/>
          <p:nvPr/>
        </p:nvSpPr>
        <p:spPr>
          <a:xfrm>
            <a:off x="2173320" y="12061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5805360"/>
          <a:ext cx="8218440" cy="75096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7509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 ≈ 2,7;  1,342 ≈ 1,34;   5,65 ≈  5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830680" y="4762440"/>
            <a:ext cx="539640" cy="9270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297160" y="2254320"/>
            <a:ext cx="358560" cy="914400"/>
          </a:xfrm>
          <a:prstGeom prst="rect">
            <a:avLst/>
          </a:prstGeom>
          <a:solidFill>
            <a:srgbClr val="00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60160" y="189540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23,148070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5"/>
          <p:cNvSpPr/>
          <p:nvPr/>
        </p:nvSpPr>
        <p:spPr>
          <a:xfrm>
            <a:off x="1181160" y="1590840"/>
            <a:ext cx="723960" cy="803160"/>
          </a:xfrm>
          <a:custGeom>
            <a:avLst/>
            <a:gdLst>
              <a:gd name="textAreaLeft" fmla="*/ 0 w 723960"/>
              <a:gd name="textAreaRight" fmla="*/ 723960 w 72396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637" h="241">
                <a:moveTo>
                  <a:pt x="0" y="0"/>
                </a:moveTo>
                <a:lnTo>
                  <a:pt x="637" y="13"/>
                </a:lnTo>
                <a:lnTo>
                  <a:pt x="637" y="24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66756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397560" y="1968480"/>
            <a:ext cx="21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Arial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800360" y="43927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9,56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"/>
          <p:cNvSpPr/>
          <p:nvPr/>
        </p:nvSpPr>
        <p:spPr>
          <a:xfrm>
            <a:off x="1811160" y="4257720"/>
            <a:ext cx="792360" cy="696960"/>
          </a:xfrm>
          <a:custGeom>
            <a:avLst/>
            <a:gdLst>
              <a:gd name="textAreaLeft" fmla="*/ 0 w 792360"/>
              <a:gd name="textAreaRight" fmla="*/ 792720 w 7923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719600" y="4502160"/>
            <a:ext cx="21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Arial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01840" y="-104760"/>
            <a:ext cx="62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Arial"/>
              </a:rPr>
              <a:t>До единиц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1650960" y="3886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44956" dir="1932974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511360" y="4849920"/>
            <a:ext cx="432000" cy="914400"/>
          </a:xfrm>
          <a:prstGeom prst="rect">
            <a:avLst/>
          </a:prstGeom>
          <a:solidFill>
            <a:srgbClr val="00ffcc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71760" y="2684520"/>
            <a:ext cx="466560" cy="987480"/>
          </a:xfrm>
          <a:prstGeom prst="rect">
            <a:avLst/>
          </a:prstGeom>
          <a:solidFill>
            <a:srgbClr val="00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765000" y="236052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0,8510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"/>
          <p:cNvSpPr/>
          <p:nvPr/>
        </p:nvSpPr>
        <p:spPr>
          <a:xfrm>
            <a:off x="1366920" y="2095560"/>
            <a:ext cx="1011240" cy="6840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637" h="241">
                <a:moveTo>
                  <a:pt x="0" y="0"/>
                </a:moveTo>
                <a:lnTo>
                  <a:pt x="637" y="13"/>
                </a:lnTo>
                <a:lnTo>
                  <a:pt x="637" y="24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010200" y="3027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968000" y="2336760"/>
            <a:ext cx="267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0,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826920" y="450072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9,2357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"/>
          <p:cNvSpPr/>
          <p:nvPr/>
        </p:nvSpPr>
        <p:spPr>
          <a:xfrm>
            <a:off x="1441440" y="4379760"/>
            <a:ext cx="968400" cy="738360"/>
          </a:xfrm>
          <a:custGeom>
            <a:avLst/>
            <a:gdLst>
              <a:gd name="textAreaLeft" fmla="*/ 0 w 968400"/>
              <a:gd name="textAreaRight" fmla="*/ 968760 w 96840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610" h="178">
                <a:moveTo>
                  <a:pt x="0" y="0"/>
                </a:moveTo>
                <a:lnTo>
                  <a:pt x="601" y="4"/>
                </a:lnTo>
                <a:lnTo>
                  <a:pt x="610" y="178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985280" y="4467240"/>
            <a:ext cx="267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9,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196200" y="104760"/>
            <a:ext cx="657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Times New Roman"/>
                <a:ea typeface="Arial"/>
              </a:rPr>
              <a:t>До десятых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1574640" y="18414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  <a:effectLst>
            <a:outerShdw dist="144956" dir="19329748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+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8399880" y="284040"/>
            <a:ext cx="575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468360" y="17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2781360"/>
          <a:ext cx="9288720" cy="2935080"/>
        </p:xfrm>
        <a:graphic>
          <a:graphicData uri="http://schemas.openxmlformats.org/drawingml/2006/table">
            <a:tbl>
              <a:tblPr/>
              <a:tblGrid>
                <a:gridCol w="9288720"/>
              </a:tblGrid>
              <a:tr h="29350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Если за ней стоит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2,3,4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, то цифру в разряде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меняю,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если       </a:t>
                      </a: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; 6; 7; 8; 9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,  то цифру в разряде  увеличиваю  на 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335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1:16:49Z</dcterms:created>
  <dc:creator>Igor</dc:creator>
  <dc:description/>
  <dc:language>en-US</dc:language>
  <cp:lastModifiedBy>1</cp:lastModifiedBy>
  <dcterms:modified xsi:type="dcterms:W3CDTF">2017-03-14T10:40:46Z</dcterms:modified>
  <cp:revision>384</cp:revision>
  <dc:subject/>
  <dc:title>Слайд 1</dc:title>
</cp:coreProperties>
</file>