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9A6-9C61-4515-A5F4-7B524C52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9F2-0BAD-48FD-BD8D-E5B1F317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028-747B-4992-96AD-B39F1300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6C7-B12A-49D9-A180-2F5E39EB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8E1F-A494-474C-8DDC-83ED68DC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E1A-445E-4EAD-B7A8-8CCFC6BE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978F-1A82-4F0F-8FE5-07A44C8E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ADE-F5D4-479B-8E02-1438792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E6D4-E522-4CE9-A69C-10A2CDC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61D1-501A-4CC0-A2F3-E75DCDF2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0E6-B7ED-4309-8979-BB489EA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401-159B-492A-AA63-CAF43F9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19A-157D-4FC0-8186-A15BC71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735-EDDF-4AE4-BC75-7A167AB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09D6-2C07-40C8-BA4D-CDFF46A3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C34-BD88-4162-A0C7-DB895D5A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8C1F-DC61-4A56-B335-0165C6E6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933D-ED1C-4E60-9658-E2155264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2F1C-36DF-4098-8D5F-D4377251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8B57-3035-4477-BFEA-A0ADED28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4B1D-61C4-4B14-A439-3961370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FB91-0C64-4F30-A872-4FE23C1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9C6-1742-466C-8C4C-B62CF58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19A1-A22F-45FD-AAAC-EFEBDCA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4119-A588-4125-A7E4-E2E9BDE1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8ADD-C182-43A8-A5C8-2F1055A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AE02-90CF-4498-A4EC-280294C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5521-B925-46D3-9C8E-086A1620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9911-0432-4CD3-AB25-D828392E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B494-092D-4113-B091-AD0575FB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39F-9B9A-49FF-8A10-526D320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904-CB99-4A43-A58A-60E05D5E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A92-A08C-4160-B737-C4D56B4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E01-66B6-4E44-9C67-BF662F6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014-370F-4E98-A5E1-56553B8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A1F-DAD7-4D8D-A626-A29B98B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428-E633-4F86-B927-2C22F85FB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5A1-E19A-4BD9-A9F2-108A9E71C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70A-4A09-4453-BA55-DC53081F3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703d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Comic Sans MS"/>
              </a:rPr>
              <a:t>Сравнение  чисе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звестно, что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а | =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чему равен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- а |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| х | = 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,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0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3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6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Найдите:  х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 Назовите все числа имеющие моду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6;   5/9;   0;  5,7;  - 3;  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. Вычислите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- 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0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0,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2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/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5. Вычтите из большего модуля меньш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7  и  - 3;  - 20  и  30;  - 3  и  4,2;  - 9  и 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Какое из чисел лежит правее( леве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2 и –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6 и – 7;    - 2 и 0;     0 и 5;    - 4,2 и – 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опытаемся сравнить и сделать 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..2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0…. 8                   -  8 …..4                                0….. 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6……5                                 5…...0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…..- 1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1,3…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187280" y="1052640"/>
            <a:ext cx="66978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427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485928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995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635280" y="47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28472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16360" y="47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 0     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– 3….-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3,9….0                                  - 6…..- 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0…  - 15                                 - 4….-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0,5….0                                  -25….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ложи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0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Положи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 0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отрицательног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если    его мод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16360" y="29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64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65164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14836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148360" y="4941720"/>
            <a:ext cx="2160360" cy="581400"/>
          </a:xfrm>
          <a:prstGeom prst="rect">
            <a:avLst/>
          </a:prstGeom>
          <a:solidFill>
            <a:srgbClr val="f6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еньш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е из чисел мень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–3 или –0,3;   б) –8  или –7;  в)   –2 или 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г) –0,17 или 0,173;  д) –  ½ или  - ¼;  - 3/4 или -3/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е) –0,1 или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 Решить уравне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1;   б) |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7,3;   в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0;   г) | у | = -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34:56Z</dcterms:created>
  <dc:creator>Жиндос</dc:creator>
  <dc:description/>
  <dc:language>en-US</dc:language>
  <cp:lastModifiedBy>Admin</cp:lastModifiedBy>
  <dcterms:modified xsi:type="dcterms:W3CDTF">2014-02-24T08:41:17Z</dcterms:modified>
  <cp:revision>4</cp:revision>
  <dc:subject/>
  <dc:title>Слайд 1</dc:title>
</cp:coreProperties>
</file>