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4BC1-3996-43C7-A75C-C579D90D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76BA-01E1-4B97-BB12-A84D8175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26AC-70D0-4E5B-B989-A9908B25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9CFA-3A06-4332-995F-8106C3E6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2D68-272D-413C-9D3F-3B5A84D1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D0DB-AFB1-44D0-8CA9-50EB890C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8289-32B8-4464-92E5-E928108A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E6DB-74EC-48BC-92D9-A5D25A92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F4B3-0DEE-4F9A-90CB-92FEA81A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EEE2-DD76-4464-9402-CF7CFCE3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84B3-72D1-4879-9076-DB39169E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14C6-85FE-45DB-81BA-A02219F2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62D9-E365-4A3C-8918-6255DB62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3A54-D2FD-4108-A83A-96DC9FAE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1913-9379-46D8-9862-3F9ED7E7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AC2D-3558-44CF-9BCA-A5022BE4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11EA-B144-4317-8913-9D9A5A5E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67119-839D-4DA2-BE6E-F870E49B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FC17C-E667-45A4-AA9E-884C15DC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82DC4-C230-45C4-A9F1-C4E47188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97D1E-42DF-43A2-8F7E-80673BB6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1106E-6718-4E7D-A9C0-662A3213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8EAC-62C1-4281-A090-B97EB345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46B0B-F099-4519-BADA-867B1C39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C40B1-26B1-4901-B267-10B2EEB3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A8B08-41C2-4642-A33E-65D03EB4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71C73-2D0B-4AE8-B768-16E1F7C9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52F8B-466F-4C1B-8793-24307E9D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0441B-B97B-4EBF-BD67-A6DA450B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08066-701A-42D5-B81C-9F9DF7BE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FBC7-91B0-49F1-8D71-153A5C9F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B7DF-5C42-4209-8B53-C43BB3AE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F3C9-46D5-41DF-91C5-A4BB87D5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C77A-27E0-429E-8CAA-4DDAA052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3A87-AB88-40E1-8370-3D7EAC2C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CBF1-BF5F-43BE-80EC-9EF245EB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7BA5-ACDE-40C0-ACE8-3FE6791C79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92AE-1839-4BB3-9961-2D2A0CCB4F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94B5-4C38-43D3-B41F-01BFB58C5A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703dff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00cc"/>
                </a:solidFill>
                <a:latin typeface="Comic Sans MS"/>
              </a:rPr>
              <a:t>Сравнение  чисел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6fca2"/>
          </a:solidFill>
          <a:ln w="5724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Вспомн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звестно, что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| а | =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7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, чему равен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| - а |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| х | = 2;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х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=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1,2;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х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=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0;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х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=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13;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х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=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- 6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Найдите:  х -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3. Назовите все числа имеющие моду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6;   5/9;   0;  5,7;  - 3;  0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4. Вычислите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- 5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;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0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;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- 1/3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- 3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0,5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-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- 1/2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;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- 3/4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 - 4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|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5. Вычтите из большего модуля меньш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7  и  - 3;  - 20  и  30;  - 3  и  4,2;  - 9  и 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6fca2"/>
          </a:solidFill>
          <a:ln w="5724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Какое из чисел лежит правее( левее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- 2 и – 1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- 6 и – 7;    - 2 и 0;     0 и 5;    - 4,2 и – 4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Попытаемся сравнить и сделать 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– 3…..2                        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0…. 8                   -  8 …..4                                0….. 4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- 6……5                                 5…...0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12…..- 10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1,3…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1187280" y="1052640"/>
            <a:ext cx="66978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4427640" y="907920"/>
            <a:ext cx="0" cy="217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4859280" y="907920"/>
            <a:ext cx="0" cy="217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3995640" y="907920"/>
            <a:ext cx="0" cy="217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3635280" y="476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-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4284720" y="47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4716360" y="47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6fca2"/>
          </a:solidFill>
          <a:ln w="381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– 3… 0                             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4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– 3….- 5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- 3,9….0                                  - 6…..- 2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0…  - 15                                 - 4….- 1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- 0,5….0                                  -25….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Отрицательное числ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положительн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Отрицательное числ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0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Положительное числ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 0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Отрицательное числ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отрицательного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если    его моду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716360" y="2924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5364000" y="3429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651640" y="4005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5148360" y="4437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5148360" y="4941720"/>
            <a:ext cx="2160360" cy="581400"/>
          </a:xfrm>
          <a:prstGeom prst="rect">
            <a:avLst/>
          </a:prstGeom>
          <a:solidFill>
            <a:srgbClr val="f6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меньш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6fca2"/>
          </a:solidFill>
          <a:ln w="5724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Повтор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1. 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Какое из чисел меньш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а) –3 или –0,3;   б) –8  или –7;  в)   –2 или –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г) –0,17 или 0,173;  д) –  ½ или  - ¼;  - 3/4 или -3/5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е) –0,1 или 0,00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2.  Решить уравнение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а) | 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х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| = 1;   б) |  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у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| = 7,3;   в) | 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х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| = 0;   г) | у | = - 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7:34:56Z</dcterms:created>
  <dc:creator>Жиндос</dc:creator>
  <dc:description/>
  <dc:language>en-US</dc:language>
  <cp:lastModifiedBy>Admin</cp:lastModifiedBy>
  <dcterms:modified xsi:type="dcterms:W3CDTF">2014-02-24T08:41:17Z</dcterms:modified>
  <cp:revision>4</cp:revision>
  <dc:subject/>
  <dc:title>Слайд 1</dc:title>
</cp:coreProperties>
</file>