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77B-16AD-44C4-A160-11B99F59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E25-66D3-4962-ABC3-C5450D59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FE5-69D5-4197-BA78-D95C86C4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C38-C320-49AC-A48D-FDF0E35C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06DE-CF94-4761-BD55-7BFF0628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1288-7223-4D24-9828-F9E186D8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F7AE-353B-4105-A032-B49A59F1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FCEC-9325-4E61-B123-53A4288E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113C-3A04-4141-B462-7EB73CE2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E3A1-F43C-419B-A6C6-56DC9697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25A3-2D3A-4E0F-ADF7-BEF7419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B3F-9055-4637-9A69-29F4682F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1989-4CFB-45D9-9C5D-5DC162DF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3CDD-D2F1-40DF-9B25-81653C48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3F2F-0D8C-4667-9C74-FC1283C8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8C2C-B1C6-4E0B-BE5F-CD1D5399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BE1C-45FC-4EAD-AE88-DAC05620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E3F85-09C7-46C1-BFC5-F4F43663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626D-BF4A-4074-BBC7-867E8395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07F8-E17A-43DD-8D83-51E49D5D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1C16-74D8-4A2C-94F1-974F7E20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F39C-88F3-4AB1-91F4-29BC8E25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E08-EAD6-41EE-BDF7-890DFCA5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6528-5A27-4AAF-8481-3F0B909E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A0EE-ACEB-4DA1-B173-0B5E730B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FD7A-D583-49E5-B2BE-7D30E74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BFF9-3F1B-4CA4-BF89-3FA8D817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F829-59C5-45D6-BC0D-B8EE2E80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58F2-DD31-44B1-A54D-E96D8AD6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81F2-8FF0-4C6B-BC77-6B016092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8C4-3CFA-4013-A67F-95FE441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018-A0B3-4581-9C36-75DA4B55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CE8-F7E9-4103-B1BA-46BF4DB7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A81-38BE-40E2-8061-8307949D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A0D-D062-4C2E-A196-34FAC47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83D-ADF7-44B9-ADA0-12BD843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D2FB-44AF-4180-95C1-8148D75296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DEB9-C4F5-4397-9E2B-EBE8B0F48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0AD0-FD86-4E3C-BCD7-6D63D5CCDD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703d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cc"/>
                </a:solidFill>
                <a:latin typeface="Comic Sans MS"/>
              </a:rPr>
              <a:t>Сравнение  чисе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с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звестно, что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| а | =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чему равен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| - а |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| х | = 2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1,2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0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13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6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Найдите:  х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. Назовите все числа имеющие моду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6;   5/9;   0;  5,7;  - 3;  0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. Вычислите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- 5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0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1/3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3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0,5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1/2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3/4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4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5. Вычтите из большего модуля меньш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7  и  - 3;  - 20  и  30;  - 3  и  4,2;  - 9  и 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Какое из чисел лежит правее( левее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2 и –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6 и – 7;    - 2 и 0;     0 и 5;    - 4,2 и – 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Попытаемся сравнить и сделать 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3…..2 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0…. 8                   -  8 …..4                                0….. 4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6……5                                 5…...0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2…..- 10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1,3…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187280" y="1052640"/>
            <a:ext cx="66978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427640" y="907920"/>
            <a:ext cx="0" cy="217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4859280" y="907920"/>
            <a:ext cx="0" cy="217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3995640" y="907920"/>
            <a:ext cx="0" cy="217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635280" y="47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28472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716360" y="47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3… 0      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– 3….-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3,9….0                                  - 6…..- 2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0…  - 15                                 - 4….-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0,5….0                                  -25….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рица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оложитель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рица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0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Положи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 0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рица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отрицательного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если    его мод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16360" y="292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64000" y="342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65164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14836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148360" y="4941720"/>
            <a:ext cx="2160360" cy="581400"/>
          </a:xfrm>
          <a:prstGeom prst="rect">
            <a:avLst/>
          </a:prstGeom>
          <a:solidFill>
            <a:srgbClr val="f6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меньш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овтор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Какое из чисел мень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а) –3 или –0,3;   б) –8  или –7;  в)   –2 или –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г) –0,17 или 0,173;  д) –  ½ или  - ¼;  - 3/4 или -3/5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е) –0,1 или 0,00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.  Решить уравнени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а) |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х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| = 1;   б) | 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у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| = 7,3;   в) |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х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| = 0;   г) | у | = -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34:56Z</dcterms:created>
  <dc:creator>Жиндос</dc:creator>
  <dc:description/>
  <dc:language>en-US</dc:language>
  <cp:lastModifiedBy>Admin</cp:lastModifiedBy>
  <dcterms:modified xsi:type="dcterms:W3CDTF">2014-02-24T08:41:17Z</dcterms:modified>
  <cp:revision>4</cp:revision>
  <dc:subject/>
  <dc:title>Слайд 1</dc:title>
</cp:coreProperties>
</file>