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6001-F343-4159-B825-D23BF5ADC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9337-08D6-4943-9E69-FEB08824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5B87-1A40-4646-953B-1F791050B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397B-3432-4288-9989-E07D8A05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C52D-3FEE-4A07-961D-47692316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CAF3-224F-4C20-8D19-D19C1F90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A565-19FE-437D-8AFB-249DFD97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AA7C-6212-44E0-B76B-F7B0B4DC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D80C-3EC2-417D-A721-2375D24E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4103-FD01-4A1F-8989-3C9BD39D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1348-312F-463D-974F-C31BE2B1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566C-5258-48EB-9D14-5985BC45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36FC-5DCC-4D94-8035-5E087A9CA6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8f4a6"/>
          </a:solidFill>
          <a:ln w="57240">
            <a:solidFill>
              <a:srgbClr val="9900cc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33cc33"/>
                </a:solidFill>
                <a:latin typeface="Times New Roman"/>
              </a:rPr>
              <a:t>Сравнение десятичных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33cc33"/>
                </a:solidFill>
                <a:latin typeface="Times New Roman"/>
              </a:rPr>
              <a:t>дробей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method"/>
          <p:cNvPicPr/>
          <p:nvPr/>
        </p:nvPicPr>
        <p:blipFill>
          <a:blip r:embed="rId1"/>
          <a:stretch/>
        </p:blipFill>
        <p:spPr>
          <a:xfrm>
            <a:off x="6659640" y="3213000"/>
            <a:ext cx="1944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8f4a6"/>
          </a:solidFill>
          <a:ln w="19080">
            <a:solidFill>
              <a:srgbClr val="9900cc"/>
            </a:solidFill>
            <a:miter/>
          </a:ln>
        </p:spPr>
        <p:txBody>
          <a:bodyPr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Повтор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Между какими натуральными числами лежит дроб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Переведи в обыкновенную дроб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          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0,35;  8,907;  0,250;  0,01;  35,001;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3. Запиши в виде десятичной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4. Переведи: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5м32 см; 4 м 5 см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; 47 см;5 м14см2 м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450 кг; 28 ц; 2 ц 35 кг</a:t>
            </a: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; </a:t>
            </a:r>
            <a:r>
              <a:rPr b="1" lang="ru-RU" sz="32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3 т 4 ц 25 к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2987640" y="1052640"/>
            <a:ext cx="5905440" cy="1296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1619280" y="3933720"/>
            <a:ext cx="5616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8f4a6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Выполните с/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2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Запиши в виде десятичной дроб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3.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строй отрезок СД = 6,8 см; АВ = 0,7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4. доп.  № 3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87138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8f4a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Узнаем ново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cc"/>
                </a:solidFill>
                <a:uFillTx/>
                <a:latin typeface="Arial"/>
              </a:rPr>
              <a:t>АВ = 6дм = 60см = 600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Выраз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50021"/>
                </a:solidFill>
                <a:uFillTx/>
                <a:latin typeface="Arial"/>
              </a:rPr>
              <a:t>Вывод: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a50021"/>
                </a:solidFill>
                <a:uFillTx/>
                <a:latin typeface="Arial"/>
              </a:rPr>
              <a:t>0,6 = 0,60 = 0,600 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0,8=0,80=0,800=0,8000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3,4  =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2,5000  =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3 = 3,0 = 3,00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268360" y="12682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Times New Roman"/>
              </a:rPr>
              <a:t>6дм = 0,6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284720" y="836640"/>
            <a:ext cx="20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cc"/>
                </a:solidFill>
                <a:latin typeface="Times New Roman"/>
              </a:rPr>
              <a:t>60см=0,60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300720" y="1268280"/>
            <a:ext cx="28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Times New Roman"/>
              </a:rPr>
              <a:t>600мм=0,600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476360" y="292428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3,4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2268360" y="350028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2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000" y="188640"/>
            <a:ext cx="8064360" cy="1584360"/>
          </a:xfrm>
          <a:prstGeom prst="rect">
            <a:avLst/>
          </a:prstGeom>
          <a:solidFill>
            <a:srgbClr val="f8f4a6"/>
          </a:solidFill>
          <a:ln w="28440">
            <a:solidFill>
              <a:srgbClr val="008000"/>
            </a:solidFill>
            <a:miter/>
          </a:ln>
        </p:spPr>
        <p:txBody>
          <a:bodyPr anchor="t">
            <a:normAutofit fontScale="98000"/>
          </a:bodyPr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Алгорит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Уравн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Сравнить без запя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2060640"/>
          <a:ext cx="9144000" cy="4797360"/>
        </p:xfrm>
        <a:graphic>
          <a:graphicData uri="http://schemas.openxmlformats.org/drawingml/2006/table">
            <a:tbl>
              <a:tblPr/>
              <a:tblGrid>
                <a:gridCol w="515880"/>
                <a:gridCol w="5432400"/>
                <a:gridCol w="3195720"/>
              </a:tblGrid>
              <a:tr h="9176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равнить десятичные дроби: 83,04 и 63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4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4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Уравняем число десятичных знаков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4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83,04 и 63,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4a6"/>
                    </a:solidFill>
                  </a:tcPr>
                </a:tc>
              </a:tr>
              <a:tr h="91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4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Закроем  запятую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4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8304 и 63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4a6"/>
                    </a:solidFill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4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равним получившиеся натуральные числа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4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8304 &gt; 63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4a6"/>
                    </a:solidFill>
                  </a:tcPr>
                </a:tc>
              </a:tr>
              <a:tr h="91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4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делаем вывод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4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83,04 &gt; 63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4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7:02:35Z</dcterms:created>
  <dc:creator>Жиндос</dc:creator>
  <dc:description/>
  <dc:language>en-US</dc:language>
  <cp:lastModifiedBy>1</cp:lastModifiedBy>
  <dcterms:modified xsi:type="dcterms:W3CDTF">2021-03-10T09:14:49Z</dcterms:modified>
  <cp:revision>3</cp:revision>
  <dc:subject/>
  <dc:title>Слайд 1</dc:title>
</cp:coreProperties>
</file>