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8E4-527E-45C0-B4BE-3F54E4F0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98E-060B-4FB1-831C-1231760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0A2-FAA9-42E3-92F5-F1FC56B7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5AA-A76F-43A0-8B4C-D8B94C89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8E6-B519-4030-983C-E1CA004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B8F-774C-4A1B-86B9-0B51673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5EC-BA66-43D8-B90F-BC5A06A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CAA-9200-4D5E-B06B-5A6B777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91D-38B1-4E9E-9BB5-C38A032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7EE-1A64-4F98-9D45-0EC7660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6DB-2A7F-41B8-A695-CDB0376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1F4-8325-40E8-859E-EB8FCE6E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15F-82DF-40DF-ADAF-8E2563172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57240">
            <a:solidFill>
              <a:srgbClr val="9900cc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Сравнение десятичны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дробей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ethod"/>
          <p:cNvPicPr/>
          <p:nvPr/>
        </p:nvPicPr>
        <p:blipFill>
          <a:blip r:embed="rId1"/>
          <a:stretch/>
        </p:blipFill>
        <p:spPr>
          <a:xfrm>
            <a:off x="6659640" y="3213000"/>
            <a:ext cx="19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19080">
            <a:solidFill>
              <a:srgbClr val="9900cc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ежду какими натуральными числами лежит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ереведи в обыкновенную дроб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0,35;  8,907;  0,250;  0,01;  35,001;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Запиши в виде десятичной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4. Переведи: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м32 см; 4 м 5 см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; 47 см;5 м14см2 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450 кг; 28 ц; 2 ц 35 кг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;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т 4 ц 2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590544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56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Выполните с/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 в виде десятичной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трой отрезок СД = 6,8 см; АВ = 0,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доп.  № 3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713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Узнаем нов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АВ = 6дм = 60см = 60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ыраз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Вывод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0,6 = 0,60 = 0,600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0,8=0,80=0,800=0,80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,4  =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2,5000  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 = 3,0 = 3,00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68360" y="126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дм = 0,6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284720" y="83664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см=0,60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300720" y="12682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0мм=0,6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76360" y="2924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,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500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064360" cy="1584360"/>
          </a:xfrm>
          <a:prstGeom prst="rect">
            <a:avLst/>
          </a:prstGeom>
          <a:solidFill>
            <a:srgbClr val="f8f4a6"/>
          </a:solidFill>
          <a:ln w="28440">
            <a:solidFill>
              <a:srgbClr val="008000"/>
            </a:solidFill>
            <a:miter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Урав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Сравнить без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060640"/>
          <a:ext cx="9144000" cy="4797360"/>
        </p:xfrm>
        <a:graphic>
          <a:graphicData uri="http://schemas.openxmlformats.org/drawingml/2006/table">
            <a:tbl>
              <a:tblPr/>
              <a:tblGrid>
                <a:gridCol w="515880"/>
                <a:gridCol w="5432400"/>
                <a:gridCol w="3195720"/>
              </a:tblGrid>
              <a:tr h="91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ть десятичные дроби: 83,04 и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равняем число десятичных зна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и 63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Закроем  запятую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и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м получившиеся натуральные числ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&gt;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делаем вывод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&gt;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02:35Z</dcterms:created>
  <dc:creator>Жиндос</dc:creator>
  <dc:description/>
  <dc:language>en-US</dc:language>
  <cp:lastModifiedBy>1</cp:lastModifiedBy>
  <dcterms:modified xsi:type="dcterms:W3CDTF">2021-03-10T09:14:49Z</dcterms:modified>
  <cp:revision>3</cp:revision>
  <dc:subject/>
  <dc:title>Слайд 1</dc:title>
</cp:coreProperties>
</file>