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328-8AF7-4948-B2D3-1DEDD526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E70-0309-4B80-9E4A-F9655D1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BCE-1C97-4EE6-A802-54B24391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D78-45CD-4281-9CA1-ED7D373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398-0F79-4E6D-8056-E32E432B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F99-B24C-445E-8D92-4B539E6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ED6-2F56-4E67-87A1-FCD8030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F060-EF28-454B-9D04-332C4221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D415-6016-4B5E-9D5C-2D18F146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6859-239D-4EE2-AE6A-94B55EAB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06B-8C4C-4C38-8438-098555F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617-4018-4279-9983-FFCCD62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0D6-BB26-4066-8C4D-200698D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A218-6AA0-4F98-8146-54A6EAD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EAE9-8EF4-401D-B532-F89C24DE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2C3-D17D-452F-BEAC-CE0DC573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446E-BF37-4D35-AAC3-855F5BDC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6664-0385-410F-8C9E-B6EEA542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8E88-B89D-4F58-B4A7-B5265BE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5EDA-DA76-49C1-95AF-35D4457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6AC3-1C3F-4558-88D2-E1E4EBD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FB1C-C1E4-443A-89D3-71DCDD9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1D3-6720-4D74-B033-4582B35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D811-581F-4C0B-86DC-93E74B2F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B1A2-B2AF-4D48-98E5-DEE1103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44A0-392A-47E0-AAAB-2CB4DAF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6542-6287-49F9-B91E-46ECDBB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E456-E516-4BC3-914D-BE78325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0C16-BF02-4962-8AFF-4ED9DCFF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E3B6-1196-4A0F-B80C-A7C6CCD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4A4-CF56-4192-9B89-9615266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E4D-E162-4363-9521-F0A9154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2C5-8D43-49EE-824B-EC2028E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059-C6BE-4188-95CE-1EA58B2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01D-AD52-4D0C-8E5F-1E9834A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9FF-0061-438B-9F07-9594F6C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0AD2-DDE1-4AD2-B95E-64BC4062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E81-182A-440D-A18A-5B642490B9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34F-4F11-4B0B-A55D-4E87C267D5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ff"/>
          </a:solidFill>
          <a:ln w="57240">
            <a:solidFill>
              <a:srgbClr val="d9d8e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Умножение десятичной дроби на 10,100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6767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. При умножении десятичной дроби на 10, 100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000 и т.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2. При де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. Найди ошибку:  45,48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1000= 4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06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10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,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0,3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20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,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765000"/>
            <a:ext cx="5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1989000"/>
            <a:ext cx="15130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484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32000" y="2708280"/>
            <a:ext cx="136872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-73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4. Найдите х, ес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,25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2,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4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34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3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5. Вычисли:   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– 11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2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+ 5,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Выполни деление десятич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 : 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,5 : 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,27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3 :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5 :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,345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 12 : 10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3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75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112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17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276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40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5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1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0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43:19Z</dcterms:created>
  <dc:creator>Женя</dc:creator>
  <dc:description/>
  <dc:language>en-US</dc:language>
  <cp:lastModifiedBy>Жиндос</cp:lastModifiedBy>
  <dcterms:modified xsi:type="dcterms:W3CDTF">2010-03-31T14:19:41Z</dcterms:modified>
  <cp:revision>4</cp:revision>
  <dc:subject/>
  <dc:title>Умножение десятичной дроби на 10,100,...</dc:title>
</cp:coreProperties>
</file>