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649-2136-46C3-8FFC-CA985CAF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0A5-6E36-4D3A-A640-7AFF699D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37D-F6C3-4E7B-9338-BF6A43BC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A92-E69E-4650-8E88-94853833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4B0E-88CC-43E4-9DFB-39FA13D0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7727-29DA-4DDC-B5E3-C81CBFFE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E017-FFF6-45BD-BF4D-2D5C1D13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2E0E-0E77-476E-8BEC-3EDD21F1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030D-A220-4ABB-BE6A-D7E036FF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A058-57FE-49D9-9AB4-111C1AB9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9E35-8345-4810-BF34-8E9C83A7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494-2890-45A2-82BF-50B4AD48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6180-A5A2-4B04-AACC-31458C22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7976-9C11-4883-AB0F-493E6B95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C221-F70F-48B6-88BD-65367392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5096-0C5B-4282-AF04-F835C383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6A21-0549-43BB-8C7E-2C9EFFF5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0282-1C58-48AC-B257-4B222CF1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4D93-4E99-4CA4-8962-58FD4604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B5CB-2B8E-45E6-B8D7-B1434B9B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AE4C-553F-4565-A04D-F9ACB8F1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8FF4-C21A-4F7E-AB5B-EF498815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041-960C-4505-98E8-95B9F0BD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AF6B-14FF-4CC2-84E7-896FCB8E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7626-66FC-4646-B8C9-D1193484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D280-766F-40B9-8FEB-7F8068CB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8907-152A-473C-8C54-4CA4E25E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0A0B-D811-4DCD-BFF8-1DA7B166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24D3-92E9-4624-B90D-26DEDAB1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6CE8-F58E-4AA8-A725-6D1FCC5B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383-B674-4F93-933C-020712D5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667-854F-4E2A-A66F-61E5D305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092-04E3-499B-A5D3-15367797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EA7-4013-4D1C-81E8-CBB85989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7E5-3993-44DD-881C-B198BBF9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6FE-6373-4E77-A021-88A9B5CF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FF1A-36E9-4055-8E26-40B36A0EE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30CE-4ADA-4946-BDCD-B9A50739D8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5AFE-B6AD-463D-8F31-B9C1DC6D87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ccff"/>
          </a:solidFill>
          <a:ln w="57240">
            <a:solidFill>
              <a:srgbClr val="d9d8e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Умножение десятичной дроби на 10,100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6767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1. При умножении десятичной дроби на 10, 100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1000 и т.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                       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на 1, 2, 3 и т.д.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2. При дел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на 1, 2, 3 и т.д.цифр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3. Найди ошибку:  45,48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1000= 4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006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102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1,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20,3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20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0,01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1,2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0,01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765000"/>
            <a:ext cx="5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1989000"/>
            <a:ext cx="15130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484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132000" y="2708280"/>
            <a:ext cx="136872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-73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4. Найдите х, ес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3,254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32,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34,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3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2,344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 234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2,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5. Вычисли:   2,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3,14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03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03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3,12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– 11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2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 + 5,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5724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Выполни деление десятичной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5 : 1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2,5 : 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5,27 : 1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3 : 1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,5 :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,345 : 1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, 12 : 10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23 : 10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,75 : 10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5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1,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1125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1773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1,35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2276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34290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2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4005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0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4581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1577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000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8:43:19Z</dcterms:created>
  <dc:creator>Женя</dc:creator>
  <dc:description/>
  <dc:language>en-US</dc:language>
  <cp:lastModifiedBy>Жиндос</cp:lastModifiedBy>
  <dcterms:modified xsi:type="dcterms:W3CDTF">2010-03-31T14:19:41Z</dcterms:modified>
  <cp:revision>4</cp:revision>
  <dc:subject/>
  <dc:title>Умножение десятичной дроби на 10,100,...</dc:title>
</cp:coreProperties>
</file>