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A30A-E8D4-4536-AC14-E8749B7F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BEB8-8E77-4805-9A93-F15EE27F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20CA-D845-4083-8FF7-C4177864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D750-340C-4112-80C0-142983EED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3694-8B7C-4DC3-8B23-0AC0D486B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C416-8E8F-4D9D-8760-32A4579C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6FCE-FB1E-4BCB-8766-55A69E16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5C55-498A-4DF1-BEB5-1CBDF5D3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0C1D-BBF7-4BD8-B14B-D26268FF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7A52-4587-47A4-9A5D-CB1F99BD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0333-36BF-44D8-8D3F-1E64BC77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E8BA-0387-4982-B9FD-88BC103D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B6E5-24B8-42B5-BDBF-6B14E53F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C38C-099B-444E-887B-3F1C22CF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09F0-285B-4A9F-B49D-C35D4D8E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6259-B924-4BC9-ACCB-6811E85E3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C7C8-5565-419E-B6EF-7A337E6A0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685E2-98B6-4596-A87B-3D563CA9C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6543E-A977-42D5-83EF-B4A674C1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75C7C-9F2D-4D0F-81AB-33989AF3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403B9-E8D2-4504-8C35-9FC9F9FA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DBA2C-7432-4832-8EDF-CFD20597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6FAA-4D33-429B-A1AB-9292A23B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B7D86-0325-42AB-A8BC-5B7C533A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A557D-2786-42EB-8FAC-532CDDB8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A7A8B-688A-4C70-B7C1-DA650D04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BB034-FE4C-44B8-98FA-40AC2950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F38DB-BF15-4D09-A4FE-67ABF8C8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048F5-6F77-4168-AA29-5EE3A79EA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E091A-60DF-4D7A-A504-62C1113B5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2CC8-E335-4CB6-8238-92510621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AB13-1C18-414F-8978-6E73ED2A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E650-D863-4B96-94F2-EBCBB77E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73DD-0E2D-44D2-B8AF-028C56A6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DA3A-4932-400E-A6A2-5B24B000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EC4A-7ABD-4E05-BC8D-98C7C08F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F46E-3EDC-4825-AAF0-E1FCF094D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B733-D02C-4C09-B7AE-4ACA9B193E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CB55-239D-4A80-9195-834594C8E4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ccccff"/>
          </a:solidFill>
          <a:ln w="57240">
            <a:solidFill>
              <a:srgbClr val="d9d8ec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Умножение десятичной дроби на 10,100,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5877000"/>
          </a:xfrm>
          <a:prstGeom prst="rect">
            <a:avLst/>
          </a:prstGeom>
          <a:solidFill>
            <a:srgbClr val="ffff99"/>
          </a:solidFill>
          <a:ln w="57240">
            <a:solidFill>
              <a:srgbClr val="6767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1. При умножении десятичной дроби на 10, 100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1000 и т.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                        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на 1, 2, 3 и т.д.циф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2. При делен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на 1, 2, 3 и т.д.цифры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3. Найди ошибку:  45,48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1000= 4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            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0,006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100 =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            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0,102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100 = 1,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            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20,35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100 = 20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              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0,01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10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              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1,2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100 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              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0,01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100 = 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765000"/>
            <a:ext cx="57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80000" y="20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80000" y="20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87640" y="1989000"/>
            <a:ext cx="1513080" cy="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1484280"/>
            <a:ext cx="93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Arial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132000" y="2708280"/>
            <a:ext cx="1368720" cy="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-73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4. Найдите х, есл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3,254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х =32,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34,5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х =34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2,344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х = 234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2,5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х = 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5. Вычисли:   2,5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1000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    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3,14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10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    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0,03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1000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    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0,03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10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    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3,12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100 – 112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    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0,25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 10 + 5,5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57240">
            <a:solidFill>
              <a:srgbClr val="99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Выполни деление десятичной дроб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35 : 10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2,5 : 1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35,27 : 10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23 : 100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0,5 : 1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2,345 : 10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0, 12 : 100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23 : 1000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0,75 : 1000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54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1,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0360" y="1125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1,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3640" y="1773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1,35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59280" y="227664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0,0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32000" y="2781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0,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59280" y="342900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0,023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48000" y="4005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0,00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19640" y="458136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0,01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64000" y="515772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0,0000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8:43:19Z</dcterms:created>
  <dc:creator>Женя</dc:creator>
  <dc:description/>
  <dc:language>en-US</dc:language>
  <cp:lastModifiedBy>Жиндос</cp:lastModifiedBy>
  <dcterms:modified xsi:type="dcterms:W3CDTF">2010-03-31T14:19:41Z</dcterms:modified>
  <cp:revision>4</cp:revision>
  <dc:subject/>
  <dc:title>Умножение десятичной дроби на 10,100,...</dc:title>
</cp:coreProperties>
</file>