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D74-DE41-4F94-BD29-2F6B0E35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6F6-2B0F-40F4-8912-D99542B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DF5-338C-43BC-B41C-34185C59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705-2225-42A7-BBE4-96805716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EA69-8B82-4450-AA87-61BC8450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B438-0002-4EEB-BA90-4580901E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12A-EEA8-4CFC-9047-89EDE9A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53A3-BAD5-40FA-9F1A-F9DD4BD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7CCF-3CC1-4610-A73B-0A4F2ECC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224E-DEB1-45FB-827A-86E3FE8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CAC3-C2F9-49A8-97BE-65C3308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BF8-0F65-4A2A-850F-38A917C7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D3C5-5C87-4108-B900-6B61109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4A44-28CF-458C-8BDC-70A7BC1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7522-96DD-418E-85D7-384D992C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8217-CC2E-4BEA-A927-4EA01B48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C7F4-5080-4E83-9285-89534204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508-318B-471C-A9E2-01288929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314-31FD-4387-86BE-8ABFD59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DE0-21FC-4931-9E05-D0280E06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627-295F-4AAD-9757-ADF6E818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15F-C792-46A9-AA02-9BD83841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D5E-FC73-40B4-9D0D-521608BE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CCB-7F65-4454-AC96-7EAD3952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0671-A256-4C24-8189-7589BAC41B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B557-57D4-45D5-B551-5305E62E6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542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вторение темы 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«Сложение и вычитание»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столбико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2335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7dbf"/>
                </a:solidFill>
                <a:latin typeface="Calibri"/>
              </a:rPr>
              <a:t>Подготовила студентка 5 курса, НО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7dbf"/>
                </a:solidFill>
                <a:latin typeface="Calibri"/>
              </a:rPr>
              <a:t>Щипунова Надежд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ешите примеры столбиком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3+24=                            5. 68-29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4+24=                            6. 57+43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56+19=                            7. 80-27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8-24=                             8. 60-44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авайте решим задач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гда из вагона поезда вышли 18 человек, в вагоне осталось еще 10 человек. Сколько всего пассажиров ехало в этом ваг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 в вагоне ехало 28 чело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ешим еще одну задачу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ля собрала 25 грибов, а мама – 35 грибов. Вечером мама пожарила 42 гриба. Сколько грибов осталос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 осталось 18 гриб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… еще одну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561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апа подарил Дане набор из тридцати разных машинок. Младший брат попросил у Дани шесть машинок, и друг младшего брата попросил еще шесть машинок. Сколько машинок осталось у Дани в итог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 у Дани осталось 18 маши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сталось совсем немного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561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ама и Света пошли в сад за яблоками. Мама собрала 35 яблок, а Света – 20 яблок. На следующий день мама варила компот, для которого понадобилось 25 яблок. Сколько яблок не отправилось в компо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твет: 30 яб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Мы почти у цел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561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иша принес в детский сад 15 игрушечных грибочков, Коля тоже принес грибочки – целых 20 штук. Света присоединилась к ним и отдала свои грибочки в количестве 12 штук. Ребята решили сварить из них суп, но несколько грибочков потерялось. После потери у ребят осталось 35 грибочков. Сколько грибочков потеряло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потерялось 12 грибоч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следняя задач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61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ма испекла несколько пирожков. 4 пирожка она съела. После этого у нее осталось 16 пирожков. Сколько пирожков испекла мам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 мама испекла 20 пирож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31T13:40:53Z</dcterms:created>
  <dc:creator>Microsoft Office User</dc:creator>
  <dc:description/>
  <dc:language>en-US</dc:language>
  <cp:lastModifiedBy>Windows User</cp:lastModifiedBy>
  <dcterms:modified xsi:type="dcterms:W3CDTF">2023-12-21T16:59:49Z</dcterms:modified>
  <cp:revision>6</cp:revision>
  <dc:subject/>
  <dc:title>NAME OF  PRESENTATION</dc:title>
</cp:coreProperties>
</file>