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71F-5271-4082-BA52-0049AFB8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ECB-282B-44EC-8EC7-EFB8530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182-E72D-4733-B393-82C73F7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A23-FBBC-4996-A5A1-F046748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6FB5-BDA8-45F9-A4C8-C96CA5D1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A87F-41C3-46D9-B36C-47C219D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7D3-EB0F-4267-8FDB-273DCDE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FF1C-D666-412B-81BD-B4548AC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39E-EEB9-46C4-B70C-61DAEC4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A77-CAEF-44C9-8582-511D8820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8CEE-7992-4260-8874-A35703E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395-620B-4849-BDD7-ADB334C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7C4B-F230-4F4E-A2D1-89922BF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98AF-9020-42AE-BF4E-06A1B38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591D-F3B9-4D5C-A77C-4931BC94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3656-CE69-4315-AB4B-337F0FEC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C34-95BD-4366-AD6C-05D96E7A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573-213E-4481-8D01-7C8ABE0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788-B4BD-4E5F-804E-6A7DE9D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3B4-1E77-40B4-B700-D70309DE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F07-FC37-45EF-8C66-EE32AAB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71F-259F-4075-8890-6725A34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758-B37E-45CB-B315-D78583A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04B-9060-4840-BD77-D5FE504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BE5-C012-4873-A52C-31D1E5D83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2785-8289-4B27-90EE-1CD18403A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420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овторение темы 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«Сложение и вычитание»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столбико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32335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7dbf"/>
                </a:solidFill>
                <a:latin typeface="Calibri"/>
              </a:rPr>
              <a:t>Подготовила студентка 5 курса, НО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7dbf"/>
                </a:solidFill>
                <a:latin typeface="Calibri"/>
              </a:rPr>
              <a:t>Щипунова Надежда Ива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ешите примеры столбиком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3+24=                            5. 68-29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4+24=                            6. 57+43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6+19=                            7. 80-27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8-24=                             8. 60-44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авайте решим задач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гда из вагона поезда вышли 18 человек, в вагоне осталось еще 10 человек. Сколько всего пассажиров ехало в этом ваг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в вагоне ехало 28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ешим еще одну задачу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ля собрала 25 грибов, а мама – 35 грибов. Вечером мама пожарила 42 гриба. Сколько грибов осталос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осталось 18 гриб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… еще одну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апа подарил Дане набор из тридцати разных машинок. Младший брат попросил у Дани шесть машинок, и друг младшего брата попросил еще шесть машинок. Сколько машинок осталось у Дани в итог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у Дани осталось 18 машин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Осталось совсем немного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Мама и Света пошли в сад за яблоками. Мама собрала 35 яблок, а Света – 20 яблок. На следующий день мама варила компот, для которого понадобилось 25 яблок. Сколько яблок не отправилось в компо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твет: 30 яб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Мы почти у цел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иша принес в детский сад 15 игрушечных грибочков, Коля тоже принес грибочки – целых 20 штук. Света присоединилась к ним и отдала свои грибочки в количестве 12 штук. Ребята решили сварить из них суп, но несколько грибочков потерялось. После потери у ребят осталось 35 грибочков. Сколько грибочков потеря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вет: потерялось 12 грибоч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оследняя задач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5616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ма испекла несколько пирожков. 4 пирожка она съела. После этого у нее осталось 16 пирожков. Сколько пирожков испекла ма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: мама испекла 20 пирож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31T13:40:53Z</dcterms:created>
  <dc:creator>Microsoft Office User</dc:creator>
  <dc:description/>
  <dc:language>en-US</dc:language>
  <cp:lastModifiedBy>Windows User</cp:lastModifiedBy>
  <dcterms:modified xsi:type="dcterms:W3CDTF">2023-12-21T16:59:49Z</dcterms:modified>
  <cp:revision>6</cp:revision>
  <dc:subject/>
  <dc:title>NAME OF  PRESENTATION</dc:title>
</cp:coreProperties>
</file>