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2420-AE11-4589-AADE-54E4FC7FF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579744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73280" y="4258800"/>
            <a:ext cx="579744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BC29-706A-40CB-8E05-3E460B15B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28288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4000" y="2638080"/>
            <a:ext cx="28288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73280" y="4258800"/>
            <a:ext cx="28288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4000" y="4258800"/>
            <a:ext cx="28288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FFB9-A1E8-4AEC-97CA-CD6CFE8C3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1866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3480" y="2638080"/>
            <a:ext cx="1866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94040" y="2638080"/>
            <a:ext cx="1866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73280" y="4258800"/>
            <a:ext cx="1866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3480" y="4258800"/>
            <a:ext cx="1866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94040" y="4258800"/>
            <a:ext cx="1866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3569-AEF5-4A47-A8B1-FD42777B3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04172-2D97-4403-A7D3-528DD3069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8BC4D-086A-449A-94E9-073137338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17A73-5BFC-4B3F-956A-255555C43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28288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4000" y="2638080"/>
            <a:ext cx="28288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A812D-474C-4DA0-B7C0-175313F27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D2C42-96F7-48EC-B23A-87DA3562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673280" y="964800"/>
            <a:ext cx="5797440" cy="55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75138-64FC-474F-A936-CE45F9F94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28288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4000" y="2638080"/>
            <a:ext cx="28288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673280" y="4258800"/>
            <a:ext cx="28288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C77CF-3746-4885-9836-EE09A9D7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197B-E111-40C5-BF2A-B62A3DD88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28288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4000" y="2638080"/>
            <a:ext cx="28288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4000" y="4258800"/>
            <a:ext cx="28288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3CBAC-BD11-4CD0-808A-02AAB259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28288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4000" y="2638080"/>
            <a:ext cx="28288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73280" y="4258800"/>
            <a:ext cx="579744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EC357-29A0-4AEE-8071-AE4C3331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579744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673280" y="4258800"/>
            <a:ext cx="579744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1B741-47DC-4A85-967D-0BDD1BD69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28288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000" y="2638080"/>
            <a:ext cx="28288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73280" y="4258800"/>
            <a:ext cx="28288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4000" y="4258800"/>
            <a:ext cx="28288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A3AB0-992E-46C3-A767-C71D7D5D3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1866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33480" y="2638080"/>
            <a:ext cx="1866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594040" y="2638080"/>
            <a:ext cx="1866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673280" y="4258800"/>
            <a:ext cx="1866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33480" y="4258800"/>
            <a:ext cx="1866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594040" y="4258800"/>
            <a:ext cx="1866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E50A2-B5E6-4393-94B9-73AF27664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34FAD-3DD7-4A19-9D77-4FA60D12A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0833C-8798-4329-BE54-1912240F9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325D9-A00C-4738-9FE8-252A613ED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28288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4000" y="2638080"/>
            <a:ext cx="28288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BE16E-B34D-4055-BB8E-12F7701D8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A9E02-2452-4391-9806-43CDEB43B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C6BE-1BCC-4CC1-8683-6B7936DAB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673280" y="964800"/>
            <a:ext cx="5797440" cy="55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57127-FC41-48DC-BAE4-37E2179E9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28288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4000" y="2638080"/>
            <a:ext cx="28288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673280" y="4258800"/>
            <a:ext cx="28288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83BA3-00C1-4BC8-AF26-78EC293F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28288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4000" y="2638080"/>
            <a:ext cx="28288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44000" y="4258800"/>
            <a:ext cx="28288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FF870-B543-493C-865F-9344A851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28288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4000" y="2638080"/>
            <a:ext cx="28288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673280" y="4258800"/>
            <a:ext cx="579744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9F44D-79F7-4685-AEA0-5EB2E78E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579744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673280" y="4258800"/>
            <a:ext cx="579744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10E54-813B-48C7-ABFB-6BA29D110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28288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4000" y="2638080"/>
            <a:ext cx="28288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673280" y="4258800"/>
            <a:ext cx="28288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44000" y="4258800"/>
            <a:ext cx="28288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EC25C-FE93-40A3-B718-6FE3688AC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1866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33480" y="2638080"/>
            <a:ext cx="1866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594040" y="2638080"/>
            <a:ext cx="1866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673280" y="4258800"/>
            <a:ext cx="1866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33480" y="4258800"/>
            <a:ext cx="1866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594040" y="4258800"/>
            <a:ext cx="1866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25C51-CF47-41AD-A924-9A79569D4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42B14-9F62-4E88-8CC0-C51696301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01BE7-D2FF-4C2B-90AB-AFE7283C1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211C8-13FA-4C15-8484-39A2E6755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28288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4000" y="2638080"/>
            <a:ext cx="28288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3DAE-BD67-4B25-B27C-FD3ED49B0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28288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4000" y="2638080"/>
            <a:ext cx="28288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EEF8C-A9F5-4FE5-B95C-3374C0977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91127-5AD8-4DF0-8EA2-2E48A87D9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673280" y="964800"/>
            <a:ext cx="5797440" cy="55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81180-13DC-4D53-8D14-69FF5C6AE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28288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4000" y="2638080"/>
            <a:ext cx="28288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673280" y="4258800"/>
            <a:ext cx="28288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12F88-9762-4383-86DA-25D03B4F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28288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44000" y="2638080"/>
            <a:ext cx="28288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44000" y="4258800"/>
            <a:ext cx="28288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F0EAD-E719-4133-94D7-8D1FE5E6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28288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44000" y="2638080"/>
            <a:ext cx="28288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673280" y="4258800"/>
            <a:ext cx="579744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E009C-429D-4216-97A5-D7ACFCDD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579744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673280" y="4258800"/>
            <a:ext cx="579744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7B745-87BF-424B-8366-8399A1628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28288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4000" y="2638080"/>
            <a:ext cx="28288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673280" y="4258800"/>
            <a:ext cx="28288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44000" y="4258800"/>
            <a:ext cx="28288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4CD48-C4B9-4AFC-988F-850D6122B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1866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633480" y="2638080"/>
            <a:ext cx="1866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594040" y="2638080"/>
            <a:ext cx="1866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673280" y="4258800"/>
            <a:ext cx="1866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633480" y="4258800"/>
            <a:ext cx="1866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594040" y="4258800"/>
            <a:ext cx="1866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36443-8851-44DC-836D-8911EFFBC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3D7D4-CF56-4451-A141-0B7737C82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16A4-6AD0-464F-9932-F77F033A5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FBACA-D2B7-4F00-8BAE-F487C0251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8D52A-FC1E-49D3-945D-316BBDABB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28288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44000" y="2638080"/>
            <a:ext cx="28288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2C70B-2E02-4E84-A617-9AEDCD14E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26743-66C0-405C-95CC-24137980B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1673280" y="964800"/>
            <a:ext cx="5797440" cy="55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A72B2-00DA-49E7-82DF-0EAA5A7B9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28288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4000" y="2638080"/>
            <a:ext cx="28288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673280" y="4258800"/>
            <a:ext cx="28288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E7315-DAF6-4337-B74B-609A2679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28288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44000" y="2638080"/>
            <a:ext cx="28288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44000" y="4258800"/>
            <a:ext cx="28288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1517E-AEB6-42BC-A4F3-526BE209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28288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44000" y="2638080"/>
            <a:ext cx="28288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673280" y="4258800"/>
            <a:ext cx="579744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A6F79-A37F-4698-8B35-83AC5CD3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579744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673280" y="4258800"/>
            <a:ext cx="579744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1BC5A-BE8E-4EA6-A34E-2D51365C6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28288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44000" y="2638080"/>
            <a:ext cx="28288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673280" y="4258800"/>
            <a:ext cx="28288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44000" y="4258800"/>
            <a:ext cx="28288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04B2D-3CA7-4E80-A576-592FF861D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73280" y="964800"/>
            <a:ext cx="5797440" cy="55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9688-0861-4F04-B611-66A6CC399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1866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633480" y="2638080"/>
            <a:ext cx="1866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594040" y="2638080"/>
            <a:ext cx="1866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1673280" y="4258800"/>
            <a:ext cx="1866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633480" y="4258800"/>
            <a:ext cx="1866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594040" y="4258800"/>
            <a:ext cx="1866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EECDA-CF8A-495C-AC5D-DF8CFECD3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28288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4000" y="2638080"/>
            <a:ext cx="28288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73280" y="4258800"/>
            <a:ext cx="28288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4CA5-B7EA-4B22-9B46-780518EE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28288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4000" y="2638080"/>
            <a:ext cx="28288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4000" y="4258800"/>
            <a:ext cx="28288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B26A-92EC-4ED6-B2FB-D1E72380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28288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4000" y="2638080"/>
            <a:ext cx="28288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73280" y="4258800"/>
            <a:ext cx="579744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2AB5-B7D7-434C-9DEB-3009572D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262626"/>
                </a:solidFill>
                <a:latin typeface="Gill Sans MT"/>
              </a:rPr>
              <a:t>Click to edit the title text format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Gill Sans MT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  <a:p>
            <a:pPr lvl="1" marL="343080" indent="-171720"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Gill Sans MT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  <a:p>
            <a:pPr lvl="2" marL="514440" indent="-171360"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Gill Sans MT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  <a:p>
            <a:pPr lvl="3" marL="685800" indent="-171360"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Gill Sans MT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  <a:p>
            <a:pPr lvl="4" marL="857160" indent="-171360"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Gill Sans MT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  <a:p>
            <a:pPr lvl="5" marL="857160" indent="-171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Gill Sans MT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  <a:p>
            <a:pPr lvl="6" marL="857160" indent="-171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Gill Sans MT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865480" y="6238800"/>
            <a:ext cx="20653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00240" y="6235200"/>
            <a:ext cx="442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09000" y="6271560"/>
            <a:ext cx="194760" cy="258480"/>
          </a:xfrm>
          <a:prstGeom prst="rect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txBody>
          <a:bodyPr lIns="18360" rIns="18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6FD429-D0DB-4DBF-A544-32D902E8C0C6}" type="slidenum"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af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262626"/>
                </a:solidFill>
                <a:latin typeface="Gill Sans MT"/>
              </a:rPr>
              <a:t>Click to edit the title text format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Gill Sans MT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  <a:p>
            <a:pPr lvl="1" marL="343080" indent="-171720"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Gill Sans MT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  <a:p>
            <a:pPr lvl="2" marL="514440" indent="-171360"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Gill Sans MT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  <a:p>
            <a:pPr lvl="3" marL="685800" indent="-171360"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Gill Sans MT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  <a:p>
            <a:pPr lvl="4" marL="857160" indent="-171360"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Gill Sans MT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  <a:p>
            <a:pPr lvl="5" marL="857160" indent="-17136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Gill Sans MT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  <a:p>
            <a:pPr lvl="6" marL="857160" indent="-17136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Gill Sans MT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865480" y="6238800"/>
            <a:ext cx="20653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1200240" y="6235200"/>
            <a:ext cx="442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109000" y="6271560"/>
            <a:ext cx="194760" cy="258480"/>
          </a:xfrm>
          <a:prstGeom prst="rect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txBody>
          <a:bodyPr lIns="18360" rIns="18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82A6F3-F0DB-4F20-B18D-DA235025668D}" type="slidenum"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a21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262626"/>
                </a:solidFill>
                <a:latin typeface="Gill Sans MT"/>
              </a:rPr>
              <a:t>Click to edit the title text format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Gill Sans MT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  <a:p>
            <a:pPr lvl="1" marL="343080" indent="-171720"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Gill Sans MT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  <a:p>
            <a:pPr lvl="2" marL="514440" indent="-171360"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Gill Sans MT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  <a:p>
            <a:pPr lvl="3" marL="685800" indent="-171360"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Gill Sans MT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  <a:p>
            <a:pPr lvl="4" marL="857160" indent="-171360"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Gill Sans MT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  <a:p>
            <a:pPr lvl="5" marL="857160" indent="-17136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Gill Sans MT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  <a:p>
            <a:pPr lvl="6" marL="857160" indent="-17136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Gill Sans MT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865480" y="6238800"/>
            <a:ext cx="20653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1200240" y="6235200"/>
            <a:ext cx="442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109000" y="6271560"/>
            <a:ext cx="194760" cy="258480"/>
          </a:xfrm>
          <a:prstGeom prst="rect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txBody>
          <a:bodyPr lIns="18360" rIns="18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D622E9-F3CF-4FDC-AF59-7F9C37E5B4EA}" type="slidenum"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5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ba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262626"/>
                </a:solidFill>
                <a:latin typeface="Gill Sans MT"/>
              </a:rPr>
              <a:t>Click to edit the title text format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Gill Sans MT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  <a:p>
            <a:pPr lvl="1" marL="343080" indent="-171720"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Gill Sans MT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  <a:p>
            <a:pPr lvl="2" marL="514440" indent="-171360"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Gill Sans MT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  <a:p>
            <a:pPr lvl="3" marL="685800" indent="-171360"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Gill Sans MT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  <a:p>
            <a:pPr lvl="4" marL="857160" indent="-171360"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Gill Sans MT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  <a:p>
            <a:pPr lvl="5" marL="857160" indent="-171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Gill Sans MT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  <a:p>
            <a:pPr lvl="6" marL="857160" indent="-171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Gill Sans MT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5865480" y="6238800"/>
            <a:ext cx="20653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603360" y="6235200"/>
            <a:ext cx="38433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8109000" y="6271560"/>
            <a:ext cx="194760" cy="258480"/>
          </a:xfrm>
          <a:prstGeom prst="rect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txBody>
          <a:bodyPr lIns="18360" rIns="18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BBA3FB-0341-45DC-A36A-643174179D2B}" type="slidenum"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7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ba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262626"/>
                </a:solidFill>
                <a:latin typeface="Gill Sans MT"/>
              </a:rPr>
              <a:t>Click to edit the title text format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Gill Sans MT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  <a:p>
            <a:pPr lvl="1" marL="343080" indent="-171720"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Gill Sans MT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  <a:p>
            <a:pPr lvl="2" marL="514440" indent="-171360"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Gill Sans MT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  <a:p>
            <a:pPr lvl="3" marL="685800" indent="-171360"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Gill Sans MT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  <a:p>
            <a:pPr lvl="4" marL="857160" indent="-171360"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Gill Sans MT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  <a:p>
            <a:pPr lvl="5" marL="857160" indent="-171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Gill Sans MT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  <a:p>
            <a:pPr lvl="6" marL="857160" indent="-171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Gill Sans MT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5865480" y="6238800"/>
            <a:ext cx="20653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603360" y="6235200"/>
            <a:ext cx="38433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8109000" y="6271560"/>
            <a:ext cx="194760" cy="258480"/>
          </a:xfrm>
          <a:prstGeom prst="rect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txBody>
          <a:bodyPr lIns="18360" rIns="18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5DAAC2-45E5-44C0-8319-9DFD82754C63}" type="slidenum"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00240" y="2385720"/>
            <a:ext cx="6743520" cy="164628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404040"/>
            </a:solidFill>
            <a:miter/>
          </a:ln>
        </p:spPr>
        <p:txBody>
          <a:bodyPr lIns="274320" rIns="274320" tIns="182880" bIns="1828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Corbel"/>
              </a:rPr>
              <a:t>ВИКТОРИНА ПО ИТОГАМ ГЛАВЫ №3 УЧЕБНИКА «ВСЕОБЩАЯ ИСТОРИЯ»</a:t>
            </a:r>
            <a:endParaRPr b="0" lang="en-US" sz="2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2021040" y="4352760"/>
            <a:ext cx="5101920" cy="123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orbel"/>
              </a:rPr>
              <a:t>Подготовила: учитель истории и обществознания МБОУ «Мошинская средняя школа» Щипунова Надежда Ивановна</a:t>
            </a:r>
            <a:endParaRPr b="0" lang="en-US" sz="1500" spc="-1" strike="noStrike">
              <a:solidFill>
                <a:srgbClr val="262626"/>
              </a:solidFill>
              <a:latin typeface="Gill Sans MT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orbel"/>
              </a:rPr>
              <a:t>Для учеников 9 класса</a:t>
            </a:r>
            <a:endParaRPr b="0" lang="en-US" sz="15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С помощью специального поземельного налога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Открытое вмешательство во внутренние дела латиноамериканского государства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ВОПРОС №50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Для чего странам Европы (и другим странам) были нужны колонии? 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orbel"/>
              </a:rPr>
              <a:t>ФИНАЛ</a:t>
            </a:r>
            <a:endParaRPr b="0" lang="en-US" sz="3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ctr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orbel"/>
              </a:rPr>
              <a:t>Большое спасибо за участие! Теперь подведем результаты викторины и определим победителя</a:t>
            </a:r>
            <a:endParaRPr b="0" lang="en-US" sz="36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ВОПРОС №5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Наёмные солдаты, набранные из представителей высших каст севера Индии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Сипаи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ВОПРОС №6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Из-за чего произошло восстание сипаев?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Прошёл слух, что оболочка патронов, которую нужно было скусывать зубами, была смазана коровьим и свиным жиром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ВОПРОС №7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В каком году королева Виктория стала «императрицей Индии»?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В 1876 году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ВОПРОС №8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Индийская «Жанна д</a:t>
            </a:r>
            <a:r>
              <a:rPr b="0" lang="en-US" sz="3200" spc="-1" strike="noStrike">
                <a:solidFill>
                  <a:srgbClr val="262626"/>
                </a:solidFill>
                <a:latin typeface="Gill Sans MT"/>
              </a:rPr>
              <a:t>’А</a:t>
            </a: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рк»? 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Княжна Лакшми-бай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ВОПРОС №9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Как расшифровывается ИНК?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Corbel"/>
              </a:rPr>
              <a:t>НАЗВАНИЕ КОМАНДЫ:</a:t>
            </a:r>
            <a:endParaRPr b="0" lang="en-US" sz="2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orbel"/>
              </a:rPr>
              <a:t>Сипаи</a:t>
            </a:r>
            <a:endParaRPr b="0" lang="en-US" sz="2400" spc="-1" strike="noStrike">
              <a:solidFill>
                <a:srgbClr val="262626"/>
              </a:solidFill>
              <a:latin typeface="Gill Sans MT"/>
            </a:endParaRPr>
          </a:p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orbel"/>
              </a:rPr>
              <a:t>Самураи</a:t>
            </a:r>
            <a:endParaRPr b="0" lang="en-US" sz="2400" spc="-1" strike="noStrike">
              <a:solidFill>
                <a:srgbClr val="262626"/>
              </a:solidFill>
              <a:latin typeface="Gill Sans MT"/>
            </a:endParaRPr>
          </a:p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orbel"/>
              </a:rPr>
              <a:t>Команда королевы Виктории</a:t>
            </a:r>
            <a:endParaRPr b="0" lang="en-US" sz="2400" spc="-1" strike="noStrike">
              <a:solidFill>
                <a:srgbClr val="262626"/>
              </a:solidFill>
              <a:latin typeface="Gill Sans MT"/>
            </a:endParaRPr>
          </a:p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orbel"/>
              </a:rPr>
              <a:t>Ост-Индская Торговая Компания</a:t>
            </a:r>
            <a:endParaRPr b="0" lang="en-US" sz="2400" spc="-1" strike="noStrike">
              <a:solidFill>
                <a:srgbClr val="262626"/>
              </a:solidFill>
              <a:latin typeface="Gill Sans MT"/>
            </a:endParaRPr>
          </a:p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orbel"/>
              </a:rPr>
              <a:t>Тайпины </a:t>
            </a:r>
            <a:endParaRPr b="0" lang="en-US" sz="2400" spc="-1" strike="noStrike">
              <a:solidFill>
                <a:srgbClr val="262626"/>
              </a:solidFill>
              <a:latin typeface="Gill Sans MT"/>
            </a:endParaRPr>
          </a:p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orbel"/>
              </a:rPr>
              <a:t>Великие колонизаторы</a:t>
            </a:r>
            <a:endParaRPr b="0" lang="en-US" sz="24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Индийский Национальный Конгресс 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ВОПРОС №10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Новая династия Персов в первой половине 19-ого века?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Династия Каджаров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ВОПРОС №11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Какого дипломата и писателя убили в Тегеране в 1829 году?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А.С. Грибоедов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ВОПРОС №12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Какой алмаз персидская делегация привезла императору Николаю 1 для смягчения его гнева?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Алмаз «Шах»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ВОПРОС №13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Учение, созданное Али Мухаммедом в 1844 году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Учение бабизма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ВОПРОС №14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Название парламента в Персии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ВОПРОС №1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Corbel"/>
              </a:rPr>
              <a:t>Замкнутые группы в индийском обществе</a:t>
            </a:r>
            <a:endParaRPr b="0" lang="en-US" sz="28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Меджлиз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ВОПРОС №15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Кто разделил территорию Персии в 1907 году из-за ее нестабильного положения?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Россия – север, Англия - юг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ВОПРОС №16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Еще одна зона англо-русских противоречий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Афганистан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ВОПРОС №17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Именно это играло в Афганистане в 19-ом веке важнейшую роль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Мусульманское духовенство 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ВОПРОС №18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Какие два вектора колонизации столкнулись в Афганистане? 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Русский вектор и английский вектор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ВОПРОС №19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Какой была численность Китая в 1800 году?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Касты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Численность населения – около 320 миллионов человек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ВОПРОС №20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Единственный порт Китая, оставшийся открытым для торговли с иностранцами 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Порт Кантон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ВОПРОС №21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Годы первой «опиумной войны»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1840-1842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ВОПРОС №22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Чем опиум вредил Китаю?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Многие жители становились наркоманами, переставали работать, от этого страдала экономика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ВОПРОС №23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Самое кровавое в мировой истории восстание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Восстание тайпинов в 1850-1864 (около 30 миллионов жертв)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ВОПРОС №24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Глава восстания тайпинов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ВОПРОС №2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673280" y="264744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Центр текстильного ремесла в Индии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Хун Сюцюань 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ВОПРОС №25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Восстание 1900 года в Китае, направленное против засилия чужеземцев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Восстание ихэтуань 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ВОПРОС №26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Партия, основанная Сунь Ят Сеном, запрещенная через год Юань Шикаем 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Партия Гоминьдан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ВОПРОС №27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Крупные князья в Японии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Даймё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ВОПРОС №28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59120" indent="-15912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В 1867 году в Японии произошел переворот, и власть, впервые за много веков перешла из рук сёгуна в руки императора. Кто стал императором в этот момент?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Император Муцухито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ВОПРОС №29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Какое новое имя принял император Муцухито?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Область Бенгалия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Император Мэйдзи 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ВОПРОС №30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Годы Русско-японской войны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1904-1905 г.г.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ВОПРОС №31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Наиболее развитая часть Африки в начале 19-ого века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Север, северная часть Африки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ВОПРОС №32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Султанат в восточной части Африки, одно из самых крупных государств южнее Сахары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Султанат Занзибар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ВОПРОС №33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Немецкий исследователь Судана 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Г. Барт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ВОПРОС №34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Какие три африканских реки нужно было исследовать в первую очередь?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ВОПРОС №3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В каком году Ост-Индская Торговая Компания покорила Индию?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Реки Нигер, Нил и Конго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ВОПРОС №35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Шотландский путешественник, исследователь реки Нигер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М. Парк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ВОПРОС №36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Самая крупная и богатая страна Африки?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Египет – самая крупная и богатая страна Африки в 19-ом веке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ВОПРОС №37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Какую партию создали недовольные египтяне в 1881 году?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Партия Ватан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ВОПРОС №38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Какие страны приняли участие в «гонке за Африку»?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Англия, Франция, Германия, Италия, Испания, Португалия и Бельгия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ВОПРОС №39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Кому принадлежало около трети Африки? 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В 1849 году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Около трети Африки принадлежало Франции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ВОПРОС №40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Какие из стран Африки сохранили независимость? 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Либерия и Эфиопия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ВОПРОС №41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Как, с латинского, переводится название государства Либерия?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Либерия – от латинского слова «свободная»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ВОПРОС №42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Какой африканской стране удалось сохранить политическую самостоятельность?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Эфиопия – именно ей удалось сохранить политическую самостоятельность 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ВОПРОС №43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Потомки голландских переселенцев (название)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Потомки голландских переселенцев - буры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ВОПРОС №44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Владения крупных помещиков в Латинской Америке (название)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ВОПРОС №4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С помощью чего эксплуатировалось индийское население?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Владения крупных помещиков в Латинской Америке – латифундии 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ВОПРОС №45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Крестьяне-скотоводы в Латинской Америке (название)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Крестьяне-скотоводы в Латинской Америке - гаучо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ВОПРОС №46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Предводитель восстания борьбы за независимость Латинской Америки, вспыхнувшего в Венесуэле в 1810 году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Симон Боливар – знаменитый борец за независимость Латинской Америки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ВОПРОС №47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Продолжите фразу Симона Боливара: «Америка неуправляема. Те, кто революции…»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Продолжите фразу Симона Боливара: «Америка неуправляема. Те, кто революции пашут море»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ВОПРОС №48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Солидарность стран обеих Америк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Солидарность стран обеих Америк – панамериканизм 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ВОПРОС №49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Что такое «политика большой дубинки»?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11-26T14:19:46Z</dcterms:created>
  <dc:creator>Windows User</dc:creator>
  <dc:description/>
  <dc:language>en-US</dc:language>
  <cp:lastModifiedBy>Windows User</cp:lastModifiedBy>
  <dcterms:modified xsi:type="dcterms:W3CDTF">2023-12-21T16:35:19Z</dcterms:modified>
  <cp:revision>8</cp:revision>
  <dc:subject/>
  <dc:title>Викторина по итогам главы №3 учебника «Всеобщая история»</dc:title>
</cp:coreProperties>
</file>