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56D-88B9-4161-9A87-6CD8970F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A13-B22F-4126-A1AA-9FCDE25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AD2-9CA6-4B27-9E84-488D9965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F83-548A-47D6-9F5D-E64DAEAA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B510-E02F-48B7-9DC5-C771281A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161-BE01-4999-AE09-B5BFC461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7EAB-8148-4EFC-AF10-8E5D6B21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BA0F-A3EF-4049-B754-28CF386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C5BD-C36C-4750-925F-520193B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E8CB-FBB8-4BE1-B5D1-23DDFB58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9A44-5DF9-4CE1-A48E-D60A0EB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AB0-D09B-401E-8681-ABABA66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647-8AF7-4EA1-831A-AF94A0EF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0D1D-9228-4BA6-9F82-4BEB3257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CB03-11D2-4023-838B-416E054B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8CCA-4B25-44D1-99A2-80C7153E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ABC3-B85E-4187-BC5C-E2D2C6F1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6DA1-FB5B-404A-9D93-EE8A62D3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8A93-AADE-4953-B9BD-D7F5FF78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960F-E267-4639-8FD1-869615D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30B87-DB54-480C-AD80-468E522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A36E-117E-48FB-B9C1-B003F4A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D37-FF4D-43EC-BA43-3CDC99CB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0A3E-A271-43D9-AB3E-D434067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2FED-371B-4515-A53D-8AD2E47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B94B-A9B8-40DE-95B4-A2C1EE2F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B2A1-22A5-4CAE-9DFF-7819984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E2EE-390F-432D-8DF9-313C37D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F32A-9691-4593-952A-2F1FDC3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563F-3124-4AD3-B635-10BF760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52AFD-CAC4-4D29-9806-C2BA9A65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300D-57B8-4DCB-8D9C-44544D1D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1806-A96D-4F79-9CD5-4D615D2F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54E-DE02-42D5-A1ED-34E49493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96F7-9724-457E-8C76-5319E0FE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3450-25A1-4727-8342-015BE679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D3AC-3175-45F6-B5C1-78587161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1C16-E2DD-4685-AF25-2FC56D24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7FD2-3B8F-4130-9FF1-5DA00FA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E8DD-D486-4AAF-BE8B-281DECD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CDB8-A36B-4FE9-BA3F-A05AD4D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3710-2290-4BEF-AC1F-C29E3717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305F2-E5EB-496B-9F76-46731290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BF70-4120-477F-B391-FC4166BF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21A-8B0F-477F-B519-2926DA64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E2CC-3544-4E78-87AE-33E61D57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E4AB9-5FED-4EDC-A6CF-ABABF5D6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89C9-759B-4397-9514-F6EF5161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01F2-8CDA-4AD9-B8A5-69948EF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46C5F-DEC1-49C2-A918-354CCB0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83E45-28E0-4F2E-941F-8810564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3B68B-5805-4086-AB2D-6E27185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8566-4D9F-498A-A1A1-77BE87B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B7A6-E3D1-4FF3-93D0-B9929A5C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408BB-57DE-4800-B1E3-8742FFBC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44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785-5626-4C49-964A-BC9AC011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3348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594040" y="263808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732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3348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594040" y="4258800"/>
            <a:ext cx="1866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852E-EBA4-4796-863A-67541AD5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9FB-3ABC-4E06-B0B5-1473D1DE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25880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D39-CEB1-4652-9D6C-77175B4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3280" y="4258800"/>
            <a:ext cx="579744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DF-73D9-4F55-8259-4E32D4BC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43211-5D29-4868-BDA4-FC884195C6A3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8658B-B1DF-4F4C-8C7B-7B20EB7EBE6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200240" y="6235200"/>
            <a:ext cx="442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78AD8-5DC3-4D39-9B16-07D3AE45939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03360" y="6235200"/>
            <a:ext cx="384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AD7E8-5641-4A1C-BBFB-10BCD93AA880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1" marL="343080" indent="-17172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2" marL="51444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3" marL="68580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4" marL="857160" indent="-171360"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5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  <a:p>
            <a:pPr lvl="6" marL="857160" indent="-171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86548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03360" y="6235200"/>
            <a:ext cx="384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109000" y="6271560"/>
            <a:ext cx="19476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B3A4B-8B5B-45F4-9D31-3186E39C53A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00240" y="2385720"/>
            <a:ext cx="6743520" cy="1646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ВИКТОРИНА ПО ИТОГАМ ГЛАВЫ №3 УЧЕБНИКА «ВСЕОБЩАЯ ИСТОРИЯ»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Подготовила: учитель истории и обществознания МБОУ «Мошинская средняя школа» Щипунова Надежда Ивановна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orbel"/>
              </a:rPr>
              <a:t>Для учеников 9 класса</a:t>
            </a:r>
            <a:endParaRPr b="0" lang="en-US" sz="15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 помощью специального поземельного налог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ткрытое вмешательство во внутренние дела латиноамериканского государств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5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ля чего странам Европы (и другим странам) были нужны колонии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ФИНАЛ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Большое спасибо за участие! Теперь подведем результаты викторины и определим победителя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ёмные солдаты, набранные из представителей высших каст севера Инд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ипа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з-за чего произошло восстание сипаев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шёл слух, что оболочка патронов, которую нужно было скусывать зубами, была смазана коровьим и свиным жиром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каком году королева Виктория стала «императрицей Индии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76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ндийская «Жанна д</a:t>
            </a:r>
            <a:r>
              <a:rPr b="0" lang="en-US" sz="3200" spc="-1" strike="noStrike">
                <a:solidFill>
                  <a:srgbClr val="262626"/>
                </a:solidFill>
                <a:latin typeface="Gill Sans MT"/>
              </a:rPr>
              <a:t>’А</a:t>
            </a: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к»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няжна Лакшми-бай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 расшифровывается ИНК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НАЗВАНИЕ КОМАНДЫ: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Сипа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Самура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Команда королевы Виктории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Ост-Индская Торговая Комп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Тайпины 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rbel"/>
              </a:rPr>
              <a:t>Великие колонизатор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ндийский Национальный Конгресс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овая династия Персов в первой половине 19-ого века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инастия Каджар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го дипломата и писателя убили в Тегеране в 1829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.С. Грибоед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алмаз персидская делегация привезла императору Николаю 1 для смягчения его гнева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лмаз «Шах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Учение, созданное Али Мухаммедом в 1844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Учение бабизм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звание парламента в Перс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Замкнутые группы в индийском обществе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еджлиз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то разделил территорию Персии в 1907 году из-за ее нестабильного положения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оссия – север, Англия - юг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ще одна зона англо-русских противоречий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фганист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енно это играло в Афганистане в 19-ом веке важнейшую роль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усульманское духовенство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два вектора колонизации столкнулись в Афганистане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усский вектор и английский векто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1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была численность Китая в 1800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ст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исленность населения – около 320 миллионов челове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динственный порт Китая, оставшийся открытым для торговли с иностранцам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рт Канто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оды первой «опиумной войны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1840-1842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ем опиум вредил Китаю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ногие жители становились наркоманами, переставали работать, от этого страдала экономик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амое кровавое в мировой истории восстание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тайпинов в 1850-1864 (около 30 миллионов жертв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лава восстания тайпино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73280" y="264744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Центр текстильного ремесла в Инд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Хун Сюцюан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1900 года в Китае, направленное против засилия чужеземцев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осстание ихэтуан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, основанная Сунь Ят Сеном, запрещенная через год Юань Шикаем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 Гоминьд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упные князья в Япон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Даймё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67 году в Японии произошел переворот, и власть, впервые за много веков перешла из рук сёгуна в руки императора. Кто стал императором в этот момент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ператор Муцухит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2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е новое имя принял император Муцухито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бласть Бенгал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Император Мэйдз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оды Русско-японской войн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1904-1905 г.г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аиболее развитая часть Африки в начале 19-ого века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евер, северная часть Африк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ултанат в восточной части Африки, одно из самых крупных государств южнее Сахар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ултанат Занзиба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Немецкий исследователь Судана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Г. Барт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три африканских реки нужно было исследовать в первую очередь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каком году Ост-Индская Торговая Компания покорила Индию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Реки Нигер, Нил и Конг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Шотландский путешественник, исследователь реки Нигер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М. Пар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амая крупная и богатая страна Африки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Египет – самая крупная и богатая страна Африки в 19-ом веке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ую партию создали недовольные египтяне в 1881 году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артия Ватан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страны приняли участие в «гонке за Африку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Англия, Франция, Германия, Италия, Испания, Португалия и Бельг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3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ому принадлежало около трети Африки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 1849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Около трети Африки принадлежало Франци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0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ие из стран Африки сохранили независимость?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Либерия и Эфиопия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1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, с латинского, переводится название государства Либерия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Либерия – от латинского слова «свободная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2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акой африканской стране удалось сохранить политическую самостоятельность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Эфиопия – именно ей удалось сохранить политическую самостоятельность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3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томки голландских переселенцев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отомки голландских переселенцев - буры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ладения крупных помещиков в Латинской Америке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 помощью чего эксплуатировалось индийское население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Владения крупных помещиков в Латинской Америке – латифундии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5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естьяне-скотоводы в Латинской Америке (название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Крестьяне-скотоводы в Латинской Америке - гаучо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6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едводитель восстания борьбы за независимость Латинской Америки, вспыхнувшего в Венесуэле в 1810 году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имон Боливар – знаменитый борец за независимость Латинской Америки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7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должите фразу Симона Боливара: «Америка неуправляема. Те, кто революции…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Продолжите фразу Симона Боливара: «Америка неуправляема. Те, кто революции пашут море»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8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олидарность стран обеих Америк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Солидарность стран обеих Америк – панамериканизм 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44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Corbel"/>
              </a:rPr>
              <a:t>ВОПРОС №49</a:t>
            </a:r>
            <a:endParaRPr b="0" lang="en-US" sz="21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673280" y="2638080"/>
            <a:ext cx="579744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9bafb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Что такое «политика большой дубинки»?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6T14:19:46Z</dcterms:created>
  <dc:creator>Windows User</dc:creator>
  <dc:description/>
  <dc:language>en-US</dc:language>
  <cp:lastModifiedBy>Windows User</cp:lastModifiedBy>
  <dcterms:modified xsi:type="dcterms:W3CDTF">2023-12-21T16:35:19Z</dcterms:modified>
  <cp:revision>8</cp:revision>
  <dc:subject/>
  <dc:title>Викторина по итогам главы №3 учебника «Всеобщая история»</dc:title>
</cp:coreProperties>
</file>