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9274-5632-495C-B543-42CABE81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0352-415F-4BED-9BEA-ACB63FCD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A62B-FAC2-472E-B4D0-A119085CA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302A-0ECD-4FA2-B45C-3B2CB1FC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EF2F-9173-465E-960C-45942E01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E37F-9725-4043-83EE-4D253545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E9C6-A8FE-45B9-BE99-12FA2F0C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46A7-3891-4EB5-BF75-D2B093ED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114B-6BC6-48AE-9CFE-ADE71F03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8652-0C39-4583-9EDD-A50A736D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9A84-46D1-45B9-88CA-09D1D8D3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ADC0-A11A-4523-8F66-17EC6BEE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F772-9EDB-4F11-B902-2D6238B5F1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ычаи и традиции русского народ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s://avatars.mds.yandex.net/i?id=37a04f96f965dabe39a2e9107a8e7aa6_l-4393404-images-thumbs&amp;ref=rim&amp;n=13&amp;w=1080&amp;h=1080"/>
          <p:cNvPicPr/>
          <p:nvPr/>
        </p:nvPicPr>
        <p:blipFill>
          <a:blip r:embed="rId1"/>
          <a:stretch/>
        </p:blipFill>
        <p:spPr>
          <a:xfrm>
            <a:off x="2411280" y="1844640"/>
            <a:ext cx="444204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Содержимое 3" descr="kak-samomu-sdelat-russkuyu-pech-2.jpg"/>
          <p:cNvPicPr/>
          <p:nvPr/>
        </p:nvPicPr>
        <p:blipFill>
          <a:blip r:embed="rId1"/>
          <a:stretch/>
        </p:blipFill>
        <p:spPr>
          <a:xfrm>
            <a:off x="900000" y="404640"/>
            <a:ext cx="7589880" cy="5691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3" descr="aaa83c30ead89323709f35cd5b25fb76.jpg"/>
          <p:cNvPicPr/>
          <p:nvPr/>
        </p:nvPicPr>
        <p:blipFill>
          <a:blip r:embed="rId1"/>
          <a:stretch/>
        </p:blipFill>
        <p:spPr>
          <a:xfrm>
            <a:off x="1908000" y="0"/>
            <a:ext cx="4967640" cy="6761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ttps://klubmama.ru/uploads/posts/2022-09/1662036415_30-klubmama-ru-p-matreshka-simvol-rossii-podelka-foto-31.jpg"/>
          <p:cNvPicPr/>
          <p:nvPr/>
        </p:nvPicPr>
        <p:blipFill>
          <a:blip r:embed="rId2"/>
          <a:stretch/>
        </p:blipFill>
        <p:spPr>
          <a:xfrm>
            <a:off x="539640" y="476280"/>
            <a:ext cx="8116920" cy="62294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s://cdn.culture.ru/images/ae4be484-a3ef-5d7a-a799-73c96dff3827"/>
          <p:cNvPicPr/>
          <p:nvPr/>
        </p:nvPicPr>
        <p:blipFill>
          <a:blip r:embed="rId2"/>
          <a:stretch/>
        </p:blipFill>
        <p:spPr>
          <a:xfrm>
            <a:off x="468360" y="201600"/>
            <a:ext cx="8280360" cy="6243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3" descr="DSC06944.jpg"/>
          <p:cNvPicPr/>
          <p:nvPr/>
        </p:nvPicPr>
        <p:blipFill>
          <a:blip r:embed="rId1"/>
          <a:stretch/>
        </p:blipFill>
        <p:spPr>
          <a:xfrm>
            <a:off x="1979640" y="333360"/>
            <a:ext cx="4824360" cy="5861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8T13:14:33Z</dcterms:created>
  <dc:creator>ADMIN</dc:creator>
  <dc:description/>
  <dc:language>en-US</dc:language>
  <cp:lastModifiedBy>Детский сад</cp:lastModifiedBy>
  <dcterms:modified xsi:type="dcterms:W3CDTF">2023-03-14T07:29:59Z</dcterms:modified>
  <cp:revision>11</cp:revision>
  <dc:subject/>
  <dc:title>«Обычаи и традиции русского народа. Русский фольклор»</dc:title>
</cp:coreProperties>
</file>