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318-20F8-44FB-A127-38B3F510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E48-D325-4D10-9854-9D494897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CE0-AD2A-4A49-A49A-3E337FC7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740-3E0D-45B3-A2A1-89696961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37E-632F-4EC6-9F76-3897F916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14A-17DD-4661-B9E0-5A78F014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824-9893-44E8-BE29-A59F3F19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6B7-7B92-4719-BF52-72C69417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415-F404-4776-855E-8950C9A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99E-2B38-46DF-8360-7B7FE35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DED-3BE1-40F7-89B1-3931FA4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AA2-F8B2-448E-A7DD-D1B5F667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D17D-F4AD-4CF9-9663-C5C61B00E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ычаи и традиции русского народ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i?id=37a04f96f965dabe39a2e9107a8e7aa6_l-4393404-images-thumbs&amp;ref=rim&amp;n=13&amp;w=1080&amp;h=1080"/>
          <p:cNvPicPr/>
          <p:nvPr/>
        </p:nvPicPr>
        <p:blipFill>
          <a:blip r:embed="rId1"/>
          <a:stretch/>
        </p:blipFill>
        <p:spPr>
          <a:xfrm>
            <a:off x="2411280" y="1844640"/>
            <a:ext cx="44420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kak-samomu-sdelat-russkuyu-pech-2.jpg"/>
          <p:cNvPicPr/>
          <p:nvPr/>
        </p:nvPicPr>
        <p:blipFill>
          <a:blip r:embed="rId1"/>
          <a:stretch/>
        </p:blipFill>
        <p:spPr>
          <a:xfrm>
            <a:off x="900000" y="404640"/>
            <a:ext cx="7589880" cy="569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aaa83c30ead89323709f35cd5b25fb76.jpg"/>
          <p:cNvPicPr/>
          <p:nvPr/>
        </p:nvPicPr>
        <p:blipFill>
          <a:blip r:embed="rId1"/>
          <a:stretch/>
        </p:blipFill>
        <p:spPr>
          <a:xfrm>
            <a:off x="1908000" y="0"/>
            <a:ext cx="4967640" cy="676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s://klubmama.ru/uploads/posts/2022-09/1662036415_30-klubmama-ru-p-matreshka-simvol-rossii-podelka-foto-31.jpg"/>
          <p:cNvPicPr/>
          <p:nvPr/>
        </p:nvPicPr>
        <p:blipFill>
          <a:blip r:embed="rId2"/>
          <a:stretch/>
        </p:blipFill>
        <p:spPr>
          <a:xfrm>
            <a:off x="539640" y="476280"/>
            <a:ext cx="8116920" cy="6229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cdn.culture.ru/images/ae4be484-a3ef-5d7a-a799-73c96dff3827"/>
          <p:cNvPicPr/>
          <p:nvPr/>
        </p:nvPicPr>
        <p:blipFill>
          <a:blip r:embed="rId2"/>
          <a:stretch/>
        </p:blipFill>
        <p:spPr>
          <a:xfrm>
            <a:off x="468360" y="201600"/>
            <a:ext cx="8280360" cy="624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DSC06944.jpg"/>
          <p:cNvPicPr/>
          <p:nvPr/>
        </p:nvPicPr>
        <p:blipFill>
          <a:blip r:embed="rId1"/>
          <a:stretch/>
        </p:blipFill>
        <p:spPr>
          <a:xfrm>
            <a:off x="1979640" y="333360"/>
            <a:ext cx="4824360" cy="586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3:14:33Z</dcterms:created>
  <dc:creator>ADMIN</dc:creator>
  <dc:description/>
  <dc:language>en-US</dc:language>
  <cp:lastModifiedBy>Детский сад</cp:lastModifiedBy>
  <dcterms:modified xsi:type="dcterms:W3CDTF">2023-03-14T07:29:59Z</dcterms:modified>
  <cp:revision>11</cp:revision>
  <dc:subject/>
  <dc:title>«Обычаи и традиции русского народа. Русский фольклор»</dc:title>
</cp:coreProperties>
</file>