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7F2-2864-4ED9-860C-63280261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2CD-DD33-4954-980B-7776A9BB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5D2-A617-406E-ADB0-82A12964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D62-9126-4576-AB8E-1565B09A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C89-FA63-4A10-B4C1-7C7235C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A48-F2EB-450C-BA4B-7A4CBCAD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DB8-F8CE-4983-917C-E258473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BFA-A6ED-4E9E-897C-7462EED3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B88-11DA-46D1-8CC6-27ADE626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B1F-7A12-436A-B0D8-C4B9C1F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137-DF2F-4AF4-9F7C-3B352F53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598-DA4F-4FB8-8AF8-9D17DE0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9DCB-C78F-4D30-9188-B8ABCD142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ычаи и традиции русского народ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i?id=37a04f96f965dabe39a2e9107a8e7aa6_l-4393404-images-thumbs&amp;ref=rim&amp;n=13&amp;w=1080&amp;h=1080"/>
          <p:cNvPicPr/>
          <p:nvPr/>
        </p:nvPicPr>
        <p:blipFill>
          <a:blip r:embed="rId1"/>
          <a:stretch/>
        </p:blipFill>
        <p:spPr>
          <a:xfrm>
            <a:off x="2411280" y="1844640"/>
            <a:ext cx="44420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kak-samomu-sdelat-russkuyu-pech-2.jpg"/>
          <p:cNvPicPr/>
          <p:nvPr/>
        </p:nvPicPr>
        <p:blipFill>
          <a:blip r:embed="rId1"/>
          <a:stretch/>
        </p:blipFill>
        <p:spPr>
          <a:xfrm>
            <a:off x="900000" y="404640"/>
            <a:ext cx="7589880" cy="569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aaa83c30ead89323709f35cd5b25fb76.jpg"/>
          <p:cNvPicPr/>
          <p:nvPr/>
        </p:nvPicPr>
        <p:blipFill>
          <a:blip r:embed="rId1"/>
          <a:stretch/>
        </p:blipFill>
        <p:spPr>
          <a:xfrm>
            <a:off x="1908000" y="0"/>
            <a:ext cx="4967640" cy="676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s://klubmama.ru/uploads/posts/2022-09/1662036415_30-klubmama-ru-p-matreshka-simvol-rossii-podelka-foto-31.jpg"/>
          <p:cNvPicPr/>
          <p:nvPr/>
        </p:nvPicPr>
        <p:blipFill>
          <a:blip r:embed="rId2"/>
          <a:stretch/>
        </p:blipFill>
        <p:spPr>
          <a:xfrm>
            <a:off x="539640" y="476280"/>
            <a:ext cx="8116920" cy="6229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dn.culture.ru/images/ae4be484-a3ef-5d7a-a799-73c96dff3827"/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4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DSC06944.jpg"/>
          <p:cNvPicPr/>
          <p:nvPr/>
        </p:nvPicPr>
        <p:blipFill>
          <a:blip r:embed="rId1"/>
          <a:stretch/>
        </p:blipFill>
        <p:spPr>
          <a:xfrm>
            <a:off x="1979640" y="333360"/>
            <a:ext cx="4824360" cy="586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3:14:33Z</dcterms:created>
  <dc:creator>ADMIN</dc:creator>
  <dc:description/>
  <dc:language>en-US</dc:language>
  <cp:lastModifiedBy>Детский сад</cp:lastModifiedBy>
  <dcterms:modified xsi:type="dcterms:W3CDTF">2023-03-14T07:29:59Z</dcterms:modified>
  <cp:revision>11</cp:revision>
  <dc:subject/>
  <dc:title>«Обычаи и традиции русского народа. Русский фольклор»</dc:title>
</cp:coreProperties>
</file>