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08C1-FCB8-4965-A72A-F41F0076B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4501-59F1-4D42-BF19-1B7E08C8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2FF53A-A54F-42CB-BD2A-DB4EC1B1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D91EC3-D43A-467D-9CE6-CFE4C401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E2C6AB-6EF7-4A01-A416-CB7EB6C2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DA13AA-1F59-4996-AD4D-57942D3D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6E5146-B2D0-4C85-8B1D-28DFC135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9324FD-7584-49FB-866A-A84D93F4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52BF96-FB56-4336-AAA2-9D5F4F58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4C8041-C769-49C2-9E9E-12471DDCB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50C1F-B476-4D9C-9F8E-09D61E031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2BAE-3090-4ED6-8D8B-5615F1F2A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9E4E-75A0-45FC-B097-0786EF410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3168-8DFA-42FE-B5F5-4AA819A63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FFBF-C27F-4F47-A673-CE9079A3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7A38A-6026-4862-B0E9-4688088A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5897F-18C7-4C15-93E4-A97CAE33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698FF-5F9B-4F81-A098-3E8BC472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A359-BE3D-4E26-90C4-7A8CD19B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472DB-37BA-4F6F-A32A-F0471DAF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EB43-200E-4B6F-9BF6-C7BEB689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7989-9BC0-43AF-B121-18C7673C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9F5E-903E-4D92-9B4E-DE6C749D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BBE89-792F-4921-8991-821BF9BB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6240-F050-42B9-A703-F440C44ED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FB0E-E331-4DB0-AAC1-44C103FA1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D8380-0705-47FB-B671-C50FC4414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1F6D5-6A9B-48BC-8A9E-4118CD1D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63EA3-03FF-450C-8B37-A5F06D9F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3E27B-BE4F-40C9-A62B-7C46BB8E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49522-7995-41F3-B321-E90FEF70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C139-1532-40CA-BEAC-E89FDAF2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1AF31-774A-4EB2-9A8F-6881CFAA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31A65-E96E-455D-B523-52084C64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FB36D-4298-4BC4-A20A-2BD48C47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560E6-7DE3-4C04-9118-03C56A52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0BF24-B662-413D-B15A-CB978023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97E7A-229A-4C52-86C0-8D50234BF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30D91-93FA-4C07-B9E7-70EE0535C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1D618-3DDB-4C0E-B038-FE7F4886D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B0F3E-94B2-4F33-B44C-3409E326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FA634-AE3B-4326-9CCF-DD19FCD4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CB36-65B0-4F4E-8325-3562AB61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2F3C7-EB77-4AC4-AF01-1464955B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2305E-B2C1-45C8-B063-EFFC5F99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4EB2C-FD42-4A96-AB7C-5C21BA49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20560-0EE6-4A2B-BFBB-9D8892F2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BB8C3-EE07-4A5C-8A80-0683F904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91746-C7E6-43F9-8469-D491EF07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3A32D-1B03-488B-A92F-BBE0BD3D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3B08D-97F6-4AFE-BD26-C62750DCB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80B68-228A-42F0-8A9E-C91439E95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659BB-909A-4711-8046-649721DB7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196A-1DCF-466C-B736-7C773BA2F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260D2-9C63-4BC3-8C90-964ED081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EC993-5635-46CD-B620-6F5ED2C8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B0C8C-3BCD-41AA-B23D-9793C040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0F45E-F255-4EB3-B3B4-1900C047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FF446-951A-4D18-BF52-548B3805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BF996-F4D2-4F24-809A-080CC38F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E8201-A1EB-44BC-935E-22F826F2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8A2B3-6E1F-4C3E-9855-D49B6385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B9112-1691-48C4-A208-03C564EA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1CDD9-F6C8-43BC-8C18-CC394279B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E3B7-7DBB-4A85-B5D5-8400844A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F7BD5-E17D-415E-B2DD-7207E3350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71874-B18A-4A6F-8015-F42B9BE57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3486C-12D5-441B-AC50-BA15F033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775D9-A9C2-4040-919C-53752C5B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13EE0-508B-4E29-AFFA-2C415DC1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015D1-C9CC-410E-8ABD-6CA8936E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4B826-A7BB-4C06-91C0-1A8F929F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4CDB5-6088-4C09-A361-A8D90F91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01E0B-5EDD-455B-AFC6-7BCAAE76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FE8A8-3289-4C26-8B93-85AB7E2D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8213-A8D8-4461-A6DE-8A79F25A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E5D80-306F-483E-934A-D1B3BD61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7A117-83C9-43B9-967F-5EB1A633C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646B7-FE7F-43C0-801D-30AC15498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A8945-868A-4B67-A636-CBF9391C8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EA65E-1DF7-4CBC-9739-8ADC3F11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C00DE-F8D9-4E5A-93E7-EA216B8F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65A35-DD7A-42C7-AF7C-28867A40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F96DE-0A57-425E-B3B0-1BCBDA7F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6F99B-5102-407A-9FD6-03759A2F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1DBF6-7C17-4C45-89DD-2F1F0AA0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EBF5-6217-4E5C-BA7D-3BA41A04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A93BD-7087-4CA1-A7C3-6397A4B3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4A714-6B80-4DA0-B094-6A79E741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6D636-5AB6-4806-BC0D-0A291F16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60B41-A71B-467C-9BFA-CAE2E2C76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B5F53-445A-4992-A4DA-E984ABE3E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8A173-0627-4874-821B-9FF0CFD85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33A02-A43F-4FED-AE55-8C41357C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F7314-54B1-4457-8CE3-DE89F701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05058-9AED-4566-AFFA-C552364F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F79166-B4E2-48A2-8782-55E67385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91B5-1A50-44D2-8CAE-A921FB8E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0CF22-CEED-4DE4-A7D0-0974262D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308EC-96B9-4CBA-8541-144B569B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19E06-5078-4C02-9A81-F87ED89D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8C59F-9E5C-4AA2-A1BC-8887D49C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F21B3-1DF0-486F-AF1D-531A1BF2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1A95E-8F3B-488B-BE31-CFAAD7FBE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46EA6-9BE8-472C-8288-3E45813DC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95AD5F-FA7A-477D-835F-0875416DA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F86E43-67E6-4A18-8D07-FC7A8259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A9D57-B9CD-4C93-B055-F8852198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4053-230D-4383-BE85-B5B547C290AB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7BAD-B7E3-473A-A9C9-CC4B3F1DAE03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1B22-6AFB-450B-998F-65625ED9DD9B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6ec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6ecf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6ecff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5E75-C905-40DF-B6AB-6488CACE680E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5573-C4F6-4BBB-8FF2-BCD3A9C0362F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309D-CF5C-487D-AAB4-A8DF02686171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01F4-B627-49F0-8D10-5238CEBD3E55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AED2-67CD-4E35-9D46-CFFCE9C507D7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7fd13b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7fd13b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5b6f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5b6f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fb8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1C3A-90A2-4BC6-9D06-AD9BC908769B}" type="slidenum">
              <a:rPr b="0" lang="ru-RU" sz="1200" spc="-1" strike="noStrike">
                <a:solidFill>
                  <a:srgbClr val="6fb8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4"/>
          <p:cNvSpPr/>
          <p:nvPr/>
        </p:nvSpPr>
        <p:spPr>
          <a:xfrm>
            <a:off x="1000080" y="2714760"/>
            <a:ext cx="748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ahoma"/>
              </a:rPr>
              <a:t>Тарелочка из глины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0" name="Picture 7" descr="XXXL"/>
          <p:cNvPicPr/>
          <p:nvPr/>
        </p:nvPicPr>
        <p:blipFill>
          <a:blip r:embed="rId1"/>
          <a:stretch/>
        </p:blipFill>
        <p:spPr>
          <a:xfrm>
            <a:off x="571680" y="3429000"/>
            <a:ext cx="4143240" cy="31320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9" descr="1025136928"/>
          <p:cNvPicPr/>
          <p:nvPr/>
        </p:nvPicPr>
        <p:blipFill>
          <a:blip r:embed="rId2"/>
          <a:stretch/>
        </p:blipFill>
        <p:spPr>
          <a:xfrm>
            <a:off x="571680" y="285840"/>
            <a:ext cx="2286000" cy="22762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1" descr="5c5c6636384e1f55251227e0"/>
          <p:cNvPicPr/>
          <p:nvPr/>
        </p:nvPicPr>
        <p:blipFill>
          <a:blip r:embed="rId3"/>
          <a:stretch/>
        </p:blipFill>
        <p:spPr>
          <a:xfrm>
            <a:off x="3571920" y="500040"/>
            <a:ext cx="2313000" cy="22608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3" descr="1018706782"/>
          <p:cNvPicPr/>
          <p:nvPr/>
        </p:nvPicPr>
        <p:blipFill>
          <a:blip r:embed="rId4"/>
          <a:stretch/>
        </p:blipFill>
        <p:spPr>
          <a:xfrm>
            <a:off x="6572160" y="214200"/>
            <a:ext cx="2220840" cy="221472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4"/>
          <p:cNvSpPr/>
          <p:nvPr/>
        </p:nvSpPr>
        <p:spPr>
          <a:xfrm>
            <a:off x="4643280" y="5286240"/>
            <a:ext cx="4202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готовила: воспитатель группы общеразвивающей направленности для детей от 3 до 4 лет № 10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айбакова Э.Т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2"/>
          <p:cNvSpPr/>
          <p:nvPr/>
        </p:nvSpPr>
        <p:spPr>
          <a:xfrm>
            <a:off x="611280" y="324000"/>
            <a:ext cx="843732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Franklin Gothic Book"/>
              </a:rPr>
              <a:t>Для придания блеска и большей прочности керамические издел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Franklin Gothic Book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Franklin Gothic Book"/>
              </a:rPr>
              <a:t>покрывают специальной глазурью и еще раз обжигают в печ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9" name="Picture 4" descr="5b9bd741f5679514236ac233"/>
          <p:cNvPicPr/>
          <p:nvPr/>
        </p:nvPicPr>
        <p:blipFill>
          <a:blip r:embed="rId1"/>
          <a:stretch/>
        </p:blipFill>
        <p:spPr>
          <a:xfrm>
            <a:off x="285840" y="1428840"/>
            <a:ext cx="4032000" cy="403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40" name="Picture 6" descr="59cf1fcd2aecd6a5215c36e2"/>
          <p:cNvPicPr/>
          <p:nvPr/>
        </p:nvPicPr>
        <p:blipFill>
          <a:blip r:embed="rId2"/>
          <a:stretch/>
        </p:blipFill>
        <p:spPr>
          <a:xfrm>
            <a:off x="4714920" y="1428840"/>
            <a:ext cx="4032360" cy="403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4"/>
          <p:cNvSpPr/>
          <p:nvPr/>
        </p:nvSpPr>
        <p:spPr>
          <a:xfrm>
            <a:off x="1547640" y="468360"/>
            <a:ext cx="685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Вот такая красивая посуда получается из глин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2" name="Picture 6" descr="562949980847926_6c2d"/>
          <p:cNvPicPr/>
          <p:nvPr/>
        </p:nvPicPr>
        <p:blipFill>
          <a:blip r:embed="rId1"/>
          <a:stretch/>
        </p:blipFill>
        <p:spPr>
          <a:xfrm>
            <a:off x="357120" y="1000080"/>
            <a:ext cx="8429760" cy="5622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4"/>
          <p:cNvSpPr/>
          <p:nvPr/>
        </p:nvSpPr>
        <p:spPr>
          <a:xfrm>
            <a:off x="1547640" y="468360"/>
            <a:ext cx="685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ahoma"/>
              </a:rPr>
              <a:t>Вот такая красивая посуда получается из глин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4" name="Picture 8" descr="daad5d4d"/>
          <p:cNvPicPr/>
          <p:nvPr/>
        </p:nvPicPr>
        <p:blipFill>
          <a:blip r:embed="rId1"/>
          <a:stretch/>
        </p:blipFill>
        <p:spPr>
          <a:xfrm>
            <a:off x="500040" y="1143000"/>
            <a:ext cx="8143920" cy="5527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4"/>
          <p:cNvSpPr/>
          <p:nvPr/>
        </p:nvSpPr>
        <p:spPr>
          <a:xfrm>
            <a:off x="3789360" y="142920"/>
            <a:ext cx="216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ПОСУД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ahoma"/>
              </a:rPr>
              <a:t>бывает разна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6" name="Picture 6" descr="2015-Hot-Sale-Low-Price-Frozen-Party"/>
          <p:cNvPicPr/>
          <p:nvPr/>
        </p:nvPicPr>
        <p:blipFill>
          <a:blip r:embed="rId1"/>
          <a:stretch/>
        </p:blipFill>
        <p:spPr>
          <a:xfrm>
            <a:off x="395280" y="692280"/>
            <a:ext cx="2592360" cy="2341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07" name="Picture 8" descr="1013797477"/>
          <p:cNvPicPr/>
          <p:nvPr/>
        </p:nvPicPr>
        <p:blipFill>
          <a:blip r:embed="rId2"/>
          <a:stretch/>
        </p:blipFill>
        <p:spPr>
          <a:xfrm>
            <a:off x="3276720" y="2136600"/>
            <a:ext cx="2808000" cy="2081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08" name="Picture 10" descr="1355fbbe21b6ea4294d00ee222e8f846"/>
          <p:cNvPicPr/>
          <p:nvPr/>
        </p:nvPicPr>
        <p:blipFill>
          <a:blip r:embed="rId3"/>
          <a:stretch/>
        </p:blipFill>
        <p:spPr>
          <a:xfrm>
            <a:off x="6372360" y="620640"/>
            <a:ext cx="2376360" cy="237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09" name="Picture 12" descr="61hbsKO%2B7WL"/>
          <p:cNvPicPr/>
          <p:nvPr/>
        </p:nvPicPr>
        <p:blipFill>
          <a:blip r:embed="rId4"/>
          <a:stretch/>
        </p:blipFill>
        <p:spPr>
          <a:xfrm>
            <a:off x="324000" y="3789360"/>
            <a:ext cx="2592360" cy="228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10" name="Picture 14" descr="51x0wklDjdL"/>
          <p:cNvPicPr/>
          <p:nvPr/>
        </p:nvPicPr>
        <p:blipFill>
          <a:blip r:embed="rId5"/>
          <a:stretch/>
        </p:blipFill>
        <p:spPr>
          <a:xfrm>
            <a:off x="6443640" y="3789360"/>
            <a:ext cx="2376360" cy="2376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11" name="Text Box 15"/>
          <p:cNvSpPr/>
          <p:nvPr/>
        </p:nvSpPr>
        <p:spPr>
          <a:xfrm>
            <a:off x="905040" y="30862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БУМАЖНА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Text Box 16"/>
          <p:cNvSpPr/>
          <p:nvPr/>
        </p:nvSpPr>
        <p:spPr>
          <a:xfrm>
            <a:off x="6804000" y="3086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ДЕРЕВЯННА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Text Box 17"/>
          <p:cNvSpPr/>
          <p:nvPr/>
        </p:nvSpPr>
        <p:spPr>
          <a:xfrm>
            <a:off x="3780000" y="43099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СТЕКЛЯННА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Text Box 18"/>
          <p:cNvSpPr/>
          <p:nvPr/>
        </p:nvSpPr>
        <p:spPr>
          <a:xfrm>
            <a:off x="504360" y="61657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МЕТАЛЛИЧЕСКА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Text Box 19"/>
          <p:cNvSpPr/>
          <p:nvPr/>
        </p:nvSpPr>
        <p:spPr>
          <a:xfrm>
            <a:off x="6520320" y="625320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ПЛАСТИКОВА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2"/>
          <p:cNvSpPr/>
          <p:nvPr/>
        </p:nvSpPr>
        <p:spPr>
          <a:xfrm>
            <a:off x="2987640" y="272880"/>
            <a:ext cx="359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Мы расскажем 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ГЛИНЯНОЙ ПОСУД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7" name="Picture 4" descr="XXL"/>
          <p:cNvPicPr/>
          <p:nvPr/>
        </p:nvPicPr>
        <p:blipFill>
          <a:blip r:embed="rId1"/>
          <a:stretch/>
        </p:blipFill>
        <p:spPr>
          <a:xfrm>
            <a:off x="785880" y="973080"/>
            <a:ext cx="778680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2"/>
          <p:cNvSpPr/>
          <p:nvPr/>
        </p:nvSpPr>
        <p:spPr>
          <a:xfrm>
            <a:off x="1214280" y="357120"/>
            <a:ext cx="7307280" cy="161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Bookman Old Style"/>
              </a:rPr>
              <a:t>   </a:t>
            </a: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Глина – природный материал. Она добывается из земли, обычно в тех местах, где когда-то проходили реки или в карьера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Глина бывает сухой и мокрой, разного цвета и с разными свойствам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9" name="Picture 4" descr="2b4281c93bd44a65377b2df89f9856ae"/>
          <p:cNvPicPr/>
          <p:nvPr/>
        </p:nvPicPr>
        <p:blipFill>
          <a:blip r:embed="rId1"/>
          <a:stretch/>
        </p:blipFill>
        <p:spPr>
          <a:xfrm>
            <a:off x="5143680" y="2500200"/>
            <a:ext cx="3671640" cy="2449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20" name="Picture 6" descr="inx960x640"/>
          <p:cNvPicPr/>
          <p:nvPr/>
        </p:nvPicPr>
        <p:blipFill>
          <a:blip r:embed="rId2"/>
          <a:stretch/>
        </p:blipFill>
        <p:spPr>
          <a:xfrm>
            <a:off x="142920" y="2143080"/>
            <a:ext cx="4836960" cy="328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1357200" y="142920"/>
            <a:ext cx="718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Как люди научились делать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глиняную посуду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500040" y="1000080"/>
            <a:ext cx="835812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Много тысяч лет тому назад на Земле жили первобытные люд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Кто-то из них однажды заметил, что глина мягкая и податливая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из нее можно лепить. Попробовал древний человек слепить горшок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Первая посуда была не такой красивой как сейчас, пропускал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Franklin Gothic Book"/>
              </a:rPr>
              <a:t>воду и трескалас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3" name="Picture 5" descr="img1"/>
          <p:cNvPicPr/>
          <p:nvPr/>
        </p:nvPicPr>
        <p:blipFill>
          <a:blip r:embed="rId1"/>
          <a:stretch/>
        </p:blipFill>
        <p:spPr>
          <a:xfrm>
            <a:off x="1571760" y="2571840"/>
            <a:ext cx="5715000" cy="4286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4"/>
          <p:cNvSpPr/>
          <p:nvPr/>
        </p:nvSpPr>
        <p:spPr>
          <a:xfrm>
            <a:off x="642960" y="214200"/>
            <a:ext cx="8194680" cy="192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Franklin Gothic Book"/>
              </a:rPr>
              <a:t>   </a:t>
            </a:r>
            <a:r>
              <a:rPr b="0" lang="ru-RU" sz="2000" spc="-1" strike="noStrike">
                <a:solidFill>
                  <a:srgbClr val="002060"/>
                </a:solidFill>
                <a:latin typeface="Franklin Gothic Book"/>
              </a:rPr>
              <a:t>Прошло время и люди придумали специальное приспособление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Franklin Gothic Book"/>
              </a:rPr>
              <a:t>для изготовления глиняной посуды. Называлось оно – гончарный круг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Franklin Gothic Book"/>
              </a:rPr>
              <a:t>А чтобы посуда стала более прочной, стали обжигать ее в специальных печа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5" name="Picture 6" descr="Goncharnyiy-Krug-Izobretenie-Kolesa"/>
          <p:cNvPicPr/>
          <p:nvPr/>
        </p:nvPicPr>
        <p:blipFill>
          <a:blip r:embed="rId1"/>
          <a:stretch/>
        </p:blipFill>
        <p:spPr>
          <a:xfrm>
            <a:off x="1500120" y="1643040"/>
            <a:ext cx="6143760" cy="5086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2"/>
          <p:cNvSpPr/>
          <p:nvPr/>
        </p:nvSpPr>
        <p:spPr>
          <a:xfrm>
            <a:off x="1000080" y="214200"/>
            <a:ext cx="7604280" cy="1923480"/>
          </a:xfrm>
          <a:prstGeom prst="rect">
            <a:avLst/>
          </a:prstGeom>
          <a:solidFill>
            <a:srgbClr val="ffffff"/>
          </a:solidFill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Franklin Gothic Book"/>
              </a:rPr>
              <a:t>Людей, которые занимались изготовлением глиняной посуды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Franklin Gothic Book"/>
              </a:rPr>
              <a:t>стали называть гончарами. Гончар брал кусок глины, помещал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Franklin Gothic Book"/>
              </a:rPr>
              <a:t>в центр круга и вращая его, придавал форму будущему горшк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7" name="Picture 4" descr="s1200?webp=false"/>
          <p:cNvPicPr/>
          <p:nvPr/>
        </p:nvPicPr>
        <p:blipFill>
          <a:blip r:embed="rId1"/>
          <a:stretch/>
        </p:blipFill>
        <p:spPr>
          <a:xfrm>
            <a:off x="2786040" y="1363680"/>
            <a:ext cx="3714840" cy="5494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2"/>
          <p:cNvSpPr/>
          <p:nvPr/>
        </p:nvSpPr>
        <p:spPr>
          <a:xfrm>
            <a:off x="285840" y="214200"/>
            <a:ext cx="8713800" cy="100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Franklin Gothic Book"/>
              </a:rPr>
              <a:t>Шло время. Постепенно люди научились делать посуду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Franklin Gothic Book"/>
              </a:rPr>
              <a:t>разной формы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9" name="Picture 4" descr="700-nw"/>
          <p:cNvPicPr/>
          <p:nvPr/>
        </p:nvPicPr>
        <p:blipFill>
          <a:blip r:embed="rId1"/>
          <a:stretch/>
        </p:blipFill>
        <p:spPr>
          <a:xfrm>
            <a:off x="5857920" y="1143000"/>
            <a:ext cx="3286080" cy="32860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6" descr="0609429c9bff76043a24ef29188d3f72"/>
          <p:cNvPicPr/>
          <p:nvPr/>
        </p:nvPicPr>
        <p:blipFill>
          <a:blip r:embed="rId2"/>
          <a:stretch/>
        </p:blipFill>
        <p:spPr>
          <a:xfrm>
            <a:off x="428760" y="1143000"/>
            <a:ext cx="2958840" cy="29592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005_28"/>
          <p:cNvPicPr/>
          <p:nvPr/>
        </p:nvPicPr>
        <p:blipFill>
          <a:blip r:embed="rId3"/>
          <a:stretch/>
        </p:blipFill>
        <p:spPr>
          <a:xfrm>
            <a:off x="2786040" y="3357720"/>
            <a:ext cx="4287960" cy="285732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9"/>
          <p:cNvSpPr/>
          <p:nvPr/>
        </p:nvSpPr>
        <p:spPr>
          <a:xfrm>
            <a:off x="1357560" y="4071960"/>
            <a:ext cx="11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горшо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Text Box 10"/>
          <p:cNvSpPr/>
          <p:nvPr/>
        </p:nvSpPr>
        <p:spPr>
          <a:xfrm>
            <a:off x="6659640" y="37162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Text Box 11"/>
          <p:cNvSpPr/>
          <p:nvPr/>
        </p:nvSpPr>
        <p:spPr>
          <a:xfrm>
            <a:off x="7215120" y="4214880"/>
            <a:ext cx="12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кувши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Text Box 12"/>
          <p:cNvSpPr/>
          <p:nvPr/>
        </p:nvSpPr>
        <p:spPr>
          <a:xfrm>
            <a:off x="4500720" y="6143760"/>
            <a:ext cx="15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тарелк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2"/>
          <p:cNvSpPr/>
          <p:nvPr/>
        </p:nvSpPr>
        <p:spPr>
          <a:xfrm>
            <a:off x="714240" y="285840"/>
            <a:ext cx="8215560" cy="22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Franklin Gothic Book"/>
              </a:rPr>
              <a:t>Сейчас, чтобы глиняная посуда была прочной, ее обжигают на завод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Franklin Gothic Book"/>
              </a:rPr>
              <a:t>в печи при очень высокой температуре. А чтобы изделия гончар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Franklin Gothic Book"/>
              </a:rPr>
              <a:t>были еще и красивыми, их расписывают художники в мастерско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Franklin Gothic Book"/>
              </a:rPr>
              <a:t>Глиняную посуду называют </a:t>
            </a:r>
            <a:r>
              <a:rPr b="1" lang="ru-RU" sz="2000" spc="-1" strike="noStrike">
                <a:solidFill>
                  <a:srgbClr val="002060"/>
                </a:solidFill>
                <a:latin typeface="Franklin Gothic Book"/>
              </a:rPr>
              <a:t>КЕРАМИКО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7" name="Picture 5" descr="1269379939_dsc02081"/>
          <p:cNvPicPr/>
          <p:nvPr/>
        </p:nvPicPr>
        <p:blipFill>
          <a:blip r:embed="rId1"/>
          <a:stretch/>
        </p:blipFill>
        <p:spPr>
          <a:xfrm>
            <a:off x="1285920" y="1604880"/>
            <a:ext cx="7000920" cy="5253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04T13:18:37Z</dcterms:created>
  <dc:creator>PC</dc:creator>
  <dc:description/>
  <dc:language>en-US</dc:language>
  <cp:lastModifiedBy>Пользователь Windows</cp:lastModifiedBy>
  <dcterms:modified xsi:type="dcterms:W3CDTF">2021-01-15T20:51:34Z</dcterms:modified>
  <cp:revision>6</cp:revision>
  <dc:subject/>
  <dc:title>Слайд 1</dc:title>
</cp:coreProperties>
</file>