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880-8881-4368-8125-A3AFD99C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28F-9ADF-412B-A45E-FC2733DA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FDAA3-B833-4634-AEBC-630193E3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0A71-B222-488E-B609-7000C83A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6EF84-31B3-49A8-94AD-CC4CCAB0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1DA28-12EA-484F-BD15-4982F955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CA923-EC50-4B24-96AC-7A03503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27D96-EAA2-48A4-A099-0209216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4FC7E-B1E0-458D-ABD0-EBCE3702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F2F1-45BA-4D2F-A036-B6706141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D0FD3-B7F6-4AAA-9C01-3A483924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B05-45BB-4BE0-BC04-2795AD52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B77-8FD0-493F-955D-E3C0E418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E1D5-A120-4D48-9528-6967C2B2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F79A-5FDD-4C74-81F5-8E331F0A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7A2-EC6B-42C7-A26E-BF324FC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E1DC-CD52-426C-815B-29EBFF57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5070-9508-4D20-8870-7FCA6E35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37BC-CA06-4488-8F7D-9457A0FC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8AA-AC63-4CD7-A0E6-BD10ADDF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8D5-B355-40A0-80FC-AB5372C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6BDE-9017-4CA8-B3F8-79E14AB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A2C9-0632-407A-9C8F-8464039F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15BB-400D-4724-9D01-FD4D6D9A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5234-1EDB-43F1-A231-E4D9B03C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4B4B-51BE-425B-93EC-E96B273E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3A10-1B9B-422D-816F-F8CB0A7D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0BC6-AC17-4555-9955-DCB5239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D2E5-D534-4603-BE97-687C9A6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1677-D7F7-49AA-9C6A-CDCB466D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2056-547F-4B5A-97EE-696C5151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EC4-F800-4B7C-A8ED-6F70BE49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AD73-AE4B-4B66-BF79-68F16551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43DC-1F4F-44C2-BD3C-5B182478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1A7E-54D6-4A1E-965A-61BC03A7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751E-4D67-4009-9D33-70811491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8C86-BDDD-4654-866C-C3D3CC8E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76DC-0ED8-4B06-8362-5E8A1548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F72A-A46B-48B5-95EE-37969A89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6D23-1DC2-4D85-81C5-3B2C95EE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7C76-A1A6-4ACA-A1CA-7693AC45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2903-7B82-422D-85F6-2B896E91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D79-5568-412F-A78F-978D82B8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1462-3584-4A4E-86A2-8A103D14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9783-BE2C-46FC-8B53-86318396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E597-233C-4961-879A-DCA0A09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1CB0-3266-4184-A76B-5B8FD744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68F1-008F-439D-9C38-F76489D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E846-F593-4A65-ADB7-10B6718D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1192-B755-461F-9AA9-F92A7C36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1929-F524-42ED-BAFC-597F10C3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A67A-AFE8-428F-838D-2ACD9647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855B0-045C-4EF6-81A7-53419751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3BE-B606-4225-96C2-AA21CFEF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5C3D-32A5-4380-B314-0484138F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E143F-8F6A-421C-B788-47FEDF3C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E5CC-FF5B-46CB-ABC5-C70AF3AE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F823-302C-41C1-ACA2-D5B5C091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AC2BC-ADC7-47F2-9057-A2F84075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B85D-C36F-4CEB-B950-0EC2F8AE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8DE55-942A-4FEC-B019-FA24A837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0FA08-B893-415B-8961-D605614C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717EB-A0A3-45CB-B40E-E673BFE7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3A4D-DCDB-44F1-8169-E7603D63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933-0A78-490C-BCD4-B695269A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DEF9-AE12-4A1B-BA55-4AD1F8F3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38A4-B301-4EE2-AF43-EE567189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625EA-D7EC-4CD9-A758-5DDDDF72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904E9-4374-4D8F-92D9-B74A4638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F006-E2D3-488F-97C3-9B3E578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49E9-9ACA-4774-8FA4-DCCC4C6D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8893A-4438-4B58-8FAF-EFBAA4D3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249B0-2FD8-4117-A5FF-4652A6BF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1B1EB-0F9B-436D-A8E3-BDBCF499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C9B3E-0591-4328-B608-CD252545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813-ED71-4060-B477-7376531C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14A42-A1A8-4E57-997F-25E79217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1E0F6-B778-46D7-8498-E9B6A4AC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A776-57F3-437F-94C7-6AB4DD67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5FA8A-0AC0-4817-8452-47CA5842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E01E-1E46-41F4-827E-232CCB04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243CB-68E5-401A-B62D-86DA3AF2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6A3B4-1714-49C7-B52E-5163D625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BF5B4-1844-43CA-BDC0-DDC53CB4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2A216-F556-4FDB-8138-F35227AC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BCA9A-9076-43B9-BB23-2BE8411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2CF-C5FD-4160-924A-DE76D256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AC011-095C-4F11-9D52-7C5314F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A3225-96D1-4B70-B403-4AEBD488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115C-3B0D-4738-BBAC-45E672C3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82B7-28AC-48DE-9FBC-887DACF6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A499D-7033-4B2E-BFBE-9503AA1B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BF67-4F2D-4CB2-AAC1-6EA29A7C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68A8C-AF13-4E77-A335-C72878E0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4BD95-C94E-4BB8-9996-73900A8E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53CA-22F2-43C9-97DA-39EA4D2F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B77C6-4C32-4596-A59A-C2B0CDE3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F07-42BE-4F1C-8131-B61C0AC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6CB9-EA5F-489A-925F-2D6FC70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AE1AB-A295-4BC2-B66D-DF1ED905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4BAB-C232-401F-BAEF-326CB5A5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722EE-ECD3-4E22-A97A-07ED095A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B6956-A42F-4D47-94A8-785B0E50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2708D-AD97-486F-BB10-D5D5ACC5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CDB62-F51F-439E-AB32-C2E98466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D483D-9519-46E9-AEE3-B46F1DAD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E1300-E0C5-4A64-80D4-554021D2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8A9EE-DB26-4B98-BF13-F4843237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B999-EE8D-4419-B29B-4D5CC7BC8D92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4150-36DF-47FD-9E7C-3F1FCFD27B9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8C20-F5D9-469E-975A-62022A24981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5210-3708-448B-93E4-3C21BDC14A6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86AD-EDB6-480D-9F1D-0535533BC6C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EEA9-51D2-4AA6-9419-FB506B525F40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A509-AB4B-4C78-8025-917063A2989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F4B-464C-4021-8C74-E07FF11D5E3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CDE-5A93-4125-BA7E-3329650C106E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1000080" y="27147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Тарелочка из глин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Picture 7" descr="XXXL"/>
          <p:cNvPicPr/>
          <p:nvPr/>
        </p:nvPicPr>
        <p:blipFill>
          <a:blip r:embed="rId1"/>
          <a:stretch/>
        </p:blipFill>
        <p:spPr>
          <a:xfrm>
            <a:off x="571680" y="3429000"/>
            <a:ext cx="4143240" cy="3132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1025136928"/>
          <p:cNvPicPr/>
          <p:nvPr/>
        </p:nvPicPr>
        <p:blipFill>
          <a:blip r:embed="rId2"/>
          <a:stretch/>
        </p:blipFill>
        <p:spPr>
          <a:xfrm>
            <a:off x="571680" y="285840"/>
            <a:ext cx="2286000" cy="2276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5c5c6636384e1f55251227e0"/>
          <p:cNvPicPr/>
          <p:nvPr/>
        </p:nvPicPr>
        <p:blipFill>
          <a:blip r:embed="rId3"/>
          <a:stretch/>
        </p:blipFill>
        <p:spPr>
          <a:xfrm>
            <a:off x="3571920" y="500040"/>
            <a:ext cx="2313000" cy="2260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1018706782"/>
          <p:cNvPicPr/>
          <p:nvPr/>
        </p:nvPicPr>
        <p:blipFill>
          <a:blip r:embed="rId4"/>
          <a:stretch/>
        </p:blipFill>
        <p:spPr>
          <a:xfrm>
            <a:off x="6572160" y="214200"/>
            <a:ext cx="2220840" cy="22147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4643280" y="5286240"/>
            <a:ext cx="420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: воспитатель группы общеразвивающей направленности для детей от 3 до 4 лет № 1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йбакова Э.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611280" y="324000"/>
            <a:ext cx="84373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Для придания блеска и большей прочности керамические изде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покрывают специальной глазурью и еще раз обжигают в пе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4" descr="5b9bd741f5679514236ac233"/>
          <p:cNvPicPr/>
          <p:nvPr/>
        </p:nvPicPr>
        <p:blipFill>
          <a:blip r:embed="rId1"/>
          <a:stretch/>
        </p:blipFill>
        <p:spPr>
          <a:xfrm>
            <a:off x="285840" y="1428840"/>
            <a:ext cx="4032000" cy="40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0" name="Picture 6" descr="59cf1fcd2aecd6a5215c36e2"/>
          <p:cNvPicPr/>
          <p:nvPr/>
        </p:nvPicPr>
        <p:blipFill>
          <a:blip r:embed="rId2"/>
          <a:stretch/>
        </p:blipFill>
        <p:spPr>
          <a:xfrm>
            <a:off x="4714920" y="1428840"/>
            <a:ext cx="4032360" cy="40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1547640" y="468360"/>
            <a:ext cx="68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Вот такая красивая посуда получается из гли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2" name="Picture 6" descr="562949980847926_6c2d"/>
          <p:cNvPicPr/>
          <p:nvPr/>
        </p:nvPicPr>
        <p:blipFill>
          <a:blip r:embed="rId1"/>
          <a:stretch/>
        </p:blipFill>
        <p:spPr>
          <a:xfrm>
            <a:off x="357120" y="1000080"/>
            <a:ext cx="8429760" cy="562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1547640" y="468360"/>
            <a:ext cx="68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Вот такая красивая посуда получается из гли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4" name="Picture 8" descr="daad5d4d"/>
          <p:cNvPicPr/>
          <p:nvPr/>
        </p:nvPicPr>
        <p:blipFill>
          <a:blip r:embed="rId1"/>
          <a:stretch/>
        </p:blipFill>
        <p:spPr>
          <a:xfrm>
            <a:off x="500040" y="1143000"/>
            <a:ext cx="8143920" cy="552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3789360" y="14292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бывает раз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6" descr="2015-Hot-Sale-Low-Price-Frozen-Party"/>
          <p:cNvPicPr/>
          <p:nvPr/>
        </p:nvPicPr>
        <p:blipFill>
          <a:blip r:embed="rId1"/>
          <a:stretch/>
        </p:blipFill>
        <p:spPr>
          <a:xfrm>
            <a:off x="395280" y="692280"/>
            <a:ext cx="2592360" cy="23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7" name="Picture 8" descr="1013797477"/>
          <p:cNvPicPr/>
          <p:nvPr/>
        </p:nvPicPr>
        <p:blipFill>
          <a:blip r:embed="rId2"/>
          <a:stretch/>
        </p:blipFill>
        <p:spPr>
          <a:xfrm>
            <a:off x="3276720" y="2136600"/>
            <a:ext cx="2808000" cy="208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8" name="Picture 10" descr="1355fbbe21b6ea4294d00ee222e8f846"/>
          <p:cNvPicPr/>
          <p:nvPr/>
        </p:nvPicPr>
        <p:blipFill>
          <a:blip r:embed="rId3"/>
          <a:stretch/>
        </p:blipFill>
        <p:spPr>
          <a:xfrm>
            <a:off x="6372360" y="620640"/>
            <a:ext cx="2376360" cy="23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12" descr="61hbsKO%2B7WL"/>
          <p:cNvPicPr/>
          <p:nvPr/>
        </p:nvPicPr>
        <p:blipFill>
          <a:blip r:embed="rId4"/>
          <a:stretch/>
        </p:blipFill>
        <p:spPr>
          <a:xfrm>
            <a:off x="324000" y="3789360"/>
            <a:ext cx="25923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0" name="Picture 14" descr="51x0wklDjdL"/>
          <p:cNvPicPr/>
          <p:nvPr/>
        </p:nvPicPr>
        <p:blipFill>
          <a:blip r:embed="rId5"/>
          <a:stretch/>
        </p:blipFill>
        <p:spPr>
          <a:xfrm>
            <a:off x="6443640" y="3789360"/>
            <a:ext cx="2376360" cy="23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1" name="Text Box 15"/>
          <p:cNvSpPr/>
          <p:nvPr/>
        </p:nvSpPr>
        <p:spPr>
          <a:xfrm>
            <a:off x="905040" y="308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БУМАЖ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6804000" y="308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ДЕРЕВЯН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3780000" y="4309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ЕКЛЯН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504360" y="6165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МЕТАЛЛ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6520320" y="62532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ЛАСТИКОВ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2987640" y="272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ы расскажем 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ЛИНЯНОЙ ПОСУ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Picture 4" descr="XXL"/>
          <p:cNvPicPr/>
          <p:nvPr/>
        </p:nvPicPr>
        <p:blipFill>
          <a:blip r:embed="rId1"/>
          <a:stretch/>
        </p:blipFill>
        <p:spPr>
          <a:xfrm>
            <a:off x="785880" y="973080"/>
            <a:ext cx="77868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214280" y="357120"/>
            <a:ext cx="730728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Глина – природный материал. Она добывается из земли, обычно в тех местах, где когда-то проходили реки или в карьер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Глина бывает сухой и мокрой, разного цвета и с разными свойства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Picture 4" descr="2b4281c93bd44a65377b2df89f9856ae"/>
          <p:cNvPicPr/>
          <p:nvPr/>
        </p:nvPicPr>
        <p:blipFill>
          <a:blip r:embed="rId1"/>
          <a:stretch/>
        </p:blipFill>
        <p:spPr>
          <a:xfrm>
            <a:off x="5143680" y="2500200"/>
            <a:ext cx="3671640" cy="244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0" name="Picture 6" descr="inx960x640"/>
          <p:cNvPicPr/>
          <p:nvPr/>
        </p:nvPicPr>
        <p:blipFill>
          <a:blip r:embed="rId2"/>
          <a:stretch/>
        </p:blipFill>
        <p:spPr>
          <a:xfrm>
            <a:off x="142920" y="2143080"/>
            <a:ext cx="48369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357200" y="142920"/>
            <a:ext cx="71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ак люди научились дела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линяную посуду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500040" y="1000080"/>
            <a:ext cx="83581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Много тысяч лет тому назад на Земле жили первобытные люд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Кто-то из них однажды заметил, что глина мягкая и податлива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з нее можно лепить. Попробовал древний человек слепить горшо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ервая посуда была не такой красивой как сейчас, пропускал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воду и трескала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5" descr="img1"/>
          <p:cNvPicPr/>
          <p:nvPr/>
        </p:nvPicPr>
        <p:blipFill>
          <a:blip r:embed="rId1"/>
          <a:stretch/>
        </p:blipFill>
        <p:spPr>
          <a:xfrm>
            <a:off x="1571760" y="2571840"/>
            <a:ext cx="571500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642960" y="214200"/>
            <a:ext cx="819468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Прошло время и люди придумали специальное приспособл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для изготовления глиняной посуды. Называлось оно – гончарный кру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А чтобы посуда стала более прочной, стали обжигать ее в специальных печ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Picture 6" descr="Goncharnyiy-Krug-Izobretenie-Kolesa"/>
          <p:cNvPicPr/>
          <p:nvPr/>
        </p:nvPicPr>
        <p:blipFill>
          <a:blip r:embed="rId1"/>
          <a:stretch/>
        </p:blipFill>
        <p:spPr>
          <a:xfrm>
            <a:off x="1500120" y="1643040"/>
            <a:ext cx="6143760" cy="50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000080" y="214200"/>
            <a:ext cx="760428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Людей, которые занимались изготовлением глиняной посуды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стали называть гончарами. Гончар брал кусок глины, помеща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в центр круга и вращая его, придавал форму будущему горш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4" descr="s1200?webp=false"/>
          <p:cNvPicPr/>
          <p:nvPr/>
        </p:nvPicPr>
        <p:blipFill>
          <a:blip r:embed="rId1"/>
          <a:stretch/>
        </p:blipFill>
        <p:spPr>
          <a:xfrm>
            <a:off x="2786040" y="1363680"/>
            <a:ext cx="3714840" cy="549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285840" y="214200"/>
            <a:ext cx="87138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Шло время. Постепенно люди научились делать посуду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разной форм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9" name="Picture 4" descr="700-nw"/>
          <p:cNvPicPr/>
          <p:nvPr/>
        </p:nvPicPr>
        <p:blipFill>
          <a:blip r:embed="rId1"/>
          <a:stretch/>
        </p:blipFill>
        <p:spPr>
          <a:xfrm>
            <a:off x="5857920" y="114300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0609429c9bff76043a24ef29188d3f72"/>
          <p:cNvPicPr/>
          <p:nvPr/>
        </p:nvPicPr>
        <p:blipFill>
          <a:blip r:embed="rId2"/>
          <a:stretch/>
        </p:blipFill>
        <p:spPr>
          <a:xfrm>
            <a:off x="428760" y="1143000"/>
            <a:ext cx="2958840" cy="2959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005_28"/>
          <p:cNvPicPr/>
          <p:nvPr/>
        </p:nvPicPr>
        <p:blipFill>
          <a:blip r:embed="rId3"/>
          <a:stretch/>
        </p:blipFill>
        <p:spPr>
          <a:xfrm>
            <a:off x="2786040" y="3357720"/>
            <a:ext cx="4287960" cy="28573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357560" y="407196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орш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6659640" y="3716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7215120" y="42148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увш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4500720" y="6143760"/>
            <a:ext cx="15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арел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714240" y="285840"/>
            <a:ext cx="821556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Сейчас, чтобы глиняная посуда была прочной, ее обжигают на завод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в печи при очень высокой температуре. А чтобы изделия гончар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были еще и красивыми, их расписывают художники в мастерс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Глиняную посуду называют 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КЕРАМИК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Picture 5" descr="1269379939_dsc02081"/>
          <p:cNvPicPr/>
          <p:nvPr/>
        </p:nvPicPr>
        <p:blipFill>
          <a:blip r:embed="rId1"/>
          <a:stretch/>
        </p:blipFill>
        <p:spPr>
          <a:xfrm>
            <a:off x="1285920" y="1604880"/>
            <a:ext cx="70009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3:18:37Z</dcterms:created>
  <dc:creator>PC</dc:creator>
  <dc:description/>
  <dc:language>en-US</dc:language>
  <cp:lastModifiedBy>Пользователь Windows</cp:lastModifiedBy>
  <dcterms:modified xsi:type="dcterms:W3CDTF">2021-01-15T20:51:34Z</dcterms:modified>
  <cp:revision>6</cp:revision>
  <dc:subject/>
  <dc:title>Слайд 1</dc:title>
</cp:coreProperties>
</file>