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9.png" ContentType="image/png"/>
  <Override PartName="/ppt/media/image18.gif" ContentType="image/gif"/>
  <Override PartName="/ppt/media/image4.png" ContentType="image/png"/>
  <Override PartName="/ppt/media/image17.gif" ContentType="image/gif"/>
  <Override PartName="/ppt/media/image15.gif" ContentType="image/gif"/>
  <Override PartName="/ppt/media/image20.png" ContentType="image/png"/>
  <Override PartName="/ppt/media/image3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218-56DA-40D5-938B-DFA7967D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F16-2E0C-4DCF-9656-5880D17A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C54-476D-48FD-B43C-7BBEC8D5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010-B68B-450A-924C-261C9D82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31C-E855-4162-98B9-1A5CC1CD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660-DB00-49DF-95CE-DCEDE970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EB0-58A3-4729-9CAF-559E2DE7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361-5A58-435B-BFCA-0278E985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D49-B4D6-49ED-BF18-1F4B228F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E55-62C2-44F5-9F21-F51F0792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5F7-9C76-4AE7-BE8E-2AB66013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602-6A57-40A5-BE2B-18CA621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E090-64B7-446A-A3B5-FD0A16EB6A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44160" y="1523880"/>
            <a:ext cx="840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Georgia"/>
              </a:rPr>
              <a:t>Добрый день, </a:t>
            </a:r>
            <a:endParaRPr b="0" i="1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Georgia"/>
              </a:rPr>
              <a:t>8 класс!</a:t>
            </a:r>
            <a:endParaRPr b="0" i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-151560" y="330120"/>
            <a:ext cx="929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роцессе редактирования таблицы может понадобиться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динение или разбивка ячеек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объединения ячеек необходимо их выделить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выполнить команд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Объединение ячеек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разбиения ячеек необходимо –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Разбить ячейку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в появившемся диалоговом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не указать количество столбцов, на которые будет разбита ячейк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31525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01760" y="546840"/>
            <a:ext cx="830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документах Word можно использовать формулы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считывающих сумму значений чисел в строке ил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олбце таблицы. Для этого установите точку вставки в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чейку, в которую вы хотите ввести формулу и выбрать пунк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Формула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744720" cy="3675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7717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835280" y="126828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492360" y="2852640"/>
            <a:ext cx="17337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11"/>
          <p:cNvSpPr txBox="1"/>
          <p:nvPr/>
        </p:nvSpPr>
        <p:spPr>
          <a:xfrm>
            <a:off x="755640" y="1916280"/>
            <a:ext cx="777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icrosoft Sans Serif"/>
              </a:rPr>
              <a:t>Проверка ТБ</a:t>
            </a:r>
            <a:endParaRPr b="1" i="1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-603360"/>
            <a:ext cx="9468000" cy="7704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655640" y="333360"/>
            <a:ext cx="58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Comic Sans MS"/>
              </a:rPr>
              <a:t>Проблемные ситуации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 rot="20398800">
            <a:off x="3058920" y="2349000"/>
            <a:ext cx="2232000" cy="345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 rot="20230200">
            <a:off x="2195280" y="3716280"/>
            <a:ext cx="1724040" cy="2149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 rot="1332000">
            <a:off x="5508360" y="2781360"/>
            <a:ext cx="1724040" cy="21495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>
            <a:hlinkClick r:id="" action="ppaction://hlinkshowjump?jump=nextslide"/>
          </p:cNvPr>
          <p:cNvSpPr/>
          <p:nvPr/>
        </p:nvSpPr>
        <p:spPr>
          <a:xfrm>
            <a:off x="7596360" y="623736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8">
            <a:hlinkClick r:id="" action="ppaction://hlinkshowjump?jump=firstslide"/>
          </p:cNvPr>
          <p:cNvSpPr/>
          <p:nvPr/>
        </p:nvSpPr>
        <p:spPr>
          <a:xfrm>
            <a:off x="4427640" y="6308640"/>
            <a:ext cx="287280" cy="333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33360"/>
              <a:gd name="textAreaBottom" fmla="*/ 315000 h 333360"/>
            </a:gdLst>
            <a:ahLst/>
            <a:rect l="textAreaLeft" t="textAreaTop" r="textAreaRight" b="textAreaBottom"/>
            <a:pathLst>
              <a:path w="21600" h="25060">
                <a:moveTo>
                  <a:pt x="0" y="0"/>
                </a:moveTo>
                <a:lnTo>
                  <a:pt x="21600" y="0"/>
                </a:lnTo>
                <a:lnTo>
                  <a:pt x="21600" y="25060"/>
                </a:lnTo>
                <a:lnTo>
                  <a:pt x="0" y="25060"/>
                </a:lnTo>
                <a:close/>
              </a:path>
              <a:path fill="lightenLess" w="21600" h="25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60">
                <a:moveTo>
                  <a:pt x="21600" y="0"/>
                </a:moveTo>
                <a:lnTo>
                  <a:pt x="21600" y="25060"/>
                </a:lnTo>
                <a:lnTo>
                  <a:pt x="20200" y="23660"/>
                </a:lnTo>
                <a:lnTo>
                  <a:pt x="20200" y="1400"/>
                </a:lnTo>
                <a:close/>
              </a:path>
              <a:path fill="darkenLess" w="21600" h="25060">
                <a:moveTo>
                  <a:pt x="21600" y="25060"/>
                </a:moveTo>
                <a:lnTo>
                  <a:pt x="0" y="25060"/>
                </a:lnTo>
                <a:lnTo>
                  <a:pt x="1400" y="23660"/>
                </a:lnTo>
                <a:lnTo>
                  <a:pt x="20200" y="23660"/>
                </a:lnTo>
                <a:close/>
              </a:path>
              <a:path fill="lighten" w="21600" h="25060">
                <a:moveTo>
                  <a:pt x="0" y="25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60"/>
                </a:lnTo>
                <a:close/>
              </a:path>
              <a:path fill="darken" w="21600" h="25060">
                <a:moveTo>
                  <a:pt x="10800" y="5567"/>
                </a:moveTo>
                <a:lnTo>
                  <a:pt x="13376" y="8178"/>
                </a:ln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lnTo>
                  <a:pt x="17763" y="12530"/>
                </a:lnTo>
                <a:lnTo>
                  <a:pt x="16109" y="12530"/>
                </a:lnTo>
                <a:lnTo>
                  <a:pt x="16109" y="19719"/>
                </a:lnTo>
                <a:lnTo>
                  <a:pt x="5491" y="19719"/>
                </a:lnTo>
                <a:lnTo>
                  <a:pt x="5491" y="12530"/>
                </a:lnTo>
                <a:lnTo>
                  <a:pt x="3837" y="12530"/>
                </a:lnTo>
                <a:close/>
              </a:path>
              <a:path fill="darkenLess" w="21600" h="25060">
                <a:moveTo>
                  <a:pt x="13376" y="8178"/>
                </a:move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close/>
              </a:path>
              <a:path fill="darkenLess" w="21600" h="25060">
                <a:moveTo>
                  <a:pt x="9877" y="16029"/>
                </a:moveTo>
                <a:lnTo>
                  <a:pt x="11723" y="16029"/>
                </a:lnTo>
                <a:lnTo>
                  <a:pt x="11723" y="19719"/>
                </a:lnTo>
                <a:lnTo>
                  <a:pt x="16109" y="19719"/>
                </a:lnTo>
                <a:lnTo>
                  <a:pt x="16109" y="12530"/>
                </a:lnTo>
                <a:lnTo>
                  <a:pt x="5491" y="12530"/>
                </a:lnTo>
                <a:lnTo>
                  <a:pt x="5491" y="19719"/>
                </a:lnTo>
                <a:lnTo>
                  <a:pt x="9877" y="1971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9">
            <a:hlinkClick r:id="" action="ppaction://hlinkshowjump?jump=previousslide"/>
          </p:cNvPr>
          <p:cNvSpPr/>
          <p:nvPr/>
        </p:nvSpPr>
        <p:spPr>
          <a:xfrm>
            <a:off x="190800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700360" y="1125360"/>
            <a:ext cx="511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1.Пятачок прибежал с прогулки, весь грязный и сразу сел работать за компьютер. В этот момент к нему в гости пришел Виннипух и остановил Пяточка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 rot="5400000">
            <a:off x="6373080" y="25920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124000" y="443700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omic Sans MS"/>
              </a:rPr>
              <a:t>Зачем он это сделал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>
            <a:hlinkClick r:id="" action="ppaction://hlinkshowjump?jump=nextslide"/>
          </p:cNvPr>
          <p:cNvSpPr/>
          <p:nvPr/>
        </p:nvSpPr>
        <p:spPr>
          <a:xfrm>
            <a:off x="766764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>
            <a:hlinkClick r:id="" action="ppaction://hlinkshowjump?jump=previousslide"/>
          </p:cNvPr>
          <p:cNvSpPr/>
          <p:nvPr/>
        </p:nvSpPr>
        <p:spPr>
          <a:xfrm>
            <a:off x="2050920" y="6093000"/>
            <a:ext cx="432000" cy="368280"/>
          </a:xfrm>
          <a:custGeom>
            <a:avLst/>
            <a:gdLst>
              <a:gd name="textAreaLeft" fmla="*/ 23760 w 432000"/>
              <a:gd name="textAreaRight" fmla="*/ 408240 w 43200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34" h="21600">
                <a:moveTo>
                  <a:pt x="0" y="0"/>
                </a:moveTo>
                <a:lnTo>
                  <a:pt x="25334" y="0"/>
                </a:lnTo>
                <a:lnTo>
                  <a:pt x="25334" y="21600"/>
                </a:lnTo>
                <a:lnTo>
                  <a:pt x="0" y="21600"/>
                </a:lnTo>
                <a:close/>
              </a:path>
              <a:path fill="lightenLess" w="25334" h="21600">
                <a:moveTo>
                  <a:pt x="0" y="0"/>
                </a:moveTo>
                <a:lnTo>
                  <a:pt x="25334" y="0"/>
                </a:lnTo>
                <a:lnTo>
                  <a:pt x="23934" y="1400"/>
                </a:lnTo>
                <a:lnTo>
                  <a:pt x="1400" y="1400"/>
                </a:lnTo>
                <a:close/>
              </a:path>
              <a:path fill="darken" w="25334" h="21600">
                <a:moveTo>
                  <a:pt x="25334" y="0"/>
                </a:moveTo>
                <a:lnTo>
                  <a:pt x="25334" y="21600"/>
                </a:lnTo>
                <a:lnTo>
                  <a:pt x="23934" y="20200"/>
                </a:lnTo>
                <a:lnTo>
                  <a:pt x="23934" y="1400"/>
                </a:lnTo>
                <a:close/>
              </a:path>
              <a:path fill="darkenLess" w="25334" h="21600">
                <a:moveTo>
                  <a:pt x="25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4" y="20200"/>
                </a:lnTo>
                <a:close/>
              </a:path>
              <a:path fill="lighten" w="25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4" h="21600">
                <a:moveTo>
                  <a:pt x="5660" y="10800"/>
                </a:moveTo>
                <a:lnTo>
                  <a:pt x="19673" y="3794"/>
                </a:lnTo>
                <a:lnTo>
                  <a:pt x="19673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" action="ppaction://hlinkshowjump?jump=firstslide"/>
          </p:cNvPr>
          <p:cNvSpPr/>
          <p:nvPr/>
        </p:nvSpPr>
        <p:spPr>
          <a:xfrm>
            <a:off x="4319640" y="609300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13430" y="3837"/>
                </a:moveTo>
                <a:lnTo>
                  <a:pt x="16007" y="6448"/>
                </a:ln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lnTo>
                  <a:pt x="20393" y="10800"/>
                </a:lnTo>
                <a:lnTo>
                  <a:pt x="18740" y="10800"/>
                </a:lnTo>
                <a:lnTo>
                  <a:pt x="18740" y="17989"/>
                </a:lnTo>
                <a:lnTo>
                  <a:pt x="8121" y="17989"/>
                </a:lnTo>
                <a:lnTo>
                  <a:pt x="8121" y="10800"/>
                </a:lnTo>
                <a:lnTo>
                  <a:pt x="6467" y="10800"/>
                </a:lnTo>
                <a:close/>
              </a:path>
              <a:path fill="darkenLess" w="26861" h="21600">
                <a:moveTo>
                  <a:pt x="16007" y="6448"/>
                </a:move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close/>
              </a:path>
              <a:path fill="darkenLess" w="26861" h="21600">
                <a:moveTo>
                  <a:pt x="12508" y="14299"/>
                </a:moveTo>
                <a:lnTo>
                  <a:pt x="14353" y="14299"/>
                </a:lnTo>
                <a:lnTo>
                  <a:pt x="14353" y="17989"/>
                </a:lnTo>
                <a:lnTo>
                  <a:pt x="18740" y="17989"/>
                </a:lnTo>
                <a:lnTo>
                  <a:pt x="18740" y="10800"/>
                </a:lnTo>
                <a:lnTo>
                  <a:pt x="8121" y="10800"/>
                </a:lnTo>
                <a:lnTo>
                  <a:pt x="8121" y="17989"/>
                </a:lnTo>
                <a:lnTo>
                  <a:pt x="12508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1403280" y="1628640"/>
            <a:ext cx="1513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916360" y="1700280"/>
            <a:ext cx="489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1.Потому, что нельзя работать за компьютером с грязными руками и в грязной одежде, компьютер может сломаться, если в него попадет грязь!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 rot="5400000">
            <a:off x="6373080" y="25920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67640" y="6497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>
            <a:hlinkClick r:id="" action="ppaction://hlinkshowjump?jump=previousslide"/>
          </p:cNvPr>
          <p:cNvSpPr/>
          <p:nvPr/>
        </p:nvSpPr>
        <p:spPr>
          <a:xfrm>
            <a:off x="1979640" y="6489720"/>
            <a:ext cx="503280" cy="368280"/>
          </a:xfrm>
          <a:custGeom>
            <a:avLst/>
            <a:gdLst>
              <a:gd name="textAreaLeft" fmla="*/ 23760 w 503280"/>
              <a:gd name="textAreaRight" fmla="*/ 479520 w 50328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9510" h="21600">
                <a:moveTo>
                  <a:pt x="0" y="0"/>
                </a:moveTo>
                <a:lnTo>
                  <a:pt x="29510" y="0"/>
                </a:lnTo>
                <a:lnTo>
                  <a:pt x="29510" y="21600"/>
                </a:lnTo>
                <a:lnTo>
                  <a:pt x="0" y="21600"/>
                </a:lnTo>
                <a:close/>
              </a:path>
              <a:path fill="lightenLess" w="29510" h="21600">
                <a:moveTo>
                  <a:pt x="0" y="0"/>
                </a:moveTo>
                <a:lnTo>
                  <a:pt x="29510" y="0"/>
                </a:lnTo>
                <a:lnTo>
                  <a:pt x="28110" y="1400"/>
                </a:lnTo>
                <a:lnTo>
                  <a:pt x="1400" y="1400"/>
                </a:lnTo>
                <a:close/>
              </a:path>
              <a:path fill="darken" w="29510" h="21600">
                <a:moveTo>
                  <a:pt x="29510" y="0"/>
                </a:moveTo>
                <a:lnTo>
                  <a:pt x="29510" y="21600"/>
                </a:lnTo>
                <a:lnTo>
                  <a:pt x="28110" y="20200"/>
                </a:lnTo>
                <a:lnTo>
                  <a:pt x="28110" y="1400"/>
                </a:lnTo>
                <a:close/>
              </a:path>
              <a:path fill="darkenLess" w="29510" h="21600">
                <a:moveTo>
                  <a:pt x="29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10" y="20200"/>
                </a:lnTo>
                <a:close/>
              </a:path>
              <a:path fill="lighten" w="29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10" h="21600">
                <a:moveTo>
                  <a:pt x="7749" y="10800"/>
                </a:moveTo>
                <a:lnTo>
                  <a:pt x="21762" y="3794"/>
                </a:lnTo>
                <a:lnTo>
                  <a:pt x="21762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>
            <a:hlinkClick r:id="" action="ppaction://hlinkshowjump?jump=firstslide"/>
          </p:cNvPr>
          <p:cNvSpPr/>
          <p:nvPr/>
        </p:nvSpPr>
        <p:spPr>
          <a:xfrm>
            <a:off x="4319640" y="645336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13430" y="3837"/>
                </a:moveTo>
                <a:lnTo>
                  <a:pt x="16007" y="6448"/>
                </a:ln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lnTo>
                  <a:pt x="20393" y="10800"/>
                </a:lnTo>
                <a:lnTo>
                  <a:pt x="18740" y="10800"/>
                </a:lnTo>
                <a:lnTo>
                  <a:pt x="18740" y="17989"/>
                </a:lnTo>
                <a:lnTo>
                  <a:pt x="8121" y="17989"/>
                </a:lnTo>
                <a:lnTo>
                  <a:pt x="8121" y="10800"/>
                </a:lnTo>
                <a:lnTo>
                  <a:pt x="6467" y="10800"/>
                </a:lnTo>
                <a:close/>
              </a:path>
              <a:path fill="darkenLess" w="26861" h="21600">
                <a:moveTo>
                  <a:pt x="16007" y="6448"/>
                </a:move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close/>
              </a:path>
              <a:path fill="darkenLess" w="26861" h="21600">
                <a:moveTo>
                  <a:pt x="12508" y="14299"/>
                </a:moveTo>
                <a:lnTo>
                  <a:pt x="14353" y="14299"/>
                </a:lnTo>
                <a:lnTo>
                  <a:pt x="14353" y="17989"/>
                </a:lnTo>
                <a:lnTo>
                  <a:pt x="18740" y="17989"/>
                </a:lnTo>
                <a:lnTo>
                  <a:pt x="18740" y="10800"/>
                </a:lnTo>
                <a:lnTo>
                  <a:pt x="8121" y="10800"/>
                </a:lnTo>
                <a:lnTo>
                  <a:pt x="8121" y="17989"/>
                </a:lnTo>
                <a:lnTo>
                  <a:pt x="12508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1476360" y="1628640"/>
            <a:ext cx="1582920" cy="2952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3635280" y="9079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Comic Sans MS"/>
              </a:rPr>
              <a:t>Верный ответ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843280" y="1628640"/>
            <a:ext cx="51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2.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Буратино работая на компьютере, нажимал клавиши клавиатуры носом, увидев это Мальвина его остановила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 rot="5400000">
            <a:off x="6373080" y="25920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979640" y="44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omic Sans MS"/>
              </a:rPr>
              <a:t>Зачем она это сделала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">
            <a:hlinkClick r:id="" action="ppaction://hlinkshowjump?jump=nextslide"/>
          </p:cNvPr>
          <p:cNvSpPr/>
          <p:nvPr/>
        </p:nvSpPr>
        <p:spPr>
          <a:xfrm>
            <a:off x="766764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8">
            <a:hlinkClick r:id="" action="ppaction://hlinkshowjump?jump=previousslide"/>
          </p:cNvPr>
          <p:cNvSpPr/>
          <p:nvPr/>
        </p:nvSpPr>
        <p:spPr>
          <a:xfrm>
            <a:off x="2050920" y="6237360"/>
            <a:ext cx="432000" cy="368280"/>
          </a:xfrm>
          <a:custGeom>
            <a:avLst/>
            <a:gdLst>
              <a:gd name="textAreaLeft" fmla="*/ 23760 w 432000"/>
              <a:gd name="textAreaRight" fmla="*/ 408240 w 43200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34" h="21600">
                <a:moveTo>
                  <a:pt x="0" y="0"/>
                </a:moveTo>
                <a:lnTo>
                  <a:pt x="25334" y="0"/>
                </a:lnTo>
                <a:lnTo>
                  <a:pt x="25334" y="21600"/>
                </a:lnTo>
                <a:lnTo>
                  <a:pt x="0" y="21600"/>
                </a:lnTo>
                <a:close/>
              </a:path>
              <a:path fill="lightenLess" w="25334" h="21600">
                <a:moveTo>
                  <a:pt x="0" y="0"/>
                </a:moveTo>
                <a:lnTo>
                  <a:pt x="25334" y="0"/>
                </a:lnTo>
                <a:lnTo>
                  <a:pt x="23934" y="1400"/>
                </a:lnTo>
                <a:lnTo>
                  <a:pt x="1400" y="1400"/>
                </a:lnTo>
                <a:close/>
              </a:path>
              <a:path fill="darken" w="25334" h="21600">
                <a:moveTo>
                  <a:pt x="25334" y="0"/>
                </a:moveTo>
                <a:lnTo>
                  <a:pt x="25334" y="21600"/>
                </a:lnTo>
                <a:lnTo>
                  <a:pt x="23934" y="20200"/>
                </a:lnTo>
                <a:lnTo>
                  <a:pt x="23934" y="1400"/>
                </a:lnTo>
                <a:close/>
              </a:path>
              <a:path fill="darkenLess" w="25334" h="21600">
                <a:moveTo>
                  <a:pt x="25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4" y="20200"/>
                </a:lnTo>
                <a:close/>
              </a:path>
              <a:path fill="lighten" w="25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4" h="21600">
                <a:moveTo>
                  <a:pt x="5660" y="10800"/>
                </a:moveTo>
                <a:lnTo>
                  <a:pt x="19673" y="3794"/>
                </a:lnTo>
                <a:lnTo>
                  <a:pt x="19673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9">
            <a:hlinkClick r:id="" action="ppaction://hlinkshowjump?jump=firstslide"/>
          </p:cNvPr>
          <p:cNvSpPr/>
          <p:nvPr/>
        </p:nvSpPr>
        <p:spPr>
          <a:xfrm>
            <a:off x="4338720" y="6396120"/>
            <a:ext cx="466560" cy="461880"/>
          </a:xfrm>
          <a:custGeom>
            <a:avLst/>
            <a:gdLst>
              <a:gd name="textAreaLeft" fmla="*/ 29880 w 466560"/>
              <a:gd name="textAreaRight" fmla="*/ 436680 w 466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21819" h="21600">
                <a:moveTo>
                  <a:pt x="0" y="0"/>
                </a:moveTo>
                <a:lnTo>
                  <a:pt x="21819" y="0"/>
                </a:lnTo>
                <a:lnTo>
                  <a:pt x="21819" y="21600"/>
                </a:lnTo>
                <a:lnTo>
                  <a:pt x="0" y="21600"/>
                </a:lnTo>
                <a:close/>
              </a:path>
              <a:path fill="lightenLess" w="21819" h="21600">
                <a:moveTo>
                  <a:pt x="0" y="0"/>
                </a:moveTo>
                <a:lnTo>
                  <a:pt x="21819" y="0"/>
                </a:lnTo>
                <a:lnTo>
                  <a:pt x="20419" y="1400"/>
                </a:lnTo>
                <a:lnTo>
                  <a:pt x="1400" y="1400"/>
                </a:lnTo>
                <a:close/>
              </a:path>
              <a:path fill="darken" w="21819" h="21600">
                <a:moveTo>
                  <a:pt x="21819" y="0"/>
                </a:moveTo>
                <a:lnTo>
                  <a:pt x="21819" y="21600"/>
                </a:lnTo>
                <a:lnTo>
                  <a:pt x="20419" y="20200"/>
                </a:lnTo>
                <a:lnTo>
                  <a:pt x="20419" y="1400"/>
                </a:lnTo>
                <a:close/>
              </a:path>
              <a:path fill="darkenLess" w="21819" h="21600">
                <a:moveTo>
                  <a:pt x="21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9" y="20200"/>
                </a:lnTo>
                <a:close/>
              </a:path>
              <a:path fill="lighten" w="21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19" h="21600">
                <a:moveTo>
                  <a:pt x="10909" y="3837"/>
                </a:moveTo>
                <a:lnTo>
                  <a:pt x="13486" y="6448"/>
                </a:lnTo>
                <a:lnTo>
                  <a:pt x="13486" y="4707"/>
                </a:lnTo>
                <a:lnTo>
                  <a:pt x="15261" y="4707"/>
                </a:lnTo>
                <a:lnTo>
                  <a:pt x="15261" y="8224"/>
                </a:lnTo>
                <a:lnTo>
                  <a:pt x="17872" y="10800"/>
                </a:lnTo>
                <a:lnTo>
                  <a:pt x="16219" y="10800"/>
                </a:lnTo>
                <a:lnTo>
                  <a:pt x="16219" y="17989"/>
                </a:lnTo>
                <a:lnTo>
                  <a:pt x="5600" y="17989"/>
                </a:lnTo>
                <a:lnTo>
                  <a:pt x="5600" y="10800"/>
                </a:lnTo>
                <a:lnTo>
                  <a:pt x="3946" y="10800"/>
                </a:lnTo>
                <a:close/>
              </a:path>
              <a:path fill="darkenLess" w="21819" h="21600">
                <a:moveTo>
                  <a:pt x="13486" y="6448"/>
                </a:moveTo>
                <a:lnTo>
                  <a:pt x="13486" y="4707"/>
                </a:lnTo>
                <a:lnTo>
                  <a:pt x="15261" y="4707"/>
                </a:lnTo>
                <a:lnTo>
                  <a:pt x="15261" y="8224"/>
                </a:lnTo>
                <a:close/>
              </a:path>
              <a:path fill="darkenLess" w="21819" h="21600">
                <a:moveTo>
                  <a:pt x="9987" y="14299"/>
                </a:moveTo>
                <a:lnTo>
                  <a:pt x="11832" y="14299"/>
                </a:lnTo>
                <a:lnTo>
                  <a:pt x="11832" y="17989"/>
                </a:lnTo>
                <a:lnTo>
                  <a:pt x="16219" y="17989"/>
                </a:lnTo>
                <a:lnTo>
                  <a:pt x="16219" y="10800"/>
                </a:lnTo>
                <a:lnTo>
                  <a:pt x="5600" y="10800"/>
                </a:lnTo>
                <a:lnTo>
                  <a:pt x="5600" y="17989"/>
                </a:lnTo>
                <a:lnTo>
                  <a:pt x="9987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>
            <a:off x="1403280" y="1628640"/>
            <a:ext cx="1513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916360" y="1700280"/>
            <a:ext cx="489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2. На клавиши клавиатуры и кнопки мыши нужно нажимать плавно и только пальцами руки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 rot="5400000">
            <a:off x="6444360" y="33228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7740720" y="6497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>
            <a:hlinkClick r:id="" action="ppaction://hlinkshowjump?jump=previousslide"/>
          </p:cNvPr>
          <p:cNvSpPr/>
          <p:nvPr/>
        </p:nvSpPr>
        <p:spPr>
          <a:xfrm>
            <a:off x="1979640" y="6489720"/>
            <a:ext cx="431640" cy="368280"/>
          </a:xfrm>
          <a:custGeom>
            <a:avLst/>
            <a:gdLst>
              <a:gd name="textAreaLeft" fmla="*/ 23760 w 431640"/>
              <a:gd name="textAreaRight" fmla="*/ 407880 w 431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13" h="21600">
                <a:moveTo>
                  <a:pt x="0" y="0"/>
                </a:moveTo>
                <a:lnTo>
                  <a:pt x="25313" y="0"/>
                </a:lnTo>
                <a:lnTo>
                  <a:pt x="25313" y="21600"/>
                </a:lnTo>
                <a:lnTo>
                  <a:pt x="0" y="21600"/>
                </a:lnTo>
                <a:close/>
              </a:path>
              <a:path fill="lightenLess" w="25313" h="21600">
                <a:moveTo>
                  <a:pt x="0" y="0"/>
                </a:moveTo>
                <a:lnTo>
                  <a:pt x="25313" y="0"/>
                </a:lnTo>
                <a:lnTo>
                  <a:pt x="23913" y="1400"/>
                </a:lnTo>
                <a:lnTo>
                  <a:pt x="1400" y="1400"/>
                </a:lnTo>
                <a:close/>
              </a:path>
              <a:path fill="darken" w="25313" h="21600">
                <a:moveTo>
                  <a:pt x="25313" y="0"/>
                </a:moveTo>
                <a:lnTo>
                  <a:pt x="25313" y="21600"/>
                </a:lnTo>
                <a:lnTo>
                  <a:pt x="23913" y="20200"/>
                </a:lnTo>
                <a:lnTo>
                  <a:pt x="23913" y="1400"/>
                </a:lnTo>
                <a:close/>
              </a:path>
              <a:path fill="darkenLess" w="25313" h="21600">
                <a:moveTo>
                  <a:pt x="25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13" y="20200"/>
                </a:lnTo>
                <a:close/>
              </a:path>
              <a:path fill="lighten" w="25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13" h="21600">
                <a:moveTo>
                  <a:pt x="5650" y="10800"/>
                </a:moveTo>
                <a:lnTo>
                  <a:pt x="19663" y="3794"/>
                </a:lnTo>
                <a:lnTo>
                  <a:pt x="19663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8">
            <a:hlinkClick r:id="" action="ppaction://hlinkshowjump?jump=firstslide"/>
          </p:cNvPr>
          <p:cNvSpPr/>
          <p:nvPr/>
        </p:nvSpPr>
        <p:spPr>
          <a:xfrm>
            <a:off x="4338720" y="6524640"/>
            <a:ext cx="466560" cy="333360"/>
          </a:xfrm>
          <a:custGeom>
            <a:avLst/>
            <a:gdLst>
              <a:gd name="textAreaLeft" fmla="*/ 21600 w 466560"/>
              <a:gd name="textAreaRight" fmla="*/ 444960 w 466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221" h="21600">
                <a:moveTo>
                  <a:pt x="0" y="0"/>
                </a:moveTo>
                <a:lnTo>
                  <a:pt x="30221" y="0"/>
                </a:lnTo>
                <a:lnTo>
                  <a:pt x="30221" y="21600"/>
                </a:lnTo>
                <a:lnTo>
                  <a:pt x="0" y="21600"/>
                </a:lnTo>
                <a:close/>
              </a:path>
              <a:path fill="lightenLess" w="30221" h="21600">
                <a:moveTo>
                  <a:pt x="0" y="0"/>
                </a:moveTo>
                <a:lnTo>
                  <a:pt x="30221" y="0"/>
                </a:lnTo>
                <a:lnTo>
                  <a:pt x="28821" y="1400"/>
                </a:lnTo>
                <a:lnTo>
                  <a:pt x="1400" y="1400"/>
                </a:lnTo>
                <a:close/>
              </a:path>
              <a:path fill="darken" w="30221" h="21600">
                <a:moveTo>
                  <a:pt x="30221" y="0"/>
                </a:moveTo>
                <a:lnTo>
                  <a:pt x="30221" y="21600"/>
                </a:lnTo>
                <a:lnTo>
                  <a:pt x="28821" y="20200"/>
                </a:lnTo>
                <a:lnTo>
                  <a:pt x="28821" y="1400"/>
                </a:lnTo>
                <a:close/>
              </a:path>
              <a:path fill="darkenLess" w="30221" h="21600">
                <a:moveTo>
                  <a:pt x="30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1" y="20200"/>
                </a:lnTo>
                <a:close/>
              </a:path>
              <a:path fill="lighten" w="30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1" h="21600">
                <a:moveTo>
                  <a:pt x="15111" y="3837"/>
                </a:moveTo>
                <a:lnTo>
                  <a:pt x="17687" y="6448"/>
                </a:lnTo>
                <a:lnTo>
                  <a:pt x="17687" y="4707"/>
                </a:lnTo>
                <a:lnTo>
                  <a:pt x="19463" y="4707"/>
                </a:lnTo>
                <a:lnTo>
                  <a:pt x="19463" y="8224"/>
                </a:lnTo>
                <a:lnTo>
                  <a:pt x="22074" y="10800"/>
                </a:lnTo>
                <a:lnTo>
                  <a:pt x="20420" y="10800"/>
                </a:lnTo>
                <a:lnTo>
                  <a:pt x="20420" y="17989"/>
                </a:lnTo>
                <a:lnTo>
                  <a:pt x="9801" y="17989"/>
                </a:lnTo>
                <a:lnTo>
                  <a:pt x="9801" y="10800"/>
                </a:lnTo>
                <a:lnTo>
                  <a:pt x="8148" y="10800"/>
                </a:lnTo>
                <a:close/>
              </a:path>
              <a:path fill="darkenLess" w="30221" h="21600">
                <a:moveTo>
                  <a:pt x="17687" y="6448"/>
                </a:moveTo>
                <a:lnTo>
                  <a:pt x="17687" y="4707"/>
                </a:lnTo>
                <a:lnTo>
                  <a:pt x="19463" y="4707"/>
                </a:lnTo>
                <a:lnTo>
                  <a:pt x="19463" y="8224"/>
                </a:lnTo>
                <a:close/>
              </a:path>
              <a:path fill="darkenLess" w="30221" h="21600">
                <a:moveTo>
                  <a:pt x="14188" y="14299"/>
                </a:moveTo>
                <a:lnTo>
                  <a:pt x="16033" y="14299"/>
                </a:lnTo>
                <a:lnTo>
                  <a:pt x="16033" y="17989"/>
                </a:lnTo>
                <a:lnTo>
                  <a:pt x="20420" y="17989"/>
                </a:lnTo>
                <a:lnTo>
                  <a:pt x="20420" y="10800"/>
                </a:lnTo>
                <a:lnTo>
                  <a:pt x="9801" y="10800"/>
                </a:lnTo>
                <a:lnTo>
                  <a:pt x="9801" y="17989"/>
                </a:lnTo>
                <a:lnTo>
                  <a:pt x="14188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4"/>
          <a:stretch/>
        </p:blipFill>
        <p:spPr>
          <a:xfrm>
            <a:off x="1476360" y="1628640"/>
            <a:ext cx="1582920" cy="2952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3635280" y="90792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Comic Sans MS"/>
              </a:rPr>
              <a:t>Верный ответ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089800" y="177336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актическая работа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3132000" y="3213000"/>
            <a:ext cx="302436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EB5-B350-437F-B257-4371C780B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Разминка - Ана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1628280"/>
            <a:ext cx="9001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реставьте буквы в слове, чтобы получить новое слово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2"/>
          <p:cNvSpPr/>
          <p:nvPr/>
        </p:nvSpPr>
        <p:spPr>
          <a:xfrm>
            <a:off x="250920" y="2492280"/>
            <a:ext cx="1873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ор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ыба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ка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люшк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лоу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тлас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2771640" y="2421000"/>
            <a:ext cx="201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сос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есн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олб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Шнуро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4"/>
          <p:cNvSpPr/>
          <p:nvPr/>
        </p:nvSpPr>
        <p:spPr>
          <a:xfrm>
            <a:off x="5651640" y="2492280"/>
            <a:ext cx="1871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ос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ка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анк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ело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ил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Посчитай тигря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461960" y="3000240"/>
            <a:ext cx="1094040" cy="99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7010280" y="190512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3995640" y="286380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7086600" y="3886200"/>
            <a:ext cx="1093680" cy="99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819520" y="1447920"/>
            <a:ext cx="1093680" cy="99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094040" cy="99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7"/>
          <a:stretch/>
        </p:blipFill>
        <p:spPr>
          <a:xfrm>
            <a:off x="5181480" y="160020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8"/>
          <a:stretch/>
        </p:blipFill>
        <p:spPr>
          <a:xfrm>
            <a:off x="5638680" y="4952880"/>
            <a:ext cx="1094040" cy="99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9"/>
          <a:stretch/>
        </p:blipFill>
        <p:spPr>
          <a:xfrm>
            <a:off x="304920" y="1295280"/>
            <a:ext cx="1093680" cy="99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10"/>
          <a:stretch/>
        </p:blipFill>
        <p:spPr>
          <a:xfrm>
            <a:off x="3995640" y="429264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"/>
          <p:cNvPicPr/>
          <p:nvPr/>
        </p:nvPicPr>
        <p:blipFill>
          <a:blip r:embed="rId11"/>
          <a:stretch/>
        </p:blipFill>
        <p:spPr>
          <a:xfrm>
            <a:off x="2124000" y="437688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12"/>
          <a:stretch/>
        </p:blipFill>
        <p:spPr>
          <a:xfrm>
            <a:off x="324000" y="4376880"/>
            <a:ext cx="1093680" cy="996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"/>
          <p:cNvPicPr/>
          <p:nvPr/>
        </p:nvPicPr>
        <p:blipFill>
          <a:blip r:embed="rId13"/>
          <a:stretch/>
        </p:blipFill>
        <p:spPr>
          <a:xfrm>
            <a:off x="4191120" y="5638680"/>
            <a:ext cx="1093680" cy="99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"/>
          <p:cNvPicPr/>
          <p:nvPr/>
        </p:nvPicPr>
        <p:blipFill>
          <a:blip r:embed="rId14"/>
          <a:stretch/>
        </p:blipFill>
        <p:spPr>
          <a:xfrm>
            <a:off x="1828800" y="5562720"/>
            <a:ext cx="109368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468360" y="2060640"/>
            <a:ext cx="8136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сем спасибо!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17440" y="476280"/>
            <a:ext cx="604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ПОВТОРЕНИЕ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5280" y="198900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то такое Текстовый редактор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то такое Гиперссылка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зовите все виды списки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аркированный список – это …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умерованный список – это …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-654120" y="1987560"/>
            <a:ext cx="1052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Текстовый редактор MS Word. 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Таблицы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335040" y="3665520"/>
            <a:ext cx="45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85760" y="836280"/>
            <a:ext cx="875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кстовый процессор  Word позволяет вставлять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блицу в документ. Для этого служи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ню/Таблиц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4183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29760" y="187560"/>
            <a:ext cx="83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же можно воспользоваться кнопкой панель инструментов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дартная / Вставка таблиц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848720" cy="920520"/>
          </a:xfrm>
          <a:prstGeom prst="rect">
            <a:avLst/>
          </a:prstGeom>
          <a:ln w="0">
            <a:noFill/>
          </a:ln>
        </p:spPr>
      </p:pic>
      <p:sp>
        <p:nvSpPr>
          <p:cNvPr id="56" name="Oval 7"/>
          <p:cNvSpPr/>
          <p:nvPr/>
        </p:nvSpPr>
        <p:spPr>
          <a:xfrm>
            <a:off x="5148360" y="1486080"/>
            <a:ext cx="57600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24000" y="27064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экране появиться диалоговое ок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тавка таблиц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котором можно установить количество строк и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олбцов создаваемой таблице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2843280" y="4149720"/>
            <a:ext cx="2736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3600" y="330120"/>
            <a:ext cx="891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овку ширины столбцов/строк можно регулировать при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ощи маркера границы столбца/строки или при помощи пункта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 Таблица/Высота и ширина ячейк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ы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оставляют дополнительные возможности по сравнению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установкой ширины столбцов путем установки маркера границ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олбца/строки. Во-первых, можно задать ширину столбцов с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ей точностью, а во-вторых, это вкладка предоставляет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раздо больше возможностей по управлению шириной столбцов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265104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539640" y="40212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вставки нового столбца/строки в любом месте таблицы в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жете воспользоваться пунктом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Вставить столбец (строку).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28670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29040" y="474120"/>
            <a:ext cx="80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того чтобы удалить из таблицы целые строки/столбц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делите эти столбцы/строки  и выберит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нк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Удалить столбцы (строки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ли 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Правка/Вырезать       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2762280" cy="309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33908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б 316</dc:creator>
  <dc:description/>
  <dc:language>en-US</dc:language>
  <cp:lastModifiedBy>сад 05</cp:lastModifiedBy>
  <dcterms:modified xsi:type="dcterms:W3CDTF">2023-12-29T15:44:52Z</dcterms:modified>
  <cp:revision>12</cp:revision>
  <dc:subject/>
  <dc:title>PowerPoint Presentation</dc:title>
</cp:coreProperties>
</file>