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9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3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139-F309-4BCE-B990-2DC02759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2C7-B3C2-4539-A090-97E454D6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758-54B3-447C-ACE0-6C33615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EE7-76F4-4DFD-8380-1BFC8DBA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D87-1183-4D53-B869-231EFA22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D08-BC71-409A-A9A2-1CD636E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297-7962-4C43-AB87-D543026B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4E0-27C5-42D9-BB70-ABB98194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5F2-1D11-468C-B6FF-667CEB9B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C4B-4C13-470F-AE29-704FD0D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A01-4E45-4622-A7A3-47C2783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B42-C162-4913-8196-40AD46A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E44-FBEF-479C-8394-38FC687E19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4160" y="1523880"/>
            <a:ext cx="840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Georgia"/>
              </a:rPr>
              <a:t>Добрый день, 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Georgia"/>
              </a:rPr>
              <a:t>8 класс!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-151560" y="330120"/>
            <a:ext cx="92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редактирования таблицы может понадобиться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динение или разбивка ячеек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объединения ячеек необходимо их выделить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ыполнить команд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Объединение ячеек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разбиения ячеек необходимо –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Разбить ячейку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 появившемся диалогово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не указать количество столбцов, на которые будет разбита ячейк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31525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01760" y="546840"/>
            <a:ext cx="830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окументах Word можно использовать формулы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читывающих сумму значений чисел в строке ил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е таблицы. Для этого установите точку вставки в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чейку, в которую вы хотите ввести формулу и выбрать пунк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Формул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744720" cy="367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771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835280" y="126828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1733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1"/>
          <p:cNvSpPr txBox="1"/>
          <p:nvPr/>
        </p:nvSpPr>
        <p:spPr>
          <a:xfrm>
            <a:off x="755640" y="1916280"/>
            <a:ext cx="777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icrosoft Sans Serif"/>
              </a:rPr>
              <a:t>Проверка ТБ</a:t>
            </a:r>
            <a:endParaRPr b="1" i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icrosoft Sans Serif"/>
              <a:ea typeface="Microsoft Sans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-603360"/>
            <a:ext cx="9468000" cy="770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655640" y="333360"/>
            <a:ext cx="58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Comic Sans MS"/>
              </a:rPr>
              <a:t>Проблемные ситуации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 rot="20398800">
            <a:off x="3058920" y="2349000"/>
            <a:ext cx="223200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 rot="20230200">
            <a:off x="2195280" y="3716280"/>
            <a:ext cx="1724040" cy="2149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 rot="1332000">
            <a:off x="5508360" y="2781360"/>
            <a:ext cx="1724040" cy="21495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>
            <a:hlinkClick r:id="" action="ppaction://hlinkshowjump?jump=nextslide"/>
          </p:cNvPr>
          <p:cNvSpPr/>
          <p:nvPr/>
        </p:nvSpPr>
        <p:spPr>
          <a:xfrm>
            <a:off x="7596360" y="6237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firstslide"/>
          </p:cNvPr>
          <p:cNvSpPr/>
          <p:nvPr/>
        </p:nvSpPr>
        <p:spPr>
          <a:xfrm>
            <a:off x="4427640" y="6308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10800" y="5567"/>
                </a:moveTo>
                <a:lnTo>
                  <a:pt x="13376" y="8178"/>
                </a:ln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lnTo>
                  <a:pt x="17763" y="12530"/>
                </a:lnTo>
                <a:lnTo>
                  <a:pt x="16109" y="12530"/>
                </a:lnTo>
                <a:lnTo>
                  <a:pt x="16109" y="19719"/>
                </a:lnTo>
                <a:lnTo>
                  <a:pt x="5491" y="19719"/>
                </a:lnTo>
                <a:lnTo>
                  <a:pt x="5491" y="12530"/>
                </a:lnTo>
                <a:lnTo>
                  <a:pt x="3837" y="12530"/>
                </a:lnTo>
                <a:close/>
              </a:path>
              <a:path fill="darkenLess" w="21600" h="25060">
                <a:moveTo>
                  <a:pt x="13376" y="8178"/>
                </a:move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close/>
              </a:path>
              <a:path fill="darkenLess" w="21600" h="25060">
                <a:moveTo>
                  <a:pt x="9877" y="16029"/>
                </a:moveTo>
                <a:lnTo>
                  <a:pt x="11723" y="16029"/>
                </a:lnTo>
                <a:lnTo>
                  <a:pt x="11723" y="19719"/>
                </a:lnTo>
                <a:lnTo>
                  <a:pt x="16109" y="19719"/>
                </a:lnTo>
                <a:lnTo>
                  <a:pt x="16109" y="12530"/>
                </a:lnTo>
                <a:lnTo>
                  <a:pt x="5491" y="12530"/>
                </a:lnTo>
                <a:lnTo>
                  <a:pt x="5491" y="19719"/>
                </a:lnTo>
                <a:lnTo>
                  <a:pt x="9877" y="1971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">
            <a:hlinkClick r:id="" action="ppaction://hlinkshowjump?jump=previousslide"/>
          </p:cNvPr>
          <p:cNvSpPr/>
          <p:nvPr/>
        </p:nvSpPr>
        <p:spPr>
          <a:xfrm>
            <a:off x="1908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00360" y="1125360"/>
            <a:ext cx="51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1.Пятачок прибежал с прогулки, весь грязный и сразу сел работать за компьютер. В этот момент к нему в гости пришел Виннипух и остановил Пяточк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124000" y="443700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omic Sans MS"/>
              </a:rPr>
              <a:t>Зачем он это сделал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" action="ppaction://hlinkshowjump?jump=nextslide"/>
          </p:cNvPr>
          <p:cNvSpPr/>
          <p:nvPr/>
        </p:nvSpPr>
        <p:spPr>
          <a:xfrm>
            <a:off x="766764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" action="ppaction://hlinkshowjump?jump=previousslide"/>
          </p:cNvPr>
          <p:cNvSpPr/>
          <p:nvPr/>
        </p:nvSpPr>
        <p:spPr>
          <a:xfrm>
            <a:off x="2050920" y="6093000"/>
            <a:ext cx="432000" cy="368280"/>
          </a:xfrm>
          <a:custGeom>
            <a:avLst/>
            <a:gdLst>
              <a:gd name="textAreaLeft" fmla="*/ 23760 w 432000"/>
              <a:gd name="textAreaRight" fmla="*/ 408240 w 43200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34" h="21600">
                <a:moveTo>
                  <a:pt x="0" y="0"/>
                </a:moveTo>
                <a:lnTo>
                  <a:pt x="25334" y="0"/>
                </a:lnTo>
                <a:lnTo>
                  <a:pt x="25334" y="21600"/>
                </a:lnTo>
                <a:lnTo>
                  <a:pt x="0" y="21600"/>
                </a:lnTo>
                <a:close/>
              </a:path>
              <a:path fill="lightenLess" w="25334" h="21600">
                <a:moveTo>
                  <a:pt x="0" y="0"/>
                </a:moveTo>
                <a:lnTo>
                  <a:pt x="25334" y="0"/>
                </a:lnTo>
                <a:lnTo>
                  <a:pt x="23934" y="1400"/>
                </a:lnTo>
                <a:lnTo>
                  <a:pt x="1400" y="1400"/>
                </a:lnTo>
                <a:close/>
              </a:path>
              <a:path fill="darken" w="25334" h="21600">
                <a:moveTo>
                  <a:pt x="25334" y="0"/>
                </a:moveTo>
                <a:lnTo>
                  <a:pt x="25334" y="21600"/>
                </a:lnTo>
                <a:lnTo>
                  <a:pt x="23934" y="20200"/>
                </a:lnTo>
                <a:lnTo>
                  <a:pt x="23934" y="1400"/>
                </a:lnTo>
                <a:close/>
              </a:path>
              <a:path fill="darkenLess" w="25334" h="21600">
                <a:moveTo>
                  <a:pt x="25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4" y="20200"/>
                </a:lnTo>
                <a:close/>
              </a:path>
              <a:path fill="lighten" w="25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4" h="21600">
                <a:moveTo>
                  <a:pt x="5660" y="10800"/>
                </a:moveTo>
                <a:lnTo>
                  <a:pt x="19673" y="3794"/>
                </a:lnTo>
                <a:lnTo>
                  <a:pt x="1967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firstslide"/>
          </p:cNvPr>
          <p:cNvSpPr/>
          <p:nvPr/>
        </p:nvSpPr>
        <p:spPr>
          <a:xfrm>
            <a:off x="4319640" y="609300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1513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916360" y="1700280"/>
            <a:ext cx="48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1.Потому, что нельзя работать за компьютером с грязными руками и в грязной одежде, компьютер может сломаться, если в него попадет грязь!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6764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>
            <a:hlinkClick r:id="" action="ppaction://hlinkshowjump?jump=previousslide"/>
          </p:cNvPr>
          <p:cNvSpPr/>
          <p:nvPr/>
        </p:nvSpPr>
        <p:spPr>
          <a:xfrm>
            <a:off x="1979640" y="6489720"/>
            <a:ext cx="503280" cy="368280"/>
          </a:xfrm>
          <a:custGeom>
            <a:avLst/>
            <a:gdLst>
              <a:gd name="textAreaLeft" fmla="*/ 23760 w 503280"/>
              <a:gd name="textAreaRight" fmla="*/ 479520 w 50328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9510" h="21600">
                <a:moveTo>
                  <a:pt x="0" y="0"/>
                </a:moveTo>
                <a:lnTo>
                  <a:pt x="29510" y="0"/>
                </a:lnTo>
                <a:lnTo>
                  <a:pt x="29510" y="21600"/>
                </a:lnTo>
                <a:lnTo>
                  <a:pt x="0" y="21600"/>
                </a:lnTo>
                <a:close/>
              </a:path>
              <a:path fill="lightenLess" w="29510" h="21600">
                <a:moveTo>
                  <a:pt x="0" y="0"/>
                </a:moveTo>
                <a:lnTo>
                  <a:pt x="29510" y="0"/>
                </a:lnTo>
                <a:lnTo>
                  <a:pt x="28110" y="1400"/>
                </a:lnTo>
                <a:lnTo>
                  <a:pt x="1400" y="1400"/>
                </a:lnTo>
                <a:close/>
              </a:path>
              <a:path fill="darken" w="29510" h="21600">
                <a:moveTo>
                  <a:pt x="29510" y="0"/>
                </a:moveTo>
                <a:lnTo>
                  <a:pt x="29510" y="21600"/>
                </a:lnTo>
                <a:lnTo>
                  <a:pt x="28110" y="20200"/>
                </a:lnTo>
                <a:lnTo>
                  <a:pt x="28110" y="1400"/>
                </a:lnTo>
                <a:close/>
              </a:path>
              <a:path fill="darkenLess" w="29510" h="21600">
                <a:moveTo>
                  <a:pt x="29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0" y="20200"/>
                </a:lnTo>
                <a:close/>
              </a:path>
              <a:path fill="lighten" w="29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10" h="21600">
                <a:moveTo>
                  <a:pt x="7749" y="10800"/>
                </a:moveTo>
                <a:lnTo>
                  <a:pt x="21762" y="3794"/>
                </a:lnTo>
                <a:lnTo>
                  <a:pt x="21762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>
            <a:hlinkClick r:id="" action="ppaction://hlinkshowjump?jump=firstslide"/>
          </p:cNvPr>
          <p:cNvSpPr/>
          <p:nvPr/>
        </p:nvSpPr>
        <p:spPr>
          <a:xfrm>
            <a:off x="431964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1582920" cy="2952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635280" y="90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Comic Sans MS"/>
              </a:rPr>
              <a:t>Верный ответ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843280" y="1628640"/>
            <a:ext cx="51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2.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Буратино работая на компьютере, нажимал клавиши клавиатуры носом, увидев это Мальвина его остановила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 rot="5400000">
            <a:off x="6373080" y="25920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979640" y="44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omic Sans MS"/>
              </a:rPr>
              <a:t>Зачем она это сделала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7667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2050920" y="6237360"/>
            <a:ext cx="432000" cy="368280"/>
          </a:xfrm>
          <a:custGeom>
            <a:avLst/>
            <a:gdLst>
              <a:gd name="textAreaLeft" fmla="*/ 23760 w 432000"/>
              <a:gd name="textAreaRight" fmla="*/ 408240 w 43200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34" h="21600">
                <a:moveTo>
                  <a:pt x="0" y="0"/>
                </a:moveTo>
                <a:lnTo>
                  <a:pt x="25334" y="0"/>
                </a:lnTo>
                <a:lnTo>
                  <a:pt x="25334" y="21600"/>
                </a:lnTo>
                <a:lnTo>
                  <a:pt x="0" y="21600"/>
                </a:lnTo>
                <a:close/>
              </a:path>
              <a:path fill="lightenLess" w="25334" h="21600">
                <a:moveTo>
                  <a:pt x="0" y="0"/>
                </a:moveTo>
                <a:lnTo>
                  <a:pt x="25334" y="0"/>
                </a:lnTo>
                <a:lnTo>
                  <a:pt x="23934" y="1400"/>
                </a:lnTo>
                <a:lnTo>
                  <a:pt x="1400" y="1400"/>
                </a:lnTo>
                <a:close/>
              </a:path>
              <a:path fill="darken" w="25334" h="21600">
                <a:moveTo>
                  <a:pt x="25334" y="0"/>
                </a:moveTo>
                <a:lnTo>
                  <a:pt x="25334" y="21600"/>
                </a:lnTo>
                <a:lnTo>
                  <a:pt x="23934" y="20200"/>
                </a:lnTo>
                <a:lnTo>
                  <a:pt x="23934" y="1400"/>
                </a:lnTo>
                <a:close/>
              </a:path>
              <a:path fill="darkenLess" w="25334" h="21600">
                <a:moveTo>
                  <a:pt x="25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4" y="20200"/>
                </a:lnTo>
                <a:close/>
              </a:path>
              <a:path fill="lighten" w="25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4" h="21600">
                <a:moveTo>
                  <a:pt x="5660" y="10800"/>
                </a:moveTo>
                <a:lnTo>
                  <a:pt x="19673" y="3794"/>
                </a:lnTo>
                <a:lnTo>
                  <a:pt x="1967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>
            <a:hlinkClick r:id="" action="ppaction://hlinkshowjump?jump=firstslide"/>
          </p:cNvPr>
          <p:cNvSpPr/>
          <p:nvPr/>
        </p:nvSpPr>
        <p:spPr>
          <a:xfrm>
            <a:off x="4338720" y="6396120"/>
            <a:ext cx="466560" cy="461880"/>
          </a:xfrm>
          <a:custGeom>
            <a:avLst/>
            <a:gdLst>
              <a:gd name="textAreaLeft" fmla="*/ 29880 w 466560"/>
              <a:gd name="textAreaRight" fmla="*/ 436680 w 466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21819" h="21600">
                <a:moveTo>
                  <a:pt x="0" y="0"/>
                </a:moveTo>
                <a:lnTo>
                  <a:pt x="21819" y="0"/>
                </a:lnTo>
                <a:lnTo>
                  <a:pt x="21819" y="21600"/>
                </a:lnTo>
                <a:lnTo>
                  <a:pt x="0" y="21600"/>
                </a:lnTo>
                <a:close/>
              </a:path>
              <a:path fill="lightenLess" w="21819" h="21600">
                <a:moveTo>
                  <a:pt x="0" y="0"/>
                </a:moveTo>
                <a:lnTo>
                  <a:pt x="21819" y="0"/>
                </a:lnTo>
                <a:lnTo>
                  <a:pt x="20419" y="1400"/>
                </a:lnTo>
                <a:lnTo>
                  <a:pt x="1400" y="1400"/>
                </a:lnTo>
                <a:close/>
              </a:path>
              <a:path fill="darken" w="21819" h="21600">
                <a:moveTo>
                  <a:pt x="21819" y="0"/>
                </a:moveTo>
                <a:lnTo>
                  <a:pt x="21819" y="21600"/>
                </a:lnTo>
                <a:lnTo>
                  <a:pt x="20419" y="20200"/>
                </a:lnTo>
                <a:lnTo>
                  <a:pt x="20419" y="1400"/>
                </a:lnTo>
                <a:close/>
              </a:path>
              <a:path fill="darkenLess" w="21819" h="21600">
                <a:moveTo>
                  <a:pt x="21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9" y="20200"/>
                </a:lnTo>
                <a:close/>
              </a:path>
              <a:path fill="lighten" w="21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19" h="21600">
                <a:moveTo>
                  <a:pt x="10909" y="3837"/>
                </a:moveTo>
                <a:lnTo>
                  <a:pt x="13486" y="6448"/>
                </a:lnTo>
                <a:lnTo>
                  <a:pt x="13486" y="4707"/>
                </a:lnTo>
                <a:lnTo>
                  <a:pt x="15261" y="4707"/>
                </a:lnTo>
                <a:lnTo>
                  <a:pt x="15261" y="8224"/>
                </a:lnTo>
                <a:lnTo>
                  <a:pt x="17872" y="10800"/>
                </a:lnTo>
                <a:lnTo>
                  <a:pt x="16219" y="10800"/>
                </a:lnTo>
                <a:lnTo>
                  <a:pt x="16219" y="17989"/>
                </a:lnTo>
                <a:lnTo>
                  <a:pt x="5600" y="17989"/>
                </a:lnTo>
                <a:lnTo>
                  <a:pt x="5600" y="10800"/>
                </a:lnTo>
                <a:lnTo>
                  <a:pt x="3946" y="10800"/>
                </a:lnTo>
                <a:close/>
              </a:path>
              <a:path fill="darkenLess" w="21819" h="21600">
                <a:moveTo>
                  <a:pt x="13486" y="6448"/>
                </a:moveTo>
                <a:lnTo>
                  <a:pt x="13486" y="4707"/>
                </a:lnTo>
                <a:lnTo>
                  <a:pt x="15261" y="4707"/>
                </a:lnTo>
                <a:lnTo>
                  <a:pt x="15261" y="8224"/>
                </a:lnTo>
                <a:close/>
              </a:path>
              <a:path fill="darkenLess" w="21819" h="21600">
                <a:moveTo>
                  <a:pt x="9987" y="14299"/>
                </a:moveTo>
                <a:lnTo>
                  <a:pt x="11832" y="14299"/>
                </a:lnTo>
                <a:lnTo>
                  <a:pt x="11832" y="17989"/>
                </a:lnTo>
                <a:lnTo>
                  <a:pt x="16219" y="17989"/>
                </a:lnTo>
                <a:lnTo>
                  <a:pt x="16219" y="10800"/>
                </a:lnTo>
                <a:lnTo>
                  <a:pt x="5600" y="10800"/>
                </a:lnTo>
                <a:lnTo>
                  <a:pt x="5600" y="17989"/>
                </a:lnTo>
                <a:lnTo>
                  <a:pt x="9987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1403280" y="1628640"/>
            <a:ext cx="1513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-495360"/>
            <a:ext cx="9468000" cy="759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916360" y="1700280"/>
            <a:ext cx="489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2. На клавиши клавиатуры и кнопки мыши нужно нажимать плавно и только пальцами руки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107964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 rot="5400000">
            <a:off x="6444360" y="332280"/>
            <a:ext cx="100800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774072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>
            <a:hlinkClick r:id="" action="ppaction://hlinkshowjump?jump=previousslide"/>
          </p:cNvPr>
          <p:cNvSpPr/>
          <p:nvPr/>
        </p:nvSpPr>
        <p:spPr>
          <a:xfrm>
            <a:off x="197964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5650" y="10800"/>
                </a:moveTo>
                <a:lnTo>
                  <a:pt x="19663" y="3794"/>
                </a:lnTo>
                <a:lnTo>
                  <a:pt x="19663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>
            <a:hlinkClick r:id="" action="ppaction://hlinkshowjump?jump=firstslide"/>
          </p:cNvPr>
          <p:cNvSpPr/>
          <p:nvPr/>
        </p:nvSpPr>
        <p:spPr>
          <a:xfrm>
            <a:off x="4338720" y="6524640"/>
            <a:ext cx="466560" cy="333360"/>
          </a:xfrm>
          <a:custGeom>
            <a:avLst/>
            <a:gdLst>
              <a:gd name="textAreaLeft" fmla="*/ 21600 w 466560"/>
              <a:gd name="textAreaRight" fmla="*/ 444960 w 466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221" h="21600">
                <a:moveTo>
                  <a:pt x="0" y="0"/>
                </a:moveTo>
                <a:lnTo>
                  <a:pt x="30221" y="0"/>
                </a:lnTo>
                <a:lnTo>
                  <a:pt x="30221" y="21600"/>
                </a:lnTo>
                <a:lnTo>
                  <a:pt x="0" y="21600"/>
                </a:lnTo>
                <a:close/>
              </a:path>
              <a:path fill="lightenLess" w="30221" h="21600">
                <a:moveTo>
                  <a:pt x="0" y="0"/>
                </a:moveTo>
                <a:lnTo>
                  <a:pt x="30221" y="0"/>
                </a:lnTo>
                <a:lnTo>
                  <a:pt x="28821" y="1400"/>
                </a:lnTo>
                <a:lnTo>
                  <a:pt x="1400" y="1400"/>
                </a:lnTo>
                <a:close/>
              </a:path>
              <a:path fill="darken" w="30221" h="21600">
                <a:moveTo>
                  <a:pt x="30221" y="0"/>
                </a:moveTo>
                <a:lnTo>
                  <a:pt x="30221" y="21600"/>
                </a:lnTo>
                <a:lnTo>
                  <a:pt x="28821" y="20200"/>
                </a:lnTo>
                <a:lnTo>
                  <a:pt x="28821" y="1400"/>
                </a:lnTo>
                <a:close/>
              </a:path>
              <a:path fill="darkenLess" w="30221" h="21600">
                <a:moveTo>
                  <a:pt x="30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1" y="20200"/>
                </a:lnTo>
                <a:close/>
              </a:path>
              <a:path fill="lighten" w="30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1" h="21600">
                <a:moveTo>
                  <a:pt x="15111" y="3837"/>
                </a:moveTo>
                <a:lnTo>
                  <a:pt x="17687" y="6448"/>
                </a:lnTo>
                <a:lnTo>
                  <a:pt x="17687" y="4707"/>
                </a:lnTo>
                <a:lnTo>
                  <a:pt x="19463" y="4707"/>
                </a:lnTo>
                <a:lnTo>
                  <a:pt x="19463" y="8224"/>
                </a:lnTo>
                <a:lnTo>
                  <a:pt x="22074" y="10800"/>
                </a:lnTo>
                <a:lnTo>
                  <a:pt x="20420" y="10800"/>
                </a:lnTo>
                <a:lnTo>
                  <a:pt x="20420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8" y="10800"/>
                </a:lnTo>
                <a:close/>
              </a:path>
              <a:path fill="darkenLess" w="30221" h="21600">
                <a:moveTo>
                  <a:pt x="17687" y="6448"/>
                </a:moveTo>
                <a:lnTo>
                  <a:pt x="17687" y="4707"/>
                </a:lnTo>
                <a:lnTo>
                  <a:pt x="19463" y="4707"/>
                </a:lnTo>
                <a:lnTo>
                  <a:pt x="19463" y="8224"/>
                </a:lnTo>
                <a:close/>
              </a:path>
              <a:path fill="darkenLess" w="30221" h="21600">
                <a:moveTo>
                  <a:pt x="14188" y="14299"/>
                </a:moveTo>
                <a:lnTo>
                  <a:pt x="16033" y="14299"/>
                </a:lnTo>
                <a:lnTo>
                  <a:pt x="16033" y="17989"/>
                </a:lnTo>
                <a:lnTo>
                  <a:pt x="20420" y="17989"/>
                </a:lnTo>
                <a:lnTo>
                  <a:pt x="20420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8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158292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3635280" y="90792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Comic Sans MS"/>
              </a:rPr>
              <a:t>Верный ответ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089800" y="177336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актическая работа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3132000" y="3213000"/>
            <a:ext cx="3024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EDA-54D8-4701-B995-2F0E94EE6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Разминка - Ана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1628280"/>
            <a:ext cx="9001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реставьте буквы в слове, чтобы получить новое слов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2"/>
          <p:cNvSpPr/>
          <p:nvPr/>
        </p:nvSpPr>
        <p:spPr>
          <a:xfrm>
            <a:off x="250920" y="2492280"/>
            <a:ext cx="187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р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ыба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ка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люш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лоу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тлас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2771640" y="2421000"/>
            <a:ext cx="20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сос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с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лб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Шнуро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5651640" y="2492280"/>
            <a:ext cx="1871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ос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н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ело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ил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Посчитай тигря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461960" y="300024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3995640" y="286380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7086600" y="388620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819520" y="144792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5181480" y="160020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8"/>
          <a:stretch/>
        </p:blipFill>
        <p:spPr>
          <a:xfrm>
            <a:off x="5638680" y="4952880"/>
            <a:ext cx="1094040" cy="99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9"/>
          <a:stretch/>
        </p:blipFill>
        <p:spPr>
          <a:xfrm>
            <a:off x="304920" y="1295280"/>
            <a:ext cx="1093680" cy="99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10"/>
          <a:stretch/>
        </p:blipFill>
        <p:spPr>
          <a:xfrm>
            <a:off x="3995640" y="429264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11"/>
          <a:stretch/>
        </p:blipFill>
        <p:spPr>
          <a:xfrm>
            <a:off x="2124000" y="4376880"/>
            <a:ext cx="1094040" cy="996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12"/>
          <a:stretch/>
        </p:blipFill>
        <p:spPr>
          <a:xfrm>
            <a:off x="324000" y="4376880"/>
            <a:ext cx="1093680" cy="996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13"/>
          <a:stretch/>
        </p:blipFill>
        <p:spPr>
          <a:xfrm>
            <a:off x="4191120" y="5638680"/>
            <a:ext cx="1093680" cy="99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14"/>
          <a:stretch/>
        </p:blipFill>
        <p:spPr>
          <a:xfrm>
            <a:off x="1828800" y="5562720"/>
            <a:ext cx="109368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68360" y="2060640"/>
            <a:ext cx="8136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сем спасибо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17440" y="476280"/>
            <a:ext cx="604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ПОВТОРЕНИЕ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198900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такое Текстовый редактор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такое Гиперссылка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зовите все виды списки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ркированный список – это …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умерованный список – это …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-654120" y="1987560"/>
            <a:ext cx="1052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Текстовый редактор MS Word. 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Таблицы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335040" y="3665520"/>
            <a:ext cx="4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85760" y="836280"/>
            <a:ext cx="875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кстовый процессор  Word позволяет вставлять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лицу в документ. Для этого служи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ню/Таблиц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18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9760" y="187560"/>
            <a:ext cx="83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же можно воспользоваться кнопкой панель инструменто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тная / Вставка таблиц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848720" cy="92052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5148360" y="1486080"/>
            <a:ext cx="5760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27064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экране появиться диалоговое ок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тавка таблиц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отором можно установить количество строк 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ов создаваемой таблице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2736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600" y="330120"/>
            <a:ext cx="891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ку ширины столбцов/строк можно регулировать пр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щи маркера границы столбца/строки или при помощи пункт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 Таблица/Высота и ширина ячейк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оставляют дополнительные возможности по сравнению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установкой ширины столбцов путем установки маркера границ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лбца/строки. Во-первых, можно задать ширину столбцов с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й точностью, а во-вторых, это вкладка предоставляет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аздо больше возможностей по управлению шириной столбцов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651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539640" y="40212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вставки нового столбца/строки в любом месте таблицы в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ете воспользоваться пунктом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Вставить столбец (строку).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2867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29040" y="474120"/>
            <a:ext cx="80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того чтобы удалить из таблицы целые строки/столбц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елите эти столбцы/строки  и выберит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нк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Таблица/Удалить столбцы (строк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ли 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ню/Правка/Вырезать       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2762280" cy="309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33908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 316</dc:creator>
  <dc:description/>
  <dc:language>en-US</dc:language>
  <cp:lastModifiedBy>сад 05</cp:lastModifiedBy>
  <dcterms:modified xsi:type="dcterms:W3CDTF">2023-12-29T15:44:52Z</dcterms:modified>
  <cp:revision>12</cp:revision>
  <dc:subject/>
  <dc:title>PowerPoint Presentation</dc:title>
</cp:coreProperties>
</file>