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9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3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D8D-F616-443D-B9C7-5D85806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27D-0CEA-4CD3-A46D-08207E1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D2E-A85C-4A9B-98E4-FDEC5198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954-4247-4D60-B70A-E0115775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784-AD63-44E1-8CA1-FAE7E812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ABC-6EF0-475A-AC70-C787D23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BB3-B1D2-4099-91B5-1A6E6B9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8F5-D642-4DD1-BADF-9A9E491E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83A-B82B-4AB7-BCFD-19FC5A5B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CAD-94ED-4A37-89E4-88C1ACD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9B8-ADEE-48F9-B05F-A979340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D99-6C9B-43F5-B058-F0C9162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AFB-1ED6-41EB-8EA3-25A99A5C7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4160" y="1523880"/>
            <a:ext cx="840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Добрый день, 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8 класс!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151560" y="330120"/>
            <a:ext cx="92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редактирования таблицы может понадобиться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динение или разбивка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объединения ячеек необходимо их выделить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ыполнить команд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Объединение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разбиения ячеек необходимо –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Разбить ячейк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 появившемся диалогов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не указать количество столбцов, на которые будет разбита ячейк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31525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01760" y="546840"/>
            <a:ext cx="830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окументах Word можно использовать формулы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читывающих сумму значений чисел в строке ил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е таблицы. Для этого установите точку вставки в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чейку, в которую вы хотите ввести формулу и выбрать пунк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Формул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744720" cy="367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771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835280" y="126828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1733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1"/>
          <p:cNvSpPr txBox="1"/>
          <p:nvPr/>
        </p:nvSpPr>
        <p:spPr>
          <a:xfrm>
            <a:off x="755640" y="1916280"/>
            <a:ext cx="777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icrosoft Sans Serif"/>
              </a:rPr>
              <a:t>Проверка ТБ</a:t>
            </a:r>
            <a:endParaRPr b="1" i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603360"/>
            <a:ext cx="9468000" cy="770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655640" y="33336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Comic Sans MS"/>
              </a:rPr>
              <a:t>Проблемные ситуации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 rot="20398800">
            <a:off x="3058920" y="2349000"/>
            <a:ext cx="223200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 rot="20230200">
            <a:off x="2195280" y="3716280"/>
            <a:ext cx="1724040" cy="214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 rot="1332000">
            <a:off x="5508360" y="2781360"/>
            <a:ext cx="1724040" cy="21495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>
            <a:hlinkClick r:id="" action="ppaction://hlinkshowjump?jump=nextslide"/>
          </p:cNvPr>
          <p:cNvSpPr/>
          <p:nvPr/>
        </p:nvSpPr>
        <p:spPr>
          <a:xfrm>
            <a:off x="7596360" y="6237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firstslide"/>
          </p:cNvPr>
          <p:cNvSpPr/>
          <p:nvPr/>
        </p:nvSpPr>
        <p:spPr>
          <a:xfrm>
            <a:off x="4427640" y="6308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>
            <a:hlinkClick r:id="" action="ppaction://hlinkshowjump?jump=previousslide"/>
          </p:cNvPr>
          <p:cNvSpPr/>
          <p:nvPr/>
        </p:nvSpPr>
        <p:spPr>
          <a:xfrm>
            <a:off x="1908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00360" y="1125360"/>
            <a:ext cx="51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1.Пятачок прибежал с прогулки, весь грязный и сразу сел работать за компьютер. В этот момент к нему в гости пришел Виннипух и остановил Пяточк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124000" y="44370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 это сделал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" action="ppaction://hlinkshowjump?jump=nextslide"/>
          </p:cNvPr>
          <p:cNvSpPr/>
          <p:nvPr/>
        </p:nvSpPr>
        <p:spPr>
          <a:xfrm>
            <a:off x="766764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previousslide"/>
          </p:cNvPr>
          <p:cNvSpPr/>
          <p:nvPr/>
        </p:nvSpPr>
        <p:spPr>
          <a:xfrm>
            <a:off x="2050920" y="609300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firstslide"/>
          </p:cNvPr>
          <p:cNvSpPr/>
          <p:nvPr/>
        </p:nvSpPr>
        <p:spPr>
          <a:xfrm>
            <a:off x="4319640" y="609300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916360" y="1700280"/>
            <a:ext cx="48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.Потому, что нельзя работать за компьютером с грязными руками и в грязной одежде, компьютер может сломаться, если в него попадет грязь!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6764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503280" cy="3682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9510" h="21600">
                <a:moveTo>
                  <a:pt x="0" y="0"/>
                </a:moveTo>
                <a:lnTo>
                  <a:pt x="29510" y="0"/>
                </a:lnTo>
                <a:lnTo>
                  <a:pt x="29510" y="21600"/>
                </a:lnTo>
                <a:lnTo>
                  <a:pt x="0" y="21600"/>
                </a:lnTo>
                <a:close/>
              </a:path>
              <a:path fill="lightenLess" w="29510" h="21600">
                <a:moveTo>
                  <a:pt x="0" y="0"/>
                </a:moveTo>
                <a:lnTo>
                  <a:pt x="29510" y="0"/>
                </a:lnTo>
                <a:lnTo>
                  <a:pt x="28110" y="1400"/>
                </a:lnTo>
                <a:lnTo>
                  <a:pt x="1400" y="1400"/>
                </a:lnTo>
                <a:close/>
              </a:path>
              <a:path fill="darken" w="29510" h="21600">
                <a:moveTo>
                  <a:pt x="29510" y="0"/>
                </a:moveTo>
                <a:lnTo>
                  <a:pt x="29510" y="21600"/>
                </a:lnTo>
                <a:lnTo>
                  <a:pt x="28110" y="20200"/>
                </a:lnTo>
                <a:lnTo>
                  <a:pt x="28110" y="1400"/>
                </a:lnTo>
                <a:close/>
              </a:path>
              <a:path fill="darkenLess" w="29510" h="21600">
                <a:moveTo>
                  <a:pt x="29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0" y="20200"/>
                </a:lnTo>
                <a:close/>
              </a:path>
              <a:path fill="lighten" w="29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10" h="21600">
                <a:moveTo>
                  <a:pt x="7749" y="10800"/>
                </a:moveTo>
                <a:lnTo>
                  <a:pt x="21762" y="3794"/>
                </a:lnTo>
                <a:lnTo>
                  <a:pt x="21762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>
            <a:hlinkClick r:id="" action="ppaction://hlinkshowjump?jump=firstslide"/>
          </p:cNvPr>
          <p:cNvSpPr/>
          <p:nvPr/>
        </p:nvSpPr>
        <p:spPr>
          <a:xfrm>
            <a:off x="431964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635280" y="90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43280" y="1628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2.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Буратино работая на компьютере, нажимал клавиши клавиатуры носом, увидев это Мальвина его остановила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979640" y="44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а это сделала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7667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2050920" y="623736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>
            <a:hlinkClick r:id="" action="ppaction://hlinkshowjump?jump=firstslide"/>
          </p:cNvPr>
          <p:cNvSpPr/>
          <p:nvPr/>
        </p:nvSpPr>
        <p:spPr>
          <a:xfrm>
            <a:off x="4338720" y="6396120"/>
            <a:ext cx="466560" cy="461880"/>
          </a:xfrm>
          <a:custGeom>
            <a:avLst/>
            <a:gdLst>
              <a:gd name="textAreaLeft" fmla="*/ 29880 w 466560"/>
              <a:gd name="textAreaRight" fmla="*/ 436680 w 466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21819" h="21600">
                <a:moveTo>
                  <a:pt x="0" y="0"/>
                </a:moveTo>
                <a:lnTo>
                  <a:pt x="21819" y="0"/>
                </a:lnTo>
                <a:lnTo>
                  <a:pt x="21819" y="21600"/>
                </a:lnTo>
                <a:lnTo>
                  <a:pt x="0" y="21600"/>
                </a:lnTo>
                <a:close/>
              </a:path>
              <a:path fill="lightenLess" w="21819" h="21600">
                <a:moveTo>
                  <a:pt x="0" y="0"/>
                </a:moveTo>
                <a:lnTo>
                  <a:pt x="21819" y="0"/>
                </a:lnTo>
                <a:lnTo>
                  <a:pt x="20419" y="1400"/>
                </a:lnTo>
                <a:lnTo>
                  <a:pt x="1400" y="1400"/>
                </a:lnTo>
                <a:close/>
              </a:path>
              <a:path fill="darken" w="21819" h="21600">
                <a:moveTo>
                  <a:pt x="21819" y="0"/>
                </a:moveTo>
                <a:lnTo>
                  <a:pt x="21819" y="21600"/>
                </a:lnTo>
                <a:lnTo>
                  <a:pt x="20419" y="20200"/>
                </a:lnTo>
                <a:lnTo>
                  <a:pt x="20419" y="1400"/>
                </a:lnTo>
                <a:close/>
              </a:path>
              <a:path fill="darkenLess" w="21819" h="21600">
                <a:moveTo>
                  <a:pt x="21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9" y="20200"/>
                </a:lnTo>
                <a:close/>
              </a:path>
              <a:path fill="lighten" w="21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9" h="21600">
                <a:moveTo>
                  <a:pt x="10909" y="3837"/>
                </a:moveTo>
                <a:lnTo>
                  <a:pt x="13486" y="6448"/>
                </a:ln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lnTo>
                  <a:pt x="17872" y="10800"/>
                </a:lnTo>
                <a:lnTo>
                  <a:pt x="16219" y="10800"/>
                </a:lnTo>
                <a:lnTo>
                  <a:pt x="16219" y="17989"/>
                </a:lnTo>
                <a:lnTo>
                  <a:pt x="5600" y="17989"/>
                </a:lnTo>
                <a:lnTo>
                  <a:pt x="5600" y="10800"/>
                </a:lnTo>
                <a:lnTo>
                  <a:pt x="3946" y="10800"/>
                </a:lnTo>
                <a:close/>
              </a:path>
              <a:path fill="darkenLess" w="21819" h="21600">
                <a:moveTo>
                  <a:pt x="13486" y="6448"/>
                </a:move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close/>
              </a:path>
              <a:path fill="darkenLess" w="21819" h="21600">
                <a:moveTo>
                  <a:pt x="9987" y="14299"/>
                </a:moveTo>
                <a:lnTo>
                  <a:pt x="11832" y="14299"/>
                </a:lnTo>
                <a:lnTo>
                  <a:pt x="11832" y="17989"/>
                </a:lnTo>
                <a:lnTo>
                  <a:pt x="16219" y="17989"/>
                </a:lnTo>
                <a:lnTo>
                  <a:pt x="16219" y="10800"/>
                </a:lnTo>
                <a:lnTo>
                  <a:pt x="5600" y="10800"/>
                </a:lnTo>
                <a:lnTo>
                  <a:pt x="5600" y="17989"/>
                </a:lnTo>
                <a:lnTo>
                  <a:pt x="9987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916360" y="1700280"/>
            <a:ext cx="489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2. На клавиши клавиатуры и кнопки мыши нужно нажимать плавно и только пальцами руки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 rot="5400000">
            <a:off x="6444360" y="33228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774072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5650" y="10800"/>
                </a:moveTo>
                <a:lnTo>
                  <a:pt x="19663" y="3794"/>
                </a:lnTo>
                <a:lnTo>
                  <a:pt x="1966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>
            <a:hlinkClick r:id="" action="ppaction://hlinkshowjump?jump=firstslide"/>
          </p:cNvPr>
          <p:cNvSpPr/>
          <p:nvPr/>
        </p:nvSpPr>
        <p:spPr>
          <a:xfrm>
            <a:off x="4338720" y="6524640"/>
            <a:ext cx="466560" cy="333360"/>
          </a:xfrm>
          <a:custGeom>
            <a:avLst/>
            <a:gdLst>
              <a:gd name="textAreaLeft" fmla="*/ 21600 w 466560"/>
              <a:gd name="textAreaRight" fmla="*/ 444960 w 466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221" h="21600">
                <a:moveTo>
                  <a:pt x="0" y="0"/>
                </a:moveTo>
                <a:lnTo>
                  <a:pt x="30221" y="0"/>
                </a:lnTo>
                <a:lnTo>
                  <a:pt x="30221" y="21600"/>
                </a:lnTo>
                <a:lnTo>
                  <a:pt x="0" y="21600"/>
                </a:lnTo>
                <a:close/>
              </a:path>
              <a:path fill="lightenLess" w="30221" h="21600">
                <a:moveTo>
                  <a:pt x="0" y="0"/>
                </a:moveTo>
                <a:lnTo>
                  <a:pt x="30221" y="0"/>
                </a:lnTo>
                <a:lnTo>
                  <a:pt x="28821" y="1400"/>
                </a:lnTo>
                <a:lnTo>
                  <a:pt x="1400" y="1400"/>
                </a:lnTo>
                <a:close/>
              </a:path>
              <a:path fill="darken" w="30221" h="21600">
                <a:moveTo>
                  <a:pt x="30221" y="0"/>
                </a:moveTo>
                <a:lnTo>
                  <a:pt x="30221" y="21600"/>
                </a:lnTo>
                <a:lnTo>
                  <a:pt x="28821" y="20200"/>
                </a:lnTo>
                <a:lnTo>
                  <a:pt x="28821" y="1400"/>
                </a:lnTo>
                <a:close/>
              </a:path>
              <a:path fill="darkenLess" w="30221" h="21600">
                <a:moveTo>
                  <a:pt x="30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1" y="20200"/>
                </a:lnTo>
                <a:close/>
              </a:path>
              <a:path fill="lighten" w="30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1" h="21600">
                <a:moveTo>
                  <a:pt x="15111" y="3837"/>
                </a:moveTo>
                <a:lnTo>
                  <a:pt x="17687" y="6448"/>
                </a:ln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lnTo>
                  <a:pt x="22074" y="10800"/>
                </a:lnTo>
                <a:lnTo>
                  <a:pt x="20420" y="10800"/>
                </a:lnTo>
                <a:lnTo>
                  <a:pt x="20420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8" y="10800"/>
                </a:lnTo>
                <a:close/>
              </a:path>
              <a:path fill="darkenLess" w="30221" h="21600">
                <a:moveTo>
                  <a:pt x="17687" y="6448"/>
                </a:move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close/>
              </a:path>
              <a:path fill="darkenLess" w="30221" h="21600">
                <a:moveTo>
                  <a:pt x="14188" y="14299"/>
                </a:moveTo>
                <a:lnTo>
                  <a:pt x="16033" y="14299"/>
                </a:lnTo>
                <a:lnTo>
                  <a:pt x="16033" y="17989"/>
                </a:lnTo>
                <a:lnTo>
                  <a:pt x="20420" y="17989"/>
                </a:lnTo>
                <a:lnTo>
                  <a:pt x="20420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635280" y="90792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089800" y="177336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актическая работа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3024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D754-CC4B-4A5D-9878-3F31B9031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зминка - Ана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628280"/>
            <a:ext cx="9001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реставьте буквы в слове, чтобы получить новое слов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250920" y="2492280"/>
            <a:ext cx="187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р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ыба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ка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люш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лоу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тла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2771640" y="2421000"/>
            <a:ext cx="20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со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с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лб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нуро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5651640" y="2492280"/>
            <a:ext cx="1871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ос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н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ело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л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осчитай тигря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461960" y="300024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3995640" y="28638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7086600" y="388620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819520" y="144792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81480" y="16002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638680" y="49528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304920" y="12952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3995640" y="429264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11"/>
          <a:stretch/>
        </p:blipFill>
        <p:spPr>
          <a:xfrm>
            <a:off x="2124000" y="437688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12"/>
          <a:stretch/>
        </p:blipFill>
        <p:spPr>
          <a:xfrm>
            <a:off x="324000" y="437688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13"/>
          <a:stretch/>
        </p:blipFill>
        <p:spPr>
          <a:xfrm>
            <a:off x="4191120" y="56386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14"/>
          <a:stretch/>
        </p:blipFill>
        <p:spPr>
          <a:xfrm>
            <a:off x="1828800" y="5562720"/>
            <a:ext cx="109368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68360" y="2060640"/>
            <a:ext cx="813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сем спасибо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17440" y="476280"/>
            <a:ext cx="604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198900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Текстовый редактор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Гиперссылка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все виды списки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ркированный список – это …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умерованный список – это …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-654120" y="1987560"/>
            <a:ext cx="1052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Текстовый редактор MS Word.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Таблицы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35040" y="3665520"/>
            <a:ext cx="4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85760" y="836280"/>
            <a:ext cx="875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кстовый процессор  Word позволяет вставлять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лицу в документ. Для этого служи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ню/Таблиц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18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9760" y="187560"/>
            <a:ext cx="83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же можно воспользоваться кнопкой панель инструмент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тная / Вставка таблиц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848720" cy="92052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5148360" y="1486080"/>
            <a:ext cx="5760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27064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экране появиться диалоговое ок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авка табл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тором можно установить количество строк 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ов создаваемой таблиц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273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600" y="330120"/>
            <a:ext cx="891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ку ширины столбцов/строк можно регулировать пр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щи маркера границы столбца/строки или при помощи пункт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 Таблица/Высота и ширина ячей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оставляют дополнительные возможности по сравнению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установкой ширины столбцов путем установки маркера границ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а/строки. Во-первых, можно задать ширину столбцов с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й точностью, а во-вторых, это вкладка предоставляет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аздо больше возможностей по управлению шириной столбцов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651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539640" y="40212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вставки нового столбца/строки в любом месте таблицы в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ете воспользоваться пункт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Вставить столбец (строку).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2867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29040" y="474120"/>
            <a:ext cx="80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того чтобы удалить из таблицы целые строки/столбц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елите эти столбцы/строки  и выбери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нк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Удалить столбцы (строк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 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Правка/Вырезать       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762280" cy="309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3390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 316</dc:creator>
  <dc:description/>
  <dc:language>en-US</dc:language>
  <cp:lastModifiedBy>сад 05</cp:lastModifiedBy>
  <dcterms:modified xsi:type="dcterms:W3CDTF">2023-12-29T15:44:52Z</dcterms:modified>
  <cp:revision>12</cp:revision>
  <dc:subject/>
  <dc:title>PowerPoint Presentation</dc:title>
</cp:coreProperties>
</file>