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.gif" ContentType="image/gif"/>
  <Override PartName="/ppt/media/image32.gif" ContentType="image/gif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3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9.png" ContentType="image/png"/>
  <Override PartName="/ppt/media/image26.png" ContentType="image/png"/>
  <Override PartName="/ppt/media/image33.gif" ContentType="image/gif"/>
  <Override PartName="/ppt/media/image13.png" ContentType="image/png"/>
  <Override PartName="/ppt/media/image12.png" ContentType="image/png"/>
  <Override PartName="/ppt/media/image31.jpeg" ContentType="image/jpeg"/>
  <Override PartName="/ppt/media/image6.png" ContentType="image/png"/>
  <Override PartName="/ppt/media/image29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FF79-B015-4CD5-9B82-538297DBA1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5CE5-50E4-47C7-A286-33381D8D43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запустить барабан, нужно щелкнуть на красный круг. Выпадение номеров настроено следующим образом: 2, 7, 1, 6, 3, 5, 8, 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C06F-5C97-4FAE-8515-DBB5AB526E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запустить барабан, нужно щелкнуть на красный круг. Выпадение номеров настроено следующим образом: 2, 7, 1, 6, 3, 5, 8, 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6533-229F-4DCE-8479-E35F49D103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запустить барабан, нужно щелкнуть на красный круг. Выпадение номеров настроено следующим образом: 2, 7, 1, 6, 3, 5, 8, 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D2A3-4481-466E-8403-ED22F2C347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запустить барабан, нужно щелкнуть на красный круг. Выпадение номеров настроено следующим образом: 2, 7, 1, 6, 3, 5, 8, 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E57D-535C-4AC0-968B-40AA0C7AF9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B045-A57B-4EFE-9287-57E2E7C2AA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запустить барабан, нужно щелкнуть на красный круг. Выпадение номеров настроено следующим образом: 2, 7, 1, 6, 3, 5, 8, 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C107-E6E2-407A-9DFA-F770BB481B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запустить барабан, нужно щелкнуть на красный круг. Выпадение номеров настроено следующим образом: 2, 7, 1, 6, 3, 5, 8, 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07B8-9821-4A75-85DA-2E9AF0A49E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запустить барабан, нужно щелкнуть на красный круг. Выпадение номеров настроено следующим образом: 2, 7, 1, 6, 3, 5, 8, 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100B-17F7-4AF0-9E9A-DAAF6D514B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D037-0C3A-4B2A-9B01-A9BA5204A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8570-368C-440E-8731-86268248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D2C8-97D4-452C-86AF-57B49757F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F466-BCB6-4BD9-821C-F5FB7DF15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A4CE-41C8-4584-88A7-59A1321B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3A60-220C-432F-86BB-B95F001F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B752-A24F-4FEA-BEC0-8EFB667D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FE85-32C6-4D6F-88B1-B2F945C2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7A39-807F-4FD0-B689-AE2A5914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A397-2DBE-439F-8CBD-3EC0EAFD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588E-1E57-46D1-AEEE-10C736F2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89ED-E32D-4BC3-A219-273F5D94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7F00-FDE7-4FEC-9FBC-6663BD209E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" Target="slide10.xml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slide" Target="slide5.xml"/><Relationship Id="rId9" Type="http://schemas.openxmlformats.org/officeDocument/2006/relationships/image" Target="../media/image11.jpeg"/><Relationship Id="rId10" Type="http://schemas.openxmlformats.org/officeDocument/2006/relationships/image" Target="../media/image13.png"/><Relationship Id="rId11" Type="http://schemas.openxmlformats.org/officeDocument/2006/relationships/slide" Target="slide6.xml"/><Relationship Id="rId12" Type="http://schemas.openxmlformats.org/officeDocument/2006/relationships/image" Target="../media/image11.jpeg"/><Relationship Id="rId13" Type="http://schemas.openxmlformats.org/officeDocument/2006/relationships/image" Target="../media/image14.png"/><Relationship Id="rId14" Type="http://schemas.openxmlformats.org/officeDocument/2006/relationships/slide" Target="slide7.xml"/><Relationship Id="rId15" Type="http://schemas.openxmlformats.org/officeDocument/2006/relationships/image" Target="../media/image11.jpeg"/><Relationship Id="rId16" Type="http://schemas.openxmlformats.org/officeDocument/2006/relationships/image" Target="../media/image15.png"/><Relationship Id="rId17" Type="http://schemas.openxmlformats.org/officeDocument/2006/relationships/slide" Target="slide8.xml"/><Relationship Id="rId18" Type="http://schemas.openxmlformats.org/officeDocument/2006/relationships/image" Target="../media/image11.jpeg"/><Relationship Id="rId19" Type="http://schemas.openxmlformats.org/officeDocument/2006/relationships/image" Target="../media/image16.png"/><Relationship Id="rId20" Type="http://schemas.openxmlformats.org/officeDocument/2006/relationships/slide" Target="slide9.xml"/><Relationship Id="rId21" Type="http://schemas.openxmlformats.org/officeDocument/2006/relationships/image" Target="../media/image11.jpeg"/><Relationship Id="rId22" Type="http://schemas.openxmlformats.org/officeDocument/2006/relationships/image" Target="../media/image17.png"/><Relationship Id="rId23" Type="http://schemas.openxmlformats.org/officeDocument/2006/relationships/image" Target="../media/image18.png"/><Relationship Id="rId24" Type="http://schemas.openxmlformats.org/officeDocument/2006/relationships/image" Target="../media/image19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2.png"/><Relationship Id="rId28" Type="http://schemas.openxmlformats.org/officeDocument/2006/relationships/image" Target="../media/image23.png"/><Relationship Id="rId29" Type="http://schemas.openxmlformats.org/officeDocument/2006/relationships/image" Target="../media/image24.png"/><Relationship Id="rId30" Type="http://schemas.openxmlformats.org/officeDocument/2006/relationships/image" Target="../media/image25.png"/><Relationship Id="rId31" Type="http://schemas.openxmlformats.org/officeDocument/2006/relationships/slide" Target="slide12.xml"/><Relationship Id="rId32" Type="http://schemas.openxmlformats.org/officeDocument/2006/relationships/image" Target="../media/image26.png"/><Relationship Id="rId33" Type="http://schemas.openxmlformats.org/officeDocument/2006/relationships/slide" Target="slide11.xml"/><Relationship Id="rId34" Type="http://schemas.openxmlformats.org/officeDocument/2006/relationships/image" Target="../media/image27.png"/><Relationship Id="rId35" Type="http://schemas.openxmlformats.org/officeDocument/2006/relationships/image" Target="../media/image6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youtube.com/watch?v=abd1NWTWfEs" TargetMode="External"/><Relationship Id="rId3" Type="http://schemas.openxmlformats.org/officeDocument/2006/relationships/slide" Target="slide12.xml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" Target="slide10.xml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slide" Target="slide5.xml"/><Relationship Id="rId9" Type="http://schemas.openxmlformats.org/officeDocument/2006/relationships/image" Target="../media/image11.jpeg"/><Relationship Id="rId10" Type="http://schemas.openxmlformats.org/officeDocument/2006/relationships/image" Target="../media/image13.png"/><Relationship Id="rId11" Type="http://schemas.openxmlformats.org/officeDocument/2006/relationships/slide" Target="slide6.xml"/><Relationship Id="rId12" Type="http://schemas.openxmlformats.org/officeDocument/2006/relationships/image" Target="../media/image11.jpeg"/><Relationship Id="rId13" Type="http://schemas.openxmlformats.org/officeDocument/2006/relationships/image" Target="../media/image14.png"/><Relationship Id="rId14" Type="http://schemas.openxmlformats.org/officeDocument/2006/relationships/slide" Target="slide7.xml"/><Relationship Id="rId15" Type="http://schemas.openxmlformats.org/officeDocument/2006/relationships/image" Target="../media/image11.jpeg"/><Relationship Id="rId16" Type="http://schemas.openxmlformats.org/officeDocument/2006/relationships/image" Target="../media/image15.png"/><Relationship Id="rId17" Type="http://schemas.openxmlformats.org/officeDocument/2006/relationships/slide" Target="slide8.xml"/><Relationship Id="rId18" Type="http://schemas.openxmlformats.org/officeDocument/2006/relationships/image" Target="../media/image11.jpeg"/><Relationship Id="rId19" Type="http://schemas.openxmlformats.org/officeDocument/2006/relationships/image" Target="../media/image16.png"/><Relationship Id="rId20" Type="http://schemas.openxmlformats.org/officeDocument/2006/relationships/slide" Target="slide9.xml"/><Relationship Id="rId21" Type="http://schemas.openxmlformats.org/officeDocument/2006/relationships/image" Target="../media/image11.jpeg"/><Relationship Id="rId22" Type="http://schemas.openxmlformats.org/officeDocument/2006/relationships/image" Target="../media/image17.png"/><Relationship Id="rId23" Type="http://schemas.openxmlformats.org/officeDocument/2006/relationships/image" Target="../media/image18.png"/><Relationship Id="rId24" Type="http://schemas.openxmlformats.org/officeDocument/2006/relationships/image" Target="../media/image19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2.png"/><Relationship Id="rId28" Type="http://schemas.openxmlformats.org/officeDocument/2006/relationships/image" Target="../media/image23.png"/><Relationship Id="rId29" Type="http://schemas.openxmlformats.org/officeDocument/2006/relationships/image" Target="../media/image24.png"/><Relationship Id="rId30" Type="http://schemas.openxmlformats.org/officeDocument/2006/relationships/image" Target="../media/image25.png"/><Relationship Id="rId31" Type="http://schemas.openxmlformats.org/officeDocument/2006/relationships/slide" Target="slide12.xml"/><Relationship Id="rId32" Type="http://schemas.openxmlformats.org/officeDocument/2006/relationships/image" Target="../media/image26.png"/><Relationship Id="rId33" Type="http://schemas.openxmlformats.org/officeDocument/2006/relationships/slide" Target="slide11.xml"/><Relationship Id="rId34" Type="http://schemas.openxmlformats.org/officeDocument/2006/relationships/image" Target="../media/image27.png"/><Relationship Id="rId35" Type="http://schemas.openxmlformats.org/officeDocument/2006/relationships/image" Target="../media/image6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1.jpeg"/><Relationship Id="rId8" Type="http://schemas.openxmlformats.org/officeDocument/2006/relationships/image" Target="../media/image13.png"/><Relationship Id="rId9" Type="http://schemas.openxmlformats.org/officeDocument/2006/relationships/image" Target="../media/image11.jpeg"/><Relationship Id="rId10" Type="http://schemas.openxmlformats.org/officeDocument/2006/relationships/image" Target="../media/image14.png"/><Relationship Id="rId11" Type="http://schemas.openxmlformats.org/officeDocument/2006/relationships/image" Target="../media/image11.jpeg"/><Relationship Id="rId12" Type="http://schemas.openxmlformats.org/officeDocument/2006/relationships/image" Target="../media/image15.png"/><Relationship Id="rId13" Type="http://schemas.openxmlformats.org/officeDocument/2006/relationships/image" Target="../media/image11.jpeg"/><Relationship Id="rId14" Type="http://schemas.openxmlformats.org/officeDocument/2006/relationships/image" Target="../media/image16.png"/><Relationship Id="rId15" Type="http://schemas.openxmlformats.org/officeDocument/2006/relationships/slide" Target="slide9.xml"/><Relationship Id="rId16" Type="http://schemas.openxmlformats.org/officeDocument/2006/relationships/image" Target="../media/image11.jpe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slide" Target="slide12.xml"/><Relationship Id="rId27" Type="http://schemas.openxmlformats.org/officeDocument/2006/relationships/image" Target="../media/image26.png"/><Relationship Id="rId28" Type="http://schemas.openxmlformats.org/officeDocument/2006/relationships/slide" Target="slide11.xml"/><Relationship Id="rId29" Type="http://schemas.openxmlformats.org/officeDocument/2006/relationships/image" Target="../media/image27.png"/><Relationship Id="rId30" Type="http://schemas.openxmlformats.org/officeDocument/2006/relationships/image" Target="../media/image6.png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1.jpeg"/><Relationship Id="rId8" Type="http://schemas.openxmlformats.org/officeDocument/2006/relationships/image" Target="../media/image13.png"/><Relationship Id="rId9" Type="http://schemas.openxmlformats.org/officeDocument/2006/relationships/image" Target="../media/image11.jpeg"/><Relationship Id="rId10" Type="http://schemas.openxmlformats.org/officeDocument/2006/relationships/image" Target="../media/image14.png"/><Relationship Id="rId11" Type="http://schemas.openxmlformats.org/officeDocument/2006/relationships/image" Target="../media/image11.jpeg"/><Relationship Id="rId12" Type="http://schemas.openxmlformats.org/officeDocument/2006/relationships/image" Target="../media/image15.png"/><Relationship Id="rId13" Type="http://schemas.openxmlformats.org/officeDocument/2006/relationships/image" Target="../media/image11.jpeg"/><Relationship Id="rId14" Type="http://schemas.openxmlformats.org/officeDocument/2006/relationships/image" Target="../media/image16.png"/><Relationship Id="rId15" Type="http://schemas.openxmlformats.org/officeDocument/2006/relationships/image" Target="../media/image11.jpe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6.pn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gif"/><Relationship Id="rId5" Type="http://schemas.openxmlformats.org/officeDocument/2006/relationships/image" Target="../media/image33.gi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" Target="slide10.xml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slide" Target="slide5.xml"/><Relationship Id="rId9" Type="http://schemas.openxmlformats.org/officeDocument/2006/relationships/image" Target="../media/image11.jpeg"/><Relationship Id="rId10" Type="http://schemas.openxmlformats.org/officeDocument/2006/relationships/image" Target="../media/image13.png"/><Relationship Id="rId11" Type="http://schemas.openxmlformats.org/officeDocument/2006/relationships/slide" Target="slide6.xml"/><Relationship Id="rId12" Type="http://schemas.openxmlformats.org/officeDocument/2006/relationships/image" Target="../media/image11.jpeg"/><Relationship Id="rId13" Type="http://schemas.openxmlformats.org/officeDocument/2006/relationships/image" Target="../media/image14.png"/><Relationship Id="rId14" Type="http://schemas.openxmlformats.org/officeDocument/2006/relationships/slide" Target="slide7.xml"/><Relationship Id="rId15" Type="http://schemas.openxmlformats.org/officeDocument/2006/relationships/image" Target="../media/image11.jpeg"/><Relationship Id="rId16" Type="http://schemas.openxmlformats.org/officeDocument/2006/relationships/image" Target="../media/image15.png"/><Relationship Id="rId17" Type="http://schemas.openxmlformats.org/officeDocument/2006/relationships/slide" Target="slide8.xml"/><Relationship Id="rId18" Type="http://schemas.openxmlformats.org/officeDocument/2006/relationships/image" Target="../media/image11.jpeg"/><Relationship Id="rId19" Type="http://schemas.openxmlformats.org/officeDocument/2006/relationships/image" Target="../media/image16.png"/><Relationship Id="rId20" Type="http://schemas.openxmlformats.org/officeDocument/2006/relationships/slide" Target="slide9.xml"/><Relationship Id="rId21" Type="http://schemas.openxmlformats.org/officeDocument/2006/relationships/image" Target="../media/image11.jpeg"/><Relationship Id="rId22" Type="http://schemas.openxmlformats.org/officeDocument/2006/relationships/image" Target="../media/image17.png"/><Relationship Id="rId23" Type="http://schemas.openxmlformats.org/officeDocument/2006/relationships/image" Target="../media/image18.png"/><Relationship Id="rId24" Type="http://schemas.openxmlformats.org/officeDocument/2006/relationships/image" Target="../media/image19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2.png"/><Relationship Id="rId28" Type="http://schemas.openxmlformats.org/officeDocument/2006/relationships/image" Target="../media/image23.png"/><Relationship Id="rId29" Type="http://schemas.openxmlformats.org/officeDocument/2006/relationships/image" Target="../media/image24.png"/><Relationship Id="rId30" Type="http://schemas.openxmlformats.org/officeDocument/2006/relationships/image" Target="../media/image25.png"/><Relationship Id="rId31" Type="http://schemas.openxmlformats.org/officeDocument/2006/relationships/slide" Target="slide12.xml"/><Relationship Id="rId32" Type="http://schemas.openxmlformats.org/officeDocument/2006/relationships/image" Target="../media/image26.png"/><Relationship Id="rId33" Type="http://schemas.openxmlformats.org/officeDocument/2006/relationships/slide" Target="slide11.xml"/><Relationship Id="rId34" Type="http://schemas.openxmlformats.org/officeDocument/2006/relationships/image" Target="../media/image27.png"/><Relationship Id="rId35" Type="http://schemas.openxmlformats.org/officeDocument/2006/relationships/image" Target="../media/image6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" Target="slide10.xml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slide" Target="slide5.xml"/><Relationship Id="rId9" Type="http://schemas.openxmlformats.org/officeDocument/2006/relationships/image" Target="../media/image11.jpeg"/><Relationship Id="rId10" Type="http://schemas.openxmlformats.org/officeDocument/2006/relationships/image" Target="../media/image13.png"/><Relationship Id="rId11" Type="http://schemas.openxmlformats.org/officeDocument/2006/relationships/slide" Target="slide6.xml"/><Relationship Id="rId12" Type="http://schemas.openxmlformats.org/officeDocument/2006/relationships/image" Target="../media/image11.jpeg"/><Relationship Id="rId13" Type="http://schemas.openxmlformats.org/officeDocument/2006/relationships/image" Target="../media/image14.png"/><Relationship Id="rId14" Type="http://schemas.openxmlformats.org/officeDocument/2006/relationships/slide" Target="slide7.xml"/><Relationship Id="rId15" Type="http://schemas.openxmlformats.org/officeDocument/2006/relationships/image" Target="../media/image11.jpeg"/><Relationship Id="rId16" Type="http://schemas.openxmlformats.org/officeDocument/2006/relationships/image" Target="../media/image15.png"/><Relationship Id="rId17" Type="http://schemas.openxmlformats.org/officeDocument/2006/relationships/slide" Target="slide8.xml"/><Relationship Id="rId18" Type="http://schemas.openxmlformats.org/officeDocument/2006/relationships/image" Target="../media/image11.jpeg"/><Relationship Id="rId19" Type="http://schemas.openxmlformats.org/officeDocument/2006/relationships/image" Target="../media/image16.png"/><Relationship Id="rId20" Type="http://schemas.openxmlformats.org/officeDocument/2006/relationships/slide" Target="slide9.xml"/><Relationship Id="rId21" Type="http://schemas.openxmlformats.org/officeDocument/2006/relationships/image" Target="../media/image11.jpeg"/><Relationship Id="rId22" Type="http://schemas.openxmlformats.org/officeDocument/2006/relationships/image" Target="../media/image17.png"/><Relationship Id="rId23" Type="http://schemas.openxmlformats.org/officeDocument/2006/relationships/image" Target="../media/image18.png"/><Relationship Id="rId24" Type="http://schemas.openxmlformats.org/officeDocument/2006/relationships/image" Target="../media/image19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2.png"/><Relationship Id="rId28" Type="http://schemas.openxmlformats.org/officeDocument/2006/relationships/image" Target="../media/image23.png"/><Relationship Id="rId29" Type="http://schemas.openxmlformats.org/officeDocument/2006/relationships/image" Target="../media/image24.png"/><Relationship Id="rId30" Type="http://schemas.openxmlformats.org/officeDocument/2006/relationships/image" Target="../media/image25.png"/><Relationship Id="rId31" Type="http://schemas.openxmlformats.org/officeDocument/2006/relationships/slide" Target="slide12.xml"/><Relationship Id="rId32" Type="http://schemas.openxmlformats.org/officeDocument/2006/relationships/image" Target="../media/image26.png"/><Relationship Id="rId33" Type="http://schemas.openxmlformats.org/officeDocument/2006/relationships/slide" Target="slide11.xml"/><Relationship Id="rId34" Type="http://schemas.openxmlformats.org/officeDocument/2006/relationships/image" Target="../media/image27.png"/><Relationship Id="rId35" Type="http://schemas.openxmlformats.org/officeDocument/2006/relationships/image" Target="../media/image6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" Target="slide10.xml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slide" Target="slide5.xml"/><Relationship Id="rId9" Type="http://schemas.openxmlformats.org/officeDocument/2006/relationships/image" Target="../media/image11.jpeg"/><Relationship Id="rId10" Type="http://schemas.openxmlformats.org/officeDocument/2006/relationships/image" Target="../media/image13.png"/><Relationship Id="rId11" Type="http://schemas.openxmlformats.org/officeDocument/2006/relationships/slide" Target="slide6.xml"/><Relationship Id="rId12" Type="http://schemas.openxmlformats.org/officeDocument/2006/relationships/image" Target="../media/image11.jpeg"/><Relationship Id="rId13" Type="http://schemas.openxmlformats.org/officeDocument/2006/relationships/image" Target="../media/image14.png"/><Relationship Id="rId14" Type="http://schemas.openxmlformats.org/officeDocument/2006/relationships/slide" Target="slide7.xml"/><Relationship Id="rId15" Type="http://schemas.openxmlformats.org/officeDocument/2006/relationships/image" Target="../media/image11.jpeg"/><Relationship Id="rId16" Type="http://schemas.openxmlformats.org/officeDocument/2006/relationships/image" Target="../media/image15.png"/><Relationship Id="rId17" Type="http://schemas.openxmlformats.org/officeDocument/2006/relationships/slide" Target="slide8.xml"/><Relationship Id="rId18" Type="http://schemas.openxmlformats.org/officeDocument/2006/relationships/image" Target="../media/image11.jpeg"/><Relationship Id="rId19" Type="http://schemas.openxmlformats.org/officeDocument/2006/relationships/image" Target="../media/image16.png"/><Relationship Id="rId20" Type="http://schemas.openxmlformats.org/officeDocument/2006/relationships/slide" Target="slide9.xml"/><Relationship Id="rId21" Type="http://schemas.openxmlformats.org/officeDocument/2006/relationships/image" Target="../media/image11.jpeg"/><Relationship Id="rId22" Type="http://schemas.openxmlformats.org/officeDocument/2006/relationships/image" Target="../media/image17.png"/><Relationship Id="rId23" Type="http://schemas.openxmlformats.org/officeDocument/2006/relationships/image" Target="../media/image18.png"/><Relationship Id="rId24" Type="http://schemas.openxmlformats.org/officeDocument/2006/relationships/image" Target="../media/image19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2.png"/><Relationship Id="rId28" Type="http://schemas.openxmlformats.org/officeDocument/2006/relationships/image" Target="../media/image23.png"/><Relationship Id="rId29" Type="http://schemas.openxmlformats.org/officeDocument/2006/relationships/image" Target="../media/image24.png"/><Relationship Id="rId30" Type="http://schemas.openxmlformats.org/officeDocument/2006/relationships/image" Target="../media/image25.png"/><Relationship Id="rId31" Type="http://schemas.openxmlformats.org/officeDocument/2006/relationships/slide" Target="slide12.xml"/><Relationship Id="rId32" Type="http://schemas.openxmlformats.org/officeDocument/2006/relationships/image" Target="../media/image26.png"/><Relationship Id="rId33" Type="http://schemas.openxmlformats.org/officeDocument/2006/relationships/slide" Target="slide11.xml"/><Relationship Id="rId34" Type="http://schemas.openxmlformats.org/officeDocument/2006/relationships/image" Target="../media/image27.png"/><Relationship Id="rId35" Type="http://schemas.openxmlformats.org/officeDocument/2006/relationships/image" Target="../media/image6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276120" y="755640"/>
            <a:ext cx="11696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ahoma"/>
                <a:ea typeface="Tahoma"/>
              </a:rPr>
              <a:t>ПЕДАГОГИЧЕСКИЙ СО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ahoma"/>
                <a:ea typeface="Tahoma"/>
              </a:rPr>
              <a:t>«Формированию предпосылок функциональной грамотност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ahoma"/>
                <a:ea typeface="Tahoma"/>
              </a:rPr>
              <a:t>в области речевой, экологической грамотности у детей дошкольного возраста через инновационные формы образовательной деятель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4508640" y="6400800"/>
            <a:ext cx="33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ahoma"/>
                <a:ea typeface="Tahoma"/>
              </a:rPr>
              <a:t>                   </a:t>
            </a:r>
            <a:r>
              <a:rPr b="1" lang="ru-RU" sz="1800" spc="-1" strike="noStrike">
                <a:solidFill>
                  <a:srgbClr val="0070c0"/>
                </a:solidFill>
                <a:latin typeface="Tahoma"/>
                <a:ea typeface="Tahoma"/>
              </a:rPr>
              <a:t>2023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213160" y="871560"/>
            <a:ext cx="65912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        </a:t>
            </a:r>
            <a:r>
              <a:rPr b="1" lang="ru-RU" sz="4400" spc="-1" strike="noStrike">
                <a:solidFill>
                  <a:srgbClr val="0070c0"/>
                </a:solidFill>
                <a:latin typeface="Tahoma"/>
                <a:ea typeface="Tahoma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Прямоугольник 1"/>
          <p:cNvSpPr/>
          <p:nvPr/>
        </p:nvSpPr>
        <p:spPr>
          <a:xfrm>
            <a:off x="5865840" y="2125800"/>
            <a:ext cx="6095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Tahoma"/>
                <a:ea typeface="Tahoma"/>
              </a:rPr>
              <a:t>Главными функциональными качествами этой грамотности являются способность человека использовать знания, выявлять проблемы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Tahoma"/>
                <a:ea typeface="Tahoma"/>
              </a:rPr>
              <a:t>делать обоснованные выводы, необходимые для понимания окружаю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Tahoma"/>
                <a:ea typeface="Tahoma"/>
              </a:rPr>
              <a:t>мира и тех изменений, которые вносит в него деятельность челове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Tahoma"/>
                <a:ea typeface="Tahoma"/>
              </a:rPr>
              <a:t>вступать в отношения с внешней средой и максимально быст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Tahoma"/>
                <a:ea typeface="Tahoma"/>
              </a:rPr>
              <a:t>адаптироваться и развиваться в н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ause6.mp3" descr=""/>
          <p:cNvPicPr/>
          <p:nvPr/>
        </p:nvPicPr>
        <p:blipFill>
          <a:blip r:embed="rId2"/>
          <a:stretch/>
        </p:blipFill>
        <p:spPr>
          <a:xfrm>
            <a:off x="10586880" y="53164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164" nodeType="clickEffect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35848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85"/>
          <p:cNvSpPr/>
          <p:nvPr/>
        </p:nvSpPr>
        <p:spPr>
          <a:xfrm>
            <a:off x="7205760" y="1071720"/>
            <a:ext cx="4444920" cy="4887720"/>
          </a:xfrm>
          <a:custGeom>
            <a:avLst/>
            <a:gdLst>
              <a:gd name="textAreaLeft" fmla="*/ 216720 w 4444920"/>
              <a:gd name="textAreaRight" fmla="*/ 4228200 w 4444920"/>
              <a:gd name="textAreaTop" fmla="*/ 216720 h 4887720"/>
              <a:gd name="textAreaBottom" fmla="*/ 4671000 h 4887720"/>
            </a:gdLst>
            <a:ahLst/>
            <a:rect l="textAreaLeft" t="textAreaTop" r="textAreaRight" b="textAreaBottom"/>
            <a:pathLst>
              <a:path w="21600" h="23752">
                <a:moveTo>
                  <a:pt x="3600" y="0"/>
                </a:moveTo>
                <a:arcTo wR="3600" hR="3600" stAng="16200000" swAng="-5400000"/>
                <a:lnTo>
                  <a:pt x="0" y="20152"/>
                </a:lnTo>
                <a:arcTo wR="3600" hR="3600" stAng="10800000" swAng="-5400000"/>
                <a:lnTo>
                  <a:pt x="18000" y="237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843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Овал 59"/>
          <p:cNvSpPr/>
          <p:nvPr/>
        </p:nvSpPr>
        <p:spPr>
          <a:xfrm>
            <a:off x="741240" y="698400"/>
            <a:ext cx="5473800" cy="546120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Группа 58" descr=""/>
          <p:cNvPicPr/>
          <p:nvPr/>
        </p:nvPicPr>
        <p:blipFill>
          <a:blip r:embed="rId3"/>
          <a:stretch/>
        </p:blipFill>
        <p:spPr>
          <a:xfrm>
            <a:off x="3108240" y="3084480"/>
            <a:ext cx="720720" cy="719280"/>
          </a:xfrm>
          <a:prstGeom prst="rect">
            <a:avLst/>
          </a:prstGeom>
          <a:ln w="0">
            <a:noFill/>
          </a:ln>
        </p:spPr>
      </p:pic>
      <p:sp>
        <p:nvSpPr>
          <p:cNvPr id="268" name="Стрелка влево 60"/>
          <p:cNvSpPr/>
          <p:nvPr/>
        </p:nvSpPr>
        <p:spPr>
          <a:xfrm>
            <a:off x="6032520" y="2787480"/>
            <a:ext cx="853920" cy="12351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Группа 63"/>
          <p:cNvGrpSpPr/>
          <p:nvPr/>
        </p:nvGrpSpPr>
        <p:grpSpPr>
          <a:xfrm>
            <a:off x="0" y="0"/>
            <a:ext cx="12192120" cy="6858000"/>
            <a:chOff x="0" y="0"/>
            <a:chExt cx="12192120" cy="6858000"/>
          </a:xfrm>
        </p:grpSpPr>
        <p:sp>
          <p:nvSpPr>
            <p:cNvPr id="270" name="Прямоугольник 61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noFill/>
            <a:ln w="7632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Прямоугольник 62"/>
            <p:cNvSpPr/>
            <p:nvPr/>
          </p:nvSpPr>
          <p:spPr>
            <a:xfrm>
              <a:off x="284040" y="247320"/>
              <a:ext cx="11652480" cy="6388200"/>
            </a:xfrm>
            <a:prstGeom prst="rect">
              <a:avLst/>
            </a:prstGeom>
            <a:noFill/>
            <a:ln w="7632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2" name="Прямоугольник 64" descr=""/>
          <p:cNvPicPr/>
          <p:nvPr/>
        </p:nvPicPr>
        <p:blipFill>
          <a:blip r:embed="rId4"/>
          <a:stretch/>
        </p:blipFill>
        <p:spPr>
          <a:xfrm>
            <a:off x="4438800" y="19080"/>
            <a:ext cx="5742000" cy="1303200"/>
          </a:xfrm>
          <a:prstGeom prst="rect">
            <a:avLst/>
          </a:prstGeom>
          <a:ln w="0">
            <a:noFill/>
          </a:ln>
        </p:spPr>
      </p:pic>
      <p:grpSp>
        <p:nvGrpSpPr>
          <p:cNvPr id="273" name="Группа 66"/>
          <p:cNvGrpSpPr/>
          <p:nvPr/>
        </p:nvGrpSpPr>
        <p:grpSpPr>
          <a:xfrm>
            <a:off x="7462800" y="1339920"/>
            <a:ext cx="1916280" cy="1342800"/>
            <a:chOff x="7462800" y="1339920"/>
            <a:chExt cx="1916280" cy="1342800"/>
          </a:xfrm>
        </p:grpSpPr>
        <p:pic>
          <p:nvPicPr>
            <p:cNvPr id="274" name="Picture 4" descr="http://print-convert.ru/sample_01.jpg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462800" y="1339920"/>
              <a:ext cx="1901520" cy="11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Прямоугольник 65" descr=""/>
            <p:cNvPicPr/>
            <p:nvPr/>
          </p:nvPicPr>
          <p:blipFill>
            <a:blip r:embed="rId7"/>
            <a:stretch/>
          </p:blipFill>
          <p:spPr>
            <a:xfrm>
              <a:off x="7491600" y="1410120"/>
              <a:ext cx="1887480" cy="12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6" name="Группа 72"/>
          <p:cNvGrpSpPr/>
          <p:nvPr/>
        </p:nvGrpSpPr>
        <p:grpSpPr>
          <a:xfrm>
            <a:off x="9501120" y="1325520"/>
            <a:ext cx="1914480" cy="1343160"/>
            <a:chOff x="9501120" y="1325520"/>
            <a:chExt cx="1914480" cy="1343160"/>
          </a:xfrm>
        </p:grpSpPr>
        <p:pic>
          <p:nvPicPr>
            <p:cNvPr id="277" name="Picture 4" descr="http://print-convert.ru/sample_01.jpg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501120" y="1325520"/>
              <a:ext cx="1914480" cy="116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Прямоугольник 73" descr=""/>
            <p:cNvPicPr/>
            <p:nvPr/>
          </p:nvPicPr>
          <p:blipFill>
            <a:blip r:embed="rId10"/>
            <a:stretch/>
          </p:blipFill>
          <p:spPr>
            <a:xfrm>
              <a:off x="9509400" y="1407600"/>
              <a:ext cx="1902240" cy="126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9" name="Группа 78"/>
          <p:cNvGrpSpPr/>
          <p:nvPr/>
        </p:nvGrpSpPr>
        <p:grpSpPr>
          <a:xfrm>
            <a:off x="7481880" y="2844720"/>
            <a:ext cx="1916280" cy="1343160"/>
            <a:chOff x="7481880" y="2844720"/>
            <a:chExt cx="1916280" cy="1343160"/>
          </a:xfrm>
        </p:grpSpPr>
        <p:pic>
          <p:nvPicPr>
            <p:cNvPr id="280" name="Picture 4" descr="http://print-convert.ru/sample_01.jpg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7481880" y="2844720"/>
              <a:ext cx="1916280" cy="11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Прямоугольник 74" descr=""/>
            <p:cNvPicPr/>
            <p:nvPr/>
          </p:nvPicPr>
          <p:blipFill>
            <a:blip r:embed="rId13"/>
            <a:stretch/>
          </p:blipFill>
          <p:spPr>
            <a:xfrm>
              <a:off x="7491960" y="2895120"/>
              <a:ext cx="1902240" cy="129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2" name="Группа 79"/>
          <p:cNvGrpSpPr/>
          <p:nvPr/>
        </p:nvGrpSpPr>
        <p:grpSpPr>
          <a:xfrm>
            <a:off x="9518760" y="2860560"/>
            <a:ext cx="1914480" cy="1341720"/>
            <a:chOff x="9518760" y="2860560"/>
            <a:chExt cx="1914480" cy="1341720"/>
          </a:xfrm>
        </p:grpSpPr>
        <p:pic>
          <p:nvPicPr>
            <p:cNvPr id="283" name="Picture 4" descr="http://print-convert.ru/sample_01.jpg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18760" y="2860560"/>
              <a:ext cx="191448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Прямоугольник 75" descr=""/>
            <p:cNvPicPr/>
            <p:nvPr/>
          </p:nvPicPr>
          <p:blipFill>
            <a:blip r:embed="rId16"/>
            <a:stretch/>
          </p:blipFill>
          <p:spPr>
            <a:xfrm>
              <a:off x="9528120" y="2897280"/>
              <a:ext cx="1902240" cy="130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5" name="Группа 80"/>
          <p:cNvGrpSpPr/>
          <p:nvPr/>
        </p:nvGrpSpPr>
        <p:grpSpPr>
          <a:xfrm>
            <a:off x="7462800" y="4349880"/>
            <a:ext cx="1916280" cy="1341360"/>
            <a:chOff x="7462800" y="4349880"/>
            <a:chExt cx="1916280" cy="1341360"/>
          </a:xfrm>
        </p:grpSpPr>
        <p:pic>
          <p:nvPicPr>
            <p:cNvPr id="286" name="Picture 4" descr="http://print-convert.ru/sample_01.jpg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62800" y="4375080"/>
              <a:ext cx="1901520" cy="12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Прямоугольник 76" descr=""/>
            <p:cNvPicPr/>
            <p:nvPr/>
          </p:nvPicPr>
          <p:blipFill>
            <a:blip r:embed="rId19"/>
            <a:stretch/>
          </p:blipFill>
          <p:spPr>
            <a:xfrm>
              <a:off x="7491600" y="4349880"/>
              <a:ext cx="1887480" cy="134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8" name="Группа 81"/>
          <p:cNvGrpSpPr/>
          <p:nvPr/>
        </p:nvGrpSpPr>
        <p:grpSpPr>
          <a:xfrm>
            <a:off x="9504360" y="4361040"/>
            <a:ext cx="1914480" cy="1342800"/>
            <a:chOff x="9504360" y="4361040"/>
            <a:chExt cx="1914480" cy="1342800"/>
          </a:xfrm>
        </p:grpSpPr>
        <p:pic>
          <p:nvPicPr>
            <p:cNvPr id="289" name="Picture 4" descr="http://print-convert.ru/sample_01.jpg">
              <a:hlinkClick r:id="rId20" action="ppaction://hlinksldjump"/>
            </p:cNvPr>
            <p:cNvPicPr/>
            <p:nvPr/>
          </p:nvPicPr>
          <p:blipFill>
            <a:blip r:embed="rId21"/>
            <a:stretch/>
          </p:blipFill>
          <p:spPr>
            <a:xfrm>
              <a:off x="9504360" y="4385520"/>
              <a:ext cx="191448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Прямоугольник 77" descr=""/>
            <p:cNvPicPr/>
            <p:nvPr/>
          </p:nvPicPr>
          <p:blipFill>
            <a:blip r:embed="rId22"/>
            <a:stretch/>
          </p:blipFill>
          <p:spPr>
            <a:xfrm>
              <a:off x="9515520" y="4361040"/>
              <a:ext cx="1902240" cy="13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1" name="Группа 83"/>
          <p:cNvGrpSpPr/>
          <p:nvPr/>
        </p:nvGrpSpPr>
        <p:grpSpPr>
          <a:xfrm>
            <a:off x="1146600" y="1136880"/>
            <a:ext cx="4666680" cy="4633200"/>
            <a:chOff x="1146600" y="1136880"/>
            <a:chExt cx="4666680" cy="4633200"/>
          </a:xfrm>
        </p:grpSpPr>
        <p:grpSp>
          <p:nvGrpSpPr>
            <p:cNvPr id="292" name="Группа 82"/>
            <p:cNvGrpSpPr/>
            <p:nvPr/>
          </p:nvGrpSpPr>
          <p:grpSpPr>
            <a:xfrm>
              <a:off x="1146600" y="1136880"/>
              <a:ext cx="4666680" cy="4633200"/>
              <a:chOff x="1146600" y="1136880"/>
              <a:chExt cx="4666680" cy="4633200"/>
            </a:xfrm>
          </p:grpSpPr>
          <p:grpSp>
            <p:nvGrpSpPr>
              <p:cNvPr id="293" name="Группа 57"/>
              <p:cNvGrpSpPr/>
              <p:nvPr/>
            </p:nvGrpSpPr>
            <p:grpSpPr>
              <a:xfrm>
                <a:off x="1146600" y="1136880"/>
                <a:ext cx="4666680" cy="4633200"/>
                <a:chOff x="1146600" y="1136880"/>
                <a:chExt cx="4666680" cy="4633200"/>
              </a:xfrm>
            </p:grpSpPr>
            <p:grpSp>
              <p:nvGrpSpPr>
                <p:cNvPr id="294" name="Трапеция 11"/>
                <p:cNvGrpSpPr/>
                <p:nvPr/>
              </p:nvGrpSpPr>
              <p:grpSpPr>
                <a:xfrm>
                  <a:off x="3461040" y="1136880"/>
                  <a:ext cx="1290240" cy="2028960"/>
                  <a:chOff x="3461040" y="1136880"/>
                  <a:chExt cx="1290240" cy="2028960"/>
                </a:xfrm>
              </p:grpSpPr>
              <p:pic>
                <p:nvPicPr>
                  <p:cNvPr id="295" name="Трапеция 11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 rot="21599400">
                    <a:off x="3461040" y="1136880"/>
                    <a:ext cx="1289880" cy="20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6" name=""/>
                  <p:cNvSpPr/>
                  <p:nvPr/>
                </p:nvSpPr>
                <p:spPr>
                  <a:xfrm rot="12028200">
                    <a:off x="3787200" y="130464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3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7" name="Прямая соединительная линия 18"/>
                <p:cNvSpPr/>
                <p:nvPr/>
              </p:nvSpPr>
              <p:spPr>
                <a:xfrm flipV="1">
                  <a:off x="3120480" y="5657040"/>
                  <a:ext cx="865080" cy="547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Прямая соединительная линия 22"/>
                <p:cNvSpPr/>
                <p:nvPr/>
              </p:nvSpPr>
              <p:spPr>
                <a:xfrm flipH="1">
                  <a:off x="4843080" y="4625640"/>
                  <a:ext cx="622800" cy="6451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Прямая соединительная линия 24"/>
                <p:cNvSpPr/>
                <p:nvPr/>
              </p:nvSpPr>
              <p:spPr>
                <a:xfrm flipH="1" flipV="1">
                  <a:off x="1198800" y="3152160"/>
                  <a:ext cx="36360" cy="82116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Прямая соединительная линия 26"/>
                <p:cNvSpPr/>
                <p:nvPr/>
              </p:nvSpPr>
              <p:spPr>
                <a:xfrm flipH="1">
                  <a:off x="1518120" y="1607040"/>
                  <a:ext cx="586440" cy="65700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Прямая соединительная линия 28"/>
                <p:cNvSpPr/>
                <p:nvPr/>
              </p:nvSpPr>
              <p:spPr>
                <a:xfrm flipV="1">
                  <a:off x="2944080" y="1183320"/>
                  <a:ext cx="901080" cy="547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Прямая соединительная линия 30"/>
                <p:cNvSpPr/>
                <p:nvPr/>
              </p:nvSpPr>
              <p:spPr>
                <a:xfrm flipH="1" flipV="1">
                  <a:off x="1618920" y="4807440"/>
                  <a:ext cx="633600" cy="58248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3" name="Трапеция 33"/>
                <p:cNvGrpSpPr/>
                <p:nvPr/>
              </p:nvGrpSpPr>
              <p:grpSpPr>
                <a:xfrm>
                  <a:off x="1181880" y="3477600"/>
                  <a:ext cx="2025000" cy="1391760"/>
                  <a:chOff x="1181880" y="3477600"/>
                  <a:chExt cx="2025000" cy="1391760"/>
                </a:xfrm>
              </p:grpSpPr>
              <p:pic>
                <p:nvPicPr>
                  <p:cNvPr id="304" name="Трапеция 3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 rot="21599400">
                    <a:off x="1181880" y="3477600"/>
                    <a:ext cx="2024640" cy="13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5" name=""/>
                  <p:cNvSpPr/>
                  <p:nvPr/>
                </p:nvSpPr>
                <p:spPr>
                  <a:xfrm rot="3928200">
                    <a:off x="1824840" y="340740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6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Трапеция 34"/>
                <p:cNvGrpSpPr/>
                <p:nvPr/>
              </p:nvGrpSpPr>
              <p:grpSpPr>
                <a:xfrm>
                  <a:off x="1146600" y="2214000"/>
                  <a:ext cx="2030400" cy="1285560"/>
                  <a:chOff x="1146600" y="2214000"/>
                  <a:chExt cx="2030400" cy="1285560"/>
                </a:xfrm>
              </p:grpSpPr>
              <p:pic>
                <p:nvPicPr>
                  <p:cNvPr id="307" name="Трапеция 34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 rot="21599400">
                    <a:off x="1146600" y="2214000"/>
                    <a:ext cx="2030040" cy="128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8" name=""/>
                  <p:cNvSpPr/>
                  <p:nvPr/>
                </p:nvSpPr>
                <p:spPr>
                  <a:xfrm rot="6628200">
                    <a:off x="1776960" y="224352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5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Трапеция 35"/>
                <p:cNvGrpSpPr/>
                <p:nvPr/>
              </p:nvGrpSpPr>
              <p:grpSpPr>
                <a:xfrm>
                  <a:off x="2042280" y="1185840"/>
                  <a:ext cx="1396800" cy="2017800"/>
                  <a:chOff x="2042280" y="1185840"/>
                  <a:chExt cx="1396800" cy="2017800"/>
                </a:xfrm>
              </p:grpSpPr>
              <p:pic>
                <p:nvPicPr>
                  <p:cNvPr id="310" name="Трапеция 3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 rot="21599400">
                    <a:off x="2042280" y="1185840"/>
                    <a:ext cx="1396440" cy="20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1" name=""/>
                  <p:cNvSpPr/>
                  <p:nvPr/>
                </p:nvSpPr>
                <p:spPr>
                  <a:xfrm rot="9328200">
                    <a:off x="2572200" y="136512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4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Трапеция 36"/>
                <p:cNvGrpSpPr/>
                <p:nvPr/>
              </p:nvGrpSpPr>
              <p:grpSpPr>
                <a:xfrm>
                  <a:off x="3782880" y="3435480"/>
                  <a:ext cx="2030400" cy="1280160"/>
                  <a:chOff x="3782880" y="3435480"/>
                  <a:chExt cx="2030400" cy="1280160"/>
                </a:xfrm>
              </p:grpSpPr>
              <p:pic>
                <p:nvPicPr>
                  <p:cNvPr id="313" name="Трапеция 3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 rot="21599400">
                    <a:off x="3782880" y="3435480"/>
                    <a:ext cx="2030040" cy="12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4" name=""/>
                  <p:cNvSpPr/>
                  <p:nvPr/>
                </p:nvSpPr>
                <p:spPr>
                  <a:xfrm rot="17428200">
                    <a:off x="4717080" y="329184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1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Трапеция 37"/>
                <p:cNvGrpSpPr/>
                <p:nvPr/>
              </p:nvGrpSpPr>
              <p:grpSpPr>
                <a:xfrm>
                  <a:off x="2203200" y="3746520"/>
                  <a:ext cx="1290240" cy="2023560"/>
                  <a:chOff x="2203200" y="3746520"/>
                  <a:chExt cx="1290240" cy="2023560"/>
                </a:xfrm>
              </p:grpSpPr>
              <p:pic>
                <p:nvPicPr>
                  <p:cNvPr id="316" name="Трапеция 3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 rot="21599400">
                    <a:off x="2203200" y="3746520"/>
                    <a:ext cx="1289880" cy="202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7" name=""/>
                  <p:cNvSpPr/>
                  <p:nvPr/>
                </p:nvSpPr>
                <p:spPr>
                  <a:xfrm rot="1227600">
                    <a:off x="2701800" y="421272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7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" name="Трапеция 38"/>
                <p:cNvGrpSpPr/>
                <p:nvPr/>
              </p:nvGrpSpPr>
              <p:grpSpPr>
                <a:xfrm>
                  <a:off x="3503520" y="3709080"/>
                  <a:ext cx="1396800" cy="2012400"/>
                  <a:chOff x="3503520" y="3709080"/>
                  <a:chExt cx="1396800" cy="2012400"/>
                </a:xfrm>
              </p:grpSpPr>
              <p:pic>
                <p:nvPicPr>
                  <p:cNvPr id="319" name="Трапеция 38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 rot="21599400">
                    <a:off x="3503520" y="3709080"/>
                    <a:ext cx="1396440" cy="201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0" name=""/>
                  <p:cNvSpPr/>
                  <p:nvPr/>
                </p:nvSpPr>
                <p:spPr>
                  <a:xfrm rot="20128200">
                    <a:off x="3902400" y="4152960"/>
                    <a:ext cx="468360" cy="138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8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Трапеция 39"/>
                <p:cNvGrpSpPr/>
                <p:nvPr/>
              </p:nvGrpSpPr>
              <p:grpSpPr>
                <a:xfrm>
                  <a:off x="3759120" y="2049120"/>
                  <a:ext cx="2025000" cy="1391760"/>
                  <a:chOff x="3759120" y="2049120"/>
                  <a:chExt cx="2025000" cy="1391760"/>
                </a:xfrm>
              </p:grpSpPr>
              <p:pic>
                <p:nvPicPr>
                  <p:cNvPr id="322" name="Трапеция 39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 rot="21599400">
                    <a:off x="3759120" y="2049120"/>
                    <a:ext cx="2024640" cy="13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3" name=""/>
                  <p:cNvSpPr/>
                  <p:nvPr/>
                </p:nvSpPr>
                <p:spPr>
                  <a:xfrm rot="14728200">
                    <a:off x="4670280" y="211392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2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4" name="Прямая соединительная линия 49"/>
                <p:cNvSpPr/>
                <p:nvPr/>
              </p:nvSpPr>
              <p:spPr>
                <a:xfrm>
                  <a:off x="5720400" y="2939760"/>
                  <a:ext cx="37800" cy="85464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Прямая соединительная линия 51"/>
                <p:cNvSpPr/>
                <p:nvPr/>
              </p:nvSpPr>
              <p:spPr>
                <a:xfrm>
                  <a:off x="4675680" y="1490040"/>
                  <a:ext cx="671400" cy="57708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26" name="Picture 6" descr="http://www.osh.by/wp-content/uploads/2014/02/skripichnii_kluch0000.png">
                <a:hlinkClick r:id="rId31" action="ppaction://hlinksldjump"/>
              </p:cNvPr>
              <p:cNvPicPr/>
              <p:nvPr/>
            </p:nvPicPr>
            <p:blipFill>
              <a:blip r:embed="rId32"/>
              <a:stretch/>
            </p:blipFill>
            <p:spPr>
              <a:xfrm rot="1228200">
                <a:off x="3259440" y="2018160"/>
                <a:ext cx="1245960" cy="934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27" name="Picture 8" descr="https://pixabay.com/static/uploads/photo/2014/04/03/10/22/black-box-310220_640.png">
              <a:hlinkClick r:id="rId33" action="ppaction://hlinksldjump"/>
            </p:cNvPr>
            <p:cNvPicPr/>
            <p:nvPr/>
          </p:nvPicPr>
          <p:blipFill>
            <a:blip r:embed="rId34"/>
            <a:stretch/>
          </p:blipFill>
          <p:spPr>
            <a:xfrm rot="1228200">
              <a:off x="2084760" y="3691080"/>
              <a:ext cx="543960" cy="49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8" name="волчок.mp3" descr=""/>
          <p:cNvPicPr/>
          <p:nvPr/>
        </p:nvPicPr>
        <p:blipFill>
          <a:blip r:embed="rId35"/>
          <a:stretch/>
        </p:blipFill>
        <p:spPr>
          <a:xfrm>
            <a:off x="7307280" y="565452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170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2800000">
                                      <p:cBhvr>
                                        <p:cTn id="173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5400000">
                                      <p:cBhvr>
                                        <p:cTn id="177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0">
                                      <p:cBhvr>
                                        <p:cTn id="181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5100000">
                                      <p:cBhvr>
                                        <p:cTn id="185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6700000">
                                      <p:cBhvr>
                                        <p:cTn id="189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0">
                                      <p:cBhvr>
                                        <p:cTn id="193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9400000">
                                      <p:cBhvr>
                                        <p:cTn id="197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3000000">
                                      <p:cBhvr>
                                        <p:cTn id="201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203" nodeType="clickEffect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43272" fill="hold"/>
                                        <p:tgtEl>
                                          <p:spTgt spid="3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2600" y="155160"/>
            <a:ext cx="10515600" cy="4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563c1"/>
                </a:solidFill>
                <a:uFillTx/>
                <a:latin typeface="Tahoma"/>
                <a:ea typeface="Tahoma"/>
                <a:hlinkClick r:id="rId2"/>
              </a:rPr>
              <a:t>Музыкальная пауза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30" name="Picture 6" descr="http://www.osh.by/wp-content/uploads/2014/02/skripichnii_kluch0000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996920" y="568440"/>
            <a:ext cx="7578720" cy="568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213160" y="871560"/>
            <a:ext cx="65912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32" name="зарядка зимняя.mp4" descr=""/>
          <p:cNvPicPr/>
          <p:nvPr/>
        </p:nvPicPr>
        <p:blipFill>
          <a:blip r:embed="rId2"/>
          <a:stretch/>
        </p:blipFill>
        <p:spPr>
          <a:xfrm>
            <a:off x="-322200" y="0"/>
            <a:ext cx="12514320" cy="774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218" nodeType="clickEffect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1" dur="1" fill="hold"/>
                                        <p:tgtEl>
                                          <p:spTgt spid="3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Скругленный прямоугольник 85"/>
          <p:cNvSpPr/>
          <p:nvPr/>
        </p:nvSpPr>
        <p:spPr>
          <a:xfrm>
            <a:off x="7205760" y="1071720"/>
            <a:ext cx="4444920" cy="4887720"/>
          </a:xfrm>
          <a:custGeom>
            <a:avLst/>
            <a:gdLst>
              <a:gd name="textAreaLeft" fmla="*/ 216720 w 4444920"/>
              <a:gd name="textAreaRight" fmla="*/ 4228200 w 4444920"/>
              <a:gd name="textAreaTop" fmla="*/ 216720 h 4887720"/>
              <a:gd name="textAreaBottom" fmla="*/ 4671000 h 4887720"/>
            </a:gdLst>
            <a:ahLst/>
            <a:rect l="textAreaLeft" t="textAreaTop" r="textAreaRight" b="textAreaBottom"/>
            <a:pathLst>
              <a:path w="21600" h="23752">
                <a:moveTo>
                  <a:pt x="3600" y="0"/>
                </a:moveTo>
                <a:arcTo wR="3600" hR="3600" stAng="16200000" swAng="-5400000"/>
                <a:lnTo>
                  <a:pt x="0" y="20152"/>
                </a:lnTo>
                <a:arcTo wR="3600" hR="3600" stAng="10800000" swAng="-5400000"/>
                <a:lnTo>
                  <a:pt x="18000" y="237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843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Овал 59"/>
          <p:cNvSpPr/>
          <p:nvPr/>
        </p:nvSpPr>
        <p:spPr>
          <a:xfrm>
            <a:off x="741240" y="698400"/>
            <a:ext cx="5473800" cy="546120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Группа 58" descr=""/>
          <p:cNvPicPr/>
          <p:nvPr/>
        </p:nvPicPr>
        <p:blipFill>
          <a:blip r:embed="rId3"/>
          <a:stretch/>
        </p:blipFill>
        <p:spPr>
          <a:xfrm>
            <a:off x="3108240" y="3084480"/>
            <a:ext cx="720720" cy="719280"/>
          </a:xfrm>
          <a:prstGeom prst="rect">
            <a:avLst/>
          </a:prstGeom>
          <a:ln w="0">
            <a:noFill/>
          </a:ln>
        </p:spPr>
      </p:pic>
      <p:sp>
        <p:nvSpPr>
          <p:cNvPr id="336" name="Стрелка влево 60"/>
          <p:cNvSpPr/>
          <p:nvPr/>
        </p:nvSpPr>
        <p:spPr>
          <a:xfrm>
            <a:off x="6032520" y="2787480"/>
            <a:ext cx="853920" cy="12351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Группа 63"/>
          <p:cNvGrpSpPr/>
          <p:nvPr/>
        </p:nvGrpSpPr>
        <p:grpSpPr>
          <a:xfrm>
            <a:off x="0" y="0"/>
            <a:ext cx="12192120" cy="6858000"/>
            <a:chOff x="0" y="0"/>
            <a:chExt cx="12192120" cy="6858000"/>
          </a:xfrm>
        </p:grpSpPr>
        <p:sp>
          <p:nvSpPr>
            <p:cNvPr id="338" name="Прямоугольник 61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noFill/>
            <a:ln w="7632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Прямоугольник 62"/>
            <p:cNvSpPr/>
            <p:nvPr/>
          </p:nvSpPr>
          <p:spPr>
            <a:xfrm>
              <a:off x="284040" y="247320"/>
              <a:ext cx="11652480" cy="6388200"/>
            </a:xfrm>
            <a:prstGeom prst="rect">
              <a:avLst/>
            </a:prstGeom>
            <a:noFill/>
            <a:ln w="7632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0" name="Прямоугольник 64" descr=""/>
          <p:cNvPicPr/>
          <p:nvPr/>
        </p:nvPicPr>
        <p:blipFill>
          <a:blip r:embed="rId4"/>
          <a:stretch/>
        </p:blipFill>
        <p:spPr>
          <a:xfrm>
            <a:off x="4438800" y="19080"/>
            <a:ext cx="5742000" cy="1303200"/>
          </a:xfrm>
          <a:prstGeom prst="rect">
            <a:avLst/>
          </a:prstGeom>
          <a:ln w="0">
            <a:noFill/>
          </a:ln>
        </p:spPr>
      </p:pic>
      <p:grpSp>
        <p:nvGrpSpPr>
          <p:cNvPr id="341" name="Группа 66"/>
          <p:cNvGrpSpPr/>
          <p:nvPr/>
        </p:nvGrpSpPr>
        <p:grpSpPr>
          <a:xfrm>
            <a:off x="7462800" y="1339920"/>
            <a:ext cx="1916280" cy="1342800"/>
            <a:chOff x="7462800" y="1339920"/>
            <a:chExt cx="1916280" cy="1342800"/>
          </a:xfrm>
        </p:grpSpPr>
        <p:pic>
          <p:nvPicPr>
            <p:cNvPr id="342" name="Picture 4" descr="http://print-convert.ru/sample_01.jpg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462800" y="1339920"/>
              <a:ext cx="1901520" cy="11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Прямоугольник 65" descr=""/>
            <p:cNvPicPr/>
            <p:nvPr/>
          </p:nvPicPr>
          <p:blipFill>
            <a:blip r:embed="rId7"/>
            <a:stretch/>
          </p:blipFill>
          <p:spPr>
            <a:xfrm>
              <a:off x="7491600" y="1410120"/>
              <a:ext cx="1887480" cy="12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Группа 72"/>
          <p:cNvGrpSpPr/>
          <p:nvPr/>
        </p:nvGrpSpPr>
        <p:grpSpPr>
          <a:xfrm>
            <a:off x="9501120" y="1325520"/>
            <a:ext cx="1914480" cy="1343160"/>
            <a:chOff x="9501120" y="1325520"/>
            <a:chExt cx="1914480" cy="1343160"/>
          </a:xfrm>
        </p:grpSpPr>
        <p:pic>
          <p:nvPicPr>
            <p:cNvPr id="345" name="Picture 4" descr="http://print-convert.ru/sample_01.jpg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501120" y="1325520"/>
              <a:ext cx="1914480" cy="116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Прямоугольник 73" descr=""/>
            <p:cNvPicPr/>
            <p:nvPr/>
          </p:nvPicPr>
          <p:blipFill>
            <a:blip r:embed="rId10"/>
            <a:stretch/>
          </p:blipFill>
          <p:spPr>
            <a:xfrm>
              <a:off x="9509400" y="1407600"/>
              <a:ext cx="1902240" cy="126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7" name="Группа 78"/>
          <p:cNvGrpSpPr/>
          <p:nvPr/>
        </p:nvGrpSpPr>
        <p:grpSpPr>
          <a:xfrm>
            <a:off x="7481880" y="2844720"/>
            <a:ext cx="1916280" cy="1343160"/>
            <a:chOff x="7481880" y="2844720"/>
            <a:chExt cx="1916280" cy="1343160"/>
          </a:xfrm>
        </p:grpSpPr>
        <p:pic>
          <p:nvPicPr>
            <p:cNvPr id="348" name="Picture 4" descr="http://print-convert.ru/sample_01.jpg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7481880" y="2844720"/>
              <a:ext cx="1916280" cy="11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Прямоугольник 74" descr=""/>
            <p:cNvPicPr/>
            <p:nvPr/>
          </p:nvPicPr>
          <p:blipFill>
            <a:blip r:embed="rId13"/>
            <a:stretch/>
          </p:blipFill>
          <p:spPr>
            <a:xfrm>
              <a:off x="7491960" y="2895120"/>
              <a:ext cx="1902240" cy="129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0" name="Группа 79"/>
          <p:cNvGrpSpPr/>
          <p:nvPr/>
        </p:nvGrpSpPr>
        <p:grpSpPr>
          <a:xfrm>
            <a:off x="9518760" y="2860560"/>
            <a:ext cx="1914480" cy="1341720"/>
            <a:chOff x="9518760" y="2860560"/>
            <a:chExt cx="1914480" cy="1341720"/>
          </a:xfrm>
        </p:grpSpPr>
        <p:pic>
          <p:nvPicPr>
            <p:cNvPr id="351" name="Picture 4" descr="http://print-convert.ru/sample_01.jpg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18760" y="2860560"/>
              <a:ext cx="191448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Прямоугольник 75" descr=""/>
            <p:cNvPicPr/>
            <p:nvPr/>
          </p:nvPicPr>
          <p:blipFill>
            <a:blip r:embed="rId16"/>
            <a:stretch/>
          </p:blipFill>
          <p:spPr>
            <a:xfrm>
              <a:off x="9528120" y="2897280"/>
              <a:ext cx="1902240" cy="130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3" name="Группа 80"/>
          <p:cNvGrpSpPr/>
          <p:nvPr/>
        </p:nvGrpSpPr>
        <p:grpSpPr>
          <a:xfrm>
            <a:off x="7462800" y="4349880"/>
            <a:ext cx="1916280" cy="1341360"/>
            <a:chOff x="7462800" y="4349880"/>
            <a:chExt cx="1916280" cy="1341360"/>
          </a:xfrm>
        </p:grpSpPr>
        <p:pic>
          <p:nvPicPr>
            <p:cNvPr id="354" name="Picture 4" descr="http://print-convert.ru/sample_01.jpg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62800" y="4375080"/>
              <a:ext cx="1901520" cy="12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Прямоугольник 76" descr=""/>
            <p:cNvPicPr/>
            <p:nvPr/>
          </p:nvPicPr>
          <p:blipFill>
            <a:blip r:embed="rId19"/>
            <a:stretch/>
          </p:blipFill>
          <p:spPr>
            <a:xfrm>
              <a:off x="7491600" y="4349880"/>
              <a:ext cx="1887480" cy="134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6" name="Группа 81"/>
          <p:cNvGrpSpPr/>
          <p:nvPr/>
        </p:nvGrpSpPr>
        <p:grpSpPr>
          <a:xfrm>
            <a:off x="9504360" y="4361040"/>
            <a:ext cx="1914480" cy="1342800"/>
            <a:chOff x="9504360" y="4361040"/>
            <a:chExt cx="1914480" cy="1342800"/>
          </a:xfrm>
        </p:grpSpPr>
        <p:pic>
          <p:nvPicPr>
            <p:cNvPr id="357" name="Picture 4" descr="http://print-convert.ru/sample_01.jpg">
              <a:hlinkClick r:id="rId20" action="ppaction://hlinksldjump"/>
            </p:cNvPr>
            <p:cNvPicPr/>
            <p:nvPr/>
          </p:nvPicPr>
          <p:blipFill>
            <a:blip r:embed="rId21"/>
            <a:stretch/>
          </p:blipFill>
          <p:spPr>
            <a:xfrm>
              <a:off x="9504360" y="4385520"/>
              <a:ext cx="191448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Прямоугольник 77" descr=""/>
            <p:cNvPicPr/>
            <p:nvPr/>
          </p:nvPicPr>
          <p:blipFill>
            <a:blip r:embed="rId22"/>
            <a:stretch/>
          </p:blipFill>
          <p:spPr>
            <a:xfrm>
              <a:off x="9515520" y="4361040"/>
              <a:ext cx="1902240" cy="13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9" name="Группа 83"/>
          <p:cNvGrpSpPr/>
          <p:nvPr/>
        </p:nvGrpSpPr>
        <p:grpSpPr>
          <a:xfrm>
            <a:off x="1146600" y="1136880"/>
            <a:ext cx="4666680" cy="4633200"/>
            <a:chOff x="1146600" y="1136880"/>
            <a:chExt cx="4666680" cy="4633200"/>
          </a:xfrm>
        </p:grpSpPr>
        <p:grpSp>
          <p:nvGrpSpPr>
            <p:cNvPr id="360" name="Группа 82"/>
            <p:cNvGrpSpPr/>
            <p:nvPr/>
          </p:nvGrpSpPr>
          <p:grpSpPr>
            <a:xfrm>
              <a:off x="1146600" y="1136880"/>
              <a:ext cx="4666680" cy="4633200"/>
              <a:chOff x="1146600" y="1136880"/>
              <a:chExt cx="4666680" cy="4633200"/>
            </a:xfrm>
          </p:grpSpPr>
          <p:grpSp>
            <p:nvGrpSpPr>
              <p:cNvPr id="361" name="Группа 57"/>
              <p:cNvGrpSpPr/>
              <p:nvPr/>
            </p:nvGrpSpPr>
            <p:grpSpPr>
              <a:xfrm>
                <a:off x="1146600" y="1136880"/>
                <a:ext cx="4666680" cy="4633200"/>
                <a:chOff x="1146600" y="1136880"/>
                <a:chExt cx="4666680" cy="4633200"/>
              </a:xfrm>
            </p:grpSpPr>
            <p:grpSp>
              <p:nvGrpSpPr>
                <p:cNvPr id="362" name="Трапеция 11"/>
                <p:cNvGrpSpPr/>
                <p:nvPr/>
              </p:nvGrpSpPr>
              <p:grpSpPr>
                <a:xfrm>
                  <a:off x="3461040" y="1136880"/>
                  <a:ext cx="1290240" cy="2028960"/>
                  <a:chOff x="3461040" y="1136880"/>
                  <a:chExt cx="1290240" cy="2028960"/>
                </a:xfrm>
              </p:grpSpPr>
              <p:pic>
                <p:nvPicPr>
                  <p:cNvPr id="363" name="Трапеция 11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 rot="21599400">
                    <a:off x="3461040" y="1136880"/>
                    <a:ext cx="1289880" cy="20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4" name=""/>
                  <p:cNvSpPr/>
                  <p:nvPr/>
                </p:nvSpPr>
                <p:spPr>
                  <a:xfrm rot="12028200">
                    <a:off x="3787200" y="130464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3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5" name="Прямая соединительная линия 18"/>
                <p:cNvSpPr/>
                <p:nvPr/>
              </p:nvSpPr>
              <p:spPr>
                <a:xfrm flipV="1">
                  <a:off x="3120480" y="5657040"/>
                  <a:ext cx="865080" cy="547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Прямая соединительная линия 22"/>
                <p:cNvSpPr/>
                <p:nvPr/>
              </p:nvSpPr>
              <p:spPr>
                <a:xfrm flipH="1">
                  <a:off x="4843080" y="4625640"/>
                  <a:ext cx="622800" cy="6451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Прямая соединительная линия 24"/>
                <p:cNvSpPr/>
                <p:nvPr/>
              </p:nvSpPr>
              <p:spPr>
                <a:xfrm flipH="1" flipV="1">
                  <a:off x="1198800" y="3152160"/>
                  <a:ext cx="36360" cy="82116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Прямая соединительная линия 26"/>
                <p:cNvSpPr/>
                <p:nvPr/>
              </p:nvSpPr>
              <p:spPr>
                <a:xfrm flipH="1">
                  <a:off x="1518120" y="1607040"/>
                  <a:ext cx="586440" cy="65700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Прямая соединительная линия 28"/>
                <p:cNvSpPr/>
                <p:nvPr/>
              </p:nvSpPr>
              <p:spPr>
                <a:xfrm flipV="1">
                  <a:off x="2944080" y="1183320"/>
                  <a:ext cx="901080" cy="547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Прямая соединительная линия 30"/>
                <p:cNvSpPr/>
                <p:nvPr/>
              </p:nvSpPr>
              <p:spPr>
                <a:xfrm flipH="1" flipV="1">
                  <a:off x="1618920" y="4807440"/>
                  <a:ext cx="633600" cy="58248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1" name="Трапеция 33"/>
                <p:cNvGrpSpPr/>
                <p:nvPr/>
              </p:nvGrpSpPr>
              <p:grpSpPr>
                <a:xfrm>
                  <a:off x="1181880" y="3477600"/>
                  <a:ext cx="2025000" cy="1391760"/>
                  <a:chOff x="1181880" y="3477600"/>
                  <a:chExt cx="2025000" cy="1391760"/>
                </a:xfrm>
              </p:grpSpPr>
              <p:pic>
                <p:nvPicPr>
                  <p:cNvPr id="372" name="Трапеция 3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 rot="21599400">
                    <a:off x="1181880" y="3477600"/>
                    <a:ext cx="2024640" cy="13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3" name=""/>
                  <p:cNvSpPr/>
                  <p:nvPr/>
                </p:nvSpPr>
                <p:spPr>
                  <a:xfrm rot="3928200">
                    <a:off x="1824840" y="340740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6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" name="Трапеция 34"/>
                <p:cNvGrpSpPr/>
                <p:nvPr/>
              </p:nvGrpSpPr>
              <p:grpSpPr>
                <a:xfrm>
                  <a:off x="1146600" y="2214000"/>
                  <a:ext cx="2030400" cy="1285560"/>
                  <a:chOff x="1146600" y="2214000"/>
                  <a:chExt cx="2030400" cy="1285560"/>
                </a:xfrm>
              </p:grpSpPr>
              <p:pic>
                <p:nvPicPr>
                  <p:cNvPr id="375" name="Трапеция 34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 rot="21599400">
                    <a:off x="1146600" y="2214000"/>
                    <a:ext cx="2030040" cy="128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6" name=""/>
                  <p:cNvSpPr/>
                  <p:nvPr/>
                </p:nvSpPr>
                <p:spPr>
                  <a:xfrm rot="6628200">
                    <a:off x="1776960" y="224352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5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Трапеция 35"/>
                <p:cNvGrpSpPr/>
                <p:nvPr/>
              </p:nvGrpSpPr>
              <p:grpSpPr>
                <a:xfrm>
                  <a:off x="2042280" y="1185840"/>
                  <a:ext cx="1396800" cy="2017800"/>
                  <a:chOff x="2042280" y="1185840"/>
                  <a:chExt cx="1396800" cy="2017800"/>
                </a:xfrm>
              </p:grpSpPr>
              <p:pic>
                <p:nvPicPr>
                  <p:cNvPr id="378" name="Трапеция 3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 rot="21599400">
                    <a:off x="2042280" y="1185840"/>
                    <a:ext cx="1396440" cy="20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9" name=""/>
                  <p:cNvSpPr/>
                  <p:nvPr/>
                </p:nvSpPr>
                <p:spPr>
                  <a:xfrm rot="9328200">
                    <a:off x="2572200" y="136512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4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Трапеция 36"/>
                <p:cNvGrpSpPr/>
                <p:nvPr/>
              </p:nvGrpSpPr>
              <p:grpSpPr>
                <a:xfrm>
                  <a:off x="3782880" y="3435480"/>
                  <a:ext cx="2030400" cy="1280160"/>
                  <a:chOff x="3782880" y="3435480"/>
                  <a:chExt cx="2030400" cy="1280160"/>
                </a:xfrm>
              </p:grpSpPr>
              <p:pic>
                <p:nvPicPr>
                  <p:cNvPr id="381" name="Трапеция 3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 rot="21599400">
                    <a:off x="3782880" y="3435480"/>
                    <a:ext cx="2030040" cy="12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2" name=""/>
                  <p:cNvSpPr/>
                  <p:nvPr/>
                </p:nvSpPr>
                <p:spPr>
                  <a:xfrm rot="17428200">
                    <a:off x="4717080" y="329184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1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Трапеция 37"/>
                <p:cNvGrpSpPr/>
                <p:nvPr/>
              </p:nvGrpSpPr>
              <p:grpSpPr>
                <a:xfrm>
                  <a:off x="2203200" y="3746520"/>
                  <a:ext cx="1290240" cy="2023560"/>
                  <a:chOff x="2203200" y="3746520"/>
                  <a:chExt cx="1290240" cy="2023560"/>
                </a:xfrm>
              </p:grpSpPr>
              <p:pic>
                <p:nvPicPr>
                  <p:cNvPr id="384" name="Трапеция 3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 rot="21599400">
                    <a:off x="2203200" y="3746520"/>
                    <a:ext cx="1289880" cy="202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5" name=""/>
                  <p:cNvSpPr/>
                  <p:nvPr/>
                </p:nvSpPr>
                <p:spPr>
                  <a:xfrm rot="1227600">
                    <a:off x="2701800" y="421272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7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" name="Трапеция 38"/>
                <p:cNvGrpSpPr/>
                <p:nvPr/>
              </p:nvGrpSpPr>
              <p:grpSpPr>
                <a:xfrm>
                  <a:off x="3503520" y="3709080"/>
                  <a:ext cx="1396800" cy="2012400"/>
                  <a:chOff x="3503520" y="3709080"/>
                  <a:chExt cx="1396800" cy="2012400"/>
                </a:xfrm>
              </p:grpSpPr>
              <p:pic>
                <p:nvPicPr>
                  <p:cNvPr id="387" name="Трапеция 38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 rot="21599400">
                    <a:off x="3503520" y="3709080"/>
                    <a:ext cx="1396440" cy="201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8" name=""/>
                  <p:cNvSpPr/>
                  <p:nvPr/>
                </p:nvSpPr>
                <p:spPr>
                  <a:xfrm rot="20128200">
                    <a:off x="3902400" y="4152960"/>
                    <a:ext cx="468360" cy="138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8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" name="Трапеция 39"/>
                <p:cNvGrpSpPr/>
                <p:nvPr/>
              </p:nvGrpSpPr>
              <p:grpSpPr>
                <a:xfrm>
                  <a:off x="3759120" y="2049120"/>
                  <a:ext cx="2025000" cy="1391760"/>
                  <a:chOff x="3759120" y="2049120"/>
                  <a:chExt cx="2025000" cy="1391760"/>
                </a:xfrm>
              </p:grpSpPr>
              <p:pic>
                <p:nvPicPr>
                  <p:cNvPr id="390" name="Трапеция 39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 rot="21599400">
                    <a:off x="3759120" y="2049120"/>
                    <a:ext cx="2024640" cy="13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1" name=""/>
                  <p:cNvSpPr/>
                  <p:nvPr/>
                </p:nvSpPr>
                <p:spPr>
                  <a:xfrm rot="14728200">
                    <a:off x="4670280" y="211392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2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2" name="Прямая соединительная линия 49"/>
                <p:cNvSpPr/>
                <p:nvPr/>
              </p:nvSpPr>
              <p:spPr>
                <a:xfrm>
                  <a:off x="5720400" y="2939760"/>
                  <a:ext cx="37800" cy="85464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Прямая соединительная линия 51"/>
                <p:cNvSpPr/>
                <p:nvPr/>
              </p:nvSpPr>
              <p:spPr>
                <a:xfrm>
                  <a:off x="4675680" y="1490040"/>
                  <a:ext cx="671400" cy="57708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94" name="Picture 6" descr="http://www.osh.by/wp-content/uploads/2014/02/skripichnii_kluch0000.png">
                <a:hlinkClick r:id="rId31" action="ppaction://hlinksldjump"/>
              </p:cNvPr>
              <p:cNvPicPr/>
              <p:nvPr/>
            </p:nvPicPr>
            <p:blipFill>
              <a:blip r:embed="rId32"/>
              <a:stretch/>
            </p:blipFill>
            <p:spPr>
              <a:xfrm rot="1228200">
                <a:off x="3259440" y="2018160"/>
                <a:ext cx="1245960" cy="934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95" name="Picture 8" descr="https://pixabay.com/static/uploads/photo/2014/04/03/10/22/black-box-310220_640.png">
              <a:hlinkClick r:id="rId33" action="ppaction://hlinksldjump"/>
            </p:cNvPr>
            <p:cNvPicPr/>
            <p:nvPr/>
          </p:nvPicPr>
          <p:blipFill>
            <a:blip r:embed="rId34"/>
            <a:stretch/>
          </p:blipFill>
          <p:spPr>
            <a:xfrm rot="1228200">
              <a:off x="2084760" y="3691080"/>
              <a:ext cx="543960" cy="49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6" name="волчок.mp3" descr=""/>
          <p:cNvPicPr/>
          <p:nvPr/>
        </p:nvPicPr>
        <p:blipFill>
          <a:blip r:embed="rId35"/>
          <a:stretch/>
        </p:blipFill>
        <p:spPr>
          <a:xfrm>
            <a:off x="7157880" y="569916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224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2800000">
                                      <p:cBhvr>
                                        <p:cTn id="227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5400000">
                                      <p:cBhvr>
                                        <p:cTn id="231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0">
                                      <p:cBhvr>
                                        <p:cTn id="235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5100000">
                                      <p:cBhvr>
                                        <p:cTn id="239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6700000">
                                      <p:cBhvr>
                                        <p:cTn id="243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0">
                                      <p:cBhvr>
                                        <p:cTn id="247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9400000">
                                      <p:cBhvr>
                                        <p:cTn id="251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3000000">
                                      <p:cBhvr>
                                        <p:cTn id="255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257" nodeType="clickEffect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43272" fill="hold"/>
                                        <p:tgtEl>
                                          <p:spTgt spid="3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601960" y="1052280"/>
            <a:ext cx="65898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        </a:t>
            </a:r>
            <a:r>
              <a:rPr b="1" lang="ru-RU" sz="4400" spc="-1" strike="noStrike">
                <a:solidFill>
                  <a:srgbClr val="0070c0"/>
                </a:solidFill>
                <a:latin typeface="Tahoma"/>
                <a:ea typeface="Tahoma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TextBox 1"/>
          <p:cNvSpPr/>
          <p:nvPr/>
        </p:nvSpPr>
        <p:spPr>
          <a:xfrm>
            <a:off x="6507000" y="2222640"/>
            <a:ext cx="4434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Tahoma"/>
                <a:ea typeface="Tahoma"/>
              </a:rPr>
              <a:t> </a:t>
            </a:r>
            <a:r>
              <a:rPr b="1" lang="ru-RU" sz="2000" spc="-1" strike="noStrike">
                <a:solidFill>
                  <a:srgbClr val="00b0f0"/>
                </a:solidFill>
                <a:latin typeface="Tahoma"/>
                <a:ea typeface="Tahoma"/>
              </a:rPr>
              <a:t>Что помогает детям в процессе обучения чувствовать красоту произведения и выражать свою радость от его восприятия в речи, движениях или  изобразительном творче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Скругленный прямоугольник 85"/>
          <p:cNvSpPr/>
          <p:nvPr/>
        </p:nvSpPr>
        <p:spPr>
          <a:xfrm>
            <a:off x="7205760" y="1071720"/>
            <a:ext cx="4444920" cy="4887720"/>
          </a:xfrm>
          <a:custGeom>
            <a:avLst/>
            <a:gdLst>
              <a:gd name="textAreaLeft" fmla="*/ 216720 w 4444920"/>
              <a:gd name="textAreaRight" fmla="*/ 4228200 w 4444920"/>
              <a:gd name="textAreaTop" fmla="*/ 216720 h 4887720"/>
              <a:gd name="textAreaBottom" fmla="*/ 4671000 h 4887720"/>
            </a:gdLst>
            <a:ahLst/>
            <a:rect l="textAreaLeft" t="textAreaTop" r="textAreaRight" b="textAreaBottom"/>
            <a:pathLst>
              <a:path w="21600" h="23752">
                <a:moveTo>
                  <a:pt x="3600" y="0"/>
                </a:moveTo>
                <a:arcTo wR="3600" hR="3600" stAng="16200000" swAng="-5400000"/>
                <a:lnTo>
                  <a:pt x="0" y="20152"/>
                </a:lnTo>
                <a:arcTo wR="3600" hR="3600" stAng="10800000" swAng="-5400000"/>
                <a:lnTo>
                  <a:pt x="18000" y="237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843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Овал 59"/>
          <p:cNvSpPr/>
          <p:nvPr/>
        </p:nvSpPr>
        <p:spPr>
          <a:xfrm>
            <a:off x="741240" y="698400"/>
            <a:ext cx="5473800" cy="546120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Группа 58" descr=""/>
          <p:cNvPicPr/>
          <p:nvPr/>
        </p:nvPicPr>
        <p:blipFill>
          <a:blip r:embed="rId3"/>
          <a:stretch/>
        </p:blipFill>
        <p:spPr>
          <a:xfrm>
            <a:off x="3108240" y="3084480"/>
            <a:ext cx="720720" cy="719280"/>
          </a:xfrm>
          <a:prstGeom prst="rect">
            <a:avLst/>
          </a:prstGeom>
          <a:ln w="0">
            <a:noFill/>
          </a:ln>
        </p:spPr>
      </p:pic>
      <p:sp>
        <p:nvSpPr>
          <p:cNvPr id="402" name="Стрелка влево 60"/>
          <p:cNvSpPr/>
          <p:nvPr/>
        </p:nvSpPr>
        <p:spPr>
          <a:xfrm>
            <a:off x="6032520" y="2787480"/>
            <a:ext cx="853920" cy="12351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Группа 63"/>
          <p:cNvGrpSpPr/>
          <p:nvPr/>
        </p:nvGrpSpPr>
        <p:grpSpPr>
          <a:xfrm>
            <a:off x="0" y="0"/>
            <a:ext cx="12192120" cy="6858000"/>
            <a:chOff x="0" y="0"/>
            <a:chExt cx="12192120" cy="6858000"/>
          </a:xfrm>
        </p:grpSpPr>
        <p:sp>
          <p:nvSpPr>
            <p:cNvPr id="404" name="Прямоугольник 61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noFill/>
            <a:ln w="7632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Прямоугольник 62"/>
            <p:cNvSpPr/>
            <p:nvPr/>
          </p:nvSpPr>
          <p:spPr>
            <a:xfrm>
              <a:off x="284040" y="247320"/>
              <a:ext cx="11652480" cy="6388200"/>
            </a:xfrm>
            <a:prstGeom prst="rect">
              <a:avLst/>
            </a:prstGeom>
            <a:noFill/>
            <a:ln w="7632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Прямоугольник 64" descr=""/>
          <p:cNvPicPr/>
          <p:nvPr/>
        </p:nvPicPr>
        <p:blipFill>
          <a:blip r:embed="rId4"/>
          <a:stretch/>
        </p:blipFill>
        <p:spPr>
          <a:xfrm>
            <a:off x="4438800" y="19080"/>
            <a:ext cx="5742000" cy="1303200"/>
          </a:xfrm>
          <a:prstGeom prst="rect">
            <a:avLst/>
          </a:prstGeom>
          <a:ln w="0">
            <a:noFill/>
          </a:ln>
        </p:spPr>
      </p:pic>
      <p:grpSp>
        <p:nvGrpSpPr>
          <p:cNvPr id="407" name="Группа 66"/>
          <p:cNvGrpSpPr/>
          <p:nvPr/>
        </p:nvGrpSpPr>
        <p:grpSpPr>
          <a:xfrm>
            <a:off x="7462800" y="1339920"/>
            <a:ext cx="1916280" cy="1342800"/>
            <a:chOff x="7462800" y="1339920"/>
            <a:chExt cx="1916280" cy="1342800"/>
          </a:xfrm>
        </p:grpSpPr>
        <p:pic>
          <p:nvPicPr>
            <p:cNvPr id="408" name="Picture 4" descr="http://print-convert.ru/sample_01.jpg"/>
            <p:cNvPicPr/>
            <p:nvPr/>
          </p:nvPicPr>
          <p:blipFill>
            <a:blip r:embed="rId5"/>
            <a:stretch/>
          </p:blipFill>
          <p:spPr>
            <a:xfrm>
              <a:off x="7462800" y="1339920"/>
              <a:ext cx="1901520" cy="11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Прямоугольник 65" descr=""/>
            <p:cNvPicPr/>
            <p:nvPr/>
          </p:nvPicPr>
          <p:blipFill>
            <a:blip r:embed="rId6"/>
            <a:stretch/>
          </p:blipFill>
          <p:spPr>
            <a:xfrm>
              <a:off x="7491600" y="1410120"/>
              <a:ext cx="1887480" cy="12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0" name="Группа 72"/>
          <p:cNvGrpSpPr/>
          <p:nvPr/>
        </p:nvGrpSpPr>
        <p:grpSpPr>
          <a:xfrm>
            <a:off x="9501120" y="1325520"/>
            <a:ext cx="1914480" cy="1343160"/>
            <a:chOff x="9501120" y="1325520"/>
            <a:chExt cx="1914480" cy="1343160"/>
          </a:xfrm>
        </p:grpSpPr>
        <p:pic>
          <p:nvPicPr>
            <p:cNvPr id="411" name="Picture 4" descr="http://print-convert.ru/sample_01.jpg"/>
            <p:cNvPicPr/>
            <p:nvPr/>
          </p:nvPicPr>
          <p:blipFill>
            <a:blip r:embed="rId7"/>
            <a:stretch/>
          </p:blipFill>
          <p:spPr>
            <a:xfrm>
              <a:off x="9501120" y="1325520"/>
              <a:ext cx="1914480" cy="116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Прямоугольник 73" descr=""/>
            <p:cNvPicPr/>
            <p:nvPr/>
          </p:nvPicPr>
          <p:blipFill>
            <a:blip r:embed="rId8"/>
            <a:stretch/>
          </p:blipFill>
          <p:spPr>
            <a:xfrm>
              <a:off x="9509400" y="1407600"/>
              <a:ext cx="1902240" cy="126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3" name="Группа 78"/>
          <p:cNvGrpSpPr/>
          <p:nvPr/>
        </p:nvGrpSpPr>
        <p:grpSpPr>
          <a:xfrm>
            <a:off x="7481880" y="2844720"/>
            <a:ext cx="1916280" cy="1343160"/>
            <a:chOff x="7481880" y="2844720"/>
            <a:chExt cx="1916280" cy="1343160"/>
          </a:xfrm>
        </p:grpSpPr>
        <p:pic>
          <p:nvPicPr>
            <p:cNvPr id="414" name="Picture 4" descr="http://print-convert.ru/sample_01.jpg"/>
            <p:cNvPicPr/>
            <p:nvPr/>
          </p:nvPicPr>
          <p:blipFill>
            <a:blip r:embed="rId9"/>
            <a:stretch/>
          </p:blipFill>
          <p:spPr>
            <a:xfrm>
              <a:off x="7481880" y="2844720"/>
              <a:ext cx="1916280" cy="11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Прямоугольник 74" descr=""/>
            <p:cNvPicPr/>
            <p:nvPr/>
          </p:nvPicPr>
          <p:blipFill>
            <a:blip r:embed="rId10"/>
            <a:stretch/>
          </p:blipFill>
          <p:spPr>
            <a:xfrm>
              <a:off x="7491960" y="2895120"/>
              <a:ext cx="1902240" cy="129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6" name="Группа 79"/>
          <p:cNvGrpSpPr/>
          <p:nvPr/>
        </p:nvGrpSpPr>
        <p:grpSpPr>
          <a:xfrm>
            <a:off x="9518760" y="2860560"/>
            <a:ext cx="1914480" cy="1341720"/>
            <a:chOff x="9518760" y="2860560"/>
            <a:chExt cx="1914480" cy="1341720"/>
          </a:xfrm>
        </p:grpSpPr>
        <p:pic>
          <p:nvPicPr>
            <p:cNvPr id="417" name="Picture 4" descr="http://print-convert.ru/sample_01.jpg"/>
            <p:cNvPicPr/>
            <p:nvPr/>
          </p:nvPicPr>
          <p:blipFill>
            <a:blip r:embed="rId11"/>
            <a:stretch/>
          </p:blipFill>
          <p:spPr>
            <a:xfrm>
              <a:off x="9518760" y="2860560"/>
              <a:ext cx="191448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Прямоугольник 75" descr=""/>
            <p:cNvPicPr/>
            <p:nvPr/>
          </p:nvPicPr>
          <p:blipFill>
            <a:blip r:embed="rId12"/>
            <a:stretch/>
          </p:blipFill>
          <p:spPr>
            <a:xfrm>
              <a:off x="9528120" y="2897280"/>
              <a:ext cx="1902240" cy="130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9" name="Группа 80"/>
          <p:cNvGrpSpPr/>
          <p:nvPr/>
        </p:nvGrpSpPr>
        <p:grpSpPr>
          <a:xfrm>
            <a:off x="7462800" y="4349880"/>
            <a:ext cx="1916280" cy="1341360"/>
            <a:chOff x="7462800" y="4349880"/>
            <a:chExt cx="1916280" cy="1341360"/>
          </a:xfrm>
        </p:grpSpPr>
        <p:pic>
          <p:nvPicPr>
            <p:cNvPr id="420" name="Picture 4" descr="http://print-convert.ru/sample_01.jpg"/>
            <p:cNvPicPr/>
            <p:nvPr/>
          </p:nvPicPr>
          <p:blipFill>
            <a:blip r:embed="rId13"/>
            <a:stretch/>
          </p:blipFill>
          <p:spPr>
            <a:xfrm>
              <a:off x="7462800" y="4375080"/>
              <a:ext cx="1901520" cy="12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Прямоугольник 76" descr=""/>
            <p:cNvPicPr/>
            <p:nvPr/>
          </p:nvPicPr>
          <p:blipFill>
            <a:blip r:embed="rId14"/>
            <a:stretch/>
          </p:blipFill>
          <p:spPr>
            <a:xfrm>
              <a:off x="7491600" y="4349880"/>
              <a:ext cx="1887480" cy="134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2" name="Группа 81"/>
          <p:cNvGrpSpPr/>
          <p:nvPr/>
        </p:nvGrpSpPr>
        <p:grpSpPr>
          <a:xfrm>
            <a:off x="9504360" y="4361040"/>
            <a:ext cx="1914480" cy="1342800"/>
            <a:chOff x="9504360" y="4361040"/>
            <a:chExt cx="1914480" cy="1342800"/>
          </a:xfrm>
        </p:grpSpPr>
        <p:pic>
          <p:nvPicPr>
            <p:cNvPr id="423" name="Picture 4" descr="http://print-convert.ru/sample_01.jpg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9504360" y="4385520"/>
              <a:ext cx="191448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Прямоугольник 77" descr=""/>
            <p:cNvPicPr/>
            <p:nvPr/>
          </p:nvPicPr>
          <p:blipFill>
            <a:blip r:embed="rId17"/>
            <a:stretch/>
          </p:blipFill>
          <p:spPr>
            <a:xfrm>
              <a:off x="9515520" y="4361040"/>
              <a:ext cx="1902240" cy="13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5" name="Группа 83"/>
          <p:cNvGrpSpPr/>
          <p:nvPr/>
        </p:nvGrpSpPr>
        <p:grpSpPr>
          <a:xfrm>
            <a:off x="1146600" y="1136880"/>
            <a:ext cx="4666680" cy="4633200"/>
            <a:chOff x="1146600" y="1136880"/>
            <a:chExt cx="4666680" cy="4633200"/>
          </a:xfrm>
        </p:grpSpPr>
        <p:grpSp>
          <p:nvGrpSpPr>
            <p:cNvPr id="426" name="Группа 82"/>
            <p:cNvGrpSpPr/>
            <p:nvPr/>
          </p:nvGrpSpPr>
          <p:grpSpPr>
            <a:xfrm>
              <a:off x="1146600" y="1136880"/>
              <a:ext cx="4666680" cy="4633200"/>
              <a:chOff x="1146600" y="1136880"/>
              <a:chExt cx="4666680" cy="4633200"/>
            </a:xfrm>
          </p:grpSpPr>
          <p:grpSp>
            <p:nvGrpSpPr>
              <p:cNvPr id="427" name="Группа 57"/>
              <p:cNvGrpSpPr/>
              <p:nvPr/>
            </p:nvGrpSpPr>
            <p:grpSpPr>
              <a:xfrm>
                <a:off x="1146600" y="1136880"/>
                <a:ext cx="4666680" cy="4633200"/>
                <a:chOff x="1146600" y="1136880"/>
                <a:chExt cx="4666680" cy="4633200"/>
              </a:xfrm>
            </p:grpSpPr>
            <p:grpSp>
              <p:nvGrpSpPr>
                <p:cNvPr id="428" name="Трапеция 11"/>
                <p:cNvGrpSpPr/>
                <p:nvPr/>
              </p:nvGrpSpPr>
              <p:grpSpPr>
                <a:xfrm>
                  <a:off x="3461040" y="1136880"/>
                  <a:ext cx="1290240" cy="2028960"/>
                  <a:chOff x="3461040" y="1136880"/>
                  <a:chExt cx="1290240" cy="2028960"/>
                </a:xfrm>
              </p:grpSpPr>
              <p:pic>
                <p:nvPicPr>
                  <p:cNvPr id="429" name="Трапеция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 rot="21599400">
                    <a:off x="3461040" y="1136880"/>
                    <a:ext cx="1289880" cy="20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0" name=""/>
                  <p:cNvSpPr/>
                  <p:nvPr/>
                </p:nvSpPr>
                <p:spPr>
                  <a:xfrm rot="12028200">
                    <a:off x="3787200" y="130464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3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1" name="Прямая соединительная линия 18"/>
                <p:cNvSpPr/>
                <p:nvPr/>
              </p:nvSpPr>
              <p:spPr>
                <a:xfrm flipV="1">
                  <a:off x="3120480" y="5657040"/>
                  <a:ext cx="865080" cy="547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Прямая соединительная линия 22"/>
                <p:cNvSpPr/>
                <p:nvPr/>
              </p:nvSpPr>
              <p:spPr>
                <a:xfrm flipH="1">
                  <a:off x="4843080" y="4625640"/>
                  <a:ext cx="622800" cy="6451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Прямая соединительная линия 24"/>
                <p:cNvSpPr/>
                <p:nvPr/>
              </p:nvSpPr>
              <p:spPr>
                <a:xfrm flipH="1" flipV="1">
                  <a:off x="1198800" y="3152160"/>
                  <a:ext cx="36360" cy="82116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Прямая соединительная линия 26"/>
                <p:cNvSpPr/>
                <p:nvPr/>
              </p:nvSpPr>
              <p:spPr>
                <a:xfrm flipH="1">
                  <a:off x="1518120" y="1607040"/>
                  <a:ext cx="586440" cy="65700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Прямая соединительная линия 28"/>
                <p:cNvSpPr/>
                <p:nvPr/>
              </p:nvSpPr>
              <p:spPr>
                <a:xfrm flipV="1">
                  <a:off x="2944080" y="1183320"/>
                  <a:ext cx="901080" cy="547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Прямая соединительная линия 30"/>
                <p:cNvSpPr/>
                <p:nvPr/>
              </p:nvSpPr>
              <p:spPr>
                <a:xfrm flipH="1" flipV="1">
                  <a:off x="1618920" y="4807440"/>
                  <a:ext cx="633600" cy="58248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7" name="Трапеция 33"/>
                <p:cNvGrpSpPr/>
                <p:nvPr/>
              </p:nvGrpSpPr>
              <p:grpSpPr>
                <a:xfrm>
                  <a:off x="1181880" y="3477600"/>
                  <a:ext cx="2025000" cy="1391760"/>
                  <a:chOff x="1181880" y="3477600"/>
                  <a:chExt cx="2025000" cy="1391760"/>
                </a:xfrm>
              </p:grpSpPr>
              <p:pic>
                <p:nvPicPr>
                  <p:cNvPr id="438" name="Трапеция 33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 rot="21599400">
                    <a:off x="1181880" y="3477600"/>
                    <a:ext cx="2024640" cy="13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9" name=""/>
                  <p:cNvSpPr/>
                  <p:nvPr/>
                </p:nvSpPr>
                <p:spPr>
                  <a:xfrm rot="3928200">
                    <a:off x="1824840" y="340740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6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Трапеция 34"/>
                <p:cNvGrpSpPr/>
                <p:nvPr/>
              </p:nvGrpSpPr>
              <p:grpSpPr>
                <a:xfrm>
                  <a:off x="1146600" y="2214000"/>
                  <a:ext cx="2030400" cy="1285560"/>
                  <a:chOff x="1146600" y="2214000"/>
                  <a:chExt cx="2030400" cy="1285560"/>
                </a:xfrm>
              </p:grpSpPr>
              <p:pic>
                <p:nvPicPr>
                  <p:cNvPr id="441" name="Трапеция 3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 rot="21599400">
                    <a:off x="1146600" y="2214000"/>
                    <a:ext cx="2030040" cy="128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2" name=""/>
                  <p:cNvSpPr/>
                  <p:nvPr/>
                </p:nvSpPr>
                <p:spPr>
                  <a:xfrm rot="6628200">
                    <a:off x="1776960" y="224352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5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Трапеция 35"/>
                <p:cNvGrpSpPr/>
                <p:nvPr/>
              </p:nvGrpSpPr>
              <p:grpSpPr>
                <a:xfrm>
                  <a:off x="2042280" y="1185840"/>
                  <a:ext cx="1396800" cy="2017800"/>
                  <a:chOff x="2042280" y="1185840"/>
                  <a:chExt cx="1396800" cy="2017800"/>
                </a:xfrm>
              </p:grpSpPr>
              <p:pic>
                <p:nvPicPr>
                  <p:cNvPr id="444" name="Трапеция 35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 rot="21599400">
                    <a:off x="2042280" y="1185840"/>
                    <a:ext cx="1396440" cy="20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5" name=""/>
                  <p:cNvSpPr/>
                  <p:nvPr/>
                </p:nvSpPr>
                <p:spPr>
                  <a:xfrm rot="9328200">
                    <a:off x="2572200" y="136512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4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Трапеция 36"/>
                <p:cNvGrpSpPr/>
                <p:nvPr/>
              </p:nvGrpSpPr>
              <p:grpSpPr>
                <a:xfrm>
                  <a:off x="3782880" y="3435480"/>
                  <a:ext cx="2030400" cy="1280160"/>
                  <a:chOff x="3782880" y="3435480"/>
                  <a:chExt cx="2030400" cy="1280160"/>
                </a:xfrm>
              </p:grpSpPr>
              <p:pic>
                <p:nvPicPr>
                  <p:cNvPr id="447" name="Трапеция 3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 rot="21599400">
                    <a:off x="3782880" y="3435480"/>
                    <a:ext cx="2030040" cy="12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8" name=""/>
                  <p:cNvSpPr/>
                  <p:nvPr/>
                </p:nvSpPr>
                <p:spPr>
                  <a:xfrm rot="17428200">
                    <a:off x="4717080" y="329184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1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Трапеция 37"/>
                <p:cNvGrpSpPr/>
                <p:nvPr/>
              </p:nvGrpSpPr>
              <p:grpSpPr>
                <a:xfrm>
                  <a:off x="2203200" y="3746520"/>
                  <a:ext cx="1290240" cy="2023560"/>
                  <a:chOff x="2203200" y="3746520"/>
                  <a:chExt cx="1290240" cy="2023560"/>
                </a:xfrm>
              </p:grpSpPr>
              <p:pic>
                <p:nvPicPr>
                  <p:cNvPr id="450" name="Трапеция 37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 rot="21599400">
                    <a:off x="2203200" y="3746520"/>
                    <a:ext cx="1289880" cy="202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51" name=""/>
                  <p:cNvSpPr/>
                  <p:nvPr/>
                </p:nvSpPr>
                <p:spPr>
                  <a:xfrm rot="1227600">
                    <a:off x="2701800" y="421272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7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Трапеция 38"/>
                <p:cNvGrpSpPr/>
                <p:nvPr/>
              </p:nvGrpSpPr>
              <p:grpSpPr>
                <a:xfrm>
                  <a:off x="3503520" y="3709080"/>
                  <a:ext cx="1396800" cy="2012400"/>
                  <a:chOff x="3503520" y="3709080"/>
                  <a:chExt cx="1396800" cy="2012400"/>
                </a:xfrm>
              </p:grpSpPr>
              <p:pic>
                <p:nvPicPr>
                  <p:cNvPr id="453" name="Трапеция 3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 rot="21599400">
                    <a:off x="3503520" y="3709080"/>
                    <a:ext cx="1396440" cy="201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54" name=""/>
                  <p:cNvSpPr/>
                  <p:nvPr/>
                </p:nvSpPr>
                <p:spPr>
                  <a:xfrm rot="20128200">
                    <a:off x="3902400" y="4152960"/>
                    <a:ext cx="468360" cy="138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8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Трапеция 39"/>
                <p:cNvGrpSpPr/>
                <p:nvPr/>
              </p:nvGrpSpPr>
              <p:grpSpPr>
                <a:xfrm>
                  <a:off x="3759120" y="2049120"/>
                  <a:ext cx="2025000" cy="1391760"/>
                  <a:chOff x="3759120" y="2049120"/>
                  <a:chExt cx="2025000" cy="1391760"/>
                </a:xfrm>
              </p:grpSpPr>
              <p:pic>
                <p:nvPicPr>
                  <p:cNvPr id="456" name="Трапеция 39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 rot="21599400">
                    <a:off x="3759120" y="2049120"/>
                    <a:ext cx="2024640" cy="13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57" name=""/>
                  <p:cNvSpPr/>
                  <p:nvPr/>
                </p:nvSpPr>
                <p:spPr>
                  <a:xfrm rot="14728200">
                    <a:off x="4670280" y="211392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2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8" name="Прямая соединительная линия 49"/>
                <p:cNvSpPr/>
                <p:nvPr/>
              </p:nvSpPr>
              <p:spPr>
                <a:xfrm>
                  <a:off x="5720400" y="2939760"/>
                  <a:ext cx="37800" cy="85464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Прямая соединительная линия 51"/>
                <p:cNvSpPr/>
                <p:nvPr/>
              </p:nvSpPr>
              <p:spPr>
                <a:xfrm>
                  <a:off x="4675680" y="1490040"/>
                  <a:ext cx="671400" cy="57708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60" name="Picture 6" descr="http://www.osh.by/wp-content/uploads/2014/02/skripichnii_kluch0000.png">
                <a:hlinkClick r:id="rId26" action="ppaction://hlinksldjump"/>
              </p:cNvPr>
              <p:cNvPicPr/>
              <p:nvPr/>
            </p:nvPicPr>
            <p:blipFill>
              <a:blip r:embed="rId27"/>
              <a:stretch/>
            </p:blipFill>
            <p:spPr>
              <a:xfrm rot="1228200">
                <a:off x="3259440" y="2018160"/>
                <a:ext cx="1245960" cy="934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61" name="Picture 8" descr="https://pixabay.com/static/uploads/photo/2014/04/03/10/22/black-box-310220_640.png">
              <a:hlinkClick r:id="rId28" action="ppaction://hlinksldjump"/>
            </p:cNvPr>
            <p:cNvPicPr/>
            <p:nvPr/>
          </p:nvPicPr>
          <p:blipFill>
            <a:blip r:embed="rId29"/>
            <a:stretch/>
          </p:blipFill>
          <p:spPr>
            <a:xfrm rot="1228200">
              <a:off x="2084760" y="3691080"/>
              <a:ext cx="543960" cy="49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2" name="волчок.mp3" descr=""/>
          <p:cNvPicPr/>
          <p:nvPr/>
        </p:nvPicPr>
        <p:blipFill>
          <a:blip r:embed="rId30"/>
          <a:stretch/>
        </p:blipFill>
        <p:spPr>
          <a:xfrm>
            <a:off x="7462800" y="5978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272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2800000">
                                      <p:cBhvr>
                                        <p:cTn id="275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5400000">
                                      <p:cBhvr>
                                        <p:cTn id="279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0">
                                      <p:cBhvr>
                                        <p:cTn id="283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5100000">
                                      <p:cBhvr>
                                        <p:cTn id="287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6700000">
                                      <p:cBhvr>
                                        <p:cTn id="291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0">
                                      <p:cBhvr>
                                        <p:cTn id="295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9400000">
                                      <p:cBhvr>
                                        <p:cTn id="299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3000000">
                                      <p:cBhvr>
                                        <p:cTn id="303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305" nodeType="clickEffect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8" dur="43272" fill="hold"/>
                                        <p:tgtEl>
                                          <p:spTgt spid="4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  <a:ea typeface="Tahoma"/>
              </a:rPr>
              <a:t>«Черный ящик»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64" name="Picture 8" descr="https://pixabay.com/static/uploads/photo/2014/04/03/10/22/black-box-310220_640.png"/>
          <p:cNvPicPr/>
          <p:nvPr/>
        </p:nvPicPr>
        <p:blipFill>
          <a:blip r:embed="rId2"/>
          <a:stretch/>
        </p:blipFill>
        <p:spPr>
          <a:xfrm>
            <a:off x="1039680" y="1573200"/>
            <a:ext cx="4662720" cy="4262400"/>
          </a:xfrm>
          <a:prstGeom prst="rect">
            <a:avLst/>
          </a:prstGeom>
          <a:ln w="0">
            <a:noFill/>
          </a:ln>
        </p:spPr>
      </p:pic>
      <p:pic>
        <p:nvPicPr>
          <p:cNvPr id="465" name="yashik.mp3" descr=""/>
          <p:cNvPicPr/>
          <p:nvPr/>
        </p:nvPicPr>
        <p:blipFill>
          <a:blip r:embed="rId3"/>
          <a:stretch/>
        </p:blipFill>
        <p:spPr>
          <a:xfrm>
            <a:off x="5842080" y="58960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" dur="indefinite" restart="never" nodeType="tmRoot">
          <p:childTnLst>
            <p:seq>
              <p:cTn id="310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311" nodeType="clickEffect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4" dur="31624" fill="hold"/>
                                        <p:tgtEl>
                                          <p:spTgt spid="4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Скругленный прямоугольник 85"/>
          <p:cNvSpPr/>
          <p:nvPr/>
        </p:nvSpPr>
        <p:spPr>
          <a:xfrm>
            <a:off x="7205760" y="1071720"/>
            <a:ext cx="4444920" cy="4887720"/>
          </a:xfrm>
          <a:custGeom>
            <a:avLst/>
            <a:gdLst>
              <a:gd name="textAreaLeft" fmla="*/ 216720 w 4444920"/>
              <a:gd name="textAreaRight" fmla="*/ 4228200 w 4444920"/>
              <a:gd name="textAreaTop" fmla="*/ 216720 h 4887720"/>
              <a:gd name="textAreaBottom" fmla="*/ 4671000 h 4887720"/>
            </a:gdLst>
            <a:ahLst/>
            <a:rect l="textAreaLeft" t="textAreaTop" r="textAreaRight" b="textAreaBottom"/>
            <a:pathLst>
              <a:path w="21600" h="23752">
                <a:moveTo>
                  <a:pt x="3600" y="0"/>
                </a:moveTo>
                <a:arcTo wR="3600" hR="3600" stAng="16200000" swAng="-5400000"/>
                <a:lnTo>
                  <a:pt x="0" y="20152"/>
                </a:lnTo>
                <a:arcTo wR="3600" hR="3600" stAng="10800000" swAng="-5400000"/>
                <a:lnTo>
                  <a:pt x="18000" y="237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843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Овал 59"/>
          <p:cNvSpPr/>
          <p:nvPr/>
        </p:nvSpPr>
        <p:spPr>
          <a:xfrm>
            <a:off x="741240" y="698400"/>
            <a:ext cx="5473800" cy="546120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Группа 58" descr=""/>
          <p:cNvPicPr/>
          <p:nvPr/>
        </p:nvPicPr>
        <p:blipFill>
          <a:blip r:embed="rId3"/>
          <a:stretch/>
        </p:blipFill>
        <p:spPr>
          <a:xfrm>
            <a:off x="3108240" y="3084480"/>
            <a:ext cx="720720" cy="719280"/>
          </a:xfrm>
          <a:prstGeom prst="rect">
            <a:avLst/>
          </a:prstGeom>
          <a:ln w="0">
            <a:noFill/>
          </a:ln>
        </p:spPr>
      </p:pic>
      <p:sp>
        <p:nvSpPr>
          <p:cNvPr id="469" name="Стрелка влево 60"/>
          <p:cNvSpPr/>
          <p:nvPr/>
        </p:nvSpPr>
        <p:spPr>
          <a:xfrm>
            <a:off x="6032520" y="2787480"/>
            <a:ext cx="853920" cy="12351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Группа 63"/>
          <p:cNvGrpSpPr/>
          <p:nvPr/>
        </p:nvGrpSpPr>
        <p:grpSpPr>
          <a:xfrm>
            <a:off x="0" y="0"/>
            <a:ext cx="12192120" cy="6858000"/>
            <a:chOff x="0" y="0"/>
            <a:chExt cx="12192120" cy="6858000"/>
          </a:xfrm>
        </p:grpSpPr>
        <p:sp>
          <p:nvSpPr>
            <p:cNvPr id="471" name="Прямоугольник 61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noFill/>
            <a:ln w="7632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Прямоугольник 62"/>
            <p:cNvSpPr/>
            <p:nvPr/>
          </p:nvSpPr>
          <p:spPr>
            <a:xfrm>
              <a:off x="284040" y="247320"/>
              <a:ext cx="11652480" cy="6388200"/>
            </a:xfrm>
            <a:prstGeom prst="rect">
              <a:avLst/>
            </a:prstGeom>
            <a:noFill/>
            <a:ln w="7632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3" name="Прямоугольник 64" descr=""/>
          <p:cNvPicPr/>
          <p:nvPr/>
        </p:nvPicPr>
        <p:blipFill>
          <a:blip r:embed="rId4"/>
          <a:stretch/>
        </p:blipFill>
        <p:spPr>
          <a:xfrm>
            <a:off x="4438800" y="19080"/>
            <a:ext cx="5742000" cy="1303200"/>
          </a:xfrm>
          <a:prstGeom prst="rect">
            <a:avLst/>
          </a:prstGeom>
          <a:ln w="0">
            <a:noFill/>
          </a:ln>
        </p:spPr>
      </p:pic>
      <p:grpSp>
        <p:nvGrpSpPr>
          <p:cNvPr id="474" name="Группа 66"/>
          <p:cNvGrpSpPr/>
          <p:nvPr/>
        </p:nvGrpSpPr>
        <p:grpSpPr>
          <a:xfrm>
            <a:off x="7462800" y="1339920"/>
            <a:ext cx="1916280" cy="1342800"/>
            <a:chOff x="7462800" y="1339920"/>
            <a:chExt cx="1916280" cy="1342800"/>
          </a:xfrm>
        </p:grpSpPr>
        <p:pic>
          <p:nvPicPr>
            <p:cNvPr id="475" name="Picture 4" descr="http://print-convert.ru/sample_01.jpg"/>
            <p:cNvPicPr/>
            <p:nvPr/>
          </p:nvPicPr>
          <p:blipFill>
            <a:blip r:embed="rId5"/>
            <a:stretch/>
          </p:blipFill>
          <p:spPr>
            <a:xfrm>
              <a:off x="7462800" y="1339920"/>
              <a:ext cx="1901520" cy="11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Прямоугольник 65" descr=""/>
            <p:cNvPicPr/>
            <p:nvPr/>
          </p:nvPicPr>
          <p:blipFill>
            <a:blip r:embed="rId6"/>
            <a:stretch/>
          </p:blipFill>
          <p:spPr>
            <a:xfrm>
              <a:off x="7491600" y="1410120"/>
              <a:ext cx="1887480" cy="12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7" name="Группа 72"/>
          <p:cNvGrpSpPr/>
          <p:nvPr/>
        </p:nvGrpSpPr>
        <p:grpSpPr>
          <a:xfrm>
            <a:off x="9501120" y="1325520"/>
            <a:ext cx="1914480" cy="1343160"/>
            <a:chOff x="9501120" y="1325520"/>
            <a:chExt cx="1914480" cy="1343160"/>
          </a:xfrm>
        </p:grpSpPr>
        <p:pic>
          <p:nvPicPr>
            <p:cNvPr id="478" name="Picture 4" descr="http://print-convert.ru/sample_01.jpg"/>
            <p:cNvPicPr/>
            <p:nvPr/>
          </p:nvPicPr>
          <p:blipFill>
            <a:blip r:embed="rId7"/>
            <a:stretch/>
          </p:blipFill>
          <p:spPr>
            <a:xfrm>
              <a:off x="9501120" y="1325520"/>
              <a:ext cx="1914480" cy="116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Прямоугольник 73" descr=""/>
            <p:cNvPicPr/>
            <p:nvPr/>
          </p:nvPicPr>
          <p:blipFill>
            <a:blip r:embed="rId8"/>
            <a:stretch/>
          </p:blipFill>
          <p:spPr>
            <a:xfrm>
              <a:off x="9509400" y="1407600"/>
              <a:ext cx="1902240" cy="126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0" name="Группа 78"/>
          <p:cNvGrpSpPr/>
          <p:nvPr/>
        </p:nvGrpSpPr>
        <p:grpSpPr>
          <a:xfrm>
            <a:off x="7481880" y="2844720"/>
            <a:ext cx="1916280" cy="1343160"/>
            <a:chOff x="7481880" y="2844720"/>
            <a:chExt cx="1916280" cy="1343160"/>
          </a:xfrm>
        </p:grpSpPr>
        <p:pic>
          <p:nvPicPr>
            <p:cNvPr id="481" name="Picture 4" descr="http://print-convert.ru/sample_01.jpg"/>
            <p:cNvPicPr/>
            <p:nvPr/>
          </p:nvPicPr>
          <p:blipFill>
            <a:blip r:embed="rId9"/>
            <a:stretch/>
          </p:blipFill>
          <p:spPr>
            <a:xfrm>
              <a:off x="7481880" y="2844720"/>
              <a:ext cx="1916280" cy="11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Прямоугольник 74" descr=""/>
            <p:cNvPicPr/>
            <p:nvPr/>
          </p:nvPicPr>
          <p:blipFill>
            <a:blip r:embed="rId10"/>
            <a:stretch/>
          </p:blipFill>
          <p:spPr>
            <a:xfrm>
              <a:off x="7491960" y="2895120"/>
              <a:ext cx="1902240" cy="129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3" name="Группа 79"/>
          <p:cNvGrpSpPr/>
          <p:nvPr/>
        </p:nvGrpSpPr>
        <p:grpSpPr>
          <a:xfrm>
            <a:off x="9518760" y="2860560"/>
            <a:ext cx="1914480" cy="1341720"/>
            <a:chOff x="9518760" y="2860560"/>
            <a:chExt cx="1914480" cy="1341720"/>
          </a:xfrm>
        </p:grpSpPr>
        <p:pic>
          <p:nvPicPr>
            <p:cNvPr id="484" name="Picture 4" descr="http://print-convert.ru/sample_01.jpg"/>
            <p:cNvPicPr/>
            <p:nvPr/>
          </p:nvPicPr>
          <p:blipFill>
            <a:blip r:embed="rId11"/>
            <a:stretch/>
          </p:blipFill>
          <p:spPr>
            <a:xfrm>
              <a:off x="9518760" y="2860560"/>
              <a:ext cx="191448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Прямоугольник 75" descr=""/>
            <p:cNvPicPr/>
            <p:nvPr/>
          </p:nvPicPr>
          <p:blipFill>
            <a:blip r:embed="rId12"/>
            <a:stretch/>
          </p:blipFill>
          <p:spPr>
            <a:xfrm>
              <a:off x="9528120" y="2897280"/>
              <a:ext cx="1902240" cy="130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6" name="Группа 80"/>
          <p:cNvGrpSpPr/>
          <p:nvPr/>
        </p:nvGrpSpPr>
        <p:grpSpPr>
          <a:xfrm>
            <a:off x="7462800" y="4349880"/>
            <a:ext cx="1916280" cy="1341360"/>
            <a:chOff x="7462800" y="4349880"/>
            <a:chExt cx="1916280" cy="1341360"/>
          </a:xfrm>
        </p:grpSpPr>
        <p:pic>
          <p:nvPicPr>
            <p:cNvPr id="487" name="Picture 4" descr="http://print-convert.ru/sample_01.jpg"/>
            <p:cNvPicPr/>
            <p:nvPr/>
          </p:nvPicPr>
          <p:blipFill>
            <a:blip r:embed="rId13"/>
            <a:stretch/>
          </p:blipFill>
          <p:spPr>
            <a:xfrm>
              <a:off x="7462800" y="4375080"/>
              <a:ext cx="1901520" cy="12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Прямоугольник 76" descr=""/>
            <p:cNvPicPr/>
            <p:nvPr/>
          </p:nvPicPr>
          <p:blipFill>
            <a:blip r:embed="rId14"/>
            <a:stretch/>
          </p:blipFill>
          <p:spPr>
            <a:xfrm>
              <a:off x="7491600" y="4349880"/>
              <a:ext cx="1887480" cy="134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9" name="Группа 81"/>
          <p:cNvGrpSpPr/>
          <p:nvPr/>
        </p:nvGrpSpPr>
        <p:grpSpPr>
          <a:xfrm>
            <a:off x="9504360" y="4361040"/>
            <a:ext cx="1914480" cy="1342800"/>
            <a:chOff x="9504360" y="4361040"/>
            <a:chExt cx="1914480" cy="1342800"/>
          </a:xfrm>
        </p:grpSpPr>
        <p:pic>
          <p:nvPicPr>
            <p:cNvPr id="490" name="Picture 4" descr="http://print-convert.ru/sample_01.jpg"/>
            <p:cNvPicPr/>
            <p:nvPr/>
          </p:nvPicPr>
          <p:blipFill>
            <a:blip r:embed="rId15"/>
            <a:stretch/>
          </p:blipFill>
          <p:spPr>
            <a:xfrm>
              <a:off x="9504360" y="4385520"/>
              <a:ext cx="191448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Прямоугольник 77" descr=""/>
            <p:cNvPicPr/>
            <p:nvPr/>
          </p:nvPicPr>
          <p:blipFill>
            <a:blip r:embed="rId16"/>
            <a:stretch/>
          </p:blipFill>
          <p:spPr>
            <a:xfrm>
              <a:off x="9515520" y="4361040"/>
              <a:ext cx="1902240" cy="13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2" name="Группа 83"/>
          <p:cNvGrpSpPr/>
          <p:nvPr/>
        </p:nvGrpSpPr>
        <p:grpSpPr>
          <a:xfrm>
            <a:off x="1146600" y="1136880"/>
            <a:ext cx="4666680" cy="4633200"/>
            <a:chOff x="1146600" y="1136880"/>
            <a:chExt cx="4666680" cy="4633200"/>
          </a:xfrm>
        </p:grpSpPr>
        <p:grpSp>
          <p:nvGrpSpPr>
            <p:cNvPr id="493" name="Группа 82"/>
            <p:cNvGrpSpPr/>
            <p:nvPr/>
          </p:nvGrpSpPr>
          <p:grpSpPr>
            <a:xfrm>
              <a:off x="1146600" y="1136880"/>
              <a:ext cx="4666680" cy="4633200"/>
              <a:chOff x="1146600" y="1136880"/>
              <a:chExt cx="4666680" cy="4633200"/>
            </a:xfrm>
          </p:grpSpPr>
          <p:grpSp>
            <p:nvGrpSpPr>
              <p:cNvPr id="494" name="Группа 57"/>
              <p:cNvGrpSpPr/>
              <p:nvPr/>
            </p:nvGrpSpPr>
            <p:grpSpPr>
              <a:xfrm>
                <a:off x="1146600" y="1136880"/>
                <a:ext cx="4666680" cy="4633200"/>
                <a:chOff x="1146600" y="1136880"/>
                <a:chExt cx="4666680" cy="4633200"/>
              </a:xfrm>
            </p:grpSpPr>
            <p:grpSp>
              <p:nvGrpSpPr>
                <p:cNvPr id="495" name="Трапеция 11"/>
                <p:cNvGrpSpPr/>
                <p:nvPr/>
              </p:nvGrpSpPr>
              <p:grpSpPr>
                <a:xfrm>
                  <a:off x="3461040" y="1136880"/>
                  <a:ext cx="1290240" cy="2028960"/>
                  <a:chOff x="3461040" y="1136880"/>
                  <a:chExt cx="1290240" cy="2028960"/>
                </a:xfrm>
              </p:grpSpPr>
              <p:pic>
                <p:nvPicPr>
                  <p:cNvPr id="496" name="Трапеция 1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 rot="21599400">
                    <a:off x="3461040" y="1136880"/>
                    <a:ext cx="1289880" cy="20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97" name=""/>
                  <p:cNvSpPr/>
                  <p:nvPr/>
                </p:nvSpPr>
                <p:spPr>
                  <a:xfrm rot="12028200">
                    <a:off x="3787200" y="130464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3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8" name="Прямая соединительная линия 18"/>
                <p:cNvSpPr/>
                <p:nvPr/>
              </p:nvSpPr>
              <p:spPr>
                <a:xfrm flipV="1">
                  <a:off x="3120480" y="5657040"/>
                  <a:ext cx="865080" cy="547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Прямая соединительная линия 22"/>
                <p:cNvSpPr/>
                <p:nvPr/>
              </p:nvSpPr>
              <p:spPr>
                <a:xfrm flipH="1">
                  <a:off x="4843080" y="4625640"/>
                  <a:ext cx="622800" cy="6451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Прямая соединительная линия 24"/>
                <p:cNvSpPr/>
                <p:nvPr/>
              </p:nvSpPr>
              <p:spPr>
                <a:xfrm flipH="1" flipV="1">
                  <a:off x="1198800" y="3152160"/>
                  <a:ext cx="36360" cy="82116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Прямая соединительная линия 26"/>
                <p:cNvSpPr/>
                <p:nvPr/>
              </p:nvSpPr>
              <p:spPr>
                <a:xfrm flipH="1">
                  <a:off x="1518120" y="1607040"/>
                  <a:ext cx="586440" cy="65700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Прямая соединительная линия 28"/>
                <p:cNvSpPr/>
                <p:nvPr/>
              </p:nvSpPr>
              <p:spPr>
                <a:xfrm flipV="1">
                  <a:off x="2944080" y="1183320"/>
                  <a:ext cx="901080" cy="547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Прямая соединительная линия 30"/>
                <p:cNvSpPr/>
                <p:nvPr/>
              </p:nvSpPr>
              <p:spPr>
                <a:xfrm flipH="1" flipV="1">
                  <a:off x="1618920" y="4807440"/>
                  <a:ext cx="633600" cy="58248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4" name="Трапеция 33"/>
                <p:cNvGrpSpPr/>
                <p:nvPr/>
              </p:nvGrpSpPr>
              <p:grpSpPr>
                <a:xfrm>
                  <a:off x="1181880" y="3477600"/>
                  <a:ext cx="2025000" cy="1391760"/>
                  <a:chOff x="1181880" y="3477600"/>
                  <a:chExt cx="2025000" cy="1391760"/>
                </a:xfrm>
              </p:grpSpPr>
              <p:pic>
                <p:nvPicPr>
                  <p:cNvPr id="505" name="Трапеция 3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 rot="21599400">
                    <a:off x="1181880" y="3477600"/>
                    <a:ext cx="2024640" cy="13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06" name=""/>
                  <p:cNvSpPr/>
                  <p:nvPr/>
                </p:nvSpPr>
                <p:spPr>
                  <a:xfrm rot="3928200">
                    <a:off x="1824840" y="340740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6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7" name="Трапеция 34"/>
                <p:cNvGrpSpPr/>
                <p:nvPr/>
              </p:nvGrpSpPr>
              <p:grpSpPr>
                <a:xfrm>
                  <a:off x="1146600" y="2214000"/>
                  <a:ext cx="2030400" cy="1285560"/>
                  <a:chOff x="1146600" y="2214000"/>
                  <a:chExt cx="2030400" cy="1285560"/>
                </a:xfrm>
              </p:grpSpPr>
              <p:pic>
                <p:nvPicPr>
                  <p:cNvPr id="508" name="Трапеция 34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 rot="21599400">
                    <a:off x="1146600" y="2214000"/>
                    <a:ext cx="2030040" cy="128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09" name=""/>
                  <p:cNvSpPr/>
                  <p:nvPr/>
                </p:nvSpPr>
                <p:spPr>
                  <a:xfrm rot="6628200">
                    <a:off x="1776960" y="224352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5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0" name="Трапеция 35"/>
                <p:cNvGrpSpPr/>
                <p:nvPr/>
              </p:nvGrpSpPr>
              <p:grpSpPr>
                <a:xfrm>
                  <a:off x="2042280" y="1185840"/>
                  <a:ext cx="1396800" cy="2017800"/>
                  <a:chOff x="2042280" y="1185840"/>
                  <a:chExt cx="1396800" cy="2017800"/>
                </a:xfrm>
              </p:grpSpPr>
              <p:pic>
                <p:nvPicPr>
                  <p:cNvPr id="511" name="Трапеция 3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 rot="21599400">
                    <a:off x="2042280" y="1185840"/>
                    <a:ext cx="1396440" cy="20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12" name=""/>
                  <p:cNvSpPr/>
                  <p:nvPr/>
                </p:nvSpPr>
                <p:spPr>
                  <a:xfrm rot="9328200">
                    <a:off x="2572200" y="136512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4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3" name="Трапеция 36"/>
                <p:cNvGrpSpPr/>
                <p:nvPr/>
              </p:nvGrpSpPr>
              <p:grpSpPr>
                <a:xfrm>
                  <a:off x="3782880" y="3435480"/>
                  <a:ext cx="2030400" cy="1280160"/>
                  <a:chOff x="3782880" y="3435480"/>
                  <a:chExt cx="2030400" cy="1280160"/>
                </a:xfrm>
              </p:grpSpPr>
              <p:pic>
                <p:nvPicPr>
                  <p:cNvPr id="514" name="Трапеция 3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 rot="21599400">
                    <a:off x="3782880" y="3435480"/>
                    <a:ext cx="2030040" cy="12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15" name=""/>
                  <p:cNvSpPr/>
                  <p:nvPr/>
                </p:nvSpPr>
                <p:spPr>
                  <a:xfrm rot="17428200">
                    <a:off x="4717080" y="329184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1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6" name="Трапеция 37"/>
                <p:cNvGrpSpPr/>
                <p:nvPr/>
              </p:nvGrpSpPr>
              <p:grpSpPr>
                <a:xfrm>
                  <a:off x="2203200" y="3746520"/>
                  <a:ext cx="1290240" cy="2023560"/>
                  <a:chOff x="2203200" y="3746520"/>
                  <a:chExt cx="1290240" cy="2023560"/>
                </a:xfrm>
              </p:grpSpPr>
              <p:pic>
                <p:nvPicPr>
                  <p:cNvPr id="517" name="Трапеция 3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 rot="21599400">
                    <a:off x="2203200" y="3746520"/>
                    <a:ext cx="1289880" cy="202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18" name=""/>
                  <p:cNvSpPr/>
                  <p:nvPr/>
                </p:nvSpPr>
                <p:spPr>
                  <a:xfrm rot="1227600">
                    <a:off x="2701800" y="421272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7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9" name="Трапеция 38"/>
                <p:cNvGrpSpPr/>
                <p:nvPr/>
              </p:nvGrpSpPr>
              <p:grpSpPr>
                <a:xfrm>
                  <a:off x="3503520" y="3709080"/>
                  <a:ext cx="1396800" cy="2012400"/>
                  <a:chOff x="3503520" y="3709080"/>
                  <a:chExt cx="1396800" cy="2012400"/>
                </a:xfrm>
              </p:grpSpPr>
              <p:pic>
                <p:nvPicPr>
                  <p:cNvPr id="520" name="Трапеция 38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 rot="21599400">
                    <a:off x="3503520" y="3709080"/>
                    <a:ext cx="1396440" cy="201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1" name=""/>
                  <p:cNvSpPr/>
                  <p:nvPr/>
                </p:nvSpPr>
                <p:spPr>
                  <a:xfrm rot="20128200">
                    <a:off x="3902400" y="4152960"/>
                    <a:ext cx="468360" cy="138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8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2" name="Трапеция 39"/>
                <p:cNvGrpSpPr/>
                <p:nvPr/>
              </p:nvGrpSpPr>
              <p:grpSpPr>
                <a:xfrm>
                  <a:off x="3759120" y="2049120"/>
                  <a:ext cx="2025000" cy="1391760"/>
                  <a:chOff x="3759120" y="2049120"/>
                  <a:chExt cx="2025000" cy="1391760"/>
                </a:xfrm>
              </p:grpSpPr>
              <p:pic>
                <p:nvPicPr>
                  <p:cNvPr id="523" name="Трапеция 39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 rot="21599400">
                    <a:off x="3759120" y="2049120"/>
                    <a:ext cx="2024640" cy="13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4" name=""/>
                  <p:cNvSpPr/>
                  <p:nvPr/>
                </p:nvSpPr>
                <p:spPr>
                  <a:xfrm rot="14728200">
                    <a:off x="4670280" y="211392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2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5" name="Прямая соединительная линия 49"/>
                <p:cNvSpPr/>
                <p:nvPr/>
              </p:nvSpPr>
              <p:spPr>
                <a:xfrm>
                  <a:off x="5720400" y="2939760"/>
                  <a:ext cx="37800" cy="85464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Прямая соединительная линия 51"/>
                <p:cNvSpPr/>
                <p:nvPr/>
              </p:nvSpPr>
              <p:spPr>
                <a:xfrm>
                  <a:off x="4675680" y="1490040"/>
                  <a:ext cx="671400" cy="57708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27" name="Picture 6" descr="http://www.osh.by/wp-content/uploads/2014/02/skripichnii_kluch0000.png"/>
              <p:cNvPicPr/>
              <p:nvPr/>
            </p:nvPicPr>
            <p:blipFill>
              <a:blip r:embed="rId25"/>
              <a:stretch/>
            </p:blipFill>
            <p:spPr>
              <a:xfrm rot="1228200">
                <a:off x="3259440" y="2018160"/>
                <a:ext cx="1245960" cy="934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28" name="Picture 8" descr="https://pixabay.com/static/uploads/photo/2014/04/03/10/22/black-box-310220_640.png"/>
            <p:cNvPicPr/>
            <p:nvPr/>
          </p:nvPicPr>
          <p:blipFill>
            <a:blip r:embed="rId26"/>
            <a:stretch/>
          </p:blipFill>
          <p:spPr>
            <a:xfrm rot="1228200">
              <a:off x="2084760" y="3691080"/>
              <a:ext cx="543960" cy="49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9" name="волчок.mp3" descr=""/>
          <p:cNvPicPr/>
          <p:nvPr/>
        </p:nvPicPr>
        <p:blipFill>
          <a:blip r:embed="rId27"/>
          <a:stretch/>
        </p:blipFill>
        <p:spPr>
          <a:xfrm>
            <a:off x="7157880" y="58960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5" dur="indefinite" restart="never" nodeType="tmRoot">
          <p:childTnLst>
            <p:seq>
              <p:cTn id="316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317" nodeType="clickEffect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2800000">
                                      <p:cBhvr>
                                        <p:cTn id="320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5400000">
                                      <p:cBhvr>
                                        <p:cTn id="324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0">
                                      <p:cBhvr>
                                        <p:cTn id="328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5100000">
                                      <p:cBhvr>
                                        <p:cTn id="332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6700000">
                                      <p:cBhvr>
                                        <p:cTn id="336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0">
                                      <p:cBhvr>
                                        <p:cTn id="340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9400000">
                                      <p:cBhvr>
                                        <p:cTn id="344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3000000">
                                      <p:cBhvr>
                                        <p:cTn id="348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350" nodeType="clickEffect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3" dur="43272" fill="hold"/>
                                        <p:tgtEl>
                                          <p:spTgt spid="5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601960" y="1052280"/>
            <a:ext cx="65898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        </a:t>
            </a:r>
            <a:r>
              <a:rPr b="1" lang="ru-RU" sz="4400" spc="-1" strike="noStrike">
                <a:solidFill>
                  <a:srgbClr val="0070c0"/>
                </a:solidFill>
                <a:latin typeface="Tahoma"/>
                <a:ea typeface="Tahoma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TextBox 1"/>
          <p:cNvSpPr/>
          <p:nvPr/>
        </p:nvSpPr>
        <p:spPr>
          <a:xfrm>
            <a:off x="5742000" y="1701720"/>
            <a:ext cx="5495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Tahoma"/>
                <a:ea typeface="Tahoma"/>
              </a:rPr>
              <a:t>Назовите одно из направлений развития и образования детей является эффективным средством формирования предпосылок функциональной грамотности в контексте с ним можно способствовать развитию предпосылок речевой и естественнонаучных представлений и основ экологической грамотности. развитию эстетических чувст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img-fotki.yandex.ru/get/5300/marina-bazanowa.2b/0_5118c_36d31a2c_L"/>
          <p:cNvPicPr/>
          <p:nvPr/>
        </p:nvPicPr>
        <p:blipFill>
          <a:blip r:embed="rId2"/>
          <a:stretch/>
        </p:blipFill>
        <p:spPr>
          <a:xfrm>
            <a:off x="6943680" y="947880"/>
            <a:ext cx="4710240" cy="5440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1224000" y="301680"/>
            <a:ext cx="8896320" cy="642600"/>
          </a:xfrm>
          <a:prstGeom prst="rect">
            <a:avLst/>
          </a:prstGeom>
          <a:gradFill rotWithShape="0">
            <a:gsLst>
              <a:gs pos="0">
                <a:srgbClr val="6083cb"/>
              </a:gs>
              <a:gs pos="100000">
                <a:srgbClr val="2e61ba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Интеллектуальная иг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Прямоугольник 2" descr=""/>
          <p:cNvPicPr/>
          <p:nvPr/>
        </p:nvPicPr>
        <p:blipFill>
          <a:blip r:embed="rId3"/>
          <a:stretch/>
        </p:blipFill>
        <p:spPr>
          <a:xfrm>
            <a:off x="-103320" y="36360"/>
            <a:ext cx="6699240" cy="447516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4" descr=""/>
          <p:cNvPicPr/>
          <p:nvPr/>
        </p:nvPicPr>
        <p:blipFill>
          <a:blip r:embed="rId4"/>
          <a:stretch/>
        </p:blipFill>
        <p:spPr>
          <a:xfrm>
            <a:off x="920880" y="1657440"/>
            <a:ext cx="6522840" cy="446868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5" descr=""/>
          <p:cNvPicPr/>
          <p:nvPr/>
        </p:nvPicPr>
        <p:blipFill>
          <a:blip r:embed="rId5"/>
          <a:stretch/>
        </p:blipFill>
        <p:spPr>
          <a:xfrm>
            <a:off x="85680" y="3309840"/>
            <a:ext cx="8759880" cy="4469040"/>
          </a:xfrm>
          <a:prstGeom prst="rect">
            <a:avLst/>
          </a:prstGeom>
          <a:ln w="0">
            <a:noFill/>
          </a:ln>
        </p:spPr>
      </p:pic>
      <p:pic>
        <p:nvPicPr>
          <p:cNvPr id="55" name="начало игры.mp3" descr=""/>
          <p:cNvPicPr/>
          <p:nvPr/>
        </p:nvPicPr>
        <p:blipFill>
          <a:blip r:embed="rId6"/>
          <a:stretch/>
        </p:blipFill>
        <p:spPr>
          <a:xfrm>
            <a:off x="7670880" y="55627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7816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Прямоугольник 1" descr=""/>
          <p:cNvPicPr/>
          <p:nvPr/>
        </p:nvPicPr>
        <p:blipFill>
          <a:blip r:embed="rId2"/>
          <a:stretch/>
        </p:blipFill>
        <p:spPr>
          <a:xfrm>
            <a:off x="5162400" y="1000080"/>
            <a:ext cx="5816880" cy="2371680"/>
          </a:xfrm>
          <a:prstGeom prst="rect">
            <a:avLst/>
          </a:prstGeom>
          <a:ln w="0">
            <a:noFill/>
          </a:ln>
        </p:spPr>
      </p:pic>
      <p:pic>
        <p:nvPicPr>
          <p:cNvPr id="533" name="Рисунок 5" descr="http://pervouralsk-online.ru/wp-content/uploads/2012/09/fca68ba0b87a05d8e47cc0b4749727ed-1.jpg"/>
          <p:cNvPicPr/>
          <p:nvPr/>
        </p:nvPicPr>
        <p:blipFill>
          <a:blip r:embed="rId3"/>
          <a:stretch/>
        </p:blipFill>
        <p:spPr>
          <a:xfrm>
            <a:off x="9225000" y="3975120"/>
            <a:ext cx="2071800" cy="192888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6" descr="http://mms.mts.ru:8080/datas1/000/004/798/4798376_thumb.gif"/>
          <p:cNvPicPr/>
          <p:nvPr/>
        </p:nvPicPr>
        <p:blipFill>
          <a:blip r:embed="rId4"/>
          <a:stretch/>
        </p:blipFill>
        <p:spPr>
          <a:xfrm>
            <a:off x="968400" y="1797120"/>
            <a:ext cx="2970360" cy="395424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2" descr="http://i56.tinypic.com/2reh2zt.gif"/>
          <p:cNvPicPr/>
          <p:nvPr/>
        </p:nvPicPr>
        <p:blipFill>
          <a:blip r:embed="rId5"/>
          <a:stretch/>
        </p:blipFill>
        <p:spPr>
          <a:xfrm>
            <a:off x="5062680" y="3652920"/>
            <a:ext cx="2571480" cy="2571840"/>
          </a:xfrm>
          <a:prstGeom prst="rect">
            <a:avLst/>
          </a:prstGeom>
          <a:ln w="0">
            <a:noFill/>
          </a:ln>
        </p:spPr>
      </p:pic>
      <p:pic>
        <p:nvPicPr>
          <p:cNvPr id="536" name="pause1.mp3" descr=""/>
          <p:cNvPicPr/>
          <p:nvPr/>
        </p:nvPicPr>
        <p:blipFill>
          <a:blip r:embed="rId6"/>
          <a:stretch/>
        </p:blipFill>
        <p:spPr>
          <a:xfrm>
            <a:off x="8069400" y="54468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3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3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536"/>
                    </p:tgtEl>
                  </p:cond>
                </p:stCondLst>
                <p:childTnLst>
                  <p:par>
                    <p:cTn id="377" nodeType="clickEffect" fill="hold">
                      <p:stCondLst>
                        <p:cond evt="onClick">
                          <p:tgtEl>
                            <p:spTgt spid="536"/>
                          </p:tgtEl>
                        </p:cond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0" dur="46344" fill="hold"/>
                                        <p:tgtEl>
                                          <p:spTgt spid="5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img-fotki.yandex.ru/get/5300/marina-bazanowa.2b/0_5118c_36d31a2c_L"/>
          <p:cNvPicPr/>
          <p:nvPr/>
        </p:nvPicPr>
        <p:blipFill>
          <a:blip r:embed="rId2"/>
          <a:stretch/>
        </p:blipFill>
        <p:spPr>
          <a:xfrm>
            <a:off x="6943680" y="947880"/>
            <a:ext cx="4710240" cy="5440320"/>
          </a:xfrm>
          <a:prstGeom prst="rect">
            <a:avLst/>
          </a:prstGeom>
          <a:ln w="0">
            <a:noFill/>
          </a:ln>
        </p:spPr>
      </p:pic>
      <p:sp>
        <p:nvSpPr>
          <p:cNvPr id="57" name="TextBox 1"/>
          <p:cNvSpPr/>
          <p:nvPr/>
        </p:nvSpPr>
        <p:spPr>
          <a:xfrm>
            <a:off x="1224000" y="301680"/>
            <a:ext cx="8896320" cy="642600"/>
          </a:xfrm>
          <a:prstGeom prst="rect">
            <a:avLst/>
          </a:prstGeom>
          <a:gradFill rotWithShape="0">
            <a:gsLst>
              <a:gs pos="0">
                <a:srgbClr val="6083cb"/>
              </a:gs>
              <a:gs pos="100000">
                <a:srgbClr val="2e61ba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Интеллектуальная иг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2" descr=""/>
          <p:cNvPicPr/>
          <p:nvPr/>
        </p:nvPicPr>
        <p:blipFill>
          <a:blip r:embed="rId3"/>
          <a:stretch/>
        </p:blipFill>
        <p:spPr>
          <a:xfrm>
            <a:off x="-103320" y="36360"/>
            <a:ext cx="6699240" cy="447516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4" descr=""/>
          <p:cNvPicPr/>
          <p:nvPr/>
        </p:nvPicPr>
        <p:blipFill>
          <a:blip r:embed="rId4"/>
          <a:stretch/>
        </p:blipFill>
        <p:spPr>
          <a:xfrm>
            <a:off x="920880" y="1657440"/>
            <a:ext cx="6522840" cy="446868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5" descr=""/>
          <p:cNvPicPr/>
          <p:nvPr/>
        </p:nvPicPr>
        <p:blipFill>
          <a:blip r:embed="rId5"/>
          <a:stretch/>
        </p:blipFill>
        <p:spPr>
          <a:xfrm>
            <a:off x="85680" y="3309840"/>
            <a:ext cx="8759880" cy="4469040"/>
          </a:xfrm>
          <a:prstGeom prst="rect">
            <a:avLst/>
          </a:prstGeom>
          <a:ln w="0">
            <a:noFill/>
          </a:ln>
        </p:spPr>
      </p:pic>
      <p:pic>
        <p:nvPicPr>
          <p:cNvPr id="61" name="участники выходят.mp3" descr=""/>
          <p:cNvPicPr/>
          <p:nvPr/>
        </p:nvPicPr>
        <p:blipFill>
          <a:blip r:embed="rId6"/>
          <a:stretch/>
        </p:blipFill>
        <p:spPr>
          <a:xfrm>
            <a:off x="8993160" y="558000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5688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Скругленный прямоугольник 85"/>
          <p:cNvSpPr/>
          <p:nvPr/>
        </p:nvSpPr>
        <p:spPr>
          <a:xfrm>
            <a:off x="7205760" y="1071720"/>
            <a:ext cx="4444920" cy="4887720"/>
          </a:xfrm>
          <a:custGeom>
            <a:avLst/>
            <a:gdLst>
              <a:gd name="textAreaLeft" fmla="*/ 216720 w 4444920"/>
              <a:gd name="textAreaRight" fmla="*/ 4228200 w 4444920"/>
              <a:gd name="textAreaTop" fmla="*/ 216720 h 4887720"/>
              <a:gd name="textAreaBottom" fmla="*/ 4671000 h 4887720"/>
            </a:gdLst>
            <a:ahLst/>
            <a:rect l="textAreaLeft" t="textAreaTop" r="textAreaRight" b="textAreaBottom"/>
            <a:pathLst>
              <a:path w="21600" h="23752">
                <a:moveTo>
                  <a:pt x="3600" y="0"/>
                </a:moveTo>
                <a:arcTo wR="3600" hR="3600" stAng="16200000" swAng="-5400000"/>
                <a:lnTo>
                  <a:pt x="0" y="20152"/>
                </a:lnTo>
                <a:arcTo wR="3600" hR="3600" stAng="10800000" swAng="-5400000"/>
                <a:lnTo>
                  <a:pt x="18000" y="237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843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59"/>
          <p:cNvSpPr/>
          <p:nvPr/>
        </p:nvSpPr>
        <p:spPr>
          <a:xfrm>
            <a:off x="741240" y="698400"/>
            <a:ext cx="5473800" cy="546120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Группа 58" descr=""/>
          <p:cNvPicPr/>
          <p:nvPr/>
        </p:nvPicPr>
        <p:blipFill>
          <a:blip r:embed="rId3"/>
          <a:stretch/>
        </p:blipFill>
        <p:spPr>
          <a:xfrm>
            <a:off x="3108240" y="3084480"/>
            <a:ext cx="720720" cy="719280"/>
          </a:xfrm>
          <a:prstGeom prst="rect">
            <a:avLst/>
          </a:prstGeom>
          <a:ln w="0">
            <a:noFill/>
          </a:ln>
        </p:spPr>
      </p:pic>
      <p:sp>
        <p:nvSpPr>
          <p:cNvPr id="65" name="Стрелка влево 60"/>
          <p:cNvSpPr/>
          <p:nvPr/>
        </p:nvSpPr>
        <p:spPr>
          <a:xfrm>
            <a:off x="6032520" y="2787480"/>
            <a:ext cx="853920" cy="12351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Группа 63"/>
          <p:cNvGrpSpPr/>
          <p:nvPr/>
        </p:nvGrpSpPr>
        <p:grpSpPr>
          <a:xfrm>
            <a:off x="0" y="0"/>
            <a:ext cx="12192120" cy="6858000"/>
            <a:chOff x="0" y="0"/>
            <a:chExt cx="12192120" cy="6858000"/>
          </a:xfrm>
        </p:grpSpPr>
        <p:sp>
          <p:nvSpPr>
            <p:cNvPr id="67" name="Прямоугольник 61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noFill/>
            <a:ln w="7632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Прямоугольник 62"/>
            <p:cNvSpPr/>
            <p:nvPr/>
          </p:nvSpPr>
          <p:spPr>
            <a:xfrm>
              <a:off x="284040" y="247320"/>
              <a:ext cx="11652480" cy="6388200"/>
            </a:xfrm>
            <a:prstGeom prst="rect">
              <a:avLst/>
            </a:prstGeom>
            <a:noFill/>
            <a:ln w="7632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Прямоугольник 64" descr=""/>
          <p:cNvPicPr/>
          <p:nvPr/>
        </p:nvPicPr>
        <p:blipFill>
          <a:blip r:embed="rId4"/>
          <a:stretch/>
        </p:blipFill>
        <p:spPr>
          <a:xfrm>
            <a:off x="4438800" y="19080"/>
            <a:ext cx="5742000" cy="1303200"/>
          </a:xfrm>
          <a:prstGeom prst="rect">
            <a:avLst/>
          </a:prstGeom>
          <a:ln w="0">
            <a:noFill/>
          </a:ln>
        </p:spPr>
      </p:pic>
      <p:grpSp>
        <p:nvGrpSpPr>
          <p:cNvPr id="70" name="Группа 66"/>
          <p:cNvGrpSpPr/>
          <p:nvPr/>
        </p:nvGrpSpPr>
        <p:grpSpPr>
          <a:xfrm>
            <a:off x="7462800" y="1339920"/>
            <a:ext cx="1916280" cy="1342800"/>
            <a:chOff x="7462800" y="1339920"/>
            <a:chExt cx="1916280" cy="1342800"/>
          </a:xfrm>
        </p:grpSpPr>
        <p:pic>
          <p:nvPicPr>
            <p:cNvPr id="71" name="Picture 4" descr="http://print-convert.ru/sample_01.jpg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462800" y="1339920"/>
              <a:ext cx="1901520" cy="11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Прямоугольник 65" descr=""/>
            <p:cNvPicPr/>
            <p:nvPr/>
          </p:nvPicPr>
          <p:blipFill>
            <a:blip r:embed="rId7"/>
            <a:stretch/>
          </p:blipFill>
          <p:spPr>
            <a:xfrm>
              <a:off x="7491600" y="1410120"/>
              <a:ext cx="1887480" cy="12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Группа 72"/>
          <p:cNvGrpSpPr/>
          <p:nvPr/>
        </p:nvGrpSpPr>
        <p:grpSpPr>
          <a:xfrm>
            <a:off x="9501120" y="1325520"/>
            <a:ext cx="1914480" cy="1343160"/>
            <a:chOff x="9501120" y="1325520"/>
            <a:chExt cx="1914480" cy="1343160"/>
          </a:xfrm>
        </p:grpSpPr>
        <p:pic>
          <p:nvPicPr>
            <p:cNvPr id="74" name="Picture 4" descr="http://print-convert.ru/sample_01.jpg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501120" y="1325520"/>
              <a:ext cx="1914480" cy="116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Прямоугольник 73" descr=""/>
            <p:cNvPicPr/>
            <p:nvPr/>
          </p:nvPicPr>
          <p:blipFill>
            <a:blip r:embed="rId10"/>
            <a:stretch/>
          </p:blipFill>
          <p:spPr>
            <a:xfrm>
              <a:off x="9509400" y="1407600"/>
              <a:ext cx="1902240" cy="126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Группа 78"/>
          <p:cNvGrpSpPr/>
          <p:nvPr/>
        </p:nvGrpSpPr>
        <p:grpSpPr>
          <a:xfrm>
            <a:off x="7481880" y="2844720"/>
            <a:ext cx="1916280" cy="1343160"/>
            <a:chOff x="7481880" y="2844720"/>
            <a:chExt cx="1916280" cy="1343160"/>
          </a:xfrm>
        </p:grpSpPr>
        <p:pic>
          <p:nvPicPr>
            <p:cNvPr id="77" name="Picture 4" descr="http://print-convert.ru/sample_01.jpg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7481880" y="2844720"/>
              <a:ext cx="1916280" cy="11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Прямоугольник 74" descr=""/>
            <p:cNvPicPr/>
            <p:nvPr/>
          </p:nvPicPr>
          <p:blipFill>
            <a:blip r:embed="rId13"/>
            <a:stretch/>
          </p:blipFill>
          <p:spPr>
            <a:xfrm>
              <a:off x="7491960" y="2895120"/>
              <a:ext cx="1902240" cy="129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" name="Группа 79"/>
          <p:cNvGrpSpPr/>
          <p:nvPr/>
        </p:nvGrpSpPr>
        <p:grpSpPr>
          <a:xfrm>
            <a:off x="9518760" y="2860560"/>
            <a:ext cx="1914480" cy="1341720"/>
            <a:chOff x="9518760" y="2860560"/>
            <a:chExt cx="1914480" cy="1341720"/>
          </a:xfrm>
        </p:grpSpPr>
        <p:pic>
          <p:nvPicPr>
            <p:cNvPr id="80" name="Picture 4" descr="http://print-convert.ru/sample_01.jpg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18760" y="2860560"/>
              <a:ext cx="191448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Прямоугольник 75" descr=""/>
            <p:cNvPicPr/>
            <p:nvPr/>
          </p:nvPicPr>
          <p:blipFill>
            <a:blip r:embed="rId16"/>
            <a:stretch/>
          </p:blipFill>
          <p:spPr>
            <a:xfrm>
              <a:off x="9528120" y="2897280"/>
              <a:ext cx="1902240" cy="130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" name="Группа 80"/>
          <p:cNvGrpSpPr/>
          <p:nvPr/>
        </p:nvGrpSpPr>
        <p:grpSpPr>
          <a:xfrm>
            <a:off x="7462800" y="4349880"/>
            <a:ext cx="1916280" cy="1341360"/>
            <a:chOff x="7462800" y="4349880"/>
            <a:chExt cx="1916280" cy="1341360"/>
          </a:xfrm>
        </p:grpSpPr>
        <p:pic>
          <p:nvPicPr>
            <p:cNvPr id="83" name="Picture 4" descr="http://print-convert.ru/sample_01.jpg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62800" y="4375080"/>
              <a:ext cx="1901520" cy="12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Прямоугольник 76" descr=""/>
            <p:cNvPicPr/>
            <p:nvPr/>
          </p:nvPicPr>
          <p:blipFill>
            <a:blip r:embed="rId19"/>
            <a:stretch/>
          </p:blipFill>
          <p:spPr>
            <a:xfrm>
              <a:off x="7491600" y="4349880"/>
              <a:ext cx="1887480" cy="134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Группа 81"/>
          <p:cNvGrpSpPr/>
          <p:nvPr/>
        </p:nvGrpSpPr>
        <p:grpSpPr>
          <a:xfrm>
            <a:off x="9504360" y="4361040"/>
            <a:ext cx="1914480" cy="1342800"/>
            <a:chOff x="9504360" y="4361040"/>
            <a:chExt cx="1914480" cy="1342800"/>
          </a:xfrm>
        </p:grpSpPr>
        <p:pic>
          <p:nvPicPr>
            <p:cNvPr id="86" name="Picture 4" descr="http://print-convert.ru/sample_01.jpg">
              <a:hlinkClick r:id="rId20" action="ppaction://hlinksldjump"/>
            </p:cNvPr>
            <p:cNvPicPr/>
            <p:nvPr/>
          </p:nvPicPr>
          <p:blipFill>
            <a:blip r:embed="rId21"/>
            <a:stretch/>
          </p:blipFill>
          <p:spPr>
            <a:xfrm>
              <a:off x="9504360" y="4385520"/>
              <a:ext cx="191448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Прямоугольник 77" descr=""/>
            <p:cNvPicPr/>
            <p:nvPr/>
          </p:nvPicPr>
          <p:blipFill>
            <a:blip r:embed="rId22"/>
            <a:stretch/>
          </p:blipFill>
          <p:spPr>
            <a:xfrm>
              <a:off x="9515520" y="4361040"/>
              <a:ext cx="1902240" cy="13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Группа 83"/>
          <p:cNvGrpSpPr/>
          <p:nvPr/>
        </p:nvGrpSpPr>
        <p:grpSpPr>
          <a:xfrm>
            <a:off x="1146600" y="1136880"/>
            <a:ext cx="4666680" cy="4633200"/>
            <a:chOff x="1146600" y="1136880"/>
            <a:chExt cx="4666680" cy="4633200"/>
          </a:xfrm>
        </p:grpSpPr>
        <p:grpSp>
          <p:nvGrpSpPr>
            <p:cNvPr id="89" name="Группа 82"/>
            <p:cNvGrpSpPr/>
            <p:nvPr/>
          </p:nvGrpSpPr>
          <p:grpSpPr>
            <a:xfrm>
              <a:off x="1146600" y="1136880"/>
              <a:ext cx="4666680" cy="4633200"/>
              <a:chOff x="1146600" y="1136880"/>
              <a:chExt cx="4666680" cy="4633200"/>
            </a:xfrm>
          </p:grpSpPr>
          <p:grpSp>
            <p:nvGrpSpPr>
              <p:cNvPr id="90" name="Группа 57"/>
              <p:cNvGrpSpPr/>
              <p:nvPr/>
            </p:nvGrpSpPr>
            <p:grpSpPr>
              <a:xfrm>
                <a:off x="1146600" y="1136880"/>
                <a:ext cx="4666680" cy="4633200"/>
                <a:chOff x="1146600" y="1136880"/>
                <a:chExt cx="4666680" cy="4633200"/>
              </a:xfrm>
            </p:grpSpPr>
            <p:grpSp>
              <p:nvGrpSpPr>
                <p:cNvPr id="91" name="Трапеция 11"/>
                <p:cNvGrpSpPr/>
                <p:nvPr/>
              </p:nvGrpSpPr>
              <p:grpSpPr>
                <a:xfrm>
                  <a:off x="3461040" y="1136880"/>
                  <a:ext cx="1290240" cy="2028960"/>
                  <a:chOff x="3461040" y="1136880"/>
                  <a:chExt cx="1290240" cy="2028960"/>
                </a:xfrm>
              </p:grpSpPr>
              <p:pic>
                <p:nvPicPr>
                  <p:cNvPr id="92" name="Трапеция 11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 rot="21599400">
                    <a:off x="3461040" y="1136880"/>
                    <a:ext cx="1289880" cy="20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3" name=""/>
                  <p:cNvSpPr/>
                  <p:nvPr/>
                </p:nvSpPr>
                <p:spPr>
                  <a:xfrm rot="12028200">
                    <a:off x="3787200" y="130464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3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" name="Прямая соединительная линия 18"/>
                <p:cNvSpPr/>
                <p:nvPr/>
              </p:nvSpPr>
              <p:spPr>
                <a:xfrm flipV="1">
                  <a:off x="3120480" y="5657040"/>
                  <a:ext cx="865080" cy="547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Прямая соединительная линия 22"/>
                <p:cNvSpPr/>
                <p:nvPr/>
              </p:nvSpPr>
              <p:spPr>
                <a:xfrm flipH="1">
                  <a:off x="4843080" y="4625640"/>
                  <a:ext cx="622800" cy="6451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Прямая соединительная линия 24"/>
                <p:cNvSpPr/>
                <p:nvPr/>
              </p:nvSpPr>
              <p:spPr>
                <a:xfrm flipH="1" flipV="1">
                  <a:off x="1198800" y="3152160"/>
                  <a:ext cx="36360" cy="82116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Прямая соединительная линия 26"/>
                <p:cNvSpPr/>
                <p:nvPr/>
              </p:nvSpPr>
              <p:spPr>
                <a:xfrm flipH="1">
                  <a:off x="1518120" y="1607040"/>
                  <a:ext cx="586440" cy="65700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Прямая соединительная линия 28"/>
                <p:cNvSpPr/>
                <p:nvPr/>
              </p:nvSpPr>
              <p:spPr>
                <a:xfrm flipV="1">
                  <a:off x="2944080" y="1183320"/>
                  <a:ext cx="901080" cy="547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Прямая соединительная линия 30"/>
                <p:cNvSpPr/>
                <p:nvPr/>
              </p:nvSpPr>
              <p:spPr>
                <a:xfrm flipH="1" flipV="1">
                  <a:off x="1618920" y="4807440"/>
                  <a:ext cx="633600" cy="58248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0" name="Трапеция 33"/>
                <p:cNvGrpSpPr/>
                <p:nvPr/>
              </p:nvGrpSpPr>
              <p:grpSpPr>
                <a:xfrm>
                  <a:off x="1181880" y="3477600"/>
                  <a:ext cx="2025000" cy="1391760"/>
                  <a:chOff x="1181880" y="3477600"/>
                  <a:chExt cx="2025000" cy="1391760"/>
                </a:xfrm>
              </p:grpSpPr>
              <p:pic>
                <p:nvPicPr>
                  <p:cNvPr id="101" name="Трапеция 3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 rot="21599400">
                    <a:off x="1181880" y="3477600"/>
                    <a:ext cx="2024640" cy="13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" name=""/>
                  <p:cNvSpPr/>
                  <p:nvPr/>
                </p:nvSpPr>
                <p:spPr>
                  <a:xfrm rot="3928200">
                    <a:off x="1824840" y="340740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6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" name="Трапеция 34"/>
                <p:cNvGrpSpPr/>
                <p:nvPr/>
              </p:nvGrpSpPr>
              <p:grpSpPr>
                <a:xfrm>
                  <a:off x="1146600" y="2214000"/>
                  <a:ext cx="2030400" cy="1285560"/>
                  <a:chOff x="1146600" y="2214000"/>
                  <a:chExt cx="2030400" cy="1285560"/>
                </a:xfrm>
              </p:grpSpPr>
              <p:pic>
                <p:nvPicPr>
                  <p:cNvPr id="104" name="Трапеция 34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 rot="21599400">
                    <a:off x="1146600" y="2214000"/>
                    <a:ext cx="2030040" cy="128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5" name=""/>
                  <p:cNvSpPr/>
                  <p:nvPr/>
                </p:nvSpPr>
                <p:spPr>
                  <a:xfrm rot="6628200">
                    <a:off x="1776960" y="224352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5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" name="Трапеция 35"/>
                <p:cNvGrpSpPr/>
                <p:nvPr/>
              </p:nvGrpSpPr>
              <p:grpSpPr>
                <a:xfrm>
                  <a:off x="2042280" y="1185840"/>
                  <a:ext cx="1396800" cy="2017800"/>
                  <a:chOff x="2042280" y="1185840"/>
                  <a:chExt cx="1396800" cy="2017800"/>
                </a:xfrm>
              </p:grpSpPr>
              <p:pic>
                <p:nvPicPr>
                  <p:cNvPr id="107" name="Трапеция 3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 rot="21599400">
                    <a:off x="2042280" y="1185840"/>
                    <a:ext cx="1396440" cy="20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8" name=""/>
                  <p:cNvSpPr/>
                  <p:nvPr/>
                </p:nvSpPr>
                <p:spPr>
                  <a:xfrm rot="9328200">
                    <a:off x="2572200" y="136512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4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" name="Трапеция 36"/>
                <p:cNvGrpSpPr/>
                <p:nvPr/>
              </p:nvGrpSpPr>
              <p:grpSpPr>
                <a:xfrm>
                  <a:off x="3782880" y="3435480"/>
                  <a:ext cx="2030400" cy="1280160"/>
                  <a:chOff x="3782880" y="3435480"/>
                  <a:chExt cx="2030400" cy="1280160"/>
                </a:xfrm>
              </p:grpSpPr>
              <p:pic>
                <p:nvPicPr>
                  <p:cNvPr id="110" name="Трапеция 3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 rot="21599400">
                    <a:off x="3782880" y="3435480"/>
                    <a:ext cx="2030040" cy="12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1" name=""/>
                  <p:cNvSpPr/>
                  <p:nvPr/>
                </p:nvSpPr>
                <p:spPr>
                  <a:xfrm rot="17428200">
                    <a:off x="4717080" y="329184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1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" name="Трапеция 37"/>
                <p:cNvGrpSpPr/>
                <p:nvPr/>
              </p:nvGrpSpPr>
              <p:grpSpPr>
                <a:xfrm>
                  <a:off x="2203200" y="3746520"/>
                  <a:ext cx="1290240" cy="2023560"/>
                  <a:chOff x="2203200" y="3746520"/>
                  <a:chExt cx="1290240" cy="2023560"/>
                </a:xfrm>
              </p:grpSpPr>
              <p:pic>
                <p:nvPicPr>
                  <p:cNvPr id="113" name="Трапеция 3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 rot="21599400">
                    <a:off x="2203200" y="3746520"/>
                    <a:ext cx="1289880" cy="202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4" name=""/>
                  <p:cNvSpPr/>
                  <p:nvPr/>
                </p:nvSpPr>
                <p:spPr>
                  <a:xfrm rot="1227600">
                    <a:off x="2701800" y="421272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7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Трапеция 38"/>
                <p:cNvGrpSpPr/>
                <p:nvPr/>
              </p:nvGrpSpPr>
              <p:grpSpPr>
                <a:xfrm>
                  <a:off x="3503520" y="3709080"/>
                  <a:ext cx="1396800" cy="2012400"/>
                  <a:chOff x="3503520" y="3709080"/>
                  <a:chExt cx="1396800" cy="2012400"/>
                </a:xfrm>
              </p:grpSpPr>
              <p:pic>
                <p:nvPicPr>
                  <p:cNvPr id="116" name="Трапеция 38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 rot="21599400">
                    <a:off x="3503520" y="3709080"/>
                    <a:ext cx="1396440" cy="201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" name=""/>
                  <p:cNvSpPr/>
                  <p:nvPr/>
                </p:nvSpPr>
                <p:spPr>
                  <a:xfrm rot="20128200">
                    <a:off x="3902400" y="4152960"/>
                    <a:ext cx="468360" cy="138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8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Трапеция 39"/>
                <p:cNvGrpSpPr/>
                <p:nvPr/>
              </p:nvGrpSpPr>
              <p:grpSpPr>
                <a:xfrm>
                  <a:off x="3759120" y="2049120"/>
                  <a:ext cx="2025000" cy="1391760"/>
                  <a:chOff x="3759120" y="2049120"/>
                  <a:chExt cx="2025000" cy="1391760"/>
                </a:xfrm>
              </p:grpSpPr>
              <p:pic>
                <p:nvPicPr>
                  <p:cNvPr id="119" name="Трапеция 39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 rot="21599400">
                    <a:off x="3759120" y="2049120"/>
                    <a:ext cx="2024640" cy="13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0" name=""/>
                  <p:cNvSpPr/>
                  <p:nvPr/>
                </p:nvSpPr>
                <p:spPr>
                  <a:xfrm rot="14728200">
                    <a:off x="4670280" y="211392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2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1" name="Прямая соединительная линия 49"/>
                <p:cNvSpPr/>
                <p:nvPr/>
              </p:nvSpPr>
              <p:spPr>
                <a:xfrm>
                  <a:off x="5720400" y="2939760"/>
                  <a:ext cx="37800" cy="85464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Прямая соединительная линия 51"/>
                <p:cNvSpPr/>
                <p:nvPr/>
              </p:nvSpPr>
              <p:spPr>
                <a:xfrm>
                  <a:off x="4675680" y="1490040"/>
                  <a:ext cx="671400" cy="57708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23" name="Picture 6" descr="http://www.osh.by/wp-content/uploads/2014/02/skripichnii_kluch0000.png">
                <a:hlinkClick r:id="rId31" action="ppaction://hlinksldjump"/>
              </p:cNvPr>
              <p:cNvPicPr/>
              <p:nvPr/>
            </p:nvPicPr>
            <p:blipFill>
              <a:blip r:embed="rId32"/>
              <a:stretch/>
            </p:blipFill>
            <p:spPr>
              <a:xfrm rot="1228200">
                <a:off x="3259440" y="2018160"/>
                <a:ext cx="1245960" cy="934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4" name="Picture 8" descr="https://pixabay.com/static/uploads/photo/2014/04/03/10/22/black-box-310220_640.png">
              <a:hlinkClick r:id="rId33" action="ppaction://hlinksldjump"/>
            </p:cNvPr>
            <p:cNvPicPr/>
            <p:nvPr/>
          </p:nvPicPr>
          <p:blipFill>
            <a:blip r:embed="rId34"/>
            <a:stretch/>
          </p:blipFill>
          <p:spPr>
            <a:xfrm rot="1228200">
              <a:off x="2084760" y="3691080"/>
              <a:ext cx="543960" cy="49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волчок.mp3" descr=""/>
          <p:cNvPicPr/>
          <p:nvPr/>
        </p:nvPicPr>
        <p:blipFill>
          <a:blip r:embed="rId35"/>
          <a:stretch/>
        </p:blipFill>
        <p:spPr>
          <a:xfrm>
            <a:off x="6853320" y="565452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2800000">
                                      <p:cBhvr>
                                        <p:cTn id="1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5400000">
                                      <p:cBhvr>
                                        <p:cTn id="2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0">
                                      <p:cBhvr>
                                        <p:cTn id="2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5100000">
                                      <p:cBhvr>
                                        <p:cTn id="3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6700000">
                                      <p:cBhvr>
                                        <p:cTn id="3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0">
                                      <p:cBhvr>
                                        <p:cTn id="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9400000">
                                      <p:cBhvr>
                                        <p:cTn id="4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3000000">
                                      <p:cBhvr>
                                        <p:cTn id="4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43272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352680" y="1627200"/>
            <a:ext cx="65916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Tahoma"/>
                <a:ea typeface="Tahoma"/>
              </a:rPr>
              <a:t>Блиц-турнир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7" name="pause1.mp3" descr=""/>
          <p:cNvPicPr/>
          <p:nvPr/>
        </p:nvPicPr>
        <p:blipFill>
          <a:blip r:embed="rId2"/>
          <a:stretch/>
        </p:blipFill>
        <p:spPr>
          <a:xfrm>
            <a:off x="10310760" y="51768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54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46344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213160" y="871560"/>
            <a:ext cx="65912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        </a:t>
            </a:r>
            <a:r>
              <a:rPr b="1" lang="ru-RU" sz="4400" spc="-1" strike="noStrike">
                <a:solidFill>
                  <a:srgbClr val="0070c0"/>
                </a:solidFill>
                <a:latin typeface="Tahoma"/>
                <a:ea typeface="Tahoma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Прямоугольник 1"/>
          <p:cNvSpPr/>
          <p:nvPr/>
        </p:nvSpPr>
        <p:spPr>
          <a:xfrm>
            <a:off x="5373720" y="1916280"/>
            <a:ext cx="6095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ahoma"/>
                <a:ea typeface="Tahoma"/>
              </a:rPr>
              <a:t>Какая компетентность одна из составляющих функциональной грамотности  и способы ее развития формируют у ребенка умение общаться делать выводы,  ясно и чётко излагать мысли, убеждать, аргументировать,  анализировать, выносить суждения; проводить беседу, задавать вопро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ause1.mp3" descr=""/>
          <p:cNvPicPr/>
          <p:nvPr/>
        </p:nvPicPr>
        <p:blipFill>
          <a:blip r:embed="rId2"/>
          <a:stretch/>
        </p:blipFill>
        <p:spPr>
          <a:xfrm>
            <a:off x="10352160" y="56754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4634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Скругленный прямоугольник 85"/>
          <p:cNvSpPr/>
          <p:nvPr/>
        </p:nvSpPr>
        <p:spPr>
          <a:xfrm>
            <a:off x="7205760" y="1071720"/>
            <a:ext cx="4444920" cy="4887720"/>
          </a:xfrm>
          <a:custGeom>
            <a:avLst/>
            <a:gdLst>
              <a:gd name="textAreaLeft" fmla="*/ 216720 w 4444920"/>
              <a:gd name="textAreaRight" fmla="*/ 4228200 w 4444920"/>
              <a:gd name="textAreaTop" fmla="*/ 216720 h 4887720"/>
              <a:gd name="textAreaBottom" fmla="*/ 4671000 h 4887720"/>
            </a:gdLst>
            <a:ahLst/>
            <a:rect l="textAreaLeft" t="textAreaTop" r="textAreaRight" b="textAreaBottom"/>
            <a:pathLst>
              <a:path w="21600" h="23752">
                <a:moveTo>
                  <a:pt x="3600" y="0"/>
                </a:moveTo>
                <a:arcTo wR="3600" hR="3600" stAng="16200000" swAng="-5400000"/>
                <a:lnTo>
                  <a:pt x="0" y="20152"/>
                </a:lnTo>
                <a:arcTo wR="3600" hR="3600" stAng="10800000" swAng="-5400000"/>
                <a:lnTo>
                  <a:pt x="18000" y="237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843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59"/>
          <p:cNvSpPr/>
          <p:nvPr/>
        </p:nvSpPr>
        <p:spPr>
          <a:xfrm>
            <a:off x="741240" y="698400"/>
            <a:ext cx="5473800" cy="546120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Группа 58" descr=""/>
          <p:cNvPicPr/>
          <p:nvPr/>
        </p:nvPicPr>
        <p:blipFill>
          <a:blip r:embed="rId3"/>
          <a:stretch/>
        </p:blipFill>
        <p:spPr>
          <a:xfrm>
            <a:off x="3108240" y="3084480"/>
            <a:ext cx="720720" cy="719280"/>
          </a:xfrm>
          <a:prstGeom prst="rect">
            <a:avLst/>
          </a:prstGeom>
          <a:ln w="0">
            <a:noFill/>
          </a:ln>
        </p:spPr>
      </p:pic>
      <p:sp>
        <p:nvSpPr>
          <p:cNvPr id="134" name="Стрелка влево 60"/>
          <p:cNvSpPr/>
          <p:nvPr/>
        </p:nvSpPr>
        <p:spPr>
          <a:xfrm>
            <a:off x="6032520" y="2787480"/>
            <a:ext cx="853920" cy="12351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Группа 63"/>
          <p:cNvGrpSpPr/>
          <p:nvPr/>
        </p:nvGrpSpPr>
        <p:grpSpPr>
          <a:xfrm>
            <a:off x="0" y="0"/>
            <a:ext cx="12192120" cy="6858000"/>
            <a:chOff x="0" y="0"/>
            <a:chExt cx="12192120" cy="6858000"/>
          </a:xfrm>
        </p:grpSpPr>
        <p:sp>
          <p:nvSpPr>
            <p:cNvPr id="136" name="Прямоугольник 61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noFill/>
            <a:ln w="7632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Прямоугольник 62"/>
            <p:cNvSpPr/>
            <p:nvPr/>
          </p:nvSpPr>
          <p:spPr>
            <a:xfrm>
              <a:off x="284040" y="247320"/>
              <a:ext cx="11652480" cy="6388200"/>
            </a:xfrm>
            <a:prstGeom prst="rect">
              <a:avLst/>
            </a:prstGeom>
            <a:noFill/>
            <a:ln w="7632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Прямоугольник 64" descr=""/>
          <p:cNvPicPr/>
          <p:nvPr/>
        </p:nvPicPr>
        <p:blipFill>
          <a:blip r:embed="rId4"/>
          <a:stretch/>
        </p:blipFill>
        <p:spPr>
          <a:xfrm>
            <a:off x="4438800" y="19080"/>
            <a:ext cx="5742000" cy="1303200"/>
          </a:xfrm>
          <a:prstGeom prst="rect">
            <a:avLst/>
          </a:prstGeom>
          <a:ln w="0">
            <a:noFill/>
          </a:ln>
        </p:spPr>
      </p:pic>
      <p:grpSp>
        <p:nvGrpSpPr>
          <p:cNvPr id="139" name="Группа 66"/>
          <p:cNvGrpSpPr/>
          <p:nvPr/>
        </p:nvGrpSpPr>
        <p:grpSpPr>
          <a:xfrm>
            <a:off x="7462800" y="1339920"/>
            <a:ext cx="1916280" cy="1342800"/>
            <a:chOff x="7462800" y="1339920"/>
            <a:chExt cx="1916280" cy="1342800"/>
          </a:xfrm>
        </p:grpSpPr>
        <p:pic>
          <p:nvPicPr>
            <p:cNvPr id="140" name="Picture 4" descr="http://print-convert.ru/sample_01.jpg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462800" y="1339920"/>
              <a:ext cx="1901520" cy="11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Прямоугольник 65" descr=""/>
            <p:cNvPicPr/>
            <p:nvPr/>
          </p:nvPicPr>
          <p:blipFill>
            <a:blip r:embed="rId7"/>
            <a:stretch/>
          </p:blipFill>
          <p:spPr>
            <a:xfrm>
              <a:off x="7491600" y="1410120"/>
              <a:ext cx="1887480" cy="12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" name="Группа 72"/>
          <p:cNvGrpSpPr/>
          <p:nvPr/>
        </p:nvGrpSpPr>
        <p:grpSpPr>
          <a:xfrm>
            <a:off x="9501120" y="1325520"/>
            <a:ext cx="1914480" cy="1343160"/>
            <a:chOff x="9501120" y="1325520"/>
            <a:chExt cx="1914480" cy="1343160"/>
          </a:xfrm>
        </p:grpSpPr>
        <p:pic>
          <p:nvPicPr>
            <p:cNvPr id="143" name="Picture 4" descr="http://print-convert.ru/sample_01.jpg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501120" y="1325520"/>
              <a:ext cx="1914480" cy="116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Прямоугольник 73" descr=""/>
            <p:cNvPicPr/>
            <p:nvPr/>
          </p:nvPicPr>
          <p:blipFill>
            <a:blip r:embed="rId10"/>
            <a:stretch/>
          </p:blipFill>
          <p:spPr>
            <a:xfrm>
              <a:off x="9509400" y="1407600"/>
              <a:ext cx="1902240" cy="126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Группа 78"/>
          <p:cNvGrpSpPr/>
          <p:nvPr/>
        </p:nvGrpSpPr>
        <p:grpSpPr>
          <a:xfrm>
            <a:off x="7481880" y="2844720"/>
            <a:ext cx="1916280" cy="1343160"/>
            <a:chOff x="7481880" y="2844720"/>
            <a:chExt cx="1916280" cy="1343160"/>
          </a:xfrm>
        </p:grpSpPr>
        <p:pic>
          <p:nvPicPr>
            <p:cNvPr id="146" name="Picture 4" descr="http://print-convert.ru/sample_01.jpg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7481880" y="2844720"/>
              <a:ext cx="1916280" cy="11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Прямоугольник 74" descr=""/>
            <p:cNvPicPr/>
            <p:nvPr/>
          </p:nvPicPr>
          <p:blipFill>
            <a:blip r:embed="rId13"/>
            <a:stretch/>
          </p:blipFill>
          <p:spPr>
            <a:xfrm>
              <a:off x="7491960" y="2895120"/>
              <a:ext cx="1902240" cy="129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Группа 79"/>
          <p:cNvGrpSpPr/>
          <p:nvPr/>
        </p:nvGrpSpPr>
        <p:grpSpPr>
          <a:xfrm>
            <a:off x="9518760" y="2860560"/>
            <a:ext cx="1914480" cy="1341720"/>
            <a:chOff x="9518760" y="2860560"/>
            <a:chExt cx="1914480" cy="1341720"/>
          </a:xfrm>
        </p:grpSpPr>
        <p:pic>
          <p:nvPicPr>
            <p:cNvPr id="149" name="Picture 4" descr="http://print-convert.ru/sample_01.jpg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18760" y="2860560"/>
              <a:ext cx="191448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Прямоугольник 75" descr=""/>
            <p:cNvPicPr/>
            <p:nvPr/>
          </p:nvPicPr>
          <p:blipFill>
            <a:blip r:embed="rId16"/>
            <a:stretch/>
          </p:blipFill>
          <p:spPr>
            <a:xfrm>
              <a:off x="9528120" y="2897280"/>
              <a:ext cx="1902240" cy="130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1" name="Группа 80"/>
          <p:cNvGrpSpPr/>
          <p:nvPr/>
        </p:nvGrpSpPr>
        <p:grpSpPr>
          <a:xfrm>
            <a:off x="7462800" y="4349880"/>
            <a:ext cx="1916280" cy="1341360"/>
            <a:chOff x="7462800" y="4349880"/>
            <a:chExt cx="1916280" cy="1341360"/>
          </a:xfrm>
        </p:grpSpPr>
        <p:pic>
          <p:nvPicPr>
            <p:cNvPr id="152" name="Picture 4" descr="http://print-convert.ru/sample_01.jpg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62800" y="4375080"/>
              <a:ext cx="1901520" cy="12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Прямоугольник 76" descr=""/>
            <p:cNvPicPr/>
            <p:nvPr/>
          </p:nvPicPr>
          <p:blipFill>
            <a:blip r:embed="rId19"/>
            <a:stretch/>
          </p:blipFill>
          <p:spPr>
            <a:xfrm>
              <a:off x="7491600" y="4349880"/>
              <a:ext cx="1887480" cy="134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Группа 81"/>
          <p:cNvGrpSpPr/>
          <p:nvPr/>
        </p:nvGrpSpPr>
        <p:grpSpPr>
          <a:xfrm>
            <a:off x="9504360" y="4361040"/>
            <a:ext cx="1914480" cy="1342800"/>
            <a:chOff x="9504360" y="4361040"/>
            <a:chExt cx="1914480" cy="1342800"/>
          </a:xfrm>
        </p:grpSpPr>
        <p:pic>
          <p:nvPicPr>
            <p:cNvPr id="155" name="Picture 4" descr="http://print-convert.ru/sample_01.jpg">
              <a:hlinkClick r:id="rId20" action="ppaction://hlinksldjump"/>
            </p:cNvPr>
            <p:cNvPicPr/>
            <p:nvPr/>
          </p:nvPicPr>
          <p:blipFill>
            <a:blip r:embed="rId21"/>
            <a:stretch/>
          </p:blipFill>
          <p:spPr>
            <a:xfrm>
              <a:off x="9504360" y="4385520"/>
              <a:ext cx="191448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Прямоугольник 77" descr=""/>
            <p:cNvPicPr/>
            <p:nvPr/>
          </p:nvPicPr>
          <p:blipFill>
            <a:blip r:embed="rId22"/>
            <a:stretch/>
          </p:blipFill>
          <p:spPr>
            <a:xfrm>
              <a:off x="9515520" y="4361040"/>
              <a:ext cx="1902240" cy="13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Группа 83"/>
          <p:cNvGrpSpPr/>
          <p:nvPr/>
        </p:nvGrpSpPr>
        <p:grpSpPr>
          <a:xfrm>
            <a:off x="1146600" y="1136880"/>
            <a:ext cx="4666680" cy="4633200"/>
            <a:chOff x="1146600" y="1136880"/>
            <a:chExt cx="4666680" cy="4633200"/>
          </a:xfrm>
        </p:grpSpPr>
        <p:grpSp>
          <p:nvGrpSpPr>
            <p:cNvPr id="158" name="Группа 82"/>
            <p:cNvGrpSpPr/>
            <p:nvPr/>
          </p:nvGrpSpPr>
          <p:grpSpPr>
            <a:xfrm>
              <a:off x="1146600" y="1136880"/>
              <a:ext cx="4666680" cy="4633200"/>
              <a:chOff x="1146600" y="1136880"/>
              <a:chExt cx="4666680" cy="4633200"/>
            </a:xfrm>
          </p:grpSpPr>
          <p:grpSp>
            <p:nvGrpSpPr>
              <p:cNvPr id="159" name="Группа 57"/>
              <p:cNvGrpSpPr/>
              <p:nvPr/>
            </p:nvGrpSpPr>
            <p:grpSpPr>
              <a:xfrm>
                <a:off x="1146600" y="1136880"/>
                <a:ext cx="4666680" cy="4633200"/>
                <a:chOff x="1146600" y="1136880"/>
                <a:chExt cx="4666680" cy="4633200"/>
              </a:xfrm>
            </p:grpSpPr>
            <p:grpSp>
              <p:nvGrpSpPr>
                <p:cNvPr id="160" name="Трапеция 11"/>
                <p:cNvGrpSpPr/>
                <p:nvPr/>
              </p:nvGrpSpPr>
              <p:grpSpPr>
                <a:xfrm>
                  <a:off x="3461040" y="1136880"/>
                  <a:ext cx="1290240" cy="2028960"/>
                  <a:chOff x="3461040" y="1136880"/>
                  <a:chExt cx="1290240" cy="2028960"/>
                </a:xfrm>
              </p:grpSpPr>
              <p:pic>
                <p:nvPicPr>
                  <p:cNvPr id="161" name="Трапеция 11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 rot="21599400">
                    <a:off x="3461040" y="1136880"/>
                    <a:ext cx="1289880" cy="20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" name=""/>
                  <p:cNvSpPr/>
                  <p:nvPr/>
                </p:nvSpPr>
                <p:spPr>
                  <a:xfrm rot="12028200">
                    <a:off x="3787200" y="130464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3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3" name="Прямая соединительная линия 18"/>
                <p:cNvSpPr/>
                <p:nvPr/>
              </p:nvSpPr>
              <p:spPr>
                <a:xfrm flipV="1">
                  <a:off x="3120480" y="5657040"/>
                  <a:ext cx="865080" cy="547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Прямая соединительная линия 22"/>
                <p:cNvSpPr/>
                <p:nvPr/>
              </p:nvSpPr>
              <p:spPr>
                <a:xfrm flipH="1">
                  <a:off x="4843080" y="4625640"/>
                  <a:ext cx="622800" cy="6451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Прямая соединительная линия 24"/>
                <p:cNvSpPr/>
                <p:nvPr/>
              </p:nvSpPr>
              <p:spPr>
                <a:xfrm flipH="1" flipV="1">
                  <a:off x="1198800" y="3152160"/>
                  <a:ext cx="36360" cy="82116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Прямая соединительная линия 26"/>
                <p:cNvSpPr/>
                <p:nvPr/>
              </p:nvSpPr>
              <p:spPr>
                <a:xfrm flipH="1">
                  <a:off x="1518120" y="1607040"/>
                  <a:ext cx="586440" cy="65700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Прямая соединительная линия 28"/>
                <p:cNvSpPr/>
                <p:nvPr/>
              </p:nvSpPr>
              <p:spPr>
                <a:xfrm flipV="1">
                  <a:off x="2944080" y="1183320"/>
                  <a:ext cx="901080" cy="547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Прямая соединительная линия 30"/>
                <p:cNvSpPr/>
                <p:nvPr/>
              </p:nvSpPr>
              <p:spPr>
                <a:xfrm flipH="1" flipV="1">
                  <a:off x="1618920" y="4807440"/>
                  <a:ext cx="633600" cy="58248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Трапеция 33"/>
                <p:cNvGrpSpPr/>
                <p:nvPr/>
              </p:nvGrpSpPr>
              <p:grpSpPr>
                <a:xfrm>
                  <a:off x="1181880" y="3477600"/>
                  <a:ext cx="2025000" cy="1391760"/>
                  <a:chOff x="1181880" y="3477600"/>
                  <a:chExt cx="2025000" cy="1391760"/>
                </a:xfrm>
              </p:grpSpPr>
              <p:pic>
                <p:nvPicPr>
                  <p:cNvPr id="170" name="Трапеция 3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 rot="21599400">
                    <a:off x="1181880" y="3477600"/>
                    <a:ext cx="2024640" cy="13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1" name=""/>
                  <p:cNvSpPr/>
                  <p:nvPr/>
                </p:nvSpPr>
                <p:spPr>
                  <a:xfrm rot="3928200">
                    <a:off x="1824840" y="340740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6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Трапеция 34"/>
                <p:cNvGrpSpPr/>
                <p:nvPr/>
              </p:nvGrpSpPr>
              <p:grpSpPr>
                <a:xfrm>
                  <a:off x="1146600" y="2214000"/>
                  <a:ext cx="2030400" cy="1285560"/>
                  <a:chOff x="1146600" y="2214000"/>
                  <a:chExt cx="2030400" cy="1285560"/>
                </a:xfrm>
              </p:grpSpPr>
              <p:pic>
                <p:nvPicPr>
                  <p:cNvPr id="173" name="Трапеция 34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 rot="21599400">
                    <a:off x="1146600" y="2214000"/>
                    <a:ext cx="2030040" cy="128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4" name=""/>
                  <p:cNvSpPr/>
                  <p:nvPr/>
                </p:nvSpPr>
                <p:spPr>
                  <a:xfrm rot="6628200">
                    <a:off x="1776960" y="224352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5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Трапеция 35"/>
                <p:cNvGrpSpPr/>
                <p:nvPr/>
              </p:nvGrpSpPr>
              <p:grpSpPr>
                <a:xfrm>
                  <a:off x="2042280" y="1185840"/>
                  <a:ext cx="1396800" cy="2017800"/>
                  <a:chOff x="2042280" y="1185840"/>
                  <a:chExt cx="1396800" cy="2017800"/>
                </a:xfrm>
              </p:grpSpPr>
              <p:pic>
                <p:nvPicPr>
                  <p:cNvPr id="176" name="Трапеция 3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 rot="21599400">
                    <a:off x="2042280" y="1185840"/>
                    <a:ext cx="1396440" cy="20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7" name=""/>
                  <p:cNvSpPr/>
                  <p:nvPr/>
                </p:nvSpPr>
                <p:spPr>
                  <a:xfrm rot="9328200">
                    <a:off x="2572200" y="136512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4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Трапеция 36"/>
                <p:cNvGrpSpPr/>
                <p:nvPr/>
              </p:nvGrpSpPr>
              <p:grpSpPr>
                <a:xfrm>
                  <a:off x="3782880" y="3435480"/>
                  <a:ext cx="2030400" cy="1280160"/>
                  <a:chOff x="3782880" y="3435480"/>
                  <a:chExt cx="2030400" cy="1280160"/>
                </a:xfrm>
              </p:grpSpPr>
              <p:pic>
                <p:nvPicPr>
                  <p:cNvPr id="179" name="Трапеция 3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 rot="21599400">
                    <a:off x="3782880" y="3435480"/>
                    <a:ext cx="2030040" cy="12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0" name=""/>
                  <p:cNvSpPr/>
                  <p:nvPr/>
                </p:nvSpPr>
                <p:spPr>
                  <a:xfrm rot="17428200">
                    <a:off x="4717080" y="329184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1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Трапеция 37"/>
                <p:cNvGrpSpPr/>
                <p:nvPr/>
              </p:nvGrpSpPr>
              <p:grpSpPr>
                <a:xfrm>
                  <a:off x="2203200" y="3746520"/>
                  <a:ext cx="1290240" cy="2023560"/>
                  <a:chOff x="2203200" y="3746520"/>
                  <a:chExt cx="1290240" cy="2023560"/>
                </a:xfrm>
              </p:grpSpPr>
              <p:pic>
                <p:nvPicPr>
                  <p:cNvPr id="182" name="Трапеция 3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 rot="21599400">
                    <a:off x="2203200" y="3746520"/>
                    <a:ext cx="1289880" cy="202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3" name=""/>
                  <p:cNvSpPr/>
                  <p:nvPr/>
                </p:nvSpPr>
                <p:spPr>
                  <a:xfrm rot="1227600">
                    <a:off x="2701800" y="421272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7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" name="Трапеция 38"/>
                <p:cNvGrpSpPr/>
                <p:nvPr/>
              </p:nvGrpSpPr>
              <p:grpSpPr>
                <a:xfrm>
                  <a:off x="3503520" y="3709080"/>
                  <a:ext cx="1396800" cy="2012400"/>
                  <a:chOff x="3503520" y="3709080"/>
                  <a:chExt cx="1396800" cy="2012400"/>
                </a:xfrm>
              </p:grpSpPr>
              <p:pic>
                <p:nvPicPr>
                  <p:cNvPr id="185" name="Трапеция 38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 rot="21599400">
                    <a:off x="3503520" y="3709080"/>
                    <a:ext cx="1396440" cy="201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6" name=""/>
                  <p:cNvSpPr/>
                  <p:nvPr/>
                </p:nvSpPr>
                <p:spPr>
                  <a:xfrm rot="20128200">
                    <a:off x="3902400" y="4152960"/>
                    <a:ext cx="468360" cy="138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8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Трапеция 39"/>
                <p:cNvGrpSpPr/>
                <p:nvPr/>
              </p:nvGrpSpPr>
              <p:grpSpPr>
                <a:xfrm>
                  <a:off x="3759120" y="2049120"/>
                  <a:ext cx="2025000" cy="1391760"/>
                  <a:chOff x="3759120" y="2049120"/>
                  <a:chExt cx="2025000" cy="1391760"/>
                </a:xfrm>
              </p:grpSpPr>
              <p:pic>
                <p:nvPicPr>
                  <p:cNvPr id="188" name="Трапеция 39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 rot="21599400">
                    <a:off x="3759120" y="2049120"/>
                    <a:ext cx="2024640" cy="13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9" name=""/>
                  <p:cNvSpPr/>
                  <p:nvPr/>
                </p:nvSpPr>
                <p:spPr>
                  <a:xfrm rot="14728200">
                    <a:off x="4670280" y="211392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2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0" name="Прямая соединительная линия 49"/>
                <p:cNvSpPr/>
                <p:nvPr/>
              </p:nvSpPr>
              <p:spPr>
                <a:xfrm>
                  <a:off x="5720400" y="2939760"/>
                  <a:ext cx="37800" cy="85464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Прямая соединительная линия 51"/>
                <p:cNvSpPr/>
                <p:nvPr/>
              </p:nvSpPr>
              <p:spPr>
                <a:xfrm>
                  <a:off x="4675680" y="1490040"/>
                  <a:ext cx="671400" cy="57708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92" name="Picture 6" descr="http://www.osh.by/wp-content/uploads/2014/02/skripichnii_kluch0000.png">
                <a:hlinkClick r:id="rId31" action="ppaction://hlinksldjump"/>
              </p:cNvPr>
              <p:cNvPicPr/>
              <p:nvPr/>
            </p:nvPicPr>
            <p:blipFill>
              <a:blip r:embed="rId32"/>
              <a:stretch/>
            </p:blipFill>
            <p:spPr>
              <a:xfrm rot="1228200">
                <a:off x="3259440" y="2018160"/>
                <a:ext cx="1245960" cy="934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3" name="Picture 8" descr="https://pixabay.com/static/uploads/photo/2014/04/03/10/22/black-box-310220_640.png">
              <a:hlinkClick r:id="rId33" action="ppaction://hlinksldjump"/>
            </p:cNvPr>
            <p:cNvPicPr/>
            <p:nvPr/>
          </p:nvPicPr>
          <p:blipFill>
            <a:blip r:embed="rId34"/>
            <a:stretch/>
          </p:blipFill>
          <p:spPr>
            <a:xfrm rot="1228200">
              <a:off x="2084760" y="3691080"/>
              <a:ext cx="543960" cy="49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4" name="волчок.mp3" descr=""/>
          <p:cNvPicPr/>
          <p:nvPr/>
        </p:nvPicPr>
        <p:blipFill>
          <a:blip r:embed="rId35"/>
          <a:stretch/>
        </p:blipFill>
        <p:spPr>
          <a:xfrm>
            <a:off x="6853320" y="565452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2800000">
                                      <p:cBhvr>
                                        <p:cTn id="7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5400000">
                                      <p:cBhvr>
                                        <p:cTn id="8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0">
                                      <p:cBhvr>
                                        <p:cTn id="8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5100000">
                                      <p:cBhvr>
                                        <p:cTn id="8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6700000">
                                      <p:cBhvr>
                                        <p:cTn id="9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0">
                                      <p:cBhvr>
                                        <p:cTn id="9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9400000">
                                      <p:cBhvr>
                                        <p:cTn id="10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3000000">
                                      <p:cBhvr>
                                        <p:cTn id="10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43272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72840" y="934920"/>
            <a:ext cx="65912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        </a:t>
            </a:r>
            <a:r>
              <a:rPr b="1" lang="ru-RU" sz="4400" spc="-1" strike="noStrike">
                <a:solidFill>
                  <a:srgbClr val="00b0f0"/>
                </a:solidFill>
                <a:latin typeface="Tahoma"/>
                <a:ea typeface="Tahoma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TextBox 1"/>
          <p:cNvSpPr/>
          <p:nvPr/>
        </p:nvSpPr>
        <p:spPr>
          <a:xfrm>
            <a:off x="1690560" y="1797120"/>
            <a:ext cx="519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ahoma"/>
                <a:ea typeface="Tahoma"/>
              </a:rPr>
              <a:t>Вы слыхали на база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ahoma"/>
                <a:ea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ahoma"/>
                <a:ea typeface="Tahoma"/>
              </a:rPr>
              <a:t>Балалайку продавали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ause1.mp3" descr=""/>
          <p:cNvPicPr/>
          <p:nvPr/>
        </p:nvPicPr>
        <p:blipFill>
          <a:blip r:embed="rId2"/>
          <a:stretch/>
        </p:blipFill>
        <p:spPr>
          <a:xfrm>
            <a:off x="6716880" y="593712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46344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Скругленный прямоугольник 85"/>
          <p:cNvSpPr/>
          <p:nvPr/>
        </p:nvSpPr>
        <p:spPr>
          <a:xfrm>
            <a:off x="7205760" y="1071720"/>
            <a:ext cx="4444920" cy="4887720"/>
          </a:xfrm>
          <a:custGeom>
            <a:avLst/>
            <a:gdLst>
              <a:gd name="textAreaLeft" fmla="*/ 216720 w 4444920"/>
              <a:gd name="textAreaRight" fmla="*/ 4228200 w 4444920"/>
              <a:gd name="textAreaTop" fmla="*/ 216720 h 4887720"/>
              <a:gd name="textAreaBottom" fmla="*/ 4671000 h 4887720"/>
            </a:gdLst>
            <a:ahLst/>
            <a:rect l="textAreaLeft" t="textAreaTop" r="textAreaRight" b="textAreaBottom"/>
            <a:pathLst>
              <a:path w="21600" h="23752">
                <a:moveTo>
                  <a:pt x="3600" y="0"/>
                </a:moveTo>
                <a:arcTo wR="3600" hR="3600" stAng="16200000" swAng="-5400000"/>
                <a:lnTo>
                  <a:pt x="0" y="20152"/>
                </a:lnTo>
                <a:arcTo wR="3600" hR="3600" stAng="10800000" swAng="-5400000"/>
                <a:lnTo>
                  <a:pt x="18000" y="237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843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Овал 59"/>
          <p:cNvSpPr/>
          <p:nvPr/>
        </p:nvSpPr>
        <p:spPr>
          <a:xfrm>
            <a:off x="741240" y="698400"/>
            <a:ext cx="5473800" cy="546120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Группа 58" descr=""/>
          <p:cNvPicPr/>
          <p:nvPr/>
        </p:nvPicPr>
        <p:blipFill>
          <a:blip r:embed="rId3"/>
          <a:stretch/>
        </p:blipFill>
        <p:spPr>
          <a:xfrm>
            <a:off x="3108240" y="3084480"/>
            <a:ext cx="720720" cy="719280"/>
          </a:xfrm>
          <a:prstGeom prst="rect">
            <a:avLst/>
          </a:prstGeom>
          <a:ln w="0">
            <a:noFill/>
          </a:ln>
        </p:spPr>
      </p:pic>
      <p:sp>
        <p:nvSpPr>
          <p:cNvPr id="201" name="Стрелка влево 60"/>
          <p:cNvSpPr/>
          <p:nvPr/>
        </p:nvSpPr>
        <p:spPr>
          <a:xfrm>
            <a:off x="6032520" y="2787480"/>
            <a:ext cx="853920" cy="12351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Группа 63"/>
          <p:cNvGrpSpPr/>
          <p:nvPr/>
        </p:nvGrpSpPr>
        <p:grpSpPr>
          <a:xfrm>
            <a:off x="0" y="0"/>
            <a:ext cx="12192120" cy="6858000"/>
            <a:chOff x="0" y="0"/>
            <a:chExt cx="12192120" cy="6858000"/>
          </a:xfrm>
        </p:grpSpPr>
        <p:sp>
          <p:nvSpPr>
            <p:cNvPr id="203" name="Прямоугольник 61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noFill/>
            <a:ln w="7632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Прямоугольник 62"/>
            <p:cNvSpPr/>
            <p:nvPr/>
          </p:nvSpPr>
          <p:spPr>
            <a:xfrm>
              <a:off x="284040" y="247320"/>
              <a:ext cx="11652480" cy="6388200"/>
            </a:xfrm>
            <a:prstGeom prst="rect">
              <a:avLst/>
            </a:prstGeom>
            <a:noFill/>
            <a:ln w="7632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Прямоугольник 64" descr=""/>
          <p:cNvPicPr/>
          <p:nvPr/>
        </p:nvPicPr>
        <p:blipFill>
          <a:blip r:embed="rId4"/>
          <a:stretch/>
        </p:blipFill>
        <p:spPr>
          <a:xfrm>
            <a:off x="4438800" y="19080"/>
            <a:ext cx="5742000" cy="1303200"/>
          </a:xfrm>
          <a:prstGeom prst="rect">
            <a:avLst/>
          </a:prstGeom>
          <a:ln w="0">
            <a:noFill/>
          </a:ln>
        </p:spPr>
      </p:pic>
      <p:grpSp>
        <p:nvGrpSpPr>
          <p:cNvPr id="206" name="Группа 66"/>
          <p:cNvGrpSpPr/>
          <p:nvPr/>
        </p:nvGrpSpPr>
        <p:grpSpPr>
          <a:xfrm>
            <a:off x="7462800" y="1339920"/>
            <a:ext cx="1916280" cy="1342800"/>
            <a:chOff x="7462800" y="1339920"/>
            <a:chExt cx="1916280" cy="1342800"/>
          </a:xfrm>
        </p:grpSpPr>
        <p:pic>
          <p:nvPicPr>
            <p:cNvPr id="207" name="Picture 4" descr="http://print-convert.ru/sample_01.jpg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462800" y="1339920"/>
              <a:ext cx="1901520" cy="11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Прямоугольник 65" descr=""/>
            <p:cNvPicPr/>
            <p:nvPr/>
          </p:nvPicPr>
          <p:blipFill>
            <a:blip r:embed="rId7"/>
            <a:stretch/>
          </p:blipFill>
          <p:spPr>
            <a:xfrm>
              <a:off x="7491600" y="1410120"/>
              <a:ext cx="1887480" cy="12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Группа 72"/>
          <p:cNvGrpSpPr/>
          <p:nvPr/>
        </p:nvGrpSpPr>
        <p:grpSpPr>
          <a:xfrm>
            <a:off x="9501120" y="1325520"/>
            <a:ext cx="1914480" cy="1343160"/>
            <a:chOff x="9501120" y="1325520"/>
            <a:chExt cx="1914480" cy="1343160"/>
          </a:xfrm>
        </p:grpSpPr>
        <p:pic>
          <p:nvPicPr>
            <p:cNvPr id="210" name="Picture 4" descr="http://print-convert.ru/sample_01.jpg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501120" y="1325520"/>
              <a:ext cx="1914480" cy="116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Прямоугольник 73" descr=""/>
            <p:cNvPicPr/>
            <p:nvPr/>
          </p:nvPicPr>
          <p:blipFill>
            <a:blip r:embed="rId10"/>
            <a:stretch/>
          </p:blipFill>
          <p:spPr>
            <a:xfrm>
              <a:off x="9509400" y="1407600"/>
              <a:ext cx="1902240" cy="126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Группа 78"/>
          <p:cNvGrpSpPr/>
          <p:nvPr/>
        </p:nvGrpSpPr>
        <p:grpSpPr>
          <a:xfrm>
            <a:off x="7481880" y="2844720"/>
            <a:ext cx="1916280" cy="1343160"/>
            <a:chOff x="7481880" y="2844720"/>
            <a:chExt cx="1916280" cy="1343160"/>
          </a:xfrm>
        </p:grpSpPr>
        <p:pic>
          <p:nvPicPr>
            <p:cNvPr id="213" name="Picture 4" descr="http://print-convert.ru/sample_01.jpg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7481880" y="2844720"/>
              <a:ext cx="1916280" cy="11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Прямоугольник 74" descr=""/>
            <p:cNvPicPr/>
            <p:nvPr/>
          </p:nvPicPr>
          <p:blipFill>
            <a:blip r:embed="rId13"/>
            <a:stretch/>
          </p:blipFill>
          <p:spPr>
            <a:xfrm>
              <a:off x="7491960" y="2895120"/>
              <a:ext cx="1902240" cy="129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5" name="Группа 79"/>
          <p:cNvGrpSpPr/>
          <p:nvPr/>
        </p:nvGrpSpPr>
        <p:grpSpPr>
          <a:xfrm>
            <a:off x="9518760" y="2860560"/>
            <a:ext cx="1914480" cy="1341720"/>
            <a:chOff x="9518760" y="2860560"/>
            <a:chExt cx="1914480" cy="1341720"/>
          </a:xfrm>
        </p:grpSpPr>
        <p:pic>
          <p:nvPicPr>
            <p:cNvPr id="216" name="Picture 4" descr="http://print-convert.ru/sample_01.jpg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18760" y="2860560"/>
              <a:ext cx="191448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Прямоугольник 75" descr=""/>
            <p:cNvPicPr/>
            <p:nvPr/>
          </p:nvPicPr>
          <p:blipFill>
            <a:blip r:embed="rId16"/>
            <a:stretch/>
          </p:blipFill>
          <p:spPr>
            <a:xfrm>
              <a:off x="9528120" y="2897280"/>
              <a:ext cx="1902240" cy="130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8" name="Группа 80"/>
          <p:cNvGrpSpPr/>
          <p:nvPr/>
        </p:nvGrpSpPr>
        <p:grpSpPr>
          <a:xfrm>
            <a:off x="7462800" y="4349880"/>
            <a:ext cx="1916280" cy="1341360"/>
            <a:chOff x="7462800" y="4349880"/>
            <a:chExt cx="1916280" cy="1341360"/>
          </a:xfrm>
        </p:grpSpPr>
        <p:pic>
          <p:nvPicPr>
            <p:cNvPr id="219" name="Picture 4" descr="http://print-convert.ru/sample_01.jpg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462800" y="4375080"/>
              <a:ext cx="1901520" cy="12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Прямоугольник 76" descr=""/>
            <p:cNvPicPr/>
            <p:nvPr/>
          </p:nvPicPr>
          <p:blipFill>
            <a:blip r:embed="rId19"/>
            <a:stretch/>
          </p:blipFill>
          <p:spPr>
            <a:xfrm>
              <a:off x="7491600" y="4349880"/>
              <a:ext cx="1887480" cy="134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" name="Группа 81"/>
          <p:cNvGrpSpPr/>
          <p:nvPr/>
        </p:nvGrpSpPr>
        <p:grpSpPr>
          <a:xfrm>
            <a:off x="9504360" y="4361040"/>
            <a:ext cx="1914480" cy="1342800"/>
            <a:chOff x="9504360" y="4361040"/>
            <a:chExt cx="1914480" cy="1342800"/>
          </a:xfrm>
        </p:grpSpPr>
        <p:pic>
          <p:nvPicPr>
            <p:cNvPr id="222" name="Picture 4" descr="http://print-convert.ru/sample_01.jpg">
              <a:hlinkClick r:id="rId20" action="ppaction://hlinksldjump"/>
            </p:cNvPr>
            <p:cNvPicPr/>
            <p:nvPr/>
          </p:nvPicPr>
          <p:blipFill>
            <a:blip r:embed="rId21"/>
            <a:stretch/>
          </p:blipFill>
          <p:spPr>
            <a:xfrm>
              <a:off x="9504360" y="4385520"/>
              <a:ext cx="191448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Прямоугольник 77" descr=""/>
            <p:cNvPicPr/>
            <p:nvPr/>
          </p:nvPicPr>
          <p:blipFill>
            <a:blip r:embed="rId22"/>
            <a:stretch/>
          </p:blipFill>
          <p:spPr>
            <a:xfrm>
              <a:off x="9515520" y="4361040"/>
              <a:ext cx="1902240" cy="13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4" name="Группа 83"/>
          <p:cNvGrpSpPr/>
          <p:nvPr/>
        </p:nvGrpSpPr>
        <p:grpSpPr>
          <a:xfrm>
            <a:off x="1146600" y="1136880"/>
            <a:ext cx="4666680" cy="4633200"/>
            <a:chOff x="1146600" y="1136880"/>
            <a:chExt cx="4666680" cy="4633200"/>
          </a:xfrm>
        </p:grpSpPr>
        <p:grpSp>
          <p:nvGrpSpPr>
            <p:cNvPr id="225" name="Группа 82"/>
            <p:cNvGrpSpPr/>
            <p:nvPr/>
          </p:nvGrpSpPr>
          <p:grpSpPr>
            <a:xfrm>
              <a:off x="1146600" y="1136880"/>
              <a:ext cx="4666680" cy="4633200"/>
              <a:chOff x="1146600" y="1136880"/>
              <a:chExt cx="4666680" cy="4633200"/>
            </a:xfrm>
          </p:grpSpPr>
          <p:grpSp>
            <p:nvGrpSpPr>
              <p:cNvPr id="226" name="Группа 57"/>
              <p:cNvGrpSpPr/>
              <p:nvPr/>
            </p:nvGrpSpPr>
            <p:grpSpPr>
              <a:xfrm>
                <a:off x="1146600" y="1136880"/>
                <a:ext cx="4666680" cy="4633200"/>
                <a:chOff x="1146600" y="1136880"/>
                <a:chExt cx="4666680" cy="4633200"/>
              </a:xfrm>
            </p:grpSpPr>
            <p:grpSp>
              <p:nvGrpSpPr>
                <p:cNvPr id="227" name="Трапеция 11"/>
                <p:cNvGrpSpPr/>
                <p:nvPr/>
              </p:nvGrpSpPr>
              <p:grpSpPr>
                <a:xfrm>
                  <a:off x="3461040" y="1136880"/>
                  <a:ext cx="1290240" cy="2028960"/>
                  <a:chOff x="3461040" y="1136880"/>
                  <a:chExt cx="1290240" cy="2028960"/>
                </a:xfrm>
              </p:grpSpPr>
              <p:pic>
                <p:nvPicPr>
                  <p:cNvPr id="228" name="Трапеция 11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 rot="21599400">
                    <a:off x="3461040" y="1136880"/>
                    <a:ext cx="1289880" cy="20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9" name=""/>
                  <p:cNvSpPr/>
                  <p:nvPr/>
                </p:nvSpPr>
                <p:spPr>
                  <a:xfrm rot="12028200">
                    <a:off x="3787200" y="130464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3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0" name="Прямая соединительная линия 18"/>
                <p:cNvSpPr/>
                <p:nvPr/>
              </p:nvSpPr>
              <p:spPr>
                <a:xfrm flipV="1">
                  <a:off x="3120480" y="5657040"/>
                  <a:ext cx="865080" cy="547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Прямая соединительная линия 22"/>
                <p:cNvSpPr/>
                <p:nvPr/>
              </p:nvSpPr>
              <p:spPr>
                <a:xfrm flipH="1">
                  <a:off x="4843080" y="4625640"/>
                  <a:ext cx="622800" cy="6451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Прямая соединительная линия 24"/>
                <p:cNvSpPr/>
                <p:nvPr/>
              </p:nvSpPr>
              <p:spPr>
                <a:xfrm flipH="1" flipV="1">
                  <a:off x="1198800" y="3152160"/>
                  <a:ext cx="36360" cy="82116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Прямая соединительная линия 26"/>
                <p:cNvSpPr/>
                <p:nvPr/>
              </p:nvSpPr>
              <p:spPr>
                <a:xfrm flipH="1">
                  <a:off x="1518120" y="1607040"/>
                  <a:ext cx="586440" cy="65700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Прямая соединительная линия 28"/>
                <p:cNvSpPr/>
                <p:nvPr/>
              </p:nvSpPr>
              <p:spPr>
                <a:xfrm flipV="1">
                  <a:off x="2944080" y="1183320"/>
                  <a:ext cx="901080" cy="5472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Прямая соединительная линия 30"/>
                <p:cNvSpPr/>
                <p:nvPr/>
              </p:nvSpPr>
              <p:spPr>
                <a:xfrm flipH="1" flipV="1">
                  <a:off x="1618920" y="4807440"/>
                  <a:ext cx="633600" cy="58248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6" name="Трапеция 33"/>
                <p:cNvGrpSpPr/>
                <p:nvPr/>
              </p:nvGrpSpPr>
              <p:grpSpPr>
                <a:xfrm>
                  <a:off x="1181880" y="3477600"/>
                  <a:ext cx="2025000" cy="1391760"/>
                  <a:chOff x="1181880" y="3477600"/>
                  <a:chExt cx="2025000" cy="1391760"/>
                </a:xfrm>
              </p:grpSpPr>
              <p:pic>
                <p:nvPicPr>
                  <p:cNvPr id="237" name="Трапеция 3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 rot="21599400">
                    <a:off x="1181880" y="3477600"/>
                    <a:ext cx="2024640" cy="13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38" name=""/>
                  <p:cNvSpPr/>
                  <p:nvPr/>
                </p:nvSpPr>
                <p:spPr>
                  <a:xfrm rot="3928200">
                    <a:off x="1824840" y="340740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6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Трапеция 34"/>
                <p:cNvGrpSpPr/>
                <p:nvPr/>
              </p:nvGrpSpPr>
              <p:grpSpPr>
                <a:xfrm>
                  <a:off x="1146600" y="2214000"/>
                  <a:ext cx="2030400" cy="1285560"/>
                  <a:chOff x="1146600" y="2214000"/>
                  <a:chExt cx="2030400" cy="1285560"/>
                </a:xfrm>
              </p:grpSpPr>
              <p:pic>
                <p:nvPicPr>
                  <p:cNvPr id="240" name="Трапеция 34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 rot="21599400">
                    <a:off x="1146600" y="2214000"/>
                    <a:ext cx="2030040" cy="128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1" name=""/>
                  <p:cNvSpPr/>
                  <p:nvPr/>
                </p:nvSpPr>
                <p:spPr>
                  <a:xfrm rot="6628200">
                    <a:off x="1776960" y="224352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5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Трапеция 35"/>
                <p:cNvGrpSpPr/>
                <p:nvPr/>
              </p:nvGrpSpPr>
              <p:grpSpPr>
                <a:xfrm>
                  <a:off x="2042280" y="1185840"/>
                  <a:ext cx="1396800" cy="2017800"/>
                  <a:chOff x="2042280" y="1185840"/>
                  <a:chExt cx="1396800" cy="2017800"/>
                </a:xfrm>
              </p:grpSpPr>
              <p:pic>
                <p:nvPicPr>
                  <p:cNvPr id="243" name="Трапеция 3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 rot="21599400">
                    <a:off x="2042280" y="1185840"/>
                    <a:ext cx="1396440" cy="20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4" name=""/>
                  <p:cNvSpPr/>
                  <p:nvPr/>
                </p:nvSpPr>
                <p:spPr>
                  <a:xfrm rot="9328200">
                    <a:off x="2572200" y="136512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4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Трапеция 36"/>
                <p:cNvGrpSpPr/>
                <p:nvPr/>
              </p:nvGrpSpPr>
              <p:grpSpPr>
                <a:xfrm>
                  <a:off x="3782880" y="3435480"/>
                  <a:ext cx="2030400" cy="1280160"/>
                  <a:chOff x="3782880" y="3435480"/>
                  <a:chExt cx="2030400" cy="1280160"/>
                </a:xfrm>
              </p:grpSpPr>
              <p:pic>
                <p:nvPicPr>
                  <p:cNvPr id="246" name="Трапеция 3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 rot="21599400">
                    <a:off x="3782880" y="3435480"/>
                    <a:ext cx="2030040" cy="12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7" name=""/>
                  <p:cNvSpPr/>
                  <p:nvPr/>
                </p:nvSpPr>
                <p:spPr>
                  <a:xfrm rot="17428200">
                    <a:off x="4717080" y="329184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1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Трапеция 37"/>
                <p:cNvGrpSpPr/>
                <p:nvPr/>
              </p:nvGrpSpPr>
              <p:grpSpPr>
                <a:xfrm>
                  <a:off x="2203200" y="3746520"/>
                  <a:ext cx="1290240" cy="2023560"/>
                  <a:chOff x="2203200" y="3746520"/>
                  <a:chExt cx="1290240" cy="2023560"/>
                </a:xfrm>
              </p:grpSpPr>
              <p:pic>
                <p:nvPicPr>
                  <p:cNvPr id="249" name="Трапеция 3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 rot="21599400">
                    <a:off x="2203200" y="3746520"/>
                    <a:ext cx="1289880" cy="202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0" name=""/>
                  <p:cNvSpPr/>
                  <p:nvPr/>
                </p:nvSpPr>
                <p:spPr>
                  <a:xfrm rot="1227600">
                    <a:off x="2701800" y="4212720"/>
                    <a:ext cx="468360" cy="13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7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" name="Трапеция 38"/>
                <p:cNvGrpSpPr/>
                <p:nvPr/>
              </p:nvGrpSpPr>
              <p:grpSpPr>
                <a:xfrm>
                  <a:off x="3503520" y="3709080"/>
                  <a:ext cx="1396800" cy="2012400"/>
                  <a:chOff x="3503520" y="3709080"/>
                  <a:chExt cx="1396800" cy="2012400"/>
                </a:xfrm>
              </p:grpSpPr>
              <p:pic>
                <p:nvPicPr>
                  <p:cNvPr id="252" name="Трапеция 38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 rot="21599400">
                    <a:off x="3503520" y="3709080"/>
                    <a:ext cx="1396440" cy="201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3" name=""/>
                  <p:cNvSpPr/>
                  <p:nvPr/>
                </p:nvSpPr>
                <p:spPr>
                  <a:xfrm rot="20128200">
                    <a:off x="3902400" y="4152960"/>
                    <a:ext cx="468360" cy="138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8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Трапеция 39"/>
                <p:cNvGrpSpPr/>
                <p:nvPr/>
              </p:nvGrpSpPr>
              <p:grpSpPr>
                <a:xfrm>
                  <a:off x="3759120" y="2049120"/>
                  <a:ext cx="2025000" cy="1391760"/>
                  <a:chOff x="3759120" y="2049120"/>
                  <a:chExt cx="2025000" cy="1391760"/>
                </a:xfrm>
              </p:grpSpPr>
              <p:pic>
                <p:nvPicPr>
                  <p:cNvPr id="255" name="Трапеция 39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 rot="21599400">
                    <a:off x="3759120" y="2049120"/>
                    <a:ext cx="2024640" cy="13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6" name=""/>
                  <p:cNvSpPr/>
                  <p:nvPr/>
                </p:nvSpPr>
                <p:spPr>
                  <a:xfrm rot="14728200">
                    <a:off x="4670280" y="2113920"/>
                    <a:ext cx="466920" cy="139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4800" spc="-1" strike="noStrike">
                        <a:solidFill>
                          <a:srgbClr val="ff0000"/>
                        </a:solidFill>
                        <a:latin typeface="Calibri"/>
                      </a:rPr>
                      <a:t>2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7" name="Прямая соединительная линия 49"/>
                <p:cNvSpPr/>
                <p:nvPr/>
              </p:nvSpPr>
              <p:spPr>
                <a:xfrm>
                  <a:off x="5720400" y="2939760"/>
                  <a:ext cx="37800" cy="85464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Прямая соединительная линия 51"/>
                <p:cNvSpPr/>
                <p:nvPr/>
              </p:nvSpPr>
              <p:spPr>
                <a:xfrm>
                  <a:off x="4675680" y="1490040"/>
                  <a:ext cx="671400" cy="577080"/>
                </a:xfrm>
                <a:prstGeom prst="line">
                  <a:avLst/>
                </a:prstGeom>
                <a:ln w="7632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59" name="Picture 6" descr="http://www.osh.by/wp-content/uploads/2014/02/skripichnii_kluch0000.png">
                <a:hlinkClick r:id="rId31" action="ppaction://hlinksldjump"/>
              </p:cNvPr>
              <p:cNvPicPr/>
              <p:nvPr/>
            </p:nvPicPr>
            <p:blipFill>
              <a:blip r:embed="rId32"/>
              <a:stretch/>
            </p:blipFill>
            <p:spPr>
              <a:xfrm rot="1228200">
                <a:off x="3259440" y="2018160"/>
                <a:ext cx="1245960" cy="934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0" name="Picture 8" descr="https://pixabay.com/static/uploads/photo/2014/04/03/10/22/black-box-310220_640.png">
              <a:hlinkClick r:id="rId33" action="ppaction://hlinksldjump"/>
            </p:cNvPr>
            <p:cNvPicPr/>
            <p:nvPr/>
          </p:nvPicPr>
          <p:blipFill>
            <a:blip r:embed="rId34"/>
            <a:stretch/>
          </p:blipFill>
          <p:spPr>
            <a:xfrm rot="1228200">
              <a:off x="2084760" y="3691080"/>
              <a:ext cx="543960" cy="49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1" name="волчок.mp3" descr=""/>
          <p:cNvPicPr/>
          <p:nvPr/>
        </p:nvPicPr>
        <p:blipFill>
          <a:blip r:embed="rId35"/>
          <a:stretch/>
        </p:blipFill>
        <p:spPr>
          <a:xfrm>
            <a:off x="6994440" y="570384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2800000">
                                      <p:cBhvr>
                                        <p:cTn id="121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5400000">
                                      <p:cBhvr>
                                        <p:cTn id="125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0">
                                      <p:cBhvr>
                                        <p:cTn id="12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5100000">
                                      <p:cBhvr>
                                        <p:cTn id="13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6700000">
                                      <p:cBhvr>
                                        <p:cTn id="137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0">
                                      <p:cBhvr>
                                        <p:cTn id="141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9400000">
                                      <p:cBhvr>
                                        <p:cTn id="145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3000000">
                                      <p:cBhvr>
                                        <p:cTn id="14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43272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8T11:55:46Z</dcterms:created>
  <dc:creator>александровна елена</dc:creator>
  <dc:description/>
  <dc:language>en-US</dc:language>
  <cp:lastModifiedBy>Home</cp:lastModifiedBy>
  <dcterms:modified xsi:type="dcterms:W3CDTF">2024-01-05T09:08:55Z</dcterms:modified>
  <cp:revision>84</cp:revision>
  <dc:subject/>
  <dc:title>Презентация PowerPoint</dc:title>
</cp:coreProperties>
</file>