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67F5-519A-48F0-8B03-F74E3E3624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6D58-B9B2-456F-9628-8F4CDBA76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2799-53CC-488C-9F55-56002A0DF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DAE-73E9-4E5B-B55A-B10122F9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BB5-40A0-4034-BF04-559ED460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E79-07FA-40D3-ABD2-A2C51242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0E6-4C6E-4668-A6DF-00E31D83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3097-49A2-4497-90CA-453467E4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5BF4-234D-493E-9E69-894E1C9B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639E-1B14-4486-98A8-78E6BC8E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94F6-460C-455F-A0B1-1161D37D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7DC0-3191-45D2-9162-08327859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0D51-72CC-48E1-9C0B-F7D52A42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426B-1713-432D-A0C8-E0F55A28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CD7-DADD-4443-B113-4C0B162E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CA3C-4569-4C00-A8F1-8FDC76E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EC17-0DE1-4436-825F-68A9E5D2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6149-8BC3-47B0-9541-644262C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DE37-A599-42F4-AD05-761AE471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1E28-6940-4A46-BB91-682C2B56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4916-6382-4015-AA73-6E09EA50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D15C-9C57-49D7-913E-3B091269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DE7D-96D8-4B2B-A992-8F81619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BC49-8DE5-43C6-91B8-106729E5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9DFE1-F6D4-41E4-B710-532ACCBE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AE5-28C3-4695-A18A-15ED4C26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28BC-1A15-4D7C-B0E2-F42721A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D37A-66A4-44E8-B217-E747CB3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273A-AA10-4483-B4A8-505C5B1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C5A4-E128-4561-8BE4-708BB6DA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F8EA-6866-411B-AEA6-AEC1AF5E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E1CC-B7AC-4671-9820-C086A260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44FF-BDFD-49F5-9AFB-0263CA64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B380-1FB9-41D8-9215-B6F4095C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D38C-2672-4737-B22C-018A80D9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A4E0-C54D-473C-A09B-E966BD9F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75E-CDDB-4963-B7C2-99D0C87E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F9AEA-7FCE-4E11-8F11-313BB57C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DFFA9-A555-4FC4-9DDC-10388DF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DDDD2-56CC-4B86-862E-796CE1BD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958C-8BC2-4514-A6CF-7F50E491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D3EC3-68D7-46FF-83AE-D3D8E631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782D-CC4B-4719-ADAC-AB2179B9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5557-7724-46E2-BD5E-D695AE21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58313-F03F-4C99-9CE5-619EB06E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6567-0487-4EBB-9996-C4CADB92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43DF9-30EA-406C-B199-1C4DBF2C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A58-3BDC-48D0-8871-4F3A28AB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9908-FA21-40AB-A3B8-1808B2CB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04B83-2A59-4744-B2A2-1E859AD0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2018F-21A9-4B86-81EA-6FA06BD2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3A630-6600-4604-95F4-ECF84B95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0E97-64C0-4C92-8133-B0DCE1B7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9713-C687-4473-85FC-B9766B49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735C8-A352-4089-9363-D1669189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1A6FA-9E27-460A-8D98-80F38E4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42825-8141-4B00-B5F6-D9653AFE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ED67D-81B3-4985-955B-5E8CD1EE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A3B-1673-485A-9461-8181C62E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D406-6305-494A-BE61-943E5316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DB6E-69A5-4254-872B-99278F25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29D8-19B1-45FB-B6D8-B2698996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E3F29-8F33-4546-9751-AE045A46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3557E-CE8A-4250-B787-9CC81474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FF29B-FE8B-4A88-AF65-D32B1272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5AF5-D0CA-4012-BC60-BBAA6387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D73D7-4502-4BA0-B367-4B88A358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DB7C4-B79F-495D-8311-88E80C30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D53E3-B7F2-4D35-9FAC-563A4B40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6B2-BB49-492A-A957-207BB2EF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6BC04-CE9F-49E0-B3A0-C82CE8CA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7C97-749A-492C-AE0F-78BD7500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433AA-5324-499F-85FD-16F39119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818BF-5A50-4C85-9069-ED1C6AEF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980B0-E1D4-4A1E-B08C-3DD35CB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70A1D-19FA-4BB6-A7A0-AA3FE855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1D10E-A0DE-433E-A67A-7F6CE5D1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C45D-4FF1-46CF-A24F-3A86746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08D90-6498-4F78-B507-85949F2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CE331-DF07-4312-A4AF-7C4C011D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B92-2066-40B8-9C4B-D1D49427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8A1F0-07C9-40C3-948B-B5CF58C0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FC0A2-5432-4294-8FC0-000313E8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A2FFD-2F93-4147-AFBF-043C3091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59FB3-6D85-4E65-873F-048D8C82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883DC-8352-478A-8E2A-4E9E6840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13F43-2DD6-47ED-B2F8-B2DB3FE0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B894B-7549-4D62-A06C-13AED1E6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3D114-9CA8-43ED-A90C-E132CCC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117B2-6AAF-4062-8756-276498B2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42370-006F-431C-BA90-BA8BBBC3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EF3-C384-4516-9254-D6BB8EF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34E2-4D16-400E-BEF4-C4689442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3FE6-022C-420D-80C1-8872E511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4542E-10D2-4BFF-A1FB-1B88980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B7D2A-F34B-458D-9EF2-F6164DB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FEB41-C4CB-45D9-8ECE-FF62D851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82AD-1842-4DED-A379-9E7D9E36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B786D-A49B-469B-811C-254B82E4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3B2D-3008-4A1A-AA94-E2B76B7CF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E2D6-3612-4BEE-B48D-74AF2ED872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F161-10A0-4888-9065-E5D3CDF5BF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8C74-B2F9-4C54-8EFE-44BD239FF5E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3BE7-98DE-4C6E-AA92-0B90B592338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91A9-653F-4E63-B4B3-A58FD33A3F8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6BEF-388E-483C-B708-AB09B56790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BE72-0611-4AC6-A71E-4ACCA83FAB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1197000"/>
            <a:ext cx="6769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Arial"/>
                <a:ea typeface="Arial"/>
              </a:rPr>
              <a:t>ГОСУДАРСТВО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611280" y="620640"/>
            <a:ext cx="811044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73e87"/>
                </a:solidFill>
                <a:uFillTx/>
                <a:latin typeface="Candara"/>
              </a:rPr>
              <a:t>СУВЕРЕНИТЕТ</a:t>
            </a:r>
            <a:r>
              <a:rPr b="1" i="1" lang="ru-RU" sz="60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самостоятельность и независимость.</a:t>
            </a:r>
            <a:r>
              <a:rPr b="1" lang="ru-RU" sz="5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Скругленный прямоугольник 2"/>
          <p:cNvSpPr/>
          <p:nvPr/>
        </p:nvSpPr>
        <p:spPr>
          <a:xfrm>
            <a:off x="539640" y="1197000"/>
            <a:ext cx="7993080" cy="367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"/>
          <p:cNvSpPr/>
          <p:nvPr/>
        </p:nvSpPr>
        <p:spPr>
          <a:xfrm>
            <a:off x="395280" y="476280"/>
            <a:ext cx="828036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73e87"/>
                </a:solidFill>
                <a:uFillTx/>
                <a:latin typeface="Arial"/>
              </a:rPr>
              <a:t>Задание «Подумай».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83f4"/>
                </a:solidFill>
                <a:latin typeface="Candara"/>
              </a:rPr>
              <a:t>Организация </a:t>
            </a:r>
            <a:r>
              <a:rPr b="1" lang="en-US" sz="3600" spc="-1" strike="noStrike">
                <a:solidFill>
                  <a:srgbClr val="2d83f4"/>
                </a:solidFill>
                <a:latin typeface="Candara"/>
              </a:rPr>
              <a:t>Z </a:t>
            </a:r>
            <a:r>
              <a:rPr b="1" lang="ru-RU" sz="3600" spc="-1" strike="noStrike">
                <a:solidFill>
                  <a:srgbClr val="2d83f4"/>
                </a:solidFill>
                <a:latin typeface="Candara"/>
              </a:rPr>
              <a:t>распространила свою власть на некоторую территорию. Она обеспечивает безопасность и правопорядок, издает законы, устанавливает налог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73e87"/>
                </a:solidFill>
                <a:latin typeface="Candara"/>
              </a:rPr>
              <a:t>Можно ли сказать, что </a:t>
            </a: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Z </a:t>
            </a:r>
            <a:r>
              <a:rPr b="1" i="1" lang="ru-RU" sz="3600" spc="-1" strike="noStrike">
                <a:solidFill>
                  <a:srgbClr val="073e87"/>
                </a:solidFill>
                <a:latin typeface="Candara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73e87"/>
                </a:solidFill>
                <a:latin typeface="Candara"/>
              </a:rPr>
              <a:t>государство? Докаж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Скругленный прямоугольник 3"/>
          <p:cNvSpPr/>
          <p:nvPr/>
        </p:nvSpPr>
        <p:spPr>
          <a:xfrm>
            <a:off x="1835280" y="189000"/>
            <a:ext cx="5616360" cy="5760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"/>
          <p:cNvSpPr/>
          <p:nvPr/>
        </p:nvSpPr>
        <p:spPr>
          <a:xfrm>
            <a:off x="2207880" y="-27000"/>
            <a:ext cx="51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Функции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Схема 2" descr=""/>
          <p:cNvPicPr/>
          <p:nvPr/>
        </p:nvPicPr>
        <p:blipFill>
          <a:blip r:embed="rId1"/>
          <a:stretch/>
        </p:blipFill>
        <p:spPr>
          <a:xfrm>
            <a:off x="0" y="785880"/>
            <a:ext cx="9077400" cy="6084720"/>
          </a:xfrm>
          <a:prstGeom prst="rect">
            <a:avLst/>
          </a:prstGeom>
          <a:ln w="0">
            <a:noFill/>
          </a:ln>
        </p:spPr>
      </p:pic>
      <p:cxnSp>
        <p:nvCxnSpPr>
          <p:cNvPr id="420" name="Прямая со стрелкой 5"/>
          <p:cNvCxnSpPr/>
          <p:nvPr/>
        </p:nvCxnSpPr>
        <p:spPr>
          <a:xfrm flipH="1">
            <a:off x="826560" y="691920"/>
            <a:ext cx="866160" cy="216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Прямая со стрелкой 7"/>
          <p:cNvCxnSpPr/>
          <p:nvPr/>
        </p:nvCxnSpPr>
        <p:spPr>
          <a:xfrm>
            <a:off x="7596000" y="577440"/>
            <a:ext cx="1152720" cy="33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Прямоугольник 9"/>
          <p:cNvSpPr/>
          <p:nvPr/>
        </p:nvSpPr>
        <p:spPr>
          <a:xfrm>
            <a:off x="179280" y="1628640"/>
            <a:ext cx="4897440" cy="511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5724360" y="1623960"/>
            <a:ext cx="3168720" cy="511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1"/>
          <p:cNvSpPr/>
          <p:nvPr/>
        </p:nvSpPr>
        <p:spPr>
          <a:xfrm>
            <a:off x="7814160" y="63928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. 14-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Прямоугольник 12" descr=""/>
          <p:cNvPicPr/>
          <p:nvPr/>
        </p:nvPicPr>
        <p:blipFill>
          <a:blip r:embed="rId2"/>
          <a:stretch/>
        </p:blipFill>
        <p:spPr>
          <a:xfrm>
            <a:off x="2627280" y="1749600"/>
            <a:ext cx="38894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Формы государст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Объект 5" descr="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"/>
          <p:cNvSpPr/>
          <p:nvPr/>
        </p:nvSpPr>
        <p:spPr>
          <a:xfrm>
            <a:off x="755640" y="2060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-  это государство во главе которого стоит монарх и его власть, как правило, передается по наследств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771840" y="1989000"/>
            <a:ext cx="358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d83f4"/>
                </a:solidFill>
                <a:latin typeface="Candara"/>
              </a:rPr>
              <a:t>Монарх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Загнутый угол 4"/>
          <p:cNvSpPr/>
          <p:nvPr/>
        </p:nvSpPr>
        <p:spPr>
          <a:xfrm>
            <a:off x="684360" y="2446200"/>
            <a:ext cx="7848360" cy="38052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2"/>
          <p:cNvSpPr/>
          <p:nvPr/>
        </p:nvSpPr>
        <p:spPr>
          <a:xfrm>
            <a:off x="755640" y="2060640"/>
            <a:ext cx="770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Ограниченная монархия  -  это государство где власть первого лица ограничена чем-либ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2"/>
          <p:cNvSpPr/>
          <p:nvPr/>
        </p:nvSpPr>
        <p:spPr>
          <a:xfrm>
            <a:off x="755640" y="206064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Arial"/>
              </a:rPr>
              <a:t>-  это государство, где власть первого лица ничем не ограничен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3"/>
          <p:cNvSpPr/>
          <p:nvPr/>
        </p:nvSpPr>
        <p:spPr>
          <a:xfrm>
            <a:off x="756000" y="1989000"/>
            <a:ext cx="6977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d83f4"/>
                </a:solidFill>
                <a:latin typeface="Candara"/>
              </a:rPr>
              <a:t>Абсолютная монархи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755640" y="2060640"/>
            <a:ext cx="770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Республика -  это государство, где высшие органы власти избираются на строго установленный срок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1"/>
          <p:cNvSpPr/>
          <p:nvPr/>
        </p:nvSpPr>
        <p:spPr>
          <a:xfrm>
            <a:off x="468360" y="620640"/>
            <a:ext cx="8280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"/>
          <p:cNvSpPr/>
          <p:nvPr/>
        </p:nvSpPr>
        <p:spPr>
          <a:xfrm>
            <a:off x="755640" y="206064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-  это государство, где велики полномочия президе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460800" y="1954080"/>
            <a:ext cx="808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d83f4"/>
                </a:solidFill>
                <a:latin typeface="Candara"/>
              </a:rPr>
              <a:t>Президентская республик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"/>
          <p:cNvSpPr/>
          <p:nvPr/>
        </p:nvSpPr>
        <p:spPr>
          <a:xfrm>
            <a:off x="755640" y="2060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Унитарное государство -  государство, в котором его административные части (губернии, края, провинции) не обладают суверените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4"/>
          <p:cNvSpPr/>
          <p:nvPr/>
        </p:nvSpPr>
        <p:spPr>
          <a:xfrm>
            <a:off x="468360" y="1557360"/>
            <a:ext cx="8064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ПЛ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Теории происхождения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Понятие «государств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Признак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Функц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Формы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b87d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 </a:t>
            </a:r>
            <a:r>
              <a:rPr b="1" lang="ru-RU" sz="3200" spc="-1" strike="noStrike">
                <a:solidFill>
                  <a:srgbClr val="0b87d6"/>
                </a:solidFill>
                <a:latin typeface="Candara"/>
                <a:ea typeface="Arial"/>
              </a:rPr>
              <a:t>Гражд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1"/>
          <p:cNvSpPr/>
          <p:nvPr/>
        </p:nvSpPr>
        <p:spPr>
          <a:xfrm>
            <a:off x="468360" y="62064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Укажите по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Загнутый угол 4"/>
          <p:cNvSpPr/>
          <p:nvPr/>
        </p:nvSpPr>
        <p:spPr>
          <a:xfrm>
            <a:off x="611280" y="1857240"/>
            <a:ext cx="7848360" cy="4380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"/>
          <p:cNvSpPr/>
          <p:nvPr/>
        </p:nvSpPr>
        <p:spPr>
          <a:xfrm>
            <a:off x="755640" y="206064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Candara"/>
              </a:rPr>
              <a:t>Федерация -  государство, где отдельные территории, обладают значительной самостоятельностью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436680" y="1779480"/>
            <a:ext cx="8281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buClr>
                <a:srgbClr val="2d83f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Во главе государства А находится единоличный правитель, получивший власть по наследству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онарх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2. На территории государства В действует единая центральная власть, отсутствуют территории, обладающие политической автоно­м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Унитарное государство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"/>
          <p:cNvSpPr/>
          <p:nvPr/>
        </p:nvSpPr>
        <p:spPr>
          <a:xfrm>
            <a:off x="468360" y="4078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Arial"/>
              </a:rPr>
              <a:t>Определите фор­му государства в следующих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5292720" y="2852640"/>
            <a:ext cx="2158920" cy="43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971640" y="5805360"/>
            <a:ext cx="4608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"/>
          <p:cNvSpPr/>
          <p:nvPr/>
        </p:nvSpPr>
        <p:spPr>
          <a:xfrm>
            <a:off x="474840" y="204480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3. Государство Д состоит из нескольких частей, каждая из ко­торых обладает определенной степенью самосто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еде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Arial"/>
              </a:rPr>
              <a:t>4. В государстве Т власть принадлежит выборным органам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Респуб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"/>
          <p:cNvSpPr/>
          <p:nvPr/>
        </p:nvSpPr>
        <p:spPr>
          <a:xfrm>
            <a:off x="468360" y="4078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Arial"/>
              </a:rPr>
              <a:t>Определите фор­му государства в следующих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3"/>
          <p:cNvSpPr/>
          <p:nvPr/>
        </p:nvSpPr>
        <p:spPr>
          <a:xfrm>
            <a:off x="4859280" y="3573360"/>
            <a:ext cx="237672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4"/>
          <p:cNvSpPr/>
          <p:nvPr/>
        </p:nvSpPr>
        <p:spPr>
          <a:xfrm>
            <a:off x="4863960" y="5013360"/>
            <a:ext cx="237492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1"/>
          <p:cNvSpPr/>
          <p:nvPr/>
        </p:nvSpPr>
        <p:spPr>
          <a:xfrm>
            <a:off x="474840" y="204480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83f4"/>
                </a:solidFill>
                <a:latin typeface="Candara"/>
              </a:rPr>
              <a:t>5. В государстве К правительство формируется партиями, победившими на парламентских выборах, и несет ответственность перед парламентом. Президент выполняет представительские фун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арламентская монарх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"/>
          <p:cNvSpPr/>
          <p:nvPr/>
        </p:nvSpPr>
        <p:spPr>
          <a:xfrm>
            <a:off x="468360" y="4078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73e87"/>
                </a:solidFill>
                <a:uFillTx/>
                <a:latin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Arial"/>
              </a:rPr>
              <a:t>Определите фор­му государства в следующих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4"/>
          <p:cNvSpPr/>
          <p:nvPr/>
        </p:nvSpPr>
        <p:spPr>
          <a:xfrm>
            <a:off x="971640" y="5572080"/>
            <a:ext cx="5688000" cy="504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539640" y="76500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73e87"/>
                </a:solidFill>
                <a:uFillTx/>
                <a:latin typeface="Arial"/>
              </a:rPr>
              <a:t>ГРАЖДАНСТВО</a:t>
            </a:r>
            <a:r>
              <a:rPr b="1" lang="ru-RU" sz="5400" spc="-1" strike="noStrike">
                <a:solidFill>
                  <a:srgbClr val="073e87"/>
                </a:solidFill>
                <a:latin typeface="Arial"/>
              </a:rPr>
              <a:t> — это устойчивая полити­ко-правовая связь человека с государством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"/>
          <p:cNvSpPr/>
          <p:nvPr/>
        </p:nvSpPr>
        <p:spPr>
          <a:xfrm flipH="1">
            <a:off x="3492000" y="549360"/>
            <a:ext cx="71640" cy="215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Схема 1" descr=""/>
          <p:cNvPicPr/>
          <p:nvPr/>
        </p:nvPicPr>
        <p:blipFill>
          <a:blip r:embed="rId1"/>
          <a:stretch/>
        </p:blipFill>
        <p:spPr>
          <a:xfrm>
            <a:off x="615960" y="1444680"/>
            <a:ext cx="8077320" cy="365112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2"/>
          <p:cNvSpPr/>
          <p:nvPr/>
        </p:nvSpPr>
        <p:spPr>
          <a:xfrm>
            <a:off x="3201480" y="47628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ГРАЖДА­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2"/>
          <p:cNvSpPr/>
          <p:nvPr/>
        </p:nvSpPr>
        <p:spPr>
          <a:xfrm>
            <a:off x="684360" y="1700280"/>
            <a:ext cx="3311280" cy="8650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Arial"/>
                <a:ea typeface="Arial"/>
              </a:rPr>
              <a:t>В широ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5148360" y="1700280"/>
            <a:ext cx="3311280" cy="8650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Arial"/>
                <a:ea typeface="Arial"/>
              </a:rPr>
              <a:t>В уз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>
            <a:stCxn id="385" idx="2"/>
            <a:endCxn id="388" idx="0"/>
          </p:cNvCxnSpPr>
          <p:nvPr/>
        </p:nvCxnSpPr>
        <p:spPr>
          <a:xfrm>
            <a:off x="2339640" y="2565000"/>
            <a:ext cx="1080" cy="6483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389" name="Прямая со стрелкой 6"/>
          <p:cNvCxnSpPr>
            <a:stCxn id="386" idx="2"/>
          </p:cNvCxnSpPr>
          <p:nvPr/>
        </p:nvCxnSpPr>
        <p:spPr>
          <a:xfrm>
            <a:off x="6803640" y="2565000"/>
            <a:ext cx="1080" cy="6483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388" name="Прямоугольник 8"/>
          <p:cNvSpPr/>
          <p:nvPr/>
        </p:nvSpPr>
        <p:spPr>
          <a:xfrm>
            <a:off x="684360" y="3213000"/>
            <a:ext cx="3311280" cy="302436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Государство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 – это стр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4643280" y="3213000"/>
            <a:ext cx="3816360" cy="302436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Государство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 – это совокупность органов государственной власти и у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4"/>
          <p:cNvSpPr/>
          <p:nvPr/>
        </p:nvSpPr>
        <p:spPr>
          <a:xfrm>
            <a:off x="1317960" y="404640"/>
            <a:ext cx="521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  <a:ea typeface="Arial"/>
              </a:rPr>
              <a:t>Понятие «государ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681120" y="1717560"/>
            <a:ext cx="3311280" cy="86544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В широ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2"/>
          <p:cNvSpPr/>
          <p:nvPr/>
        </p:nvSpPr>
        <p:spPr>
          <a:xfrm>
            <a:off x="5145120" y="1717560"/>
            <a:ext cx="3311640" cy="86544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Arial"/>
              </a:rPr>
              <a:t>В узком смысле сл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Теория происхождения государств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Патриархаль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Теолог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Договор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Теория завоева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Arial"/>
              </a:rPr>
              <a:t>Классов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108000" y="88920"/>
          <a:ext cx="8928000" cy="6646680"/>
        </p:xfrm>
        <a:graphic>
          <a:graphicData uri="http://schemas.openxmlformats.org/drawingml/2006/table">
            <a:tbl>
              <a:tblPr/>
              <a:tblGrid>
                <a:gridCol w="6335640"/>
                <a:gridCol w="2592360"/>
              </a:tblGrid>
              <a:tr h="108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Основная иде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04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Теория происхождения государств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040"/>
                    </a:solidFill>
                  </a:tcPr>
                </a:tc>
              </a:tr>
              <a:tr h="124776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1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осударство возникло как объединение людей на добровольной основе в результате соглашения между правителем и подданным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А)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 патриархаль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2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осударство возникает как результат завоевания одной части общества друго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Б)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 теологическая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24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3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осударство подобно семье, поэтому государственная власть есть продолжение власти от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В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) договорн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4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) государство образуется как результат социального неравенства для того, чтобы обеспечить политическое господство одного класса над другим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Г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теория завоева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5) 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любая власть и любое государство имеют божественное происхождение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79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Д</a:t>
                      </a:r>
                      <a:r>
                        <a:rPr b="0" lang="ru-RU" sz="1900" spc="-1" strike="noStrike">
                          <a:solidFill>
                            <a:srgbClr val="073e87"/>
                          </a:solidFill>
                          <a:latin typeface="Candara"/>
                          <a:ea typeface="Arial"/>
                        </a:rPr>
                        <a:t>) классова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97" name="Прямая со стрелкой 3"/>
          <p:cNvCxnSpPr/>
          <p:nvPr/>
        </p:nvCxnSpPr>
        <p:spPr>
          <a:xfrm>
            <a:off x="5292360" y="2204640"/>
            <a:ext cx="1656360" cy="1656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8" name="Прямая со стрелкой 5"/>
          <p:cNvCxnSpPr/>
          <p:nvPr/>
        </p:nvCxnSpPr>
        <p:spPr>
          <a:xfrm>
            <a:off x="5445000" y="3186000"/>
            <a:ext cx="1656720" cy="1828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9" name="Прямая со стрелкой 7"/>
          <p:cNvCxnSpPr/>
          <p:nvPr/>
        </p:nvCxnSpPr>
        <p:spPr>
          <a:xfrm flipV="1">
            <a:off x="5616720" y="3090240"/>
            <a:ext cx="1008720" cy="3269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00" name="Прямая со стрелкой 11"/>
          <p:cNvCxnSpPr/>
          <p:nvPr/>
        </p:nvCxnSpPr>
        <p:spPr>
          <a:xfrm flipV="1">
            <a:off x="5292360" y="2204280"/>
            <a:ext cx="1809000" cy="1656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01" name="Прямая со стрелкой 15"/>
          <p:cNvCxnSpPr/>
          <p:nvPr/>
        </p:nvCxnSpPr>
        <p:spPr>
          <a:xfrm>
            <a:off x="5795640" y="5273280"/>
            <a:ext cx="1305720" cy="793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468360" y="4932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Candara"/>
                <a:ea typeface="Arial"/>
              </a:rPr>
              <a:t>Определите признак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Загнутый угол 2"/>
          <p:cNvSpPr/>
          <p:nvPr/>
        </p:nvSpPr>
        <p:spPr>
          <a:xfrm>
            <a:off x="162000" y="1557360"/>
            <a:ext cx="8874000" cy="51116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http://static.diary.ru/userdir/1/0/0/3/1003242/72218309.jpg"/>
          <p:cNvPicPr/>
          <p:nvPr/>
        </p:nvPicPr>
        <p:blipFill>
          <a:blip r:embed="rId1"/>
          <a:stretch/>
        </p:blipFill>
        <p:spPr>
          <a:xfrm>
            <a:off x="301680" y="1579680"/>
            <a:ext cx="7738920" cy="508932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3"/>
          <p:cNvSpPr/>
          <p:nvPr/>
        </p:nvSpPr>
        <p:spPr>
          <a:xfrm>
            <a:off x="611280" y="5877000"/>
            <a:ext cx="720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Candara"/>
              </a:rPr>
              <a:t>Единство территории.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324000" y="-27000"/>
            <a:ext cx="842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Зада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73e87"/>
                </a:solidFill>
                <a:latin typeface="Candara"/>
                <a:ea typeface="Arial"/>
              </a:rPr>
              <a:t>Определите признак государ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Загнутый угол 2"/>
          <p:cNvSpPr/>
          <p:nvPr/>
        </p:nvSpPr>
        <p:spPr>
          <a:xfrm>
            <a:off x="169920" y="1557360"/>
            <a:ext cx="8875800" cy="5111640"/>
          </a:xfrm>
          <a:prstGeom prst="foldedCorner">
            <a:avLst>
              <a:gd name="adj" fmla="val 8013"/>
            </a:avLst>
          </a:prstGeom>
          <a:solidFill>
            <a:srgbClr val="ffffff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83f4"/>
                </a:solidFill>
                <a:latin typeface="Candara"/>
                <a:ea typeface="Arial"/>
              </a:rPr>
              <a:t>Власть государства выше власти любой организации, существующей в данной стране (церкви, партии), ее решения обязательны для всех граждан и не могут быть отменены кем-либ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83f4"/>
                </a:solidFill>
                <a:latin typeface="Candara"/>
                <a:ea typeface="Arial"/>
              </a:rPr>
              <a:t>Независимость от других государств, недопустимость их вмешательства в дела данного государства</a:t>
            </a:r>
            <a:r>
              <a:rPr b="0" lang="ru-RU" sz="1800" spc="-1" strike="noStrike">
                <a:solidFill>
                  <a:srgbClr val="2d83f4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324000" y="5870520"/>
            <a:ext cx="8108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Candara"/>
              </a:rPr>
              <a:t>Суверенитет.</a:t>
            </a: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468360" y="-2700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73e87"/>
                </a:solidFill>
                <a:uFillTx/>
                <a:latin typeface="Arial"/>
                <a:ea typeface="Arial"/>
              </a:rPr>
              <a:t>Задание. </a:t>
            </a:r>
            <a:r>
              <a:rPr b="1" i="1" lang="ru-RU" sz="3200" spc="-1" strike="noStrike">
                <a:solidFill>
                  <a:srgbClr val="073e87"/>
                </a:solidFill>
                <a:latin typeface="Arial"/>
                <a:ea typeface="Arial"/>
              </a:rPr>
              <a:t>Определите признак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Загнутый угол 2"/>
          <p:cNvSpPr/>
          <p:nvPr/>
        </p:nvSpPr>
        <p:spPr>
          <a:xfrm>
            <a:off x="169920" y="1557360"/>
            <a:ext cx="8875800" cy="5111640"/>
          </a:xfrm>
          <a:prstGeom prst="foldedCorner">
            <a:avLst>
              <a:gd name="adj" fmla="val 8013"/>
            </a:avLst>
          </a:prstGeom>
          <a:solidFill>
            <a:srgbClr val="ffffff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324000" y="5870520"/>
            <a:ext cx="8108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73e87"/>
                </a:solidFill>
                <a:latin typeface="Arial"/>
              </a:rPr>
              <a:t>Налоговые сборы. </a:t>
            </a:r>
            <a:r>
              <a:rPr b="1" lang="ru-RU" sz="4000" spc="-1" strike="noStrike">
                <a:solidFill>
                  <a:srgbClr val="073e8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http://2.business16.ru/media/k2/items/cache/2ef8b5b2a27993f9b51e1b1133c438a1_XL.jpg"/>
          <p:cNvPicPr/>
          <p:nvPr/>
        </p:nvPicPr>
        <p:blipFill>
          <a:blip r:embed="rId1"/>
          <a:stretch/>
        </p:blipFill>
        <p:spPr>
          <a:xfrm>
            <a:off x="687240" y="1557360"/>
            <a:ext cx="77454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590400" y="476280"/>
            <a:ext cx="801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73e87"/>
                </a:solidFill>
                <a:uFillTx/>
                <a:latin typeface="Candara"/>
                <a:ea typeface="Arial"/>
              </a:rPr>
              <a:t>Признаки государства:</a:t>
            </a:r>
            <a:r>
              <a:rPr b="1" i="1" lang="ru-RU" sz="3600" spc="-1" strike="noStrike" u="sng">
                <a:solidFill>
                  <a:srgbClr val="073e87"/>
                </a:solidFill>
                <a:uFillTx/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Единство территор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Публичная вла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Суверенит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Законодательная деятель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83f4"/>
                </a:solidFill>
                <a:latin typeface="Candara"/>
              </a:rPr>
              <a:t>Налоговые сборы. </a:t>
            </a:r>
            <a:r>
              <a:rPr b="1" lang="ru-RU" sz="3600" spc="-1" strike="noStrike">
                <a:solidFill>
                  <a:srgbClr val="2d83f4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d83f4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4T08:26:39Z</dcterms:created>
  <dc:creator>а</dc:creator>
  <dc:description/>
  <dc:language>en-US</dc:language>
  <cp:lastModifiedBy>Ольга</cp:lastModifiedBy>
  <dcterms:modified xsi:type="dcterms:W3CDTF">2024-01-08T10:14:11Z</dcterms:modified>
  <cp:revision>42</cp:revision>
  <dc:subject/>
  <dc:title>ГОСУДАРСТВО</dc:title>
</cp:coreProperties>
</file>