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C1CE-C79D-4D15-8371-ED290CF9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4827-314E-41E7-843A-77444A6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16CB-37CF-4156-ADB9-1EF1B1D6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6D12-DFED-474B-8CC7-CA696A2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4DEF-62EE-42F6-9E10-E1D609B9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DA61-3DE6-41FA-9562-883B688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40C-D1FD-44CD-8314-CD61F96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4C15-58CC-4CDD-9016-1F7F0D63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7004-C79C-46A2-B409-529633CC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B05B-908C-4722-B06F-2C5B5D9E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FBA-0DC3-45FE-830A-363B06E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55EA-6F87-4A95-9438-F8A487FA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A23-575C-47B0-AF59-E5F5D4D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C045-CEDC-4286-91C3-BE778E0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9A89-4984-40B9-B902-6B3408BC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7EAB-0A4D-42A6-A8C2-E0E13B71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EF8A-FEC9-4ED5-B509-A49DCC28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E2FC-8459-4E6F-B695-013BA6D5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7478-D5A8-441F-AAB2-282BB1D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6999-82F6-42B6-BAB5-666C6DB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29A2-6A83-4C55-9091-6F5DB83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CB74-B1DB-4359-9323-7DD9F2E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CEE4-22B4-47AA-B525-DD61D54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E862-CE39-44E3-A062-F15EBDE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108-6D48-4100-AA37-A8E8D7BCED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4D1-D1A8-47D0-A8E0-09E2AA3433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571760"/>
            <a:ext cx="601992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ы и методы дистанционного обучения:  проблемы,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81360"/>
            <a:ext cx="601992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малова О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Гимназия им. Т. Кусимо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Аскарово МР Абзелиловский р-н 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«дистанционное обуч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77864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целенаправленный, организованный процесс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нтерактивного взаимо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чающих и обучающихся между собой и со средствами обучения, инвариантный к их расположению в пространстве и времени, который реализуется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ецифической дидактической систе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станционное образование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система, в которой реализуется процесс дистанционного обучения и осуществляется индивидуумом достижение и подтверждение образовательного цен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чат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б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теле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рецеп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проду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е изложение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5694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йс-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тевое обу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номный сетево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шк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федра, университет, виртуальный ресурсный центр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визион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нтерактивное телевидение, видеоконференции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928880"/>
            <a:ext cx="7535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освоить н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гров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работать в комфортной об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ьност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упность учебных материал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ю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ну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збираться в цифровых технолог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статок лич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ботать с мотивацией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границы между рабочим и свободным врем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се имеют современные возможности использования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8:14:22Z</dcterms:created>
  <dc:creator>Администратор</dc:creator>
  <dc:description/>
  <dc:language>en-US</dc:language>
  <cp:lastModifiedBy>A</cp:lastModifiedBy>
  <dcterms:modified xsi:type="dcterms:W3CDTF">2024-01-09T19:08:32Z</dcterms:modified>
  <cp:revision>13</cp:revision>
  <dc:subject/>
  <dc:title>Модели дистанционного обучения</dc:title>
</cp:coreProperties>
</file>