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93DF66-D20F-4492-9C65-EE81E4A93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A6D8F-5E13-4B19-8CFC-0CF55D9E0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88355-A55E-44BB-A37E-2C2F46D98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74AF60-DEF7-4D13-85E9-C4BFD686A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040A0-4C74-4ADD-AE4F-A6E00CA86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82EFE-1B20-4452-873B-92D8CCA4C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0B4D1-5D17-43C0-9009-798A8766C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E61DB-8633-43B5-AB67-B2562C6DA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449FE-F659-4C16-9FE2-6384E193C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46CEA-00AD-4743-B0D8-8B4DEB1D7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6A561-1F2E-4228-8845-E43943ABC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AA974E-1E41-4A92-B109-2498F7B99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CEA40-BDE7-4625-A550-4043B410A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E6929-8423-4088-A959-EF65AACD9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2CCDA-F55A-4497-971A-5FC3A9B51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08AB0-C349-413F-AA0E-037068C66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BD4AB-2B49-4FBD-AD77-E898B3A4C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9B8B54-038F-4577-88A7-727C40B94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96899F-50F5-4F56-B101-525D197C2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B39B39-712A-49E8-B213-77B4BFC51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A128DF-3337-469F-BAC9-EEE05DCB8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0C1DF0-0F3E-49CE-80AB-BF8A39B6B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7439BE-76B8-406B-871E-A1C4E684D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F791FA-E6A1-4255-9A43-953D23300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9B53C-AE6A-4E65-B9EA-472F7993052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CF017-B9D2-4D27-8B3D-57A6B0217A3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571760"/>
            <a:ext cx="6019920" cy="24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Формы и методы дистанционного обучения:  проблемы, перспектив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581360"/>
            <a:ext cx="6019920" cy="14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малова О.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ель истории и обществозн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БОУ «Гимназия им. Т. Кусимова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. Аскарово МР Абзелиловский р-н Р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Что такое «дистанционное обучение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28440" y="2000160"/>
            <a:ext cx="778644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Дистанционное обучени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это целенаправленный, организованный процесс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интерактивного взаимодействия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обучающих и обучающихся между собой и со средствами обучения, инвариантный к их расположению в пространстве и времени, который реализуется в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специфической дидактической систем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истанционное образование –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это система, в которой реализуется процесс дистанционного обучения и осуществляется индивидуумом достижение и подтверждение образовательного ценз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57200" y="1980720"/>
            <a:ext cx="40384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- чат-занят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веб-занят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- телеконферен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ормы ДО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етоды ДО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формационно-рецептив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продуктив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блемное изложение матери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5280" y="456840"/>
            <a:ext cx="856944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дели дистанционного обуч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8964720" cy="43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1.</a:t>
            </a: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учение с использованием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ейс-технолог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Arial"/>
              </a:rPr>
              <a:t>2.</a:t>
            </a:r>
            <a:r>
              <a:rPr b="1" lang="ru-RU" sz="28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етевое обучение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втономный сетевой кур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иртуальная образовательная среда:</a:t>
            </a: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иртуальная школ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кафедра, университет, виртуальный ресурсный центр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3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учение с использованием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левизионных технологи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интерактивное телевидение, видеоконференции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250560" y="1928880"/>
            <a:ext cx="753588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втоматизация рутинных процес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озможность освоить новые техноло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Игровые зад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озможность работать в комфортной обстанов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ктуальность зн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Доступность учебных материало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571680" y="5716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люсы ДО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инусы ДО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еобходимость разбираться в цифровых технологи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едостаток личного общ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еобходимость работать с мотивацией уче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тсутствие границы между рабочим и свободным времен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е все имеют современные возможности использования сети Интер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лагодарю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2420640"/>
            <a:ext cx="8229600" cy="34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1T08:14:22Z</dcterms:created>
  <dc:creator>Администратор</dc:creator>
  <dc:description/>
  <dc:language>en-US</dc:language>
  <cp:lastModifiedBy>A</cp:lastModifiedBy>
  <dcterms:modified xsi:type="dcterms:W3CDTF">2024-01-09T19:08:32Z</dcterms:modified>
  <cp:revision>13</cp:revision>
  <dc:subject/>
  <dc:title>Модели дистанционного обучения</dc:title>
</cp:coreProperties>
</file>