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9B6A-6CC0-41D8-8789-6EAFB2C7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1AA0-CA6E-4289-A8FD-3342167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6304-1E17-4B31-8564-BD6AE0F1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2E9C-A311-4FF6-97BF-F2399C4D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48AB-1856-48B0-A07D-ADB859D1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3899-F148-46EC-A4C5-6FF17A0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BECB-9919-4F2B-AEB4-EA85F36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0F2-C652-4120-92A0-05F61F9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B803-E35A-48BC-806D-61E127D6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051-DDB6-4D22-A496-F73719F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A3A8-86E5-4180-968D-0C1FCAF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B594-7315-4D60-8D5E-2109C27D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E6A-769C-49EB-8FAD-D00BF0D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27A-2C93-43F8-9BDE-CEE8FC4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7E89-3130-4C13-9BD6-A623614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2D3-D0C5-4097-B58F-77945A73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415-5BC8-4462-8924-8EB1835C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8AB7-9679-417F-8E72-CA1465C9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637C-3DC5-4093-B1D4-53BB0DB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ACDC-45F0-4353-8031-C13A8CD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3B65-9839-4C78-92BB-D865915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76C5-664C-47AF-A34B-F25C6EA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390E-5A29-4382-91CD-6557911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0FE9-9388-41BD-ADD5-18C22CA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2D3-7DD2-4D8A-812F-DD74C65F2F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73D-47B2-472C-8AFC-02901043A3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571760"/>
            <a:ext cx="601992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ы и методы дистанционного обучения:  проблемы,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81360"/>
            <a:ext cx="601992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малова О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Гимназия им. Т. Кусимо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Аскарово МР Абзелиловский р-н 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«дистанционное обуч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77864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целенаправленный, организованный процесс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нтерактивного взаимо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чающих и обучающихся между собой и со средствами обучения, инвариантный к их расположению в пространстве и времени, который реализуется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ецифической дидактической систе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станционное образование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система, в которой реализуется процесс дистанционного обучения и осуществляется индивидуумом достижение и подтверждение образовательного цен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чат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б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теле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рецеп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проду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е изложение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5694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йс-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тевое обу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номный сетево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шк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федра, университет, виртуальный ресурсный центр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визион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нтерактивное телевидение, видеоконференции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928880"/>
            <a:ext cx="7535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освоить н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гров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работать в комфортной об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ьност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упность учебных материал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ю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ну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збираться в цифровых технолог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статок лич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ботать с мотивацией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границы между рабочим и свободным врем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се имеют современные возможности использования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8:14:22Z</dcterms:created>
  <dc:creator>Администратор</dc:creator>
  <dc:description/>
  <dc:language>en-US</dc:language>
  <cp:lastModifiedBy>A</cp:lastModifiedBy>
  <dcterms:modified xsi:type="dcterms:W3CDTF">2024-01-09T19:08:32Z</dcterms:modified>
  <cp:revision>13</cp:revision>
  <dc:subject/>
  <dc:title>Модели дистанционного обучения</dc:title>
</cp:coreProperties>
</file>