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640" y="2960280"/>
            <a:ext cx="7632720" cy="126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37609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da2"/>
                </a:solidFill>
                <a:latin typeface="Times New Roman"/>
                <a:ea typeface="Arial Unicode MS"/>
              </a:rPr>
              <a:t>Дидактический и игровой материал к ОД по развитию речи </a:t>
            </a:r>
            <a:br>
              <a:rPr sz="2000"/>
            </a:br>
            <a:r>
              <a:rPr b="1" lang="ru-RU" sz="2000" spc="-1" strike="noStrike">
                <a:solidFill>
                  <a:srgbClr val="005da2"/>
                </a:solidFill>
                <a:latin typeface="Times New Roman"/>
                <a:ea typeface="Arial Unicode MS"/>
              </a:rPr>
              <a:t>по лексической теме </a:t>
            </a:r>
            <a:br>
              <a:rPr sz="2000"/>
            </a:br>
            <a:r>
              <a:rPr b="1" lang="ru-RU" sz="2000" spc="-1" strike="noStrike">
                <a:solidFill>
                  <a:srgbClr val="005da2"/>
                </a:solidFill>
                <a:latin typeface="Times New Roman"/>
                <a:ea typeface="Arial Unicode MS"/>
              </a:rPr>
              <a:t>«</a:t>
            </a:r>
            <a:r>
              <a:rPr b="1" lang="ru-RU" sz="3600" spc="-1" strike="noStrike">
                <a:solidFill>
                  <a:srgbClr val="005da2"/>
                </a:solidFill>
                <a:latin typeface="Calibri"/>
                <a:ea typeface="Arial Unicode MS"/>
              </a:rPr>
              <a:t>Зимующие птицы»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-14400" y="6411600"/>
            <a:ext cx="9144000" cy="43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da2"/>
                </a:solidFill>
                <a:latin typeface="Times New Roman"/>
              </a:rPr>
              <a:t>Учитель-логопед Безик Н.С., МАДОУ  ЦРР д/с № 87  г. Калининград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0" name="Picture 5" descr="http://tvov.ru/tw_files2/urls_1/32/d-31913/31913_html_m507620f8.jpg"/>
          <p:cNvPicPr/>
          <p:nvPr/>
        </p:nvPicPr>
        <p:blipFill>
          <a:blip r:embed="rId2"/>
          <a:stretch/>
        </p:blipFill>
        <p:spPr>
          <a:xfrm>
            <a:off x="2916360" y="404640"/>
            <a:ext cx="3492360" cy="2343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Шустрый, быстрый, ловкий, драчливый, боевой,   смелый.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da2"/>
                </a:solidFill>
                <a:latin typeface="Calibri"/>
              </a:rPr>
              <a:t>                                      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852720" y="3645000"/>
            <a:ext cx="237672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827360" y="1511280"/>
            <a:ext cx="64260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Красногрудый, ленивый, грустный, малоподвиж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5da2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19640" y="2889360"/>
            <a:ext cx="3240000" cy="25891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736640" y="1484280"/>
            <a:ext cx="6607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Желтогрудая, тонкая, юркая, веселая, ум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879640" y="2997360"/>
            <a:ext cx="3730680" cy="253188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386000" y="1347840"/>
            <a:ext cx="745308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da2"/>
                </a:solidFill>
                <a:latin typeface="Calibri"/>
              </a:rPr>
              <a:t>Красноголовый, большой, умный, зиму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19640" y="2816280"/>
            <a:ext cx="2666880" cy="2928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224000" y="1484280"/>
            <a:ext cx="7632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Большеглазая, сон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ночная, малоподвижная, зимующ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935080" cy="317016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224000" y="1376280"/>
            <a:ext cx="76327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da2"/>
                </a:solidFill>
                <a:latin typeface="Calibri"/>
              </a:rPr>
              <a:t>Шустрая, белобокая, длиннохвостая,  зимующ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363760" y="3213000"/>
            <a:ext cx="5353200" cy="214812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Узнай но описанию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Упражнение «Скажи наоборот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151000" y="1376280"/>
            <a:ext cx="5778720" cy="528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Один — много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03280" y="2619360"/>
            <a:ext cx="2448000" cy="199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464080" y="2063880"/>
            <a:ext cx="2206800" cy="1796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6335640" y="3859200"/>
            <a:ext cx="2325600" cy="18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224000" y="1380960"/>
            <a:ext cx="1908000" cy="227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086440" y="2060640"/>
            <a:ext cx="1839960" cy="2192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672240" y="3860640"/>
            <a:ext cx="1935360" cy="230364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Один — м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368360" y="1463760"/>
            <a:ext cx="2016360" cy="17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608360" y="3236760"/>
            <a:ext cx="215136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335640" y="4221000"/>
            <a:ext cx="2100240" cy="187344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Один — м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Задачи занятия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50920" y="1413000"/>
            <a:ext cx="8713800" cy="52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оррекционно-образов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учить детей образовывать глаголы и закреплять знания детей о голосах пт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учить образовывать прилагательные и сущест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с помощью суффиксов с уменьшительно-ласкательны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оррекционно-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закрепить знания и представления детей о перелетных и зимующих пт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упражнять в узнавании птиц по их опис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развивать внимание, лог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Коррекционно-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воспитывать интерес к обитателям природы, желание защищать и оберег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224000" y="1330200"/>
            <a:ext cx="2741400" cy="18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967280" y="3176640"/>
            <a:ext cx="2521080" cy="17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443640" y="4581360"/>
            <a:ext cx="2498760" cy="169560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Один — м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0" y="2880"/>
            <a:ext cx="7632720" cy="11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da2"/>
                </a:solidFill>
                <a:latin typeface="Calibri"/>
              </a:rPr>
              <a:t>С</a:t>
            </a: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ОСТАВЛЕНИЕ  РАССКАЗА НА ТЕМУ «</a:t>
            </a:r>
            <a:r>
              <a:rPr b="1" lang="ru-RU" sz="3600" spc="-1" strike="noStrike">
                <a:solidFill>
                  <a:srgbClr val="005da2"/>
                </a:solidFill>
                <a:latin typeface="Calibri"/>
              </a:rPr>
              <a:t>З</a:t>
            </a: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ИМУЮЩИЕ ПТИЦЫ»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784600" y="1195560"/>
            <a:ext cx="4089240" cy="28461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1531800" y="4041720"/>
            <a:ext cx="684072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Цвет. (Какого цвета оперенье птицы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Части тела. (Назови части ее тел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Дупло. (Где она обитает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Ягоды, семена. (Чем птица питается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Птенец. (Назови ее птенц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Человек, кормушка. (Как люди помогают птицам зимой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224000" y="1071720"/>
            <a:ext cx="763272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Воробей – зимующая птица. У него есть головка, клюв, туловище, крылья, хвостик, лапки, коготки. Тело птички покрыто перьями серого цвета. Воробей может летать, прыгать, клевать, чирикать, сидеть. Воробей питается насекомыми, крошками, зёрнами, семенами. Воробей – друг человека, потому что он уничтожает вредных 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517920" y="3929040"/>
            <a:ext cx="3033720" cy="23972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1214280" y="241200"/>
            <a:ext cx="764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da2"/>
                </a:solidFill>
                <a:latin typeface="Calibri"/>
              </a:rPr>
              <a:t>Примерный рассказ о воробь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тог занятия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0" y="1593720"/>
            <a:ext cx="763272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da2"/>
                </a:solidFill>
                <a:latin typeface="Calibri"/>
              </a:rPr>
              <a:t>Скажите, о ком мы говорили сегодня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da2"/>
                </a:solidFill>
                <a:latin typeface="Calibri"/>
              </a:rPr>
              <a:t>на занятии? Назовите зимующих птиц. А теперь назовите перелетных. С помощью каких признаков мы отличаем птиц друг от друга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6360" y="189000"/>
            <a:ext cx="1328760" cy="118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Тема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224000" y="1592280"/>
            <a:ext cx="777708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С наступлением холодов многи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улетают на юг, в жаркие страны. А маленький шустрый воробей остается зимовать. Сегодня он прилетел к нам в гости  и хочет рассказать о том, как зимующие птицы проводят зи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воробей"/>
          <p:cNvPicPr/>
          <p:nvPr/>
        </p:nvPicPr>
        <p:blipFill>
          <a:blip r:embed="rId1"/>
          <a:srcRect l="38878" t="16175" r="7314" b="51896"/>
          <a:stretch/>
        </p:blipFill>
        <p:spPr>
          <a:xfrm>
            <a:off x="3564000" y="4473720"/>
            <a:ext cx="237636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Птицы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224000" y="1479600"/>
            <a:ext cx="76327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Птицы, которые остаются зимовать или прилетают к нам зимой с севера, называются зиму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Многие птицы зимой держатся стайками, которые перелетают с места на место в поисках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89000" y="3176640"/>
            <a:ext cx="61056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24000" y="296640"/>
            <a:ext cx="7632720" cy="25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Зимой птицы жмутся к человеческому жилью. Ведь зима страшна птицам голодом, а не холодом. Поэтому зимой обязательно нужно вывешивать кормушки для птиц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089400" cy="377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Кто как голос подает?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98360" y="1692360"/>
            <a:ext cx="8656560" cy="5165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79640" y="2997360"/>
            <a:ext cx="4876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РИ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КАЕТ                              СТРЕК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ИНЬКАЕТ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ТО ?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ВОРК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ХАЕТ                          ТОК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Сосчитай птиц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90424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Игра «Большой, маленький»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24000" y="137592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Острый клюв — остренький клювик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Тонкие лапы — тоненькие лапки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Длинная шея — длинненькая шейка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Белая грудь — беленькая грудка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Черное крыло — черненькое крылышко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Толстая шея — толстенькая шейка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  <a:p>
            <a:pPr marL="334440" indent="-334440">
              <a:spcBef>
                <a:spcPts val="75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da2"/>
                </a:solidFill>
                <a:latin typeface="Calibri"/>
              </a:rPr>
              <a:t>Короткий хвост — коротенький хвостик.</a:t>
            </a:r>
            <a:endParaRPr b="0" lang="en-US" sz="3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280" y="297000"/>
            <a:ext cx="799308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da2"/>
                </a:solidFill>
                <a:latin typeface="Calibri"/>
              </a:rPr>
              <a:t>Физкультминутка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3640" y="1233360"/>
            <a:ext cx="7991280" cy="42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Зарумянились кустарники  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Пощипывают щеки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Не от утренней зари. 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Это красные фонарики        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 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«Фонарики»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Засветили снегири.                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Взмахи руками, как крыльями. </a:t>
            </a: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Чистят перышки пунцовые</a:t>
            </a:r>
            <a:r>
              <a:rPr b="1" i="1" lang="ru-RU" sz="2400" spc="-1" strike="noStrike">
                <a:solidFill>
                  <a:srgbClr val="005da2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«Чистят перышки»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Воду пьют из родника.         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«Пьют»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Переливы бубенцовые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da2"/>
                </a:solidFill>
                <a:latin typeface="Calibri"/>
              </a:rPr>
              <a:t>Мне слышны издалека.    </a:t>
            </a:r>
            <a:r>
              <a:rPr b="1" lang="en-US" sz="2400" spc="-1" strike="noStrike">
                <a:solidFill>
                  <a:srgbClr val="005da2"/>
                </a:solidFill>
                <a:latin typeface="Calibri"/>
              </a:rPr>
              <a:t>   |</a:t>
            </a:r>
            <a:r>
              <a:rPr b="0" i="1" lang="ru-RU" sz="2400" spc="-1" strike="noStrike">
                <a:solidFill>
                  <a:srgbClr val="005da2"/>
                </a:solidFill>
                <a:latin typeface="Calibri"/>
              </a:rPr>
              <a:t>Ритмичные хлопки в ладоши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24360" y="4548240"/>
            <a:ext cx="270000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24-01-11T06:24:12Z</dcterms:modified>
  <cp:revision>41</cp:revision>
  <dc:subject/>
  <dc:title>Слайд 1</dc:title>
</cp:coreProperties>
</file>