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E21-648B-452B-A249-C64A43A7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7CB-FEB4-4D2D-A593-731EAEDE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D2F-25DC-4066-8E2C-0CE20551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67D-D070-41DA-8BDD-C584D742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20D-6922-4110-9A99-544D757F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F66-0585-484E-BABD-62E1FF33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747-C541-405E-952C-66B330A8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D7B-F004-41F4-BD74-5A65A7CF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C6AB-3E2D-4A38-A817-4176DA9D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D61-C254-4E3D-98DC-1F71651E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F8B-1CB1-4DC5-AB40-80217887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5B1A-EE69-4FDB-9C5C-1FD12DC1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E65E-830C-4BAF-91CC-5273537035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нлайн-занятие </a:t>
            </a: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Calibri"/>
                <a:ea typeface="Times New Roman"/>
              </a:rPr>
              <a:t> «Снежная улица» </a:t>
            </a:r>
            <a:r>
              <a:rPr b="0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для детей    </a:t>
            </a:r>
            <a:br>
              <a:rPr sz="4000"/>
            </a:br>
            <a:r>
              <a:rPr b="0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ладшего дошкольного возраста группа «Сказка»   </a:t>
            </a:r>
            <a:r>
              <a:rPr b="0" lang="ru-RU" sz="1400" spc="-1" strike="noStrike">
                <a:solidFill>
                  <a:srgbClr val="33cc33"/>
                </a:solidFill>
                <a:latin typeface="Calibri"/>
              </a:rPr>
              <a:t>Составила: Бурденкова Е.Е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20231207_094718.jpg"/>
          <p:cNvPicPr/>
          <p:nvPr/>
        </p:nvPicPr>
        <p:blipFill>
          <a:blip r:embed="rId1"/>
          <a:stretch/>
        </p:blipFill>
        <p:spPr>
          <a:xfrm>
            <a:off x="2214720" y="3071880"/>
            <a:ext cx="5047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61400" cy="37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занятия по нетрадиционному рисованию палочками 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младшей группе №1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нежная улица».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ознакомления младших дошкольников с нетрадиционной техникой рисования палочками.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: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мения рисовать гуашью, используя палочки;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вать в рисунке особенности геометрической фигуры - круга;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ть в усвоении и применении данной методики в собственном творчестве;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запас знаний о зиме.</a:t>
            </a:r>
            <a:br>
              <a:rPr sz="10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: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в детях чувство красоты, художественный вкус, творчество;</a:t>
            </a:r>
            <a:br>
              <a:rPr sz="10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: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отзывчивость и доброту.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риал и оборудовани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алочки, белая гуашь, салфетки,  картина с изображением снегопада, игрушка снеговик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ёрко со снегом, мольберт. 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Клип 5" descr="20231207_091222.jpg"/>
          <p:cNvPicPr/>
          <p:nvPr/>
        </p:nvPicPr>
        <p:blipFill>
          <a:blip r:embed="rId1"/>
          <a:stretch/>
        </p:blipFill>
        <p:spPr>
          <a:xfrm>
            <a:off x="2071800" y="3649680"/>
            <a:ext cx="36115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85880" y="1800"/>
            <a:ext cx="6215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Клип 5" descr="download.jpg"/>
          <p:cNvPicPr/>
          <p:nvPr/>
        </p:nvPicPr>
        <p:blipFill>
          <a:blip r:embed="rId1"/>
          <a:stretch/>
        </p:blipFill>
        <p:spPr>
          <a:xfrm>
            <a:off x="728640" y="1844640"/>
            <a:ext cx="4200480" cy="3941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214200" y="222120"/>
            <a:ext cx="799632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О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рг. мо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ребята, сегодня мы с вами будем учиться изображать снег. Слышите, кто-то стучится (приносит снеговика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это, де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 снегови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52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новная часть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Дети, снеговик что – то принёс в ведёрке (показывает). Что это?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 это снег.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потрогайте, какой снег?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 холодный, белый.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снеговик принёс нам картину. Посмотрите, что изображено на картине?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 деревья, снег.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зимой много снега. Снег идет, кружится, прячет деревья, землю. Всё кругом бело. А вы на прогулке видел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 снег идёт, падает на землю?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 да.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сегодня мы с вами будем рисовать снег. Посмотрите, как я буду рисовать. Я беру палочку, обмакиваю её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ку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кладываю к листу бумаги, аккуратно. Затем снова набираю краску и опять прикладываю. Так рисую по всему листу бумаги.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йчас снеговик хочет с вами поиграть, выходите.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 улицу выходим,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 снегу ходим, ходим (ходьба друг за другом)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мы в руки набираем,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мочки покатаем (наклоны, имитация скатывания комочков)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комочки покатали,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ни большими стали (выпрямились, руки в стороны)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вик уже подрос,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морковкой нос (руки вверх, показывают на нос)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вик нас подожди,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домой пора идти (ходьба на мес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актическая часть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дети, присаживайтесь за столы, берём палочки и обмакиваем в краску (дети рисуют, воспитатель помога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Клип 5" descr="20231207_091234.jpg"/>
          <p:cNvPicPr/>
          <p:nvPr/>
        </p:nvPicPr>
        <p:blipFill>
          <a:blip r:embed="rId1"/>
          <a:stretch/>
        </p:blipFill>
        <p:spPr>
          <a:xfrm>
            <a:off x="685800" y="1052640"/>
            <a:ext cx="588636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7878600" cy="12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ефлексия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ребята, снеговику очень понравилось, как вы нарисовали снег. Очень хорошо, старались, молодц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Хвалит детей. Предлагает вспомнить, каким способом выполняли изображение, какой краской по цвету, почему.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Молодцы, ребята, Снеговику пора домой, он говорит вам до свидания.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Клип 5" descr="20231207_094718.jpg"/>
          <p:cNvPicPr/>
          <p:nvPr/>
        </p:nvPicPr>
        <p:blipFill>
          <a:blip r:embed="rId1"/>
          <a:stretch/>
        </p:blipFill>
        <p:spPr>
          <a:xfrm>
            <a:off x="1357200" y="1373040"/>
            <a:ext cx="478656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Клип 4" descr="20231207_091839.jpg"/>
          <p:cNvPicPr/>
          <p:nvPr/>
        </p:nvPicPr>
        <p:blipFill>
          <a:blip r:embed="rId1"/>
          <a:stretch/>
        </p:blipFill>
        <p:spPr>
          <a:xfrm>
            <a:off x="685800" y="1749600"/>
            <a:ext cx="495792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19:09:20Z</dcterms:created>
  <dc:creator>Маша</dc:creator>
  <dc:description/>
  <dc:language>en-US</dc:language>
  <cp:lastModifiedBy>PC</cp:lastModifiedBy>
  <dcterms:modified xsi:type="dcterms:W3CDTF">2024-01-11T13:56:21Z</dcterms:modified>
  <cp:revision>139</cp:revision>
  <dc:subject/>
  <dc:title>Презентация PowerPoint</dc:title>
</cp:coreProperties>
</file>