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173-1D67-47A0-BAF0-BDA9FE20C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759-77E5-426D-8002-2F966B8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294-2F0A-4795-B3F1-5FBAFDB0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274-9F1B-44AE-9A87-B4F14383E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780-821E-460C-9DE5-4EDA5E43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47C-7232-4B82-B5DD-92C42C3B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A63-9E46-4EAC-8F4C-539F1DEC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0FD0-DA05-45A1-A703-EB26F41C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0B1F-6EA9-4C58-980E-D40C4E09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FA6-2F7A-4A6B-8E31-121D3F55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970-3DC1-4A27-85EC-AB9E51E5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8AD-680B-45E7-8498-028AE09A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C9E0-8903-4D17-9873-3F6CC4E94F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лайн-занятие </a:t>
            </a: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Calibri"/>
                <a:ea typeface="Times New Roman"/>
              </a:rPr>
              <a:t> «Снежная улица» </a:t>
            </a: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для детей   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ладшего дошкольного возраста группа «Сказка»   </a:t>
            </a:r>
            <a:r>
              <a:rPr b="0" lang="ru-RU" sz="1400" spc="-1" strike="noStrike">
                <a:solidFill>
                  <a:srgbClr val="33cc33"/>
                </a:solidFill>
                <a:latin typeface="Calibri"/>
              </a:rPr>
              <a:t>Составила: Бурденкова Е.Е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20231207_094718.jpg"/>
          <p:cNvPicPr/>
          <p:nvPr/>
        </p:nvPicPr>
        <p:blipFill>
          <a:blip r:embed="rId1"/>
          <a:stretch/>
        </p:blipFill>
        <p:spPr>
          <a:xfrm>
            <a:off x="2214720" y="3071880"/>
            <a:ext cx="5047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61400" cy="378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занятия по нетрадиционному рисованию палочками 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младшей группе №1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нежная улица».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ь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ознакомления младших дошкольников с нетрадиционной техникой рисования палочками.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ые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рисовать гуашью, используя палочки;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ть в рисунке особенности геометрической фигуры - круга;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ть в усвоении и применении данной методики в собственном творчестве;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ить запас знаний о зиме.</a:t>
            </a:r>
            <a:br>
              <a:rPr sz="10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ие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в детях чувство красоты, художественный вкус, творчество;</a:t>
            </a:r>
            <a:br>
              <a:rPr sz="10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: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отзывчивость и доброту.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ал и оборудов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алочки, белая гуашь, салфетки,  картина с изображением снегопада, игрушка снеговик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ёрко со снегом, мольберт. 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Клип 5" descr="20231207_091222.jpg"/>
          <p:cNvPicPr/>
          <p:nvPr/>
        </p:nvPicPr>
        <p:blipFill>
          <a:blip r:embed="rId1"/>
          <a:stretch/>
        </p:blipFill>
        <p:spPr>
          <a:xfrm>
            <a:off x="2071800" y="3649680"/>
            <a:ext cx="36115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85880" y="1800"/>
            <a:ext cx="6215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Клип 5" descr="download.jpg"/>
          <p:cNvPicPr/>
          <p:nvPr/>
        </p:nvPicPr>
        <p:blipFill>
          <a:blip r:embed="rId1"/>
          <a:stretch/>
        </p:blipFill>
        <p:spPr>
          <a:xfrm>
            <a:off x="728640" y="1844640"/>
            <a:ext cx="4200480" cy="3941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14200" y="222120"/>
            <a:ext cx="799632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д ООД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рг. мом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ребята, сегодня мы с вами будем учиться изображать снег. Слышите, кто-то стучится (приносит снеговика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, это,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снегов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429400" cy="52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сновная часть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Дети, снеговик что – то принёс в ведёрке (показывает). Что это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это снег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потрогайте, какой снег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холодный, белый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снеговик принёс нам картину. Посмотрите, что изображено на картине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деревья, снег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зимой много снега. Снег идет, кружится, прячет деревья, землю. Всё кругом бело. А вы на прогулке видели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  снег идёт, падает на землю?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: да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сегодня мы с вами будем рисовать снег. Посмотрите, как я буду рисовать. Я беру палочку, обмакиваю её в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ку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кладываю к листу бумаги, аккуратно. Затем снова набираю краску и опять прикладываю. Так рисую по всему листу бумаги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йчас снеговик хочет с вами поиграть, выходите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по улицу выходим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 снегу ходим, ходим (ходьба друг за другом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мы в руки набираем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омочки покатаем (наклоны, имитация скатывания комочков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омочки покатали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ни большими стали (выпрямились, руки в стороны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уже подрос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морковкой нос (руки вверх, показывают на нос)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овик нас подожди,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домой пора идти (ходьба на мес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Практическая часть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дети, присаживайтесь за столы, берём палочки и обмакиваем в краску (дети рисуют, воспитатель помога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Клип 5" descr="20231207_091234.jpg"/>
          <p:cNvPicPr/>
          <p:nvPr/>
        </p:nvPicPr>
        <p:blipFill>
          <a:blip r:embed="rId1"/>
          <a:stretch/>
        </p:blipFill>
        <p:spPr>
          <a:xfrm>
            <a:off x="685800" y="1052640"/>
            <a:ext cx="58863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7878600" cy="12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ефлексия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ребята, снеговику очень понравилось, как вы нарисовали снег. Очень хорошо, старались, молодцы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Хвалит детей. Предлагает вспомнить, каким способом выполняли изображение, какой краской по цвету, почему.</a:t>
            </a:r>
            <a:br>
              <a:rPr sz="10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: Молодцы, ребята, Снеговику пора домой, он говорит вам до свидания.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Клип 5" descr="20231207_094718.jpg"/>
          <p:cNvPicPr/>
          <p:nvPr/>
        </p:nvPicPr>
        <p:blipFill>
          <a:blip r:embed="rId1"/>
          <a:stretch/>
        </p:blipFill>
        <p:spPr>
          <a:xfrm>
            <a:off x="1357200" y="1373040"/>
            <a:ext cx="478656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Клип 4" descr="20231207_091839.jpg"/>
          <p:cNvPicPr/>
          <p:nvPr/>
        </p:nvPicPr>
        <p:blipFill>
          <a:blip r:embed="rId1"/>
          <a:stretch/>
        </p:blipFill>
        <p:spPr>
          <a:xfrm>
            <a:off x="685800" y="1749600"/>
            <a:ext cx="49579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09:20Z</dcterms:created>
  <dc:creator>Маша</dc:creator>
  <dc:description/>
  <dc:language>en-US</dc:language>
  <cp:lastModifiedBy>PC</cp:lastModifiedBy>
  <dcterms:modified xsi:type="dcterms:W3CDTF">2024-01-11T13:56:21Z</dcterms:modified>
  <cp:revision>139</cp:revision>
  <dc:subject/>
  <dc:title>Презентация PowerPoint</dc:title>
</cp:coreProperties>
</file>