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CFC-9B4F-407E-8934-0067CE80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75A-C7F8-4C7A-9050-6B0EFFFA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27A-C0C5-44F8-897E-E4D50E65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22D-DCED-4223-8C83-4D3E8F48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EC2-4D2B-4090-AA27-92C78A05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65A-90C4-4D02-B398-15B04AA3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B5D-C439-495E-BA5D-A96919E7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335-21E0-4304-95A8-5B4B0B32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E12-824E-4B7F-AAC8-649C53C5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7E3-C29B-4672-9B51-07CB2793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B9B-5994-475D-839F-9CD35CA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740-47F2-4566-95E2-B2F9D527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90D3-3ADF-4EC8-9A9E-9CC8B55DC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21019800">
            <a:off x="2528640" y="4649760"/>
            <a:ext cx="468468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e 18 décemb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 rot="21015600">
            <a:off x="1692360" y="2349000"/>
            <a:ext cx="532764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lin ang="5982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La télé, j’adore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lin ang="5982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нов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Exercice 3 page 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4859280" y="1628640"/>
            <a:ext cx="3745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pé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ver de terre va vers un ver vert qui est dans un verre v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aston écarte ton carton, car ton carton me gè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mur murant Paris rend Paris murmu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248680" cy="4676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sens contr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enn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ére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enç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nuy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ffi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am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нопочка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 flipH="1" rot="10776600">
            <a:off x="4284720" y="6281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1533600" y="367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osez des phras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allum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no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urieux  curi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présent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nuyeux ennuy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enn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agaz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téléspect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éléspect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élécom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mété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é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docum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ven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 devi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iel ..... bl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erre .... très 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...... g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dev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deve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s devien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s devienn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rbres..... 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ten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h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électric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a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u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trou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ieux  vie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lend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имение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и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в предложении перед глаголом  и может замен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ое с предлогом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 parl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 mon éco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J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ar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ое с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ичным артик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 prend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 la salad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J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ое, перед которым есть количественное  числ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’achet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3 livr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J’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chete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 reviens de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ul rentre du bur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sort du sa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rentrez du ciné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Exercice 3,4 page 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30:08Z</dcterms:created>
  <dc:creator>Администратор</dc:creator>
  <dc:description/>
  <dc:language>en-US</dc:language>
  <cp:lastModifiedBy>User</cp:lastModifiedBy>
  <dcterms:modified xsi:type="dcterms:W3CDTF">2024-01-12T05:57:12Z</dcterms:modified>
  <cp:revision>24</cp:revision>
  <dc:subject/>
  <dc:title>Слайд 1</dc:title>
</cp:coreProperties>
</file>