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1976-D2D4-40B3-A613-102EB7349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2320-3A79-45F6-A8EE-C4717E355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D864-5BE5-4818-B5A1-44D3C3248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C7D0-7657-479F-B238-BE57492BA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56F1-C849-48D5-9318-7AC775D13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3A8D-CA80-4E2F-99D7-6B880CAF5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EC72-1EDC-4D41-99CD-8E0E5F09C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3F5F-A030-4637-872D-C3EB841D8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F726-C1DF-4271-96FA-33007CF9C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C08A-5302-4DCF-BF91-5C8DBE7C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795D-E741-4060-845A-7DB0F3D7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AAB3-4F07-49EB-BEEB-65BD53B6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BFBD3-EA45-44EA-AA2A-4A2B6C68A8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 rot="21019800">
            <a:off x="2528640" y="4649760"/>
            <a:ext cx="4684680" cy="44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Le 18 décemb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2" name="WordArt 6"/>
          <p:cNvSpPr txBox="1"/>
          <p:nvPr/>
        </p:nvSpPr>
        <p:spPr>
          <a:xfrm rot="21015600">
            <a:off x="1692360" y="2349000"/>
            <a:ext cx="5327640" cy="1081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ff0000"/>
                    </a:gs>
                  </a:gsLst>
                  <a:lin ang="5982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La télé, j’adore!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ff0000"/>
                  </a:gs>
                </a:gsLst>
                <a:lin ang="5982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evo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ь новые с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Exercice 3 page 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0"/>
          <p:cNvSpPr/>
          <p:nvPr/>
        </p:nvSpPr>
        <p:spPr>
          <a:xfrm>
            <a:off x="4859280" y="1628640"/>
            <a:ext cx="3745080" cy="45370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Répét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n ver de terre va vers un ver vert qui est dans un verre ve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Gaston écarte ton carton, car ton carton me gè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mur murant Paris rend Paris murmura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evo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2"/>
          <a:stretch/>
        </p:blipFill>
        <p:spPr>
          <a:xfrm>
            <a:off x="539640" y="1773360"/>
            <a:ext cx="8248680" cy="46767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e sens contra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125000"/>
            <a:ext cx="4038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’ennu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art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G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o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téress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mmenç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es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ac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832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o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in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et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r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nnuy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iffic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te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’amu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lan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кнопочка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 flipH="1" rot="10776600">
            <a:off x="4284720" y="628128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1533600" y="3670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omposez des phras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allumet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nnon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urieux  curie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 présenta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nnuyeux ennuye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’ennu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 magaz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 téléspecta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téléspectat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télécomma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mété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é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 document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even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Je devien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u devien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l devien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lle devien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 ciel ..... ble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ierre .... très fo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ous ...... gra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ous deven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ous deven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ls devienn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lles devienn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arbres..... ver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Reten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cha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 électric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Jam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Jeu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u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etrou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su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ieux  viei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 lende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arfo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стоимение   </a:t>
            </a: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EN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стоимение 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EN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оит в предложении перед глаголом  и может заменя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ществительное с предлогом </a:t>
            </a: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DE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Je parle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de mon écol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. J’ 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e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par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ществительное с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ичным артикле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Je prends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de la salad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. J’ 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en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en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ществительное, перед которым есть количественное  числительн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J’achete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3 livre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. J’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e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achete 3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Je reviens de Par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aul rentre du burea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l sort du sal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ous rentrez du ciné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Exercice 3,4 page 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08:30:08Z</dcterms:created>
  <dc:creator>Администратор</dc:creator>
  <dc:description/>
  <dc:language>en-US</dc:language>
  <cp:lastModifiedBy>User</cp:lastModifiedBy>
  <dcterms:modified xsi:type="dcterms:W3CDTF">2024-01-12T05:57:12Z</dcterms:modified>
  <cp:revision>24</cp:revision>
  <dc:subject/>
  <dc:title>Слайд 1</dc:title>
</cp:coreProperties>
</file>