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B47-61AE-4C94-B74F-D9383AC7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114-BA55-43CB-A65A-5CEFAF4D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A67-5C08-4385-BCDA-F72A7AB7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CAA-CCDF-4973-8ABC-C681C15B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EB4-B8E9-40A7-A611-B5F06287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A27-0C85-45AA-B4FA-2F89C622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A91-8A8B-4553-8263-A96C1326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E87-0392-4EB9-802D-3B6F3771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D7F-AFD9-4756-886B-EF115163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6FB-00B7-4C35-B862-A0CC28AA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46A-13A8-48B4-B271-8D0D2F9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258-7C94-41C1-BF22-CF971EA0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D1EC-5EDE-426B-B435-058802C7B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21019800">
            <a:off x="2528640" y="4649760"/>
            <a:ext cx="468468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e 18 décemb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 rot="21015600">
            <a:off x="1692360" y="2349000"/>
            <a:ext cx="532764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lin ang="5982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La télé, j’adore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lin ang="5982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нов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Exercice 3 page 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4859280" y="1628640"/>
            <a:ext cx="3745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pé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ver de terre va vers un ver vert qui est dans un verre v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aston écarte ton carton, car ton carton me gè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mur murant Paris rend Paris murmu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248680" cy="4676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sens contr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enn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ére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enç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nuy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ffi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am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нопочка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 flipH="1" rot="10776600">
            <a:off x="4284720" y="6281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1533600" y="367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osez des phras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allum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no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urieux  curi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présent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nuyeux ennuy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enn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agaz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téléspect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éléspect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élécom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mété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é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docum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ven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iel ..... bl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erre .... très 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...... g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dev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dev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s devien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s devien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rbres..... 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ten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h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électric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a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u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trou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ieux  vie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lend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имение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и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в предложении перед глаголом  и может замен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ое с предлогом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 parl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 mon éco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J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ar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ое с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ичным артик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 prend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 la salad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J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ое, перед которым есть количественное  числ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’achet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3 livr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J’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chete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 reviens de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ul rentre du bur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sort du sa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rentrez du ciné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Exercice 3,4 page 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30:08Z</dcterms:created>
  <dc:creator>Администратор</dc:creator>
  <dc:description/>
  <dc:language>en-US</dc:language>
  <cp:lastModifiedBy>User</cp:lastModifiedBy>
  <dcterms:modified xsi:type="dcterms:W3CDTF">2024-01-12T05:57:12Z</dcterms:modified>
  <cp:revision>24</cp:revision>
  <dc:subject/>
  <dc:title>Слайд 1</dc:title>
</cp:coreProperties>
</file>