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B75-F938-4F3C-9A12-C4135B15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649-8A12-4900-A917-69BE4C0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543-6E41-43D8-8195-E059D5B0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DE5-26E6-42A5-8460-B67636F6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69E-C68E-4DEC-96DA-852C95E3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0047-F3C0-4BD7-B723-CB108C5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5D16-0D16-4C10-ADE0-DB6255B7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718A-1FF4-4093-80C6-D622F11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266D-89DB-46FA-A1B5-46450BE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EF1B-834E-4EF3-ADD4-F3A6A07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A43-E0B6-4BC0-80A8-59E92AA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C5-FDDC-4BEA-A81C-49CD080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53DC-5A65-4738-991D-604AA238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1FF-D62F-4186-9DA1-99F7AF7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A40B-9DDD-4036-90C8-CD77B040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4E9E-F6AF-4B54-A375-4A19DF68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6882-75F9-45A4-9948-A7CD3A64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E29-6AB0-4783-998E-1BCD3328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0D2-B1C5-4D9C-9821-BBC280A8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D5E-D092-4905-B3D4-4758DB2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77C-AC8C-464E-A7B9-AE913C1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82A-DE52-4144-980B-B2624E2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5CF-6B39-4DA3-BAD3-A11D1CE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490-931F-4322-BA96-012D56D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470-8EE0-4A9C-81DD-6751E37B07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0873-3FD9-4ED2-9395-81AF370C93B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ahoma"/>
              </a:rPr>
              <a:t>Прогулка по Парижу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tableaux qui se trouve au Louvre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73880" y="2017800"/>
            <a:ext cx="338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Jocon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7" descr="luvr4"/>
          <p:cNvPicPr/>
          <p:nvPr/>
        </p:nvPicPr>
        <p:blipFill>
          <a:blip r:embed="rId1"/>
          <a:stretch/>
        </p:blipFill>
        <p:spPr>
          <a:xfrm>
            <a:off x="1547640" y="1989000"/>
            <a:ext cx="358488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ette construction moderne qui s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e dans la cour car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u Louvre appar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 dans nos jours. Elle est construite par un grand architecte a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cain d`origine chinoise Yao Ming Pe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91320" y="2017800"/>
            <a:ext cx="316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yramide  du Louv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7" descr="056_05"/>
          <p:cNvPicPr/>
          <p:nvPr/>
        </p:nvPicPr>
        <p:blipFill>
          <a:blip r:embed="rId1"/>
          <a:stretch/>
        </p:blipFill>
        <p:spPr>
          <a:xfrm>
            <a:off x="611280" y="2349360"/>
            <a:ext cx="5040360" cy="337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monument qui se dresse au milieu de la place Charles de Gaulle. Autour de la place il y a douze larges avenues qui fon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i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Arc de Triomp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triumf_arka"/>
          <p:cNvPicPr/>
          <p:nvPr/>
        </p:nvPicPr>
        <p:blipFill>
          <a:blip r:embed="rId1"/>
          <a:stretch/>
        </p:blipFill>
        <p:spPr>
          <a:xfrm>
            <a:off x="1193760" y="2502000"/>
            <a:ext cx="4554720" cy="349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et des  plus vastes places du monde. Elle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e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 Elle es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pour son ob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squ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0360" y="5660640"/>
            <a:ext cx="464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 place de la Conc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9" descr="concorde1"/>
          <p:cNvPicPr/>
          <p:nvPr/>
        </p:nvPicPr>
        <p:blipFill>
          <a:blip r:embed="rId1"/>
          <a:stretch/>
        </p:blipFill>
        <p:spPr>
          <a:xfrm>
            <a:off x="5580000" y="2781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96394521"/>
          <p:cNvPicPr/>
          <p:nvPr/>
        </p:nvPicPr>
        <p:blipFill>
          <a:blip r:embed="rId2"/>
          <a:stretch/>
        </p:blipFill>
        <p:spPr>
          <a:xfrm>
            <a:off x="179280" y="398448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concorde6"/>
          <p:cNvPicPr/>
          <p:nvPr/>
        </p:nvPicPr>
        <p:blipFill>
          <a:blip r:embed="rId3"/>
          <a:stretch/>
        </p:blipFill>
        <p:spPr>
          <a:xfrm>
            <a:off x="2050920" y="191628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grande  avenue de Par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nt des ci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s, des restaurants, des banques et des commerces de lux. Elle lie l`Arc de Triomphe et la place de la Concord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elisey2"/>
          <p:cNvPicPr/>
          <p:nvPr/>
        </p:nvPicPr>
        <p:blipFill>
          <a:blip r:embed="rId1"/>
          <a:stretch/>
        </p:blipFill>
        <p:spPr>
          <a:xfrm>
            <a:off x="468360" y="3284640"/>
            <a:ext cx="540072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s Champs-Elys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20 - Les Champs-Elysees.mp3" descr=""/>
          <p:cNvPicPr/>
          <p:nvPr/>
        </p:nvPicPr>
        <p:blipFill>
          <a:blip r:embed="rId2"/>
          <a:stretch/>
        </p:blipFill>
        <p:spPr>
          <a:xfrm>
            <a:off x="6372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496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encore une place de Paris. Autrefois sur cette place se trouvait une prison, symbole de la tyrannie royale, Bastil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19640" y="2093400"/>
            <a:ext cx="37353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lace de la Bastil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bastille"/>
          <p:cNvPicPr/>
          <p:nvPr/>
        </p:nvPicPr>
        <p:blipFill>
          <a:blip r:embed="rId1"/>
          <a:stretch/>
        </p:blipFill>
        <p:spPr>
          <a:xfrm>
            <a:off x="1116000" y="1989000"/>
            <a:ext cx="3579840" cy="468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centre culturel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il y a une riche collection d`art moderne ( tableaux, sculptures, dessins). Le centr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ur le plateau Beaubourg en plein coeur de Pari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4760" y="2369880"/>
            <a:ext cx="28526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Centre     Pompid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13" descr="w100-11070"/>
          <p:cNvPicPr/>
          <p:nvPr/>
        </p:nvPicPr>
        <p:blipFill>
          <a:blip r:embed="rId1"/>
          <a:stretch/>
        </p:blipFill>
        <p:spPr>
          <a:xfrm>
            <a:off x="5003640" y="4292640"/>
            <a:ext cx="3529080" cy="236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img9505"/>
          <p:cNvPicPr/>
          <p:nvPr/>
        </p:nvPicPr>
        <p:blipFill>
          <a:blip r:embed="rId2"/>
          <a:stretch/>
        </p:blipFill>
        <p:spPr>
          <a:xfrm>
            <a:off x="468360" y="2060640"/>
            <a:ext cx="4968720" cy="328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lises parisiennes, la plus grande ap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 Notre-Dame. C`est aussi un centre de musique religieus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48440" y="2093400"/>
            <a:ext cx="28065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glise Saint-Eusta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belle basilique de Paris construite en pierre blanche.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e quartier Montmartr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05160" y="2246040"/>
            <a:ext cx="294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Sacr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sakre-ker"/>
          <p:cNvPicPr/>
          <p:nvPr/>
        </p:nvPicPr>
        <p:blipFill>
          <a:blip r:embed="rId1"/>
          <a:stretch/>
        </p:blipFill>
        <p:spPr>
          <a:xfrm>
            <a:off x="539640" y="2349360"/>
            <a:ext cx="5184720" cy="366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plus grand 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â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 de Paris, l`aca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ie de la musique. La salle de spectacles a 2000 place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6360" y="5157720"/>
            <a:ext cx="3529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Op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9" descr="10197"/>
          <p:cNvPicPr/>
          <p:nvPr/>
        </p:nvPicPr>
        <p:blipFill>
          <a:blip r:embed="rId1"/>
          <a:stretch/>
        </p:blipFill>
        <p:spPr>
          <a:xfrm>
            <a:off x="1193760" y="2171880"/>
            <a:ext cx="2565360" cy="248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10199"/>
          <p:cNvPicPr/>
          <p:nvPr/>
        </p:nvPicPr>
        <p:blipFill>
          <a:blip r:embed="rId2"/>
          <a:stretch/>
        </p:blipFill>
        <p:spPr>
          <a:xfrm>
            <a:off x="1476360" y="4292640"/>
            <a:ext cx="3024360" cy="229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10201"/>
          <p:cNvPicPr/>
          <p:nvPr/>
        </p:nvPicPr>
        <p:blipFill>
          <a:blip r:embed="rId3"/>
          <a:stretch/>
        </p:blipFill>
        <p:spPr>
          <a:xfrm>
            <a:off x="4572000" y="2060640"/>
            <a:ext cx="3798720" cy="28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ок французского язы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в 6 класс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и урока: формирование социокультурной компетен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`univers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dans le monde enti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ll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fo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au X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0720" y="2306520"/>
            <a:ext cx="423864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orbon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5" descr="Sorbonne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aris7_02"/>
          <p:cNvPicPr/>
          <p:nvPr/>
        </p:nvPicPr>
        <p:blipFill>
          <a:blip r:embed="rId2"/>
          <a:stretch/>
        </p:blipFill>
        <p:spPr>
          <a:xfrm>
            <a:off x="3564000" y="3500280"/>
            <a:ext cx="4465440" cy="297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6483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stez-vous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2940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la t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le p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la c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le m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l`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les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le cen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 l`a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  le 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  la basil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.  la riv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.  l`univers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4360" y="1915920"/>
            <a:ext cx="4390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Saint-Eust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 de la Sorbon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  du Louv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.   Pompid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  l`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   la Se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  le Sac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   des Champs-El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  Notre-D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.   de Triomp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.   de la C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.    Eiff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  le Champ-de-M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.   de la Concorde, de la Bastil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evine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гадайс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 monumen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, qui est devenu symbole de Paris. Il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 pour l`exposition universelle de 1889 sur le projet de l`ing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ieur Gustave Eiffel. Il a 300 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s de hau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05160" y="201780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Tour Eiff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9" descr="P7200121"/>
          <p:cNvPicPr/>
          <p:nvPr/>
        </p:nvPicPr>
        <p:blipFill>
          <a:blip r:embed="rId1"/>
          <a:stretch/>
        </p:blipFill>
        <p:spPr>
          <a:xfrm>
            <a:off x="611280" y="2205000"/>
            <a:ext cx="5329080" cy="4002120"/>
          </a:xfrm>
          <a:prstGeom prst="rect">
            <a:avLst/>
          </a:prstGeom>
          <a:ln w="0">
            <a:noFill/>
          </a:ln>
        </p:spPr>
      </p:pic>
      <p:pic>
        <p:nvPicPr>
          <p:cNvPr id="108" name="18 - Sous le ciel de Paris.mp3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750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grand parc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 la Tour Eiffel,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le militaire, le palais de Chaillo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48440" y="2017800"/>
            <a:ext cx="280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Champ-de-M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eif"/>
          <p:cNvPicPr/>
          <p:nvPr/>
        </p:nvPicPr>
        <p:blipFill>
          <a:blip r:embed="rId1"/>
          <a:stretch/>
        </p:blipFill>
        <p:spPr>
          <a:xfrm>
            <a:off x="684360" y="2349360"/>
            <a:ext cx="5257800" cy="394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qui divise Paris en deux parties: la rive gauche et la rive droite. Sur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il y a 35 ponts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21160" y="201780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e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7" descr="sena3"/>
          <p:cNvPicPr/>
          <p:nvPr/>
        </p:nvPicPr>
        <p:blipFill>
          <a:blip r:embed="rId1"/>
          <a:stretch/>
        </p:blipFill>
        <p:spPr>
          <a:xfrm>
            <a:off x="539640" y="2565360"/>
            <a:ext cx="5616720" cy="304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qui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au milieu de la Seine. Sur cett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se trouve un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58920" y="4902120"/>
            <a:ext cx="589572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de la Cit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15" descr="102_119_20"/>
          <p:cNvPicPr/>
          <p:nvPr/>
        </p:nvPicPr>
        <p:blipFill>
          <a:blip r:embed="rId1"/>
          <a:srcRect l="0" t="0" r="0" b="7288"/>
          <a:stretch/>
        </p:blipFill>
        <p:spPr>
          <a:xfrm>
            <a:off x="1547640" y="2349360"/>
            <a:ext cx="5985000" cy="26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e; une vraie symphonie de pierre,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de la C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Notre Dame de Par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notr-dam1"/>
          <p:cNvPicPr/>
          <p:nvPr/>
        </p:nvPicPr>
        <p:blipFill>
          <a:blip r:embed="rId1"/>
          <a:stretch/>
        </p:blipFill>
        <p:spPr>
          <a:xfrm>
            <a:off x="468360" y="2421000"/>
            <a:ext cx="5256000" cy="322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l`origine, c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une forteresse, puis le palais des rois de France.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, le palais est devenu le plus grand mu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e France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1915920"/>
            <a:ext cx="3429000" cy="115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Louv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8" descr="france_luvr"/>
          <p:cNvPicPr/>
          <p:nvPr/>
        </p:nvPicPr>
        <p:blipFill>
          <a:blip r:embed="rId1"/>
          <a:stretch/>
        </p:blipFill>
        <p:spPr>
          <a:xfrm>
            <a:off x="900000" y="2205000"/>
            <a:ext cx="448812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A5NRDRX"/>
          <p:cNvPicPr/>
          <p:nvPr/>
        </p:nvPicPr>
        <p:blipFill>
          <a:blip r:embed="rId2"/>
          <a:stretch/>
        </p:blipFill>
        <p:spPr>
          <a:xfrm>
            <a:off x="468360" y="400536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Louvre2"/>
          <p:cNvPicPr/>
          <p:nvPr/>
        </p:nvPicPr>
        <p:blipFill>
          <a:blip r:embed="rId3"/>
          <a:stretch/>
        </p:blipFill>
        <p:spPr>
          <a:xfrm>
            <a:off x="3851280" y="3933720"/>
            <a:ext cx="3960720" cy="264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3:39:13Z</dcterms:created>
  <dc:creator>Lena</dc:creator>
  <dc:description/>
  <dc:language>en-US</dc:language>
  <cp:lastModifiedBy>user</cp:lastModifiedBy>
  <dcterms:modified xsi:type="dcterms:W3CDTF">2017-05-19T12:30:45Z</dcterms:modified>
  <cp:revision>42</cp:revision>
  <dc:subject/>
  <dc:title>Урок французского языка в 6 классе по теме:</dc:title>
</cp:coreProperties>
</file>