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FA0-4DCC-4F6A-81CA-27ACE138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02D-05F0-48CE-989A-C83FB84C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D18-31E2-459A-99D9-5BFFF1BC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C78-EE9F-4E6F-A111-0EC9AA7E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A7A5-607A-4B37-A801-CCDC6E71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9997-F820-4B5E-BB06-9988826B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8CEE-A5CA-4449-BE04-D8008E0F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5622-0013-485A-9E89-252D90F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39FE-FF12-4A5C-8811-7D519964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101D-D751-4DB2-B203-E3C9A059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B2C6-BB4A-4DCE-8EFC-7273CA1D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478-C802-4655-AB0A-582AC1F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A69B-1A5E-4E26-A220-CFA891D5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C8CA-8AF0-4D18-B902-44BF956B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BAC8-819C-424D-969B-E26C75AF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9636-F1F5-401E-B293-99C37EE7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B66E-677C-4DE8-976E-BCD482F4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840-1FC8-4370-91B5-EED03536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4E5-673A-4A99-8A9D-ADCD97CD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292-E225-4FB3-8ED5-49D26C4C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169-EC74-4CA8-BE5A-C10743A8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7C3-C02C-4A84-A8C1-A17D50F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8B3-7C78-4AF1-93A5-3036C6D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37F-1057-4C9A-AAED-6C12735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73DC-6094-4161-A65A-3C52A2FBA2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EAD3-4894-44F9-840D-8BD9F09E476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ahoma"/>
              </a:rPr>
              <a:t>Прогулка по Парижу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 des plus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s tableaux qui se trouve au Louvre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73880" y="2017800"/>
            <a:ext cx="338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Jocon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7" descr="luvr4"/>
          <p:cNvPicPr/>
          <p:nvPr/>
        </p:nvPicPr>
        <p:blipFill>
          <a:blip r:embed="rId1"/>
          <a:stretch/>
        </p:blipFill>
        <p:spPr>
          <a:xfrm>
            <a:off x="1547640" y="1989000"/>
            <a:ext cx="3584880" cy="431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ette construction moderne qui s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ve dans la cour carr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u Louvre appar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 dans nos jours. Elle est construite par un grand architecte am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cain d`origine chinoise Yao Ming Pei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91320" y="2017800"/>
            <a:ext cx="316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Pyramide  du Louv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7" descr="056_05"/>
          <p:cNvPicPr/>
          <p:nvPr/>
        </p:nvPicPr>
        <p:blipFill>
          <a:blip r:embed="rId1"/>
          <a:stretch/>
        </p:blipFill>
        <p:spPr>
          <a:xfrm>
            <a:off x="611280" y="2349360"/>
            <a:ext cx="5040360" cy="3372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 monument qui se dresse au milieu de la place Charles de Gaulle. Autour de la place il y a douze larges avenues qui font un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il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61160" y="2017800"/>
            <a:ext cx="309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Arc de Triomp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7" descr="triumf_arka"/>
          <p:cNvPicPr/>
          <p:nvPr/>
        </p:nvPicPr>
        <p:blipFill>
          <a:blip r:embed="rId1"/>
          <a:stretch/>
        </p:blipFill>
        <p:spPr>
          <a:xfrm>
            <a:off x="1193760" y="2502000"/>
            <a:ext cx="4554720" cy="349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e des plus belles et des  plus vastes places du monde. Elle a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construite au XVIII 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e. Elle est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 pour son ob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isqu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40360" y="5660640"/>
            <a:ext cx="464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 place de la Conc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9" descr="concorde1"/>
          <p:cNvPicPr/>
          <p:nvPr/>
        </p:nvPicPr>
        <p:blipFill>
          <a:blip r:embed="rId1"/>
          <a:stretch/>
        </p:blipFill>
        <p:spPr>
          <a:xfrm>
            <a:off x="5580000" y="278136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96394521"/>
          <p:cNvPicPr/>
          <p:nvPr/>
        </p:nvPicPr>
        <p:blipFill>
          <a:blip r:embed="rId2"/>
          <a:stretch/>
        </p:blipFill>
        <p:spPr>
          <a:xfrm>
            <a:off x="179280" y="398448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concorde6"/>
          <p:cNvPicPr/>
          <p:nvPr/>
        </p:nvPicPr>
        <p:blipFill>
          <a:blip r:embed="rId3"/>
          <a:stretch/>
        </p:blipFill>
        <p:spPr>
          <a:xfrm>
            <a:off x="2050920" y="191628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plus grande  avenue de Paris 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e trouvent des ci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s, des restaurants, des banques et des commerces de lux. Elle lie l`Arc de Triomphe et la place de la Concord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elisey2"/>
          <p:cNvPicPr/>
          <p:nvPr/>
        </p:nvPicPr>
        <p:blipFill>
          <a:blip r:embed="rId1"/>
          <a:stretch/>
        </p:blipFill>
        <p:spPr>
          <a:xfrm>
            <a:off x="468360" y="3284640"/>
            <a:ext cx="5400720" cy="295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s Champs-Elys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20 - Les Champs-Elysees.mp3" descr=""/>
          <p:cNvPicPr/>
          <p:nvPr/>
        </p:nvPicPr>
        <p:blipFill>
          <a:blip r:embed="rId2"/>
          <a:stretch/>
        </p:blipFill>
        <p:spPr>
          <a:xfrm>
            <a:off x="6372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496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encore une place de Paris. Autrefois sur cette place se trouvait une prison, symbole de la tyrannie royale, Bastill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19640" y="2093400"/>
            <a:ext cx="373536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place de la Bastil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bastille"/>
          <p:cNvPicPr/>
          <p:nvPr/>
        </p:nvPicPr>
        <p:blipFill>
          <a:blip r:embed="rId1"/>
          <a:stretch/>
        </p:blipFill>
        <p:spPr>
          <a:xfrm>
            <a:off x="1116000" y="1989000"/>
            <a:ext cx="3579840" cy="468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 centre culturel fra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ç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is 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il y a une riche collection d`art moderne ( tableaux, sculptures, dessins). Le centre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ur le plateau Beaubourg en plein coeur de Pari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4760" y="2369880"/>
            <a:ext cx="285264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 Centre     Pompid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13" descr="w100-11070"/>
          <p:cNvPicPr/>
          <p:nvPr/>
        </p:nvPicPr>
        <p:blipFill>
          <a:blip r:embed="rId1"/>
          <a:stretch/>
        </p:blipFill>
        <p:spPr>
          <a:xfrm>
            <a:off x="5003640" y="4292640"/>
            <a:ext cx="3529080" cy="2368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img9505"/>
          <p:cNvPicPr/>
          <p:nvPr/>
        </p:nvPicPr>
        <p:blipFill>
          <a:blip r:embed="rId2"/>
          <a:stretch/>
        </p:blipFill>
        <p:spPr>
          <a:xfrm>
            <a:off x="468360" y="2060640"/>
            <a:ext cx="4968720" cy="328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e des plus belle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lises parisiennes, la plus grande apr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 Notre-Dame. C`est aussi un centre de musique religieus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48440" y="2093400"/>
            <a:ext cx="28065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glise Saint-Eustac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5" descr="Безымянный"/>
          <p:cNvPicPr/>
          <p:nvPr/>
        </p:nvPicPr>
        <p:blipFill>
          <a:blip r:embed="rId1"/>
          <a:stretch/>
        </p:blipFill>
        <p:spPr>
          <a:xfrm>
            <a:off x="539640" y="227664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plus belle basilique de Paris construite en pierre blanche. Elle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ans le quartier Montmartr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05160" y="2246040"/>
            <a:ext cx="2949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 Sacr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-Co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sakre-ker"/>
          <p:cNvPicPr/>
          <p:nvPr/>
        </p:nvPicPr>
        <p:blipFill>
          <a:blip r:embed="rId1"/>
          <a:stretch/>
        </p:blipFill>
        <p:spPr>
          <a:xfrm>
            <a:off x="539640" y="2349360"/>
            <a:ext cx="5184720" cy="3660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e plus grand th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â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e de Paris, l`aca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ie de la musique. La salle de spectacles a 2000 place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6360" y="5157720"/>
            <a:ext cx="35290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Op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r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9" descr="10197"/>
          <p:cNvPicPr/>
          <p:nvPr/>
        </p:nvPicPr>
        <p:blipFill>
          <a:blip r:embed="rId1"/>
          <a:stretch/>
        </p:blipFill>
        <p:spPr>
          <a:xfrm>
            <a:off x="1193760" y="2171880"/>
            <a:ext cx="2565360" cy="248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10199"/>
          <p:cNvPicPr/>
          <p:nvPr/>
        </p:nvPicPr>
        <p:blipFill>
          <a:blip r:embed="rId2"/>
          <a:stretch/>
        </p:blipFill>
        <p:spPr>
          <a:xfrm>
            <a:off x="1476360" y="4292640"/>
            <a:ext cx="3024360" cy="229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10201"/>
          <p:cNvPicPr/>
          <p:nvPr/>
        </p:nvPicPr>
        <p:blipFill>
          <a:blip r:embed="rId3"/>
          <a:stretch/>
        </p:blipFill>
        <p:spPr>
          <a:xfrm>
            <a:off x="4572000" y="2060640"/>
            <a:ext cx="3798720" cy="28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ок французского языка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в 6 класс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и урока: формирование социокультурной компетен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`universi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un des plus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s dans le monde entier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ll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it fon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au XIII 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00720" y="2306520"/>
            <a:ext cx="423864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Sorbon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5" descr="Sorbonne"/>
          <p:cNvPicPr/>
          <p:nvPr/>
        </p:nvPicPr>
        <p:blipFill>
          <a:blip r:embed="rId1"/>
          <a:stretch/>
        </p:blipFill>
        <p:spPr>
          <a:xfrm>
            <a:off x="395280" y="2205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paris7_02"/>
          <p:cNvPicPr/>
          <p:nvPr/>
        </p:nvPicPr>
        <p:blipFill>
          <a:blip r:embed="rId2"/>
          <a:stretch/>
        </p:blipFill>
        <p:spPr>
          <a:xfrm>
            <a:off x="3564000" y="3500280"/>
            <a:ext cx="4465440" cy="297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920" y="549360"/>
            <a:ext cx="6483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estez-vous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2920" y="1915920"/>
            <a:ext cx="2940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la t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le pa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l`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la ca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le m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l`a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les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le cent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  l`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 l`ave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.  le 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.  la basil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.  la riv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.  l`univers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4360" y="1915920"/>
            <a:ext cx="4390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 Saint-Eusta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  de la Sorbon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   du Louv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.   Pompid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   l`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   la Se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   le Sac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o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   des Champs-El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   Notre-D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.   de Triomp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.   de la C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.    Eiff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  le Champ-de-M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.   de la Concorde, de la Bastil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Devine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гадайся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 monument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, qui est devenu symbole de Paris. Il a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construit pour l`exposition universelle de 1889 sur le projet de l`ing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ieur Gustave Eiffel. Il a 300 m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es de haut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05160" y="2017800"/>
            <a:ext cx="2949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Tour Eiff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9" descr="P7200121"/>
          <p:cNvPicPr/>
          <p:nvPr/>
        </p:nvPicPr>
        <p:blipFill>
          <a:blip r:embed="rId1"/>
          <a:stretch/>
        </p:blipFill>
        <p:spPr>
          <a:xfrm>
            <a:off x="611280" y="2205000"/>
            <a:ext cx="5329080" cy="4002120"/>
          </a:xfrm>
          <a:prstGeom prst="rect">
            <a:avLst/>
          </a:prstGeom>
          <a:ln w="0">
            <a:noFill/>
          </a:ln>
        </p:spPr>
      </p:pic>
      <p:pic>
        <p:nvPicPr>
          <p:cNvPr id="108" name="18 - Sous le ciel de Paris.mp3" descr=""/>
          <p:cNvPicPr/>
          <p:nvPr/>
        </p:nvPicPr>
        <p:blipFill>
          <a:blip r:embed="rId2"/>
          <a:stretch/>
        </p:blipFill>
        <p:spPr>
          <a:xfrm>
            <a:off x="6300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7750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e grand parc 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e trouve la Tour Eiffel, l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le militaire, le palais de Chaillot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48440" y="2017800"/>
            <a:ext cx="280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 Champ-de-Ma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eif"/>
          <p:cNvPicPr/>
          <p:nvPr/>
        </p:nvPicPr>
        <p:blipFill>
          <a:blip r:embed="rId1"/>
          <a:stretch/>
        </p:blipFill>
        <p:spPr>
          <a:xfrm>
            <a:off x="684360" y="2349360"/>
            <a:ext cx="5257800" cy="394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riv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 qui divise Paris en deux parties: la rive gauche et la rive droite. Sur la riv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 il y a 35 ponts!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21160" y="2017800"/>
            <a:ext cx="273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Se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7" descr="sena3"/>
          <p:cNvPicPr/>
          <p:nvPr/>
        </p:nvPicPr>
        <p:blipFill>
          <a:blip r:embed="rId1"/>
          <a:stretch/>
        </p:blipFill>
        <p:spPr>
          <a:xfrm>
            <a:off x="539640" y="2565360"/>
            <a:ext cx="5616720" cy="304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 qui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au milieu de la Seine. Sur cett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 se trouve une cath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le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58920" y="4902120"/>
            <a:ext cx="589572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î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 de la Cit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15" descr="102_119_20"/>
          <p:cNvPicPr/>
          <p:nvPr/>
        </p:nvPicPr>
        <p:blipFill>
          <a:blip r:embed="rId1"/>
          <a:srcRect l="0" t="0" r="0" b="7288"/>
          <a:stretch/>
        </p:blipFill>
        <p:spPr>
          <a:xfrm>
            <a:off x="1547640" y="2349360"/>
            <a:ext cx="5985000" cy="266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plus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 cath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le fra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ç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ise; une vraie symphonie de pierre, elle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ans l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 de la Ci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61160" y="2017800"/>
            <a:ext cx="309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Notre Dame de Par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notr-dam1"/>
          <p:cNvPicPr/>
          <p:nvPr/>
        </p:nvPicPr>
        <p:blipFill>
          <a:blip r:embed="rId1"/>
          <a:stretch/>
        </p:blipFill>
        <p:spPr>
          <a:xfrm>
            <a:off x="468360" y="2421000"/>
            <a:ext cx="5256000" cy="3227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 l`origine, c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it une forteresse, puis le palais des rois de France. Au XVIII 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e, le palais est devenu le plus grand mu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e France.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9640" y="1915920"/>
            <a:ext cx="3429000" cy="115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 Louv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8" descr="france_luvr"/>
          <p:cNvPicPr/>
          <p:nvPr/>
        </p:nvPicPr>
        <p:blipFill>
          <a:blip r:embed="rId1"/>
          <a:stretch/>
        </p:blipFill>
        <p:spPr>
          <a:xfrm>
            <a:off x="900000" y="2205000"/>
            <a:ext cx="448812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A5NRDRX"/>
          <p:cNvPicPr/>
          <p:nvPr/>
        </p:nvPicPr>
        <p:blipFill>
          <a:blip r:embed="rId2"/>
          <a:stretch/>
        </p:blipFill>
        <p:spPr>
          <a:xfrm>
            <a:off x="468360" y="400536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Louvre2"/>
          <p:cNvPicPr/>
          <p:nvPr/>
        </p:nvPicPr>
        <p:blipFill>
          <a:blip r:embed="rId3"/>
          <a:stretch/>
        </p:blipFill>
        <p:spPr>
          <a:xfrm>
            <a:off x="3851280" y="3933720"/>
            <a:ext cx="3960720" cy="264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3:39:13Z</dcterms:created>
  <dc:creator>Lena</dc:creator>
  <dc:description/>
  <dc:language>en-US</dc:language>
  <cp:lastModifiedBy>user</cp:lastModifiedBy>
  <dcterms:modified xsi:type="dcterms:W3CDTF">2017-05-19T12:30:45Z</dcterms:modified>
  <cp:revision>42</cp:revision>
  <dc:subject/>
  <dc:title>Урок французского языка в 6 классе по теме:</dc:title>
</cp:coreProperties>
</file>