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0F1-4C25-4F6B-8001-836A6AE6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20C-C967-48C3-93C4-4AE83D6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D79-D7AF-4DC6-BCA2-268E7EDF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E18-9D52-4555-9170-E0D9E683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3F70-F046-42E6-8C95-D8C6EDF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F44-D3AC-44E2-A367-952845F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097-C7EE-4157-9498-430D9A8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2EC-9E45-472B-A9AE-FE8CA4B6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990E-BA98-4D62-A3C2-A506C02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1D3A-CF68-4FEA-9C39-A534352A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B9A2-90EB-481F-B858-C6E0DAD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3F1-7D0E-407C-9DF3-557BA9D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5B17-338A-47A2-852C-E4DCC94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A0A-7AAC-4CA4-A6F5-26C7DD4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EE38-BE36-4E1A-92DD-00DD04E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6FED-FAC5-494F-8B11-D08FC038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FADB-36E3-4037-9B7A-4201A4BC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4D5-4D47-41D8-B9E5-E30D637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B10-9424-466B-97E7-389A31A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640-C774-4EF3-8EF7-A6919CF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2CD-050E-4694-908F-1C9DAA1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082-2247-4B3C-95FF-76E327E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50F-F379-4D5D-8D6B-D5832AA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DEB-2FC3-43F2-AB3A-CA1B2DB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F9A-67C0-4E61-8E4C-DF2F5F8CD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2282-844F-4F06-97E8-984A9AD49A2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ahoma"/>
              </a:rPr>
              <a:t>Прогулка по Парижу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tableaux qui se trouve au Louvre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73880" y="2017800"/>
            <a:ext cx="338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Jocon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7" descr="luvr4"/>
          <p:cNvPicPr/>
          <p:nvPr/>
        </p:nvPicPr>
        <p:blipFill>
          <a:blip r:embed="rId1"/>
          <a:stretch/>
        </p:blipFill>
        <p:spPr>
          <a:xfrm>
            <a:off x="1547640" y="1989000"/>
            <a:ext cx="358488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ette construction moderne qui s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e dans la cour car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u Louvre appar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 dans nos jours. Elle est construite par un grand architecte a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cain d`origine chinoise Yao Ming Pe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91320" y="2017800"/>
            <a:ext cx="316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yramide  du Louv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7" descr="056_05"/>
          <p:cNvPicPr/>
          <p:nvPr/>
        </p:nvPicPr>
        <p:blipFill>
          <a:blip r:embed="rId1"/>
          <a:stretch/>
        </p:blipFill>
        <p:spPr>
          <a:xfrm>
            <a:off x="611280" y="2349360"/>
            <a:ext cx="5040360" cy="337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monument qui se dresse au milieu de la place Charles de Gaulle. Autour de la place il y a douze larges avenues qui fon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i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Arc de Triomp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triumf_arka"/>
          <p:cNvPicPr/>
          <p:nvPr/>
        </p:nvPicPr>
        <p:blipFill>
          <a:blip r:embed="rId1"/>
          <a:stretch/>
        </p:blipFill>
        <p:spPr>
          <a:xfrm>
            <a:off x="1193760" y="2502000"/>
            <a:ext cx="4554720" cy="349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et des  plus vastes places du monde. Elle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e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 Elle es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pour son ob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squ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40360" y="5660640"/>
            <a:ext cx="464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 place de la Conc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9" descr="concorde1"/>
          <p:cNvPicPr/>
          <p:nvPr/>
        </p:nvPicPr>
        <p:blipFill>
          <a:blip r:embed="rId1"/>
          <a:stretch/>
        </p:blipFill>
        <p:spPr>
          <a:xfrm>
            <a:off x="5580000" y="2781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96394521"/>
          <p:cNvPicPr/>
          <p:nvPr/>
        </p:nvPicPr>
        <p:blipFill>
          <a:blip r:embed="rId2"/>
          <a:stretch/>
        </p:blipFill>
        <p:spPr>
          <a:xfrm>
            <a:off x="179280" y="398448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concorde6"/>
          <p:cNvPicPr/>
          <p:nvPr/>
        </p:nvPicPr>
        <p:blipFill>
          <a:blip r:embed="rId3"/>
          <a:stretch/>
        </p:blipFill>
        <p:spPr>
          <a:xfrm>
            <a:off x="2050920" y="191628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grande  avenue de Par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nt des ci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s, des restaurants, des banques et des commerces de lux. Elle lie l`Arc de Triomphe et la place de la Concord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elisey2"/>
          <p:cNvPicPr/>
          <p:nvPr/>
        </p:nvPicPr>
        <p:blipFill>
          <a:blip r:embed="rId1"/>
          <a:stretch/>
        </p:blipFill>
        <p:spPr>
          <a:xfrm>
            <a:off x="468360" y="3284640"/>
            <a:ext cx="540072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s Champs-Elys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20 - Les Champs-Elysees.mp3" descr=""/>
          <p:cNvPicPr/>
          <p:nvPr/>
        </p:nvPicPr>
        <p:blipFill>
          <a:blip r:embed="rId2"/>
          <a:stretch/>
        </p:blipFill>
        <p:spPr>
          <a:xfrm>
            <a:off x="6372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496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encore une place de Paris. Autrefois sur cette place se trouvait une prison, symbole de la tyrannie royale, Bastil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19640" y="2093400"/>
            <a:ext cx="37353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place de la Bastil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bastille"/>
          <p:cNvPicPr/>
          <p:nvPr/>
        </p:nvPicPr>
        <p:blipFill>
          <a:blip r:embed="rId1"/>
          <a:stretch/>
        </p:blipFill>
        <p:spPr>
          <a:xfrm>
            <a:off x="1116000" y="1989000"/>
            <a:ext cx="3579840" cy="468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 centre culturel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il y a une riche collection d`art moderne ( tableaux, sculptures, dessins). Le centr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ur le plateau Beaubourg en plein coeur de Pari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4760" y="2369880"/>
            <a:ext cx="28526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Centre     Pompid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13" descr="w100-11070"/>
          <p:cNvPicPr/>
          <p:nvPr/>
        </p:nvPicPr>
        <p:blipFill>
          <a:blip r:embed="rId1"/>
          <a:stretch/>
        </p:blipFill>
        <p:spPr>
          <a:xfrm>
            <a:off x="5003640" y="4292640"/>
            <a:ext cx="3529080" cy="236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img9505"/>
          <p:cNvPicPr/>
          <p:nvPr/>
        </p:nvPicPr>
        <p:blipFill>
          <a:blip r:embed="rId2"/>
          <a:stretch/>
        </p:blipFill>
        <p:spPr>
          <a:xfrm>
            <a:off x="468360" y="2060640"/>
            <a:ext cx="4968720" cy="328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des plus belle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lises parisiennes, la plus grande ap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 Notre-Dame. C`est aussi un centre de musique religieus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48440" y="2093400"/>
            <a:ext cx="28065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glise Saint-Eusta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belle basilique de Paris construite en pierre blanche.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e quartier Montmartr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05160" y="2246040"/>
            <a:ext cx="294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Sacr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sakre-ker"/>
          <p:cNvPicPr/>
          <p:nvPr/>
        </p:nvPicPr>
        <p:blipFill>
          <a:blip r:embed="rId1"/>
          <a:stretch/>
        </p:blipFill>
        <p:spPr>
          <a:xfrm>
            <a:off x="539640" y="2349360"/>
            <a:ext cx="5184720" cy="366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plus grand 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â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 de Paris, l`aca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ie de la musique. La salle de spectacles a 2000 place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6360" y="5157720"/>
            <a:ext cx="3529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Op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9" descr="10197"/>
          <p:cNvPicPr/>
          <p:nvPr/>
        </p:nvPicPr>
        <p:blipFill>
          <a:blip r:embed="rId1"/>
          <a:stretch/>
        </p:blipFill>
        <p:spPr>
          <a:xfrm>
            <a:off x="1193760" y="2171880"/>
            <a:ext cx="2565360" cy="248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10199"/>
          <p:cNvPicPr/>
          <p:nvPr/>
        </p:nvPicPr>
        <p:blipFill>
          <a:blip r:embed="rId2"/>
          <a:stretch/>
        </p:blipFill>
        <p:spPr>
          <a:xfrm>
            <a:off x="1476360" y="4292640"/>
            <a:ext cx="3024360" cy="229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10201"/>
          <p:cNvPicPr/>
          <p:nvPr/>
        </p:nvPicPr>
        <p:blipFill>
          <a:blip r:embed="rId3"/>
          <a:stretch/>
        </p:blipFill>
        <p:spPr>
          <a:xfrm>
            <a:off x="4572000" y="2060640"/>
            <a:ext cx="3798720" cy="28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ок французского язы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в 6 класс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и урока: формирование социокультурной компетен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`univers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un des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s dans le monde enti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ll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fo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au X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0720" y="2306520"/>
            <a:ext cx="423864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orbon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5" descr="Sorbonne"/>
          <p:cNvPicPr/>
          <p:nvPr/>
        </p:nvPicPr>
        <p:blipFill>
          <a:blip r:embed="rId1"/>
          <a:stretch/>
        </p:blipFill>
        <p:spPr>
          <a:xfrm>
            <a:off x="395280" y="2205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aris7_02"/>
          <p:cNvPicPr/>
          <p:nvPr/>
        </p:nvPicPr>
        <p:blipFill>
          <a:blip r:embed="rId2"/>
          <a:stretch/>
        </p:blipFill>
        <p:spPr>
          <a:xfrm>
            <a:off x="3564000" y="3500280"/>
            <a:ext cx="4465440" cy="297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6483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estez-vous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2940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la t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le p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la c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le m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l`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les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le cen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  l`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 l`a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  le 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  la basil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.  la riv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.  l`univers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4360" y="1915920"/>
            <a:ext cx="4390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Saint-Eust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 de la Sorbon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  du Louv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.   Pompid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  l`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   la Se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  le Sac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o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   des Champs-El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  Notre-D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.   de Triomp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.   de la C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.    Eiff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  le Champ-de-M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.   de la Concorde, de la Bastil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evine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гадайс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 monument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, qui est devenu symbole de Paris. Il a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construit pour l`exposition universelle de 1889 sur le projet de l`ing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ieur Gustave Eiffel. Il a 300 m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es de hau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05160" y="201780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Tour Eiff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9" descr="P7200121"/>
          <p:cNvPicPr/>
          <p:nvPr/>
        </p:nvPicPr>
        <p:blipFill>
          <a:blip r:embed="rId1"/>
          <a:stretch/>
        </p:blipFill>
        <p:spPr>
          <a:xfrm>
            <a:off x="611280" y="2205000"/>
            <a:ext cx="5329080" cy="4002120"/>
          </a:xfrm>
          <a:prstGeom prst="rect">
            <a:avLst/>
          </a:prstGeom>
          <a:ln w="0">
            <a:noFill/>
          </a:ln>
        </p:spPr>
      </p:pic>
      <p:pic>
        <p:nvPicPr>
          <p:cNvPr id="108" name="18 - Sous le ciel de Paris.mp3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750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e grand parc 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se trouve la Tour Eiffel,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le militaire, le palais de Chaillot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48440" y="2017800"/>
            <a:ext cx="280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Champ-de-M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eif"/>
          <p:cNvPicPr/>
          <p:nvPr/>
        </p:nvPicPr>
        <p:blipFill>
          <a:blip r:embed="rId1"/>
          <a:stretch/>
        </p:blipFill>
        <p:spPr>
          <a:xfrm>
            <a:off x="684360" y="2349360"/>
            <a:ext cx="5257800" cy="394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qui divise Paris en deux parties: la rive gauche et la rive droite. Sur la riv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 il y a 35 ponts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21160" y="201780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a Se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7" descr="sena3"/>
          <p:cNvPicPr/>
          <p:nvPr/>
        </p:nvPicPr>
        <p:blipFill>
          <a:blip r:embed="rId1"/>
          <a:stretch/>
        </p:blipFill>
        <p:spPr>
          <a:xfrm>
            <a:off x="539640" y="2565360"/>
            <a:ext cx="5616720" cy="304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un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qui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au milieu de la Seine. Sur cett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se trouve un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58920" y="4902120"/>
            <a:ext cx="589572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`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î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 de la Cit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15" descr="102_119_20"/>
          <p:cNvPicPr/>
          <p:nvPr/>
        </p:nvPicPr>
        <p:blipFill>
          <a:blip r:embed="rId1"/>
          <a:srcRect l="0" t="0" r="0" b="7288"/>
          <a:stretch/>
        </p:blipFill>
        <p:spPr>
          <a:xfrm>
            <a:off x="1547640" y="2349360"/>
            <a:ext cx="5985000" cy="26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`est la plus 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re cath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le fra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ç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se; une vraie symphonie de pierre, elle est situ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ans l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 de la Ci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61160" y="2017800"/>
            <a:ext cx="309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Notre Dame de Par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notr-dam1"/>
          <p:cNvPicPr/>
          <p:nvPr/>
        </p:nvPicPr>
        <p:blipFill>
          <a:blip r:embed="rId1"/>
          <a:stretch/>
        </p:blipFill>
        <p:spPr>
          <a:xfrm>
            <a:off x="468360" y="2421000"/>
            <a:ext cx="5256000" cy="322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l`origine, c`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it une forteresse, puis le palais des rois de France. Au XVIII s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e, le palais est devenu le plus grand mu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de France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1915920"/>
            <a:ext cx="3429000" cy="115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 Louv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8" descr="france_luvr"/>
          <p:cNvPicPr/>
          <p:nvPr/>
        </p:nvPicPr>
        <p:blipFill>
          <a:blip r:embed="rId1"/>
          <a:stretch/>
        </p:blipFill>
        <p:spPr>
          <a:xfrm>
            <a:off x="900000" y="2205000"/>
            <a:ext cx="448812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A5NRDRX"/>
          <p:cNvPicPr/>
          <p:nvPr/>
        </p:nvPicPr>
        <p:blipFill>
          <a:blip r:embed="rId2"/>
          <a:stretch/>
        </p:blipFill>
        <p:spPr>
          <a:xfrm>
            <a:off x="468360" y="400536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Louvre2"/>
          <p:cNvPicPr/>
          <p:nvPr/>
        </p:nvPicPr>
        <p:blipFill>
          <a:blip r:embed="rId3"/>
          <a:stretch/>
        </p:blipFill>
        <p:spPr>
          <a:xfrm>
            <a:off x="3851280" y="3933720"/>
            <a:ext cx="3960720" cy="264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3:39:13Z</dcterms:created>
  <dc:creator>Lena</dc:creator>
  <dc:description/>
  <dc:language>en-US</dc:language>
  <cp:lastModifiedBy>user</cp:lastModifiedBy>
  <dcterms:modified xsi:type="dcterms:W3CDTF">2017-05-19T12:30:45Z</dcterms:modified>
  <cp:revision>42</cp:revision>
  <dc:subject/>
  <dc:title>Урок французского языка в 6 классе по теме:</dc:title>
</cp:coreProperties>
</file>