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81D6-90F8-4EC4-A5F7-3D4A6A547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3199-1055-488B-A0C7-3F384A0B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9179-2D3F-409F-A83D-0D3E357C5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61C2-9F7B-49C2-90B3-F8D8C1CD8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E5DE-62EF-4168-A6DB-805413D5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3BCD-DE19-4213-B035-6F597232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08A0-33D2-4898-A116-9931D02F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08B5-4446-49D4-9F7A-E5A17D78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2C95-8E5F-4F72-9C61-1263BE13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9DEA-C0D7-4195-9F0F-584A2AEA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5BAE-1DD3-47C5-B8DE-15D3959C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88AB-670F-4693-931C-EE4A285B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7EA8-E67F-4EBC-9B4F-C74FF13F83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958160" cy="31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униципальное дошкольное образовательное автономное учреждение «Детский сад №143»</a:t>
            </a:r>
            <a:br>
              <a:rPr sz="14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Наставничество как инструмент повышения качества образования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343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полни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дведенко О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Цели национального проекта «Образование»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. Обеспечение глобальной конкурентоспособности российского образования, вхождение России в число 10 ведущих стран мира по качеству общего образован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2. Воспитание гармонично развитой и социально ответственной личности на основе духовно-нравственных ценностей народов Российской Федерации, исторических и национально-культурных традици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Содержимое 2" descr=""/>
          <p:cNvPicPr/>
          <p:nvPr/>
        </p:nvPicPr>
        <p:blipFill>
          <a:blip r:embed="rId1"/>
          <a:stretch/>
        </p:blipFill>
        <p:spPr>
          <a:xfrm>
            <a:off x="450720" y="493560"/>
            <a:ext cx="145036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«Наставничество - кадровая технология, обеспечивающая передачу посредством планомерной работы знаний, навыков и установок от более опытного сотрудника - менее опытному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«Наставничество - форма обеспечения профессионального становления, развития и адаптации к квалифицированному исполнению должностных обязанностей лиц, в отношении которых осуществляется наставничество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. «Наставничество - образовательный процесс на рабочем месте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. «Наставничество - система адаптации и профессионального развития молодых сотрудников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5. «Наставничество - часть корпоративной культуры всех инновационных компаний, это среда, в которой накапливаются и передаются знания, навыки, опыт и успешные модели поведения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6. «Наставничество - хранитель знаний и ключевой механизм инновационного процесса в компании, мотиватор современных молодых сотрудников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спользование дистанционных образовательных технолог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2" descr=""/>
          <p:cNvPicPr/>
          <p:nvPr/>
        </p:nvPicPr>
        <p:blipFill>
          <a:blip r:embed="rId1"/>
          <a:stretch/>
        </p:blipFill>
        <p:spPr>
          <a:xfrm>
            <a:off x="450720" y="1706400"/>
            <a:ext cx="8242560" cy="44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ущность деятельности наставника в образовании педагогов включает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методическую поддержку (обучение профессиональным умениям по какому-либо конкретному вопросу, например использование ДОТ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устранение внутренних дефицитов сопровождаемых (наставляемых), т.е. создание условий для формирования у них готовности самостоятельно разрешать тот или иной тип профессиональных пробле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1-28T18:52:54Z</dcterms:created>
  <dc:creator>79501</dc:creator>
  <dc:description/>
  <dc:language>en-US</dc:language>
  <cp:lastModifiedBy>79501845101</cp:lastModifiedBy>
  <dcterms:modified xsi:type="dcterms:W3CDTF">2023-11-28T19:48:39Z</dcterms:modified>
  <cp:revision>7</cp:revision>
  <dc:subject/>
  <dc:title>Наставничество как инструмент повышения качества образования</dc:title>
</cp:coreProperties>
</file>