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CF9-0A40-4816-A82A-8517AB4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324-C92A-4DA6-8732-E930115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2EF-19D8-4959-AF00-6F1147A8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088-2886-4C4C-876D-623B43B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4E9-71D1-435E-B5C2-F42CCEC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AE1-E709-4F33-9584-CEAD402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9D3-3DAC-4080-9DAB-A73C8FB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BB8-ADDB-4E7A-95B0-51B69C79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A7C-8CA1-4A9F-8DF4-F01956AD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F92-66BC-4863-9DFC-14A7CB6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87F-5897-4C03-9300-3B3C4FF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D37-A948-4A0C-BCBD-61ABC98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0B7-68CF-46A9-848A-1870F3B4A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95816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автономное учреждение «Детский сад №143»</a:t>
            </a:r>
            <a:br>
              <a:rPr sz="14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аставничество как инструмент повышения качества образова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енко О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национального проекта «Образование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Обеспечение глобальной конкурентоспособности российского образования, вхождение России в число 10 ведущих стран мира по качеству общего образ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Воспитание гармонично развитой и социально ответственной личности на основе духовно-нравственных ценностей народов Российской Федерации, исторических и национально-культурных традиц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14503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«Наставничество - кадровая технология, обеспечивающая передачу посредством планомерной работы знаний, навыков и установок от более опытного сотрудника - менее опытному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«Наставничество - форма обеспечения профессионального становления, развития и адаптации к квалифицированному исполнению должностных обязанностей лиц, в отношении которых осуществляется наставничество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«Наставничество - образовательный процесс на рабочем месте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Наставничество - система адаптации и профессионального развития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«Наставничество - часть корпоративной культуры всех инновационных компаний, это среда, в которой накапливаются и передаются знания, навыки, опыт и успешные модели поведения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«Наставничество - хранитель знаний и ключевой механизм инновационного процесса в компании, мотиватор современных молодых сотрудников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дистанционных образовательны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425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ущность деятельности наставника в образовании педагогов включа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тодическую поддержку (обучение профессиональным умениям по какому-либо конкретному вопросу, например использование ДОТ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странение внутренних дефицитов сопровождаемых (наставляемых), т.е. создание условий для формирования у них готовности самостоятельно разрешать тот или иной тип профессиональных пробл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8T18:52:54Z</dcterms:created>
  <dc:creator>79501</dc:creator>
  <dc:description/>
  <dc:language>en-US</dc:language>
  <cp:lastModifiedBy>79501845101</cp:lastModifiedBy>
  <dcterms:modified xsi:type="dcterms:W3CDTF">2023-11-28T19:48:39Z</dcterms:modified>
  <cp:revision>7</cp:revision>
  <dc:subject/>
  <dc:title>Наставничество как инструмент повышения качества образования</dc:title>
</cp:coreProperties>
</file>