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EA5-CE7A-4734-B5B3-4C807EE9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2FB-EAE6-45F9-9B52-C2708B44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051-50C6-42DB-BEFA-2202B97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379-B7C3-47C3-A361-E7CD36E4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98B-2AF1-4BD2-9B5D-7FF1F6F3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B5E-0310-4E6E-B188-0B3EFA1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B62-2131-402E-8F4D-88D43AF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2A4-A9B9-4B70-9D0E-FF88B17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4EB-D31A-4C8A-B909-29F504C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DD9-79FD-433F-BCFE-2E4FD7E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371-8ED1-4561-9F49-17FBBFD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83E-E4AB-43E1-AFAF-2131A01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FB8-7F90-491C-9323-F52D19CB5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95816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автономное учреждение «Детский сад №143»</a:t>
            </a:r>
            <a:br>
              <a:rPr sz="14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аставничество как инструмент повышения качества образова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енко О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национального проекта «Образование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Обеспечение глобальной конкурентоспособности российского образования, вхождение России в число 10 ведущих стран мира по качеству общего образ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Воспитание гармонично развитой и социально ответственной личности на основе духовно-нравственных ценностей народов Российской Федерации, исторических и национально-культурных традиц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14503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«Наставничество - кадровая технология, обеспечивающая передачу посредством планомерной работы знаний, навыков и установок от более опытного сотрудника - менее опытному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«Наставничество - форма обеспечения профессионального становления, развития и адаптации к квалифицированному исполнению должностных обязанностей лиц, в отношении которых осуществляется наставничество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«Наставничество - образовательный процесс на рабочем месте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Наставничество - система адаптации и профессионального развития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«Наставничество - часть корпоративной культуры всех инновационных компаний, это среда, в которой накапливаются и передаются знания, навыки, опыт и успешные модели поведения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«Наставничество - хранитель знаний и ключевой механизм инновационного процесса в компании, мотиватор современных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дистанционных образовательны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425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ущность деятельности наставника в образовании педагогов включа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тодическую поддержку (обучение профессиональным умениям по какому-либо конкретному вопросу, например использование ДОТ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странение внутренних дефицитов сопровождаемых (наставляемых), т.е. создание условий для формирования у них готовности самостоятельно разрешать тот или иной тип профессиональных пробл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8T18:52:54Z</dcterms:created>
  <dc:creator>79501</dc:creator>
  <dc:description/>
  <dc:language>en-US</dc:language>
  <cp:lastModifiedBy>79501845101</cp:lastModifiedBy>
  <dcterms:modified xsi:type="dcterms:W3CDTF">2023-11-28T19:48:39Z</dcterms:modified>
  <cp:revision>7</cp:revision>
  <dc:subject/>
  <dc:title>Наставничество как инструмент повышения качества образования</dc:title>
</cp:coreProperties>
</file>