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4F3-BB1E-406F-AF75-ED4728DF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71B-AAEF-48AE-A577-F4B137E3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462-E375-40D2-883D-9E242E51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DEC-4889-481D-A0EF-8C4494A3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E15-4259-4DF1-A134-0EFF9B5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C10-A331-4BEF-B851-4D2A033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0A1-4A60-4EA5-8C70-7156660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62B-B0D5-4990-B9EA-E6CBB3D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363-7C2F-486C-8AB0-F215DF51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E59-3C24-48B7-958C-91EA426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609-6FB4-49E0-B6E5-2376AFC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14C-A7C7-4AB1-9C25-981EE17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6DC4-011F-428C-B670-3658CBDD0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5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6480"/>
            <a:ext cx="2143080" cy="142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-581040"/>
            <a:ext cx="76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2122560" y="3240"/>
            <a:ext cx="17334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0" y="1432080"/>
            <a:ext cx="2106720" cy="2106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2106720" y="1432080"/>
            <a:ext cx="1749240" cy="2106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>
            <a:off x="385596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6"/>
          <a:stretch/>
        </p:blipFill>
        <p:spPr>
          <a:xfrm>
            <a:off x="3851280" y="1432080"/>
            <a:ext cx="1909800" cy="210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"/>
          <p:cNvPicPr/>
          <p:nvPr/>
        </p:nvPicPr>
        <p:blipFill>
          <a:blip r:embed="rId7"/>
          <a:stretch/>
        </p:blipFill>
        <p:spPr>
          <a:xfrm>
            <a:off x="5761080" y="3240"/>
            <a:ext cx="15476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"/>
          <p:cNvPicPr/>
          <p:nvPr/>
        </p:nvPicPr>
        <p:blipFill>
          <a:blip r:embed="rId8"/>
          <a:stretch/>
        </p:blipFill>
        <p:spPr>
          <a:xfrm>
            <a:off x="5761080" y="1420920"/>
            <a:ext cx="1547640" cy="211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9"/>
          <a:stretch/>
        </p:blipFill>
        <p:spPr>
          <a:xfrm>
            <a:off x="7308720" y="-7920"/>
            <a:ext cx="18352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10"/>
          <a:stretch/>
        </p:blipFill>
        <p:spPr>
          <a:xfrm>
            <a:off x="7308720" y="1432080"/>
            <a:ext cx="1835280" cy="2106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"/>
          <p:cNvPicPr/>
          <p:nvPr/>
        </p:nvPicPr>
        <p:blipFill>
          <a:blip r:embed="rId11"/>
          <a:stretch/>
        </p:blipFill>
        <p:spPr>
          <a:xfrm>
            <a:off x="0" y="3538440"/>
            <a:ext cx="2106720" cy="1579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"/>
          <p:cNvPicPr/>
          <p:nvPr/>
        </p:nvPicPr>
        <p:blipFill>
          <a:blip r:embed="rId12"/>
          <a:stretch/>
        </p:blipFill>
        <p:spPr>
          <a:xfrm>
            <a:off x="2106720" y="3538440"/>
            <a:ext cx="1749240" cy="1579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"/>
          <p:cNvPicPr/>
          <p:nvPr/>
        </p:nvPicPr>
        <p:blipFill>
          <a:blip r:embed="rId13"/>
          <a:stretch/>
        </p:blipFill>
        <p:spPr>
          <a:xfrm>
            <a:off x="3855960" y="3490920"/>
            <a:ext cx="190512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"/>
          <p:cNvPicPr/>
          <p:nvPr/>
        </p:nvPicPr>
        <p:blipFill>
          <a:blip r:embed="rId14"/>
          <a:stretch/>
        </p:blipFill>
        <p:spPr>
          <a:xfrm>
            <a:off x="5761080" y="3538440"/>
            <a:ext cx="1547640" cy="157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"/>
          <p:cNvPicPr/>
          <p:nvPr/>
        </p:nvPicPr>
        <p:blipFill>
          <a:blip r:embed="rId15"/>
          <a:stretch/>
        </p:blipFill>
        <p:spPr>
          <a:xfrm>
            <a:off x="7308720" y="3514680"/>
            <a:ext cx="1835280" cy="1579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8" descr=""/>
          <p:cNvPicPr/>
          <p:nvPr/>
        </p:nvPicPr>
        <p:blipFill>
          <a:blip r:embed="rId16"/>
          <a:stretch/>
        </p:blipFill>
        <p:spPr>
          <a:xfrm>
            <a:off x="0" y="5094360"/>
            <a:ext cx="2122560" cy="1763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"/>
          <p:cNvPicPr/>
          <p:nvPr/>
        </p:nvPicPr>
        <p:blipFill>
          <a:blip r:embed="rId17"/>
          <a:stretch/>
        </p:blipFill>
        <p:spPr>
          <a:xfrm>
            <a:off x="2124000" y="5129280"/>
            <a:ext cx="17319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2" descr=""/>
          <p:cNvPicPr/>
          <p:nvPr/>
        </p:nvPicPr>
        <p:blipFill>
          <a:blip r:embed="rId18"/>
          <a:stretch/>
        </p:blipFill>
        <p:spPr>
          <a:xfrm>
            <a:off x="3851280" y="5126040"/>
            <a:ext cx="190980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3" descr=""/>
          <p:cNvPicPr/>
          <p:nvPr/>
        </p:nvPicPr>
        <p:blipFill>
          <a:blip r:embed="rId19"/>
          <a:stretch/>
        </p:blipFill>
        <p:spPr>
          <a:xfrm>
            <a:off x="5761080" y="5126040"/>
            <a:ext cx="15476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6" descr=""/>
          <p:cNvPicPr/>
          <p:nvPr/>
        </p:nvPicPr>
        <p:blipFill>
          <a:blip r:embed="rId20"/>
          <a:stretch/>
        </p:blipFill>
        <p:spPr>
          <a:xfrm>
            <a:off x="7289640" y="5094360"/>
            <a:ext cx="1854360" cy="17636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3" descr=""/>
          <p:cNvPicPr/>
          <p:nvPr/>
        </p:nvPicPr>
        <p:blipFill>
          <a:blip r:embed="rId21"/>
          <a:stretch/>
        </p:blipFill>
        <p:spPr>
          <a:xfrm>
            <a:off x="0" y="32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15" descr="C:\Users\TURBO\Desktop\kisspng-play-table-tennis-ping-pong-paddles-sets-clip-ar-table-tennis-5abda610bf25e2.085178871522378256783.jpg"/>
          <p:cNvPicPr/>
          <p:nvPr/>
        </p:nvPicPr>
        <p:blipFill>
          <a:blip r:embed="rId1"/>
          <a:stretch/>
        </p:blipFill>
        <p:spPr>
          <a:xfrm>
            <a:off x="0" y="1036800"/>
            <a:ext cx="9252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286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ational Fun 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щенациона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ревнования по бег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yde  Park – 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Гайд Пар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981080" y="7621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85800" y="1752480"/>
            <a:ext cx="2133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438280" y="2590920"/>
            <a:ext cx="1295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914400" y="3429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057400" y="4572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685800" y="54864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M. Shumacher is a ….Formula One driver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useful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difficul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Journalists ….write  about hi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never  b)sometime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 Journalists say he is a …. sportsma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tired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new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He was born on the ….of  January 1969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b) 1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c) 3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.His ….. is Ral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cousin’s                       c) father’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56040" y="71424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wonderfu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794840" y="18572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of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870560" y="29289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very good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66320" y="40006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516760" y="51436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brother’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lli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Users\TURBO\Desktop\futbolnyye_trenirovki_dlya_detey_odno_zanyatiye.jpg"/>
          <p:cNvPicPr/>
          <p:nvPr/>
        </p:nvPicPr>
        <p:blipFill>
          <a:blip r:embed="rId1"/>
          <a:stretch/>
        </p:blipFill>
        <p:spPr>
          <a:xfrm>
            <a:off x="1258920" y="1052640"/>
            <a:ext cx="7111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Users\TURBO\Desktop\couch_potato.jpg"/>
          <p:cNvPicPr/>
          <p:nvPr/>
        </p:nvPicPr>
        <p:blipFill>
          <a:blip r:embed="rId1"/>
          <a:stretch/>
        </p:blipFill>
        <p:spPr>
          <a:xfrm>
            <a:off x="0" y="1643040"/>
            <a:ext cx="9088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ie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79400"/>
            <a:ext cx="449568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watching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games do you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-360" y="6597360"/>
            <a:ext cx="4343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562720" y="228600"/>
            <a:ext cx="3047760" cy="2438280"/>
          </a:xfrm>
          <a:prstGeom prst="wedgeEllipseCallout">
            <a:avLst>
              <a:gd name="adj1" fmla="val -27342"/>
              <a:gd name="adj2" fmla="val 67643"/>
            </a:avLst>
          </a:prstGeom>
          <a:solidFill>
            <a:srgbClr val="bbe0e3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lay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5761080"/>
            <a:ext cx="4572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8" descr="interview"/>
          <p:cNvPicPr/>
          <p:nvPr/>
        </p:nvPicPr>
        <p:blipFill>
          <a:blip r:embed="rId1"/>
          <a:stretch/>
        </p:blipFill>
        <p:spPr>
          <a:xfrm>
            <a:off x="3816360" y="779400"/>
            <a:ext cx="1222200" cy="133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3168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 I can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ak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d necessary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y my opinion on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derstand the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ke up story 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ive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TURBO\Desktop\5кл отк.ур\img1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 think, we are going to talk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92360" y="3933720"/>
            <a:ext cx="35622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por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pic_sports_collage"/>
          <p:cNvPicPr/>
          <p:nvPr/>
        </p:nvPicPr>
        <p:blipFill>
          <a:blip r:embed="rId1"/>
          <a:stretch/>
        </p:blipFill>
        <p:spPr>
          <a:xfrm>
            <a:off x="0" y="762120"/>
            <a:ext cx="5143680" cy="40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P2234329"/>
          <p:cNvPicPr/>
          <p:nvPr/>
        </p:nvPicPr>
        <p:blipFill>
          <a:blip r:embed="rId2"/>
          <a:stretch/>
        </p:blipFill>
        <p:spPr>
          <a:xfrm>
            <a:off x="5181480" y="762120"/>
            <a:ext cx="3962520" cy="2973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4280" y="3924360"/>
            <a:ext cx="252756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2700360" y="3944880"/>
            <a:ext cx="2413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tch English and Russian word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г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лать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блюдать режим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ыть в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лез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765000"/>
          <a:ext cx="1979640" cy="12621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Do morning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exercis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2060640"/>
          <a:ext cx="1979640" cy="5763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 fi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920" y="2755800"/>
          <a:ext cx="1944720" cy="647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fficul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640" y="3503520"/>
          <a:ext cx="1966680" cy="514440"/>
        </p:xfrm>
        <a:graphic>
          <a:graphicData uri="http://schemas.openxmlformats.org/drawingml/2006/table">
            <a:tbl>
              <a:tblPr/>
              <a:tblGrid>
                <a:gridCol w="1966680"/>
              </a:tblGrid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1160" y="4076640"/>
          <a:ext cx="2616120" cy="84132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regular hou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5013360"/>
          <a:ext cx="2124000" cy="576360"/>
        </p:xfrm>
        <a:graphic>
          <a:graphicData uri="http://schemas.openxmlformats.org/drawingml/2006/table">
            <a:tbl>
              <a:tblPr/>
              <a:tblGrid>
                <a:gridCol w="21240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s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-25560" y="5661000"/>
          <a:ext cx="2232360" cy="42084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seful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4280" y="6165720"/>
          <a:ext cx="2232360" cy="59400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59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82" name="Прямая со стрелкой 19"/>
          <p:cNvCxnSpPr/>
          <p:nvPr/>
        </p:nvCxnSpPr>
        <p:spPr>
          <a:xfrm>
            <a:off x="2050560" y="1412640"/>
            <a:ext cx="2592720" cy="432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3" name="Прямая со стрелкой 22"/>
          <p:cNvCxnSpPr/>
          <p:nvPr/>
        </p:nvCxnSpPr>
        <p:spPr>
          <a:xfrm>
            <a:off x="2050560" y="2349000"/>
            <a:ext cx="2592720" cy="280908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4" name="Прямая со стрелкой 6147"/>
          <p:cNvCxnSpPr/>
          <p:nvPr/>
        </p:nvCxnSpPr>
        <p:spPr>
          <a:xfrm flipV="1">
            <a:off x="2050560" y="2491920"/>
            <a:ext cx="2592720" cy="6501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5" name="Прямая со стрелкой 6149"/>
          <p:cNvCxnSpPr/>
          <p:nvPr/>
        </p:nvCxnSpPr>
        <p:spPr>
          <a:xfrm>
            <a:off x="2050560" y="3753000"/>
            <a:ext cx="2592720" cy="262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6" name="Прямая со стрелкой 6151"/>
          <p:cNvCxnSpPr/>
          <p:nvPr/>
        </p:nvCxnSpPr>
        <p:spPr>
          <a:xfrm flipV="1">
            <a:off x="2627280" y="3141000"/>
            <a:ext cx="2016720" cy="144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7" name="Прямая со стрелкой 6154"/>
          <p:cNvCxnSpPr/>
          <p:nvPr/>
        </p:nvCxnSpPr>
        <p:spPr>
          <a:xfrm flipV="1">
            <a:off x="2050560" y="1124640"/>
            <a:ext cx="2592720" cy="432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8" name="Прямая со стрелкой 6156"/>
          <p:cNvCxnSpPr/>
          <p:nvPr/>
        </p:nvCxnSpPr>
        <p:spPr>
          <a:xfrm flipV="1">
            <a:off x="2195280" y="5660640"/>
            <a:ext cx="2448360" cy="28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9" name="Прямая со стрелкой 6158"/>
          <p:cNvCxnSpPr/>
          <p:nvPr/>
        </p:nvCxnSpPr>
        <p:spPr>
          <a:xfrm flipV="1">
            <a:off x="2195280" y="4292280"/>
            <a:ext cx="2305440" cy="2305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me the spo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0" y="333360"/>
            <a:ext cx="230976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0" y="357336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Chess"/>
          <p:cNvPicPr/>
          <p:nvPr/>
        </p:nvPicPr>
        <p:blipFill>
          <a:blip r:embed="rId3"/>
          <a:stretch/>
        </p:blipFill>
        <p:spPr>
          <a:xfrm>
            <a:off x="6781680" y="380880"/>
            <a:ext cx="2362320" cy="261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6877080" y="3429000"/>
            <a:ext cx="226692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5"/>
          <a:stretch/>
        </p:blipFill>
        <p:spPr>
          <a:xfrm>
            <a:off x="2328840" y="750960"/>
            <a:ext cx="2514600" cy="2373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"/>
          <p:cNvPicPr/>
          <p:nvPr/>
        </p:nvPicPr>
        <p:blipFill>
          <a:blip r:embed="rId6"/>
          <a:stretch/>
        </p:blipFill>
        <p:spPr>
          <a:xfrm>
            <a:off x="2532240" y="4352760"/>
            <a:ext cx="2503440" cy="226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"/>
          <p:cNvPicPr/>
          <p:nvPr/>
        </p:nvPicPr>
        <p:blipFill>
          <a:blip r:embed="rId7"/>
          <a:stretch/>
        </p:blipFill>
        <p:spPr>
          <a:xfrm>
            <a:off x="4635360" y="750960"/>
            <a:ext cx="2241720" cy="195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4811760" y="3087720"/>
            <a:ext cx="2438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C:\Users\TURBO\Desktop\Шишаев_баскетбол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TURBO\Desktop\130de352ba7d6c497ca21d5f9928ccbc.jpg"/>
          <p:cNvPicPr/>
          <p:nvPr/>
        </p:nvPicPr>
        <p:blipFill>
          <a:blip r:embed="rId1"/>
          <a:stretch/>
        </p:blipFill>
        <p:spPr>
          <a:xfrm>
            <a:off x="-69840" y="1025640"/>
            <a:ext cx="92138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TURBO\Desktop\дети-играя-во-ейбо-на-и-юстрации-вектора-шаржа-п-яжа-65110657.jpg"/>
          <p:cNvPicPr/>
          <p:nvPr/>
        </p:nvPicPr>
        <p:blipFill>
          <a:blip r:embed="rId2"/>
          <a:stretch/>
        </p:blipFill>
        <p:spPr>
          <a:xfrm>
            <a:off x="0" y="1158840"/>
            <a:ext cx="9036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160" y="-360"/>
            <a:ext cx="8907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1285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10" descr="C:\Users\TURBO\Desktop\s1200.jpg"/>
          <p:cNvPicPr/>
          <p:nvPr/>
        </p:nvPicPr>
        <p:blipFill>
          <a:blip r:embed="rId1"/>
          <a:stretch/>
        </p:blipFill>
        <p:spPr>
          <a:xfrm>
            <a:off x="28440" y="1128600"/>
            <a:ext cx="911556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6:34:06Z</dcterms:created>
  <dc:creator>О.Ю.</dc:creator>
  <dc:description/>
  <dc:language>en-US</dc:language>
  <cp:lastModifiedBy>TURBO</cp:lastModifiedBy>
  <dcterms:modified xsi:type="dcterms:W3CDTF">2019-12-04T19:22:22Z</dcterms:modified>
  <cp:revision>40</cp:revision>
  <dc:subject/>
  <dc:title>Phonetic Drill</dc:title>
</cp:coreProperties>
</file>