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E97-A5C7-4DFE-85BB-1B125C26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A8A-E139-4C3D-A314-4C99A067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790-97DB-4A25-BD82-97B6035E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FCB-0992-4042-9260-E800C6C5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52C-7FD1-4B02-9ABD-E4B74F61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764-8724-41C4-B331-DBAF2E99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0FD-9316-4A64-97C0-0A221300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410-D7B8-4DA6-A697-D6C2E5D9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082-99A7-44FC-8018-2EF481E8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A9F-B98D-4F30-916F-259006FC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B59-F43B-492B-88F0-1A34CED4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55C-F03D-44DA-9135-5FF1293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A2D6-2981-430A-BD85-ED38E9661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5.jpe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0" y="6480"/>
            <a:ext cx="2143080" cy="142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2440" y="-581040"/>
            <a:ext cx="76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2122560" y="3240"/>
            <a:ext cx="17334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0" y="1432080"/>
            <a:ext cx="2106720" cy="2106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4"/>
          <a:stretch/>
        </p:blipFill>
        <p:spPr>
          <a:xfrm>
            <a:off x="2106720" y="1432080"/>
            <a:ext cx="1749240" cy="2106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"/>
          <p:cNvPicPr/>
          <p:nvPr/>
        </p:nvPicPr>
        <p:blipFill>
          <a:blip r:embed="rId5"/>
          <a:stretch/>
        </p:blipFill>
        <p:spPr>
          <a:xfrm>
            <a:off x="385596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6"/>
          <a:stretch/>
        </p:blipFill>
        <p:spPr>
          <a:xfrm>
            <a:off x="3851280" y="1432080"/>
            <a:ext cx="1909800" cy="210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"/>
          <p:cNvPicPr/>
          <p:nvPr/>
        </p:nvPicPr>
        <p:blipFill>
          <a:blip r:embed="rId7"/>
          <a:stretch/>
        </p:blipFill>
        <p:spPr>
          <a:xfrm>
            <a:off x="5761080" y="3240"/>
            <a:ext cx="15476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"/>
          <p:cNvPicPr/>
          <p:nvPr/>
        </p:nvPicPr>
        <p:blipFill>
          <a:blip r:embed="rId8"/>
          <a:stretch/>
        </p:blipFill>
        <p:spPr>
          <a:xfrm>
            <a:off x="5761080" y="1420920"/>
            <a:ext cx="1547640" cy="2117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"/>
          <p:cNvPicPr/>
          <p:nvPr/>
        </p:nvPicPr>
        <p:blipFill>
          <a:blip r:embed="rId9"/>
          <a:stretch/>
        </p:blipFill>
        <p:spPr>
          <a:xfrm>
            <a:off x="7308720" y="-7920"/>
            <a:ext cx="183528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"/>
          <p:cNvPicPr/>
          <p:nvPr/>
        </p:nvPicPr>
        <p:blipFill>
          <a:blip r:embed="rId10"/>
          <a:stretch/>
        </p:blipFill>
        <p:spPr>
          <a:xfrm>
            <a:off x="7308720" y="1432080"/>
            <a:ext cx="1835280" cy="2106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"/>
          <p:cNvPicPr/>
          <p:nvPr/>
        </p:nvPicPr>
        <p:blipFill>
          <a:blip r:embed="rId11"/>
          <a:stretch/>
        </p:blipFill>
        <p:spPr>
          <a:xfrm>
            <a:off x="0" y="3538440"/>
            <a:ext cx="2106720" cy="1579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4" descr=""/>
          <p:cNvPicPr/>
          <p:nvPr/>
        </p:nvPicPr>
        <p:blipFill>
          <a:blip r:embed="rId12"/>
          <a:stretch/>
        </p:blipFill>
        <p:spPr>
          <a:xfrm>
            <a:off x="2106720" y="3538440"/>
            <a:ext cx="1749240" cy="1579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"/>
          <p:cNvPicPr/>
          <p:nvPr/>
        </p:nvPicPr>
        <p:blipFill>
          <a:blip r:embed="rId13"/>
          <a:stretch/>
        </p:blipFill>
        <p:spPr>
          <a:xfrm>
            <a:off x="3855960" y="3490920"/>
            <a:ext cx="1905120" cy="1627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6" descr=""/>
          <p:cNvPicPr/>
          <p:nvPr/>
        </p:nvPicPr>
        <p:blipFill>
          <a:blip r:embed="rId14"/>
          <a:stretch/>
        </p:blipFill>
        <p:spPr>
          <a:xfrm>
            <a:off x="5761080" y="3538440"/>
            <a:ext cx="1547640" cy="1579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7" descr=""/>
          <p:cNvPicPr/>
          <p:nvPr/>
        </p:nvPicPr>
        <p:blipFill>
          <a:blip r:embed="rId15"/>
          <a:stretch/>
        </p:blipFill>
        <p:spPr>
          <a:xfrm>
            <a:off x="7308720" y="3514680"/>
            <a:ext cx="1835280" cy="1579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8" descr=""/>
          <p:cNvPicPr/>
          <p:nvPr/>
        </p:nvPicPr>
        <p:blipFill>
          <a:blip r:embed="rId16"/>
          <a:stretch/>
        </p:blipFill>
        <p:spPr>
          <a:xfrm>
            <a:off x="0" y="5094360"/>
            <a:ext cx="2122560" cy="1763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1" descr=""/>
          <p:cNvPicPr/>
          <p:nvPr/>
        </p:nvPicPr>
        <p:blipFill>
          <a:blip r:embed="rId17"/>
          <a:stretch/>
        </p:blipFill>
        <p:spPr>
          <a:xfrm>
            <a:off x="2124000" y="5129280"/>
            <a:ext cx="173196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2" descr=""/>
          <p:cNvPicPr/>
          <p:nvPr/>
        </p:nvPicPr>
        <p:blipFill>
          <a:blip r:embed="rId18"/>
          <a:stretch/>
        </p:blipFill>
        <p:spPr>
          <a:xfrm>
            <a:off x="3851280" y="5126040"/>
            <a:ext cx="1909800" cy="1722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3" descr=""/>
          <p:cNvPicPr/>
          <p:nvPr/>
        </p:nvPicPr>
        <p:blipFill>
          <a:blip r:embed="rId19"/>
          <a:stretch/>
        </p:blipFill>
        <p:spPr>
          <a:xfrm>
            <a:off x="5761080" y="5126040"/>
            <a:ext cx="1547640" cy="1722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6" descr=""/>
          <p:cNvPicPr/>
          <p:nvPr/>
        </p:nvPicPr>
        <p:blipFill>
          <a:blip r:embed="rId20"/>
          <a:stretch/>
        </p:blipFill>
        <p:spPr>
          <a:xfrm>
            <a:off x="7289640" y="5094360"/>
            <a:ext cx="1854360" cy="176364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3" descr=""/>
          <p:cNvPicPr/>
          <p:nvPr/>
        </p:nvPicPr>
        <p:blipFill>
          <a:blip r:embed="rId21"/>
          <a:stretch/>
        </p:blipFill>
        <p:spPr>
          <a:xfrm>
            <a:off x="0" y="32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Picture 15" descr="C:\Users\TURBO\Desktop\kisspng-play-table-tennis-ping-pong-paddles-sets-clip-ar-table-tennis-5abda610bf25e2.085178871522378256783.jpg"/>
          <p:cNvPicPr/>
          <p:nvPr/>
        </p:nvPicPr>
        <p:blipFill>
          <a:blip r:embed="rId1"/>
          <a:stretch/>
        </p:blipFill>
        <p:spPr>
          <a:xfrm>
            <a:off x="0" y="1036800"/>
            <a:ext cx="92520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286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National Fun R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бщенациона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ревнования по бег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Hyde  Park – </a:t>
            </a: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Гайд Пар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981080" y="76212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685800" y="1752480"/>
            <a:ext cx="2133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2438280" y="2590920"/>
            <a:ext cx="1295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914400" y="34290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057400" y="45720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685800" y="548640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M. Shumacher is a ….Formula One driver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 useful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)difficult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.Journalists ….write  about him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never  b)sometime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. Journalists say he is a …. sportsman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 tired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)new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.He was born on the ….of  January 1969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b) 13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c) 30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.His ….. is Ral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 cousin’s                       c) father’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2156040" y="71424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) wonderfu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4794840" y="185724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)of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870560" y="292896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)very good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166320" y="400068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)3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2516760" y="514368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) brother’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lli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Users\TURBO\Desktop\futbolnyye_trenirovki_dlya_detey_odno_zanyatiye.jpg"/>
          <p:cNvPicPr/>
          <p:nvPr/>
        </p:nvPicPr>
        <p:blipFill>
          <a:blip r:embed="rId1"/>
          <a:stretch/>
        </p:blipFill>
        <p:spPr>
          <a:xfrm>
            <a:off x="1258920" y="1052640"/>
            <a:ext cx="7111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C:\Users\TURBO\Desktop\couch_potato.jpg"/>
          <p:cNvPicPr/>
          <p:nvPr/>
        </p:nvPicPr>
        <p:blipFill>
          <a:blip r:embed="rId1"/>
          <a:stretch/>
        </p:blipFill>
        <p:spPr>
          <a:xfrm>
            <a:off x="0" y="1643040"/>
            <a:ext cx="9088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rvie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79400"/>
            <a:ext cx="449568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 you like s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 you like watching s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games do you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-360" y="6597360"/>
            <a:ext cx="43434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562720" y="228600"/>
            <a:ext cx="3047760" cy="2438280"/>
          </a:xfrm>
          <a:prstGeom prst="wedgeEllipseCallout">
            <a:avLst>
              <a:gd name="adj1" fmla="val -27342"/>
              <a:gd name="adj2" fmla="val 67643"/>
            </a:avLst>
          </a:prstGeom>
          <a:solidFill>
            <a:srgbClr val="bbe0e3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lay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5761080"/>
            <a:ext cx="4572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8" descr="interview"/>
          <p:cNvPicPr/>
          <p:nvPr/>
        </p:nvPicPr>
        <p:blipFill>
          <a:blip r:embed="rId1"/>
          <a:stretch/>
        </p:blipFill>
        <p:spPr>
          <a:xfrm>
            <a:off x="3816360" y="779400"/>
            <a:ext cx="1222200" cy="1336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31687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w I can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ak about …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nd necessary inform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y my opinion on…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derstand the inform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ke up story  about …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ive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TURBO\Desktop\5кл отк.ур\img17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 think, we are going to talk ab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92360" y="3933720"/>
            <a:ext cx="35622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por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pic_sports_collage"/>
          <p:cNvPicPr/>
          <p:nvPr/>
        </p:nvPicPr>
        <p:blipFill>
          <a:blip r:embed="rId1"/>
          <a:stretch/>
        </p:blipFill>
        <p:spPr>
          <a:xfrm>
            <a:off x="0" y="762120"/>
            <a:ext cx="5143680" cy="402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P2234329"/>
          <p:cNvPicPr/>
          <p:nvPr/>
        </p:nvPicPr>
        <p:blipFill>
          <a:blip r:embed="rId2"/>
          <a:stretch/>
        </p:blipFill>
        <p:spPr>
          <a:xfrm>
            <a:off x="5181480" y="762120"/>
            <a:ext cx="3962520" cy="2973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4280" y="3924360"/>
            <a:ext cx="2527560" cy="289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2700360" y="3944880"/>
            <a:ext cx="2413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tch English and Russian word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5600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г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елать за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облюдать режим 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дор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ыть в фор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лез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доровь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765000"/>
          <a:ext cx="1979640" cy="1262160"/>
        </p:xfrm>
        <a:graphic>
          <a:graphicData uri="http://schemas.openxmlformats.org/drawingml/2006/table">
            <a:tbl>
              <a:tblPr/>
              <a:tblGrid>
                <a:gridCol w="1979640"/>
              </a:tblGrid>
              <a:tr h="126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Aharoni"/>
                        </a:rPr>
                        <a:t>Do morning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Aharoni"/>
                        </a:rPr>
                        <a:t>exercis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0" y="2060640"/>
          <a:ext cx="1979640" cy="576360"/>
        </p:xfrm>
        <a:graphic>
          <a:graphicData uri="http://schemas.openxmlformats.org/drawingml/2006/table">
            <a:tbl>
              <a:tblPr/>
              <a:tblGrid>
                <a:gridCol w="1979640"/>
              </a:tblGrid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Keep  fi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4920" y="2755800"/>
          <a:ext cx="1944720" cy="64764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fficul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7640" y="3503520"/>
          <a:ext cx="1966680" cy="514440"/>
        </p:xfrm>
        <a:graphic>
          <a:graphicData uri="http://schemas.openxmlformats.org/drawingml/2006/table">
            <a:tbl>
              <a:tblPr/>
              <a:tblGrid>
                <a:gridCol w="1966680"/>
              </a:tblGrid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lth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1160" y="4076640"/>
          <a:ext cx="2616120" cy="841320"/>
        </p:xfrm>
        <a:graphic>
          <a:graphicData uri="http://schemas.openxmlformats.org/drawingml/2006/table">
            <a:tbl>
              <a:tblPr/>
              <a:tblGrid>
                <a:gridCol w="261612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Keep regular hour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0" y="5013360"/>
          <a:ext cx="2124000" cy="576360"/>
        </p:xfrm>
        <a:graphic>
          <a:graphicData uri="http://schemas.openxmlformats.org/drawingml/2006/table">
            <a:tbl>
              <a:tblPr/>
              <a:tblGrid>
                <a:gridCol w="212400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as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-25560" y="5661000"/>
          <a:ext cx="2232360" cy="42084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seful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4280" y="6165720"/>
          <a:ext cx="2232360" cy="59400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59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ealth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82" name="Прямая со стрелкой 19"/>
          <p:cNvCxnSpPr/>
          <p:nvPr/>
        </p:nvCxnSpPr>
        <p:spPr>
          <a:xfrm>
            <a:off x="2050560" y="1412640"/>
            <a:ext cx="2592720" cy="4323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3" name="Прямая со стрелкой 22"/>
          <p:cNvCxnSpPr/>
          <p:nvPr/>
        </p:nvCxnSpPr>
        <p:spPr>
          <a:xfrm>
            <a:off x="2050560" y="2349000"/>
            <a:ext cx="2592720" cy="280908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4" name="Прямая со стрелкой 6147"/>
          <p:cNvCxnSpPr/>
          <p:nvPr/>
        </p:nvCxnSpPr>
        <p:spPr>
          <a:xfrm flipV="1">
            <a:off x="2050560" y="2491920"/>
            <a:ext cx="2592720" cy="6501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5" name="Прямая со стрелкой 6149"/>
          <p:cNvCxnSpPr/>
          <p:nvPr/>
        </p:nvCxnSpPr>
        <p:spPr>
          <a:xfrm>
            <a:off x="2050560" y="3753000"/>
            <a:ext cx="2592720" cy="262944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6" name="Прямая со стрелкой 6151"/>
          <p:cNvCxnSpPr/>
          <p:nvPr/>
        </p:nvCxnSpPr>
        <p:spPr>
          <a:xfrm flipV="1">
            <a:off x="2627280" y="3141000"/>
            <a:ext cx="2016720" cy="14403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7" name="Прямая со стрелкой 6154"/>
          <p:cNvCxnSpPr/>
          <p:nvPr/>
        </p:nvCxnSpPr>
        <p:spPr>
          <a:xfrm flipV="1">
            <a:off x="2050560" y="1124640"/>
            <a:ext cx="2592720" cy="432036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8" name="Прямая со стрелкой 6156"/>
          <p:cNvCxnSpPr/>
          <p:nvPr/>
        </p:nvCxnSpPr>
        <p:spPr>
          <a:xfrm flipV="1">
            <a:off x="2195280" y="5660640"/>
            <a:ext cx="2448360" cy="28944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89" name="Прямая со стрелкой 6158"/>
          <p:cNvCxnSpPr/>
          <p:nvPr/>
        </p:nvCxnSpPr>
        <p:spPr>
          <a:xfrm flipV="1">
            <a:off x="2195280" y="4292280"/>
            <a:ext cx="2305440" cy="2305440"/>
          </a:xfrm>
          <a:prstGeom prst="straightConnector1">
            <a:avLst/>
          </a:prstGeom>
          <a:ln w="507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ame the spo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0" y="333360"/>
            <a:ext cx="2309760" cy="281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2"/>
          <a:stretch/>
        </p:blipFill>
        <p:spPr>
          <a:xfrm>
            <a:off x="0" y="357336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Chess"/>
          <p:cNvPicPr/>
          <p:nvPr/>
        </p:nvPicPr>
        <p:blipFill>
          <a:blip r:embed="rId3"/>
          <a:stretch/>
        </p:blipFill>
        <p:spPr>
          <a:xfrm>
            <a:off x="6781680" y="380880"/>
            <a:ext cx="2362320" cy="261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6877080" y="3429000"/>
            <a:ext cx="226692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5"/>
          <a:stretch/>
        </p:blipFill>
        <p:spPr>
          <a:xfrm>
            <a:off x="2328840" y="750960"/>
            <a:ext cx="2514600" cy="2373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6" descr=""/>
          <p:cNvPicPr/>
          <p:nvPr/>
        </p:nvPicPr>
        <p:blipFill>
          <a:blip r:embed="rId6"/>
          <a:stretch/>
        </p:blipFill>
        <p:spPr>
          <a:xfrm>
            <a:off x="2532240" y="4352760"/>
            <a:ext cx="2503440" cy="2268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"/>
          <p:cNvPicPr/>
          <p:nvPr/>
        </p:nvPicPr>
        <p:blipFill>
          <a:blip r:embed="rId7"/>
          <a:stretch/>
        </p:blipFill>
        <p:spPr>
          <a:xfrm>
            <a:off x="4635360" y="750960"/>
            <a:ext cx="2241720" cy="1957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8"/>
          <a:stretch/>
        </p:blipFill>
        <p:spPr>
          <a:xfrm>
            <a:off x="4811760" y="3087720"/>
            <a:ext cx="2438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C:\Users\TURBO\Desktop\Шишаев_баскетбол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:\Users\TURBO\Desktop\130de352ba7d6c497ca21d5f9928ccbc.jpg"/>
          <p:cNvPicPr/>
          <p:nvPr/>
        </p:nvPicPr>
        <p:blipFill>
          <a:blip r:embed="rId1"/>
          <a:stretch/>
        </p:blipFill>
        <p:spPr>
          <a:xfrm>
            <a:off x="-69840" y="1025640"/>
            <a:ext cx="92138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TURBO\Desktop\дети-играя-во-ейбо-на-и-юстрации-вектора-шаржа-п-яжа-65110657.jpg"/>
          <p:cNvPicPr/>
          <p:nvPr/>
        </p:nvPicPr>
        <p:blipFill>
          <a:blip r:embed="rId2"/>
          <a:stretch/>
        </p:blipFill>
        <p:spPr>
          <a:xfrm>
            <a:off x="0" y="1158840"/>
            <a:ext cx="903600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160" y="-360"/>
            <a:ext cx="89074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games did the children play yeste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12852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10" descr="C:\Users\TURBO\Desktop\s1200.jpg"/>
          <p:cNvPicPr/>
          <p:nvPr/>
        </p:nvPicPr>
        <p:blipFill>
          <a:blip r:embed="rId1"/>
          <a:stretch/>
        </p:blipFill>
        <p:spPr>
          <a:xfrm>
            <a:off x="28440" y="1128600"/>
            <a:ext cx="911556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6:34:06Z</dcterms:created>
  <dc:creator>О.Ю.</dc:creator>
  <dc:description/>
  <dc:language>en-US</dc:language>
  <cp:lastModifiedBy>TURBO</cp:lastModifiedBy>
  <dcterms:modified xsi:type="dcterms:W3CDTF">2019-12-04T19:22:22Z</dcterms:modified>
  <cp:revision>40</cp:revision>
  <dc:subject/>
  <dc:title>Phonetic Drill</dc:title>
</cp:coreProperties>
</file>