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chimes.wav" ContentType="audio/x-wav"/>
  <Override PartName="/ppt/media/image16.png" ContentType="image/png"/>
  <Override PartName="/ppt/media/image6.jpeg" ContentType="image/jpeg"/>
  <Override PartName="/ppt/media/applause.wav" ContentType="audio/x-wav"/>
  <Override PartName="/ppt/media/image8.jpeg" ContentType="image/jpeg"/>
  <Override PartName="/ppt/media/image5.png" ContentType="image/png"/>
  <Override PartName="/ppt/media/image4.png" ContentType="image/png"/>
  <Override PartName="/ppt/media/image24.png" ContentType="image/png"/>
  <Override PartName="/ppt/media/image12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9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D8D-6568-4487-9520-07AF21C5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BC0-A577-490D-B4C8-6E37CD69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14E1-6FBF-4AAA-92EA-65773E8B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59D-E31A-4925-AE57-A5FA03CE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978-A216-4CCB-854E-0C8C3D2B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2B6B-C517-4950-AEAE-A7890027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3876-7DBA-4D87-9C8A-FEC5A51D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88E-A908-46BF-991B-C19E067F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5032-F4AB-4832-8679-DBE05F3F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95D-32AA-4D96-B219-57E9613F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A062-188D-482B-9A02-39DE7CB0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25F-65BE-4556-9EC4-A5F1EE64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91BB-D902-4186-BE69-9ED491FF2E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7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17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224/47407354.c8d/0_12c18e_5659d18c_orig.png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916360" y="115920"/>
            <a:ext cx="5740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cc"/>
                </a:solidFill>
                <a:latin typeface="Times New Roman"/>
                <a:ea typeface="Arial"/>
              </a:rPr>
              <a:t>Занимательная математика «Повторяем цифры и числа»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84720" y="522936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00"/>
                </a:solidFill>
                <a:latin typeface="Arial"/>
                <a:ea typeface="Arial"/>
              </a:rPr>
              <a:t>Подготовила: Мишарина Т.Ю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" descr="ПАРОВОЗ.png"/>
          <p:cNvPicPr/>
          <p:nvPr/>
        </p:nvPicPr>
        <p:blipFill>
          <a:blip r:embed="rId1"/>
          <a:stretch/>
        </p:blipFill>
        <p:spPr>
          <a:xfrm rot="151200">
            <a:off x="2198520" y="2598840"/>
            <a:ext cx="66517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Группа 6"/>
          <p:cNvGrpSpPr/>
          <p:nvPr/>
        </p:nvGrpSpPr>
        <p:grpSpPr>
          <a:xfrm>
            <a:off x="1714680" y="1071720"/>
            <a:ext cx="6786360" cy="4922640"/>
            <a:chOff x="1714680" y="1071720"/>
            <a:chExt cx="6786360" cy="4922640"/>
          </a:xfrm>
        </p:grpSpPr>
        <p:grpSp>
          <p:nvGrpSpPr>
            <p:cNvPr id="139" name="Группа 1"/>
            <p:cNvGrpSpPr/>
            <p:nvPr/>
          </p:nvGrpSpPr>
          <p:grpSpPr>
            <a:xfrm>
              <a:off x="1714680" y="1071720"/>
              <a:ext cx="6786360" cy="4007160"/>
              <a:chOff x="1714680" y="1071720"/>
              <a:chExt cx="6786360" cy="4007160"/>
            </a:xfrm>
          </p:grpSpPr>
          <p:sp>
            <p:nvSpPr>
              <p:cNvPr id="140" name="Прямоугольник 4"/>
              <p:cNvSpPr/>
              <p:nvPr/>
            </p:nvSpPr>
            <p:spPr>
              <a:xfrm>
                <a:off x="1714680" y="1071720"/>
                <a:ext cx="67863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Прямоугольник 3"/>
              <p:cNvSpPr/>
              <p:nvPr/>
            </p:nvSpPr>
            <p:spPr>
              <a:xfrm>
                <a:off x="2363760" y="4680000"/>
                <a:ext cx="555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  <a:ea typeface="Arial"/>
                  </a:rPr>
                  <a:t> 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  <a:ea typeface="Arial"/>
                  </a:rPr>
                  <a:t> 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TextBox 3"/>
            <p:cNvSpPr/>
            <p:nvPr/>
          </p:nvSpPr>
          <p:spPr>
            <a:xfrm>
              <a:off x="5121360" y="56278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Рисунок 1" descr="ПАРОВОЗ.png"/>
          <p:cNvPicPr/>
          <p:nvPr/>
        </p:nvPicPr>
        <p:blipFill>
          <a:blip r:embed="rId1"/>
          <a:stretch/>
        </p:blipFill>
        <p:spPr>
          <a:xfrm>
            <a:off x="-42840" y="2349360"/>
            <a:ext cx="9186840" cy="2157480"/>
          </a:xfrm>
          <a:prstGeom prst="rect">
            <a:avLst/>
          </a:prstGeom>
          <a:ln w="0">
            <a:noFill/>
          </a:ln>
        </p:spPr>
      </p:pic>
      <p:sp>
        <p:nvSpPr>
          <p:cNvPr id="144" name="Скругленный прямоугольник 2"/>
          <p:cNvSpPr/>
          <p:nvPr/>
        </p:nvSpPr>
        <p:spPr>
          <a:xfrm>
            <a:off x="314280" y="48578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3"/>
          <p:cNvSpPr/>
          <p:nvPr/>
        </p:nvSpPr>
        <p:spPr>
          <a:xfrm>
            <a:off x="1166760" y="4857840"/>
            <a:ext cx="719280" cy="72072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20720"/>
              <a:gd name="textAreaBottom" fmla="*/ 685800 h 720720"/>
            </a:gdLst>
            <a:ahLst/>
            <a:rect l="textAreaLeft" t="textAreaTop" r="textAreaRight" b="textAreaBottom"/>
            <a:pathLst>
              <a:path w="21600" h="21643">
                <a:moveTo>
                  <a:pt x="3600" y="0"/>
                </a:moveTo>
                <a:arcTo wR="3600" hR="3600" stAng="16200000" swAng="-5400000"/>
                <a:lnTo>
                  <a:pt x="0" y="18043"/>
                </a:lnTo>
                <a:arcTo wR="3600" hR="3600" stAng="10800000" swAng="-5400000"/>
                <a:lnTo>
                  <a:pt x="18000" y="21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4"/>
          <p:cNvSpPr/>
          <p:nvPr/>
        </p:nvSpPr>
        <p:spPr>
          <a:xfrm>
            <a:off x="2028960" y="48578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5"/>
          <p:cNvSpPr/>
          <p:nvPr/>
        </p:nvSpPr>
        <p:spPr>
          <a:xfrm>
            <a:off x="3743280" y="48578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6"/>
          <p:cNvSpPr/>
          <p:nvPr/>
        </p:nvSpPr>
        <p:spPr>
          <a:xfrm>
            <a:off x="457200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7"/>
          <p:cNvSpPr/>
          <p:nvPr/>
        </p:nvSpPr>
        <p:spPr>
          <a:xfrm>
            <a:off x="5457960" y="48578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8"/>
          <p:cNvSpPr/>
          <p:nvPr/>
        </p:nvSpPr>
        <p:spPr>
          <a:xfrm>
            <a:off x="630072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9"/>
          <p:cNvSpPr/>
          <p:nvPr/>
        </p:nvSpPr>
        <p:spPr>
          <a:xfrm>
            <a:off x="716436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10"/>
          <p:cNvSpPr/>
          <p:nvPr/>
        </p:nvSpPr>
        <p:spPr>
          <a:xfrm>
            <a:off x="8028000" y="4869000"/>
            <a:ext cx="82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11">
            <a:hlinkClick r:id="rId2" action="ppaction://hlinksldjump"/>
          </p:cNvPr>
          <p:cNvSpPr/>
          <p:nvPr/>
        </p:nvSpPr>
        <p:spPr>
          <a:xfrm>
            <a:off x="291636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13"/>
          <p:cNvSpPr/>
          <p:nvPr/>
        </p:nvSpPr>
        <p:spPr>
          <a:xfrm>
            <a:off x="1714680" y="3214800"/>
            <a:ext cx="53964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161928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Реши примеры, убавляя </a:t>
            </a:r>
            <a:r>
              <a:rPr b="1" i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1</a:t>
            </a:r>
            <a:r>
              <a:rPr b="0" i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 от числ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6292 L -0.19688 -0.25191 E">
                                      <p:cBhvr>
                                        <p:cTn id="472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-0.07194 L 0.00382 -0.25029 E">
                                      <p:cBhvr>
                                        <p:cTn id="47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-0.05251 L 0.21268 -0.25191 E">
                                      <p:cBhvr>
                                        <p:cTn id="480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23 -0.05089 L 0.4198 -0.25029 E">
                                      <p:cBhvr>
                                        <p:cTn id="484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-0.05089 L 0.63247 -0.23965 E">
                                      <p:cBhvr>
                                        <p:cTn id="48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613 L 0.84358 -0.25029 E">
                                      <p:cBhvr>
                                        <p:cTn id="49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97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98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08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09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19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20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9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30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1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Группа 6"/>
          <p:cNvGrpSpPr/>
          <p:nvPr/>
        </p:nvGrpSpPr>
        <p:grpSpPr>
          <a:xfrm>
            <a:off x="1714680" y="1071720"/>
            <a:ext cx="6786360" cy="4922640"/>
            <a:chOff x="1714680" y="1071720"/>
            <a:chExt cx="6786360" cy="4922640"/>
          </a:xfrm>
        </p:grpSpPr>
        <p:grpSp>
          <p:nvGrpSpPr>
            <p:cNvPr id="157" name="Группа 1"/>
            <p:cNvGrpSpPr/>
            <p:nvPr/>
          </p:nvGrpSpPr>
          <p:grpSpPr>
            <a:xfrm>
              <a:off x="1714680" y="1071720"/>
              <a:ext cx="6786360" cy="4007160"/>
              <a:chOff x="1714680" y="1071720"/>
              <a:chExt cx="6786360" cy="4007160"/>
            </a:xfrm>
          </p:grpSpPr>
          <p:sp>
            <p:nvSpPr>
              <p:cNvPr id="158" name="Прямоугольник 4"/>
              <p:cNvSpPr/>
              <p:nvPr/>
            </p:nvSpPr>
            <p:spPr>
              <a:xfrm>
                <a:off x="1714680" y="1071720"/>
                <a:ext cx="67863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Прямоугольник 3"/>
              <p:cNvSpPr/>
              <p:nvPr/>
            </p:nvSpPr>
            <p:spPr>
              <a:xfrm>
                <a:off x="2363760" y="4680000"/>
                <a:ext cx="555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  <a:ea typeface="Arial"/>
                  </a:rPr>
                  <a:t> 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  <a:ea typeface="Arial"/>
                  </a:rPr>
                  <a:t> 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xtBox 3"/>
            <p:cNvSpPr/>
            <p:nvPr/>
          </p:nvSpPr>
          <p:spPr>
            <a:xfrm>
              <a:off x="5121360" y="56278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1876680" cy="234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3419640" y="2852640"/>
            <a:ext cx="1836720" cy="244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1619280" y="4653000"/>
            <a:ext cx="3801960" cy="1992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850"/>
          <p:cNvPicPr/>
          <p:nvPr/>
        </p:nvPicPr>
        <p:blipFill>
          <a:blip r:embed="rId4"/>
          <a:stretch/>
        </p:blipFill>
        <p:spPr>
          <a:xfrm rot="18542400">
            <a:off x="2623320" y="5987160"/>
            <a:ext cx="39204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850"/>
          <p:cNvPicPr/>
          <p:nvPr/>
        </p:nvPicPr>
        <p:blipFill>
          <a:blip r:embed="rId5"/>
          <a:stretch/>
        </p:blipFill>
        <p:spPr>
          <a:xfrm rot="20020200">
            <a:off x="1828800" y="5435280"/>
            <a:ext cx="608040" cy="1422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850"/>
          <p:cNvPicPr/>
          <p:nvPr/>
        </p:nvPicPr>
        <p:blipFill>
          <a:blip r:embed="rId6"/>
          <a:stretch/>
        </p:blipFill>
        <p:spPr>
          <a:xfrm rot="20965200">
            <a:off x="4787640" y="4005000"/>
            <a:ext cx="390600" cy="914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850"/>
          <p:cNvPicPr/>
          <p:nvPr/>
        </p:nvPicPr>
        <p:blipFill>
          <a:blip r:embed="rId7"/>
          <a:stretch/>
        </p:blipFill>
        <p:spPr>
          <a:xfrm>
            <a:off x="152280" y="6019920"/>
            <a:ext cx="1498680" cy="641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850"/>
          <p:cNvPicPr/>
          <p:nvPr/>
        </p:nvPicPr>
        <p:blipFill>
          <a:blip r:embed="rId8"/>
          <a:stretch/>
        </p:blipFill>
        <p:spPr>
          <a:xfrm rot="19456800">
            <a:off x="1295280" y="5638320"/>
            <a:ext cx="522360" cy="1219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850"/>
          <p:cNvPicPr/>
          <p:nvPr/>
        </p:nvPicPr>
        <p:blipFill>
          <a:blip r:embed="rId9"/>
          <a:stretch/>
        </p:blipFill>
        <p:spPr>
          <a:xfrm rot="4993200">
            <a:off x="7417080" y="5612760"/>
            <a:ext cx="608040" cy="142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850"/>
          <p:cNvPicPr/>
          <p:nvPr/>
        </p:nvPicPr>
        <p:blipFill>
          <a:blip r:embed="rId10"/>
          <a:stretch/>
        </p:blipFill>
        <p:spPr>
          <a:xfrm rot="20493600">
            <a:off x="3276360" y="3933360"/>
            <a:ext cx="444240" cy="1041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850"/>
          <p:cNvPicPr/>
          <p:nvPr/>
        </p:nvPicPr>
        <p:blipFill>
          <a:blip r:embed="rId11"/>
          <a:stretch/>
        </p:blipFill>
        <p:spPr>
          <a:xfrm rot="19270800">
            <a:off x="5714640" y="5790960"/>
            <a:ext cx="455760" cy="1066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850"/>
          <p:cNvPicPr/>
          <p:nvPr/>
        </p:nvPicPr>
        <p:blipFill>
          <a:blip r:embed="rId12"/>
          <a:stretch/>
        </p:blipFill>
        <p:spPr>
          <a:xfrm rot="17512800">
            <a:off x="5741280" y="5383800"/>
            <a:ext cx="608040" cy="142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850"/>
          <p:cNvPicPr/>
          <p:nvPr/>
        </p:nvPicPr>
        <p:blipFill>
          <a:blip r:embed="rId13"/>
          <a:stretch/>
        </p:blipFill>
        <p:spPr>
          <a:xfrm rot="3252600">
            <a:off x="7003800" y="5645160"/>
            <a:ext cx="444600" cy="10411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5"/>
          <p:cNvSpPr/>
          <p:nvPr/>
        </p:nvSpPr>
        <p:spPr>
          <a:xfrm>
            <a:off x="4876920" y="1700280"/>
            <a:ext cx="4267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Раз к зайчонку на обед Прискакал дружок-сосед.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На пенёк зайчата сели  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И по</a:t>
            </a:r>
            <a:r>
              <a:rPr b="1" lang="ru-RU" sz="2400" spc="-1" strike="noStrike">
                <a:solidFill>
                  <a:srgbClr val="127a04"/>
                </a:solidFill>
                <a:latin typeface="Times New Roman"/>
                <a:ea typeface="Arial"/>
              </a:rPr>
              <a:t> ПЯТЬ </a:t>
            </a: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морковок съели.       Кто считать, ребята, ловок? Сколько съедено морковок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2484360" y="476280"/>
            <a:ext cx="443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5 </a:t>
            </a:r>
            <a:r>
              <a:rPr b="1" lang="ru-RU" sz="7200" spc="-1" strike="noStrike">
                <a:solidFill>
                  <a:srgbClr val="ff6600"/>
                </a:solidFill>
                <a:latin typeface="Arial"/>
              </a:rPr>
              <a:t>+</a:t>
            </a: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 5 = </a:t>
            </a:r>
            <a:r>
              <a:rPr b="1" lang="ru-RU" sz="7200" spc="-1" strike="noStrike">
                <a:solidFill>
                  <a:srgbClr val="ff6600"/>
                </a:solidFill>
                <a:latin typeface="Arial"/>
              </a:rPr>
              <a:t>10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2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86104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4952880" y="53352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5257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4952880" y="213372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93432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 flipV="1">
            <a:off x="6248520" y="533160"/>
            <a:ext cx="685800" cy="609480"/>
          </a:xfrm>
          <a:prstGeom prst="line">
            <a:avLst/>
          </a:prstGeom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 flipH="1">
            <a:off x="6324480" y="609480"/>
            <a:ext cx="533520" cy="1524240"/>
          </a:xfrm>
          <a:prstGeom prst="line">
            <a:avLst/>
          </a:prstGeom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"/>
          <p:cNvSpPr/>
          <p:nvPr/>
        </p:nvSpPr>
        <p:spPr>
          <a:xfrm rot="1105800">
            <a:off x="7021440" y="534600"/>
            <a:ext cx="914400" cy="1600200"/>
          </a:xfrm>
          <a:prstGeom prst="ellipse">
            <a:avLst/>
          </a:prstGeom>
          <a:noFill/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1692360" y="4149720"/>
            <a:ext cx="648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За девятью идет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05867"/>
                </a:solidFill>
                <a:latin typeface="Times New Roman"/>
              </a:rPr>
              <a:t>ДЕСЯТ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Ты это знаешь? Молодец!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Сочти все пальцы по порядку –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И счету нашему конец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3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2433600" cy="234144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4"/>
          <p:cNvSpPr/>
          <p:nvPr/>
        </p:nvSpPr>
        <p:spPr>
          <a:xfrm rot="19894200">
            <a:off x="2555640" y="836280"/>
            <a:ext cx="2514600" cy="156960"/>
          </a:xfrm>
          <a:prstGeom prst="leftArrow">
            <a:avLst>
              <a:gd name="adj1" fmla="val 50000"/>
              <a:gd name="adj2" fmla="val 400516"/>
            </a:avLst>
          </a:prstGeom>
          <a:solidFill>
            <a:srgbClr val="eeec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5"/>
          <p:cNvSpPr/>
          <p:nvPr/>
        </p:nvSpPr>
        <p:spPr>
          <a:xfrm flipH="1">
            <a:off x="3657240" y="5335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6"/>
          <p:cNvSpPr/>
          <p:nvPr/>
        </p:nvSpPr>
        <p:spPr>
          <a:xfrm flipH="1">
            <a:off x="3809880" y="45720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7"/>
          <p:cNvSpPr/>
          <p:nvPr/>
        </p:nvSpPr>
        <p:spPr>
          <a:xfrm flipH="1">
            <a:off x="3962160" y="3808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8"/>
          <p:cNvSpPr/>
          <p:nvPr/>
        </p:nvSpPr>
        <p:spPr>
          <a:xfrm flipH="1">
            <a:off x="4114440" y="3049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1908000" y="134136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4191120" y="685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1"/>
          <p:cNvSpPr/>
          <p:nvPr/>
        </p:nvSpPr>
        <p:spPr>
          <a:xfrm>
            <a:off x="4038480" y="762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>
            <a:off x="3886200" y="838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3"/>
          <p:cNvSpPr/>
          <p:nvPr/>
        </p:nvSpPr>
        <p:spPr>
          <a:xfrm>
            <a:off x="3733920" y="914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5" descr=""/>
          <p:cNvPicPr/>
          <p:nvPr/>
        </p:nvPicPr>
        <p:blipFill>
          <a:blip r:embed="rId2">
            <a:lum bright="-6000"/>
          </a:blip>
          <a:srcRect l="0" t="0" r="5480" b="5457"/>
          <a:stretch/>
        </p:blipFill>
        <p:spPr>
          <a:xfrm>
            <a:off x="4140360" y="1989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6" descr=""/>
          <p:cNvPicPr/>
          <p:nvPr/>
        </p:nvPicPr>
        <p:blipFill>
          <a:blip r:embed="rId3">
            <a:lum bright="-6000"/>
          </a:blip>
          <a:srcRect l="5480" t="0" r="0" b="5457"/>
          <a:stretch/>
        </p:blipFill>
        <p:spPr>
          <a:xfrm>
            <a:off x="2843280" y="1989000"/>
            <a:ext cx="1447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1763640" y="476280"/>
            <a:ext cx="6891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пасибо</a:t>
            </a: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за внимание!</a:t>
            </a: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1619280" y="1628640"/>
            <a:ext cx="68914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547640" y="712800"/>
            <a:ext cx="74170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Используемые ресурсы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Годовой курс подготовки к школе: для детей 6-7 лет/ Липская Н.М. , И.М. Мальцева, С.В.Пятак и др. </a:t>
            </a:r>
            <a:r>
              <a:rPr b="0" lang="ru-RU" sz="1400" spc="-1" strike="noStrike" u="sng">
                <a:solidFill>
                  <a:srgbClr val="31859b"/>
                </a:solidFill>
                <a:uFillTx/>
                <a:latin typeface="Times New Roman"/>
                <a:ea typeface="Arial"/>
                <a:hlinkClick r:id="rId1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М.: Экскмо, 2014.- 320 с.: ил. - (Ломоносовская школа)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Кубики с цифрами 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http://img-fotki.yandex.ru/get/6510/134091466.a/0_8eade_b145a1ba_S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Сов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http://img-fotki.yandex.ru/get/6520/108950446.113/0_cd1fc_4b1c61ad_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Циркуль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http://img-fotki.yandex.ru/get/6423/108950446.113/0_cd1e7_4caa1851_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Цифра 5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http://img-fotki.yandex.ru/get/9511/134091466.ce/0_cb245_e401dbc8_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Блокнот с ручкой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http://img-fotki.yandex.ru/get/19/108950446.6d/0_b4102_1793a431_S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Шаблон </a:t>
            </a:r>
            <a:r>
              <a:rPr b="0" lang="ru-RU" sz="1400" spc="-1" strike="noStrike" u="sng">
                <a:solidFill>
                  <a:srgbClr val="31859b"/>
                </a:solidFill>
                <a:uFillTx/>
                <a:latin typeface="Arial"/>
                <a:ea typeface="Arial"/>
              </a:rPr>
              <a:t>http://pedsovet.su/load/412-1-0-43027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1619280" y="1628640"/>
            <a:ext cx="68914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47640" y="71280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Инструкция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1619280" y="2133720"/>
            <a:ext cx="75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 нажатии на задание - запускается «Счет от 1 до 10 и обратно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1619280" y="1413000"/>
            <a:ext cx="7273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 Зайчихи было 10 зайчат. Сосчитай их всех от 1 до 10 и обратно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1619280" y="2492280"/>
            <a:ext cx="2087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. От 9 до 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1619280" y="292428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 нажатии на задание - запускается «Счет от 9 до 3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796760" y="3357720"/>
            <a:ext cx="54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ругие слайды выполняются по такому же принципу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1"/>
          <p:cNvSpPr/>
          <p:nvPr/>
        </p:nvSpPr>
        <p:spPr>
          <a:xfrm>
            <a:off x="324000" y="39337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2"/>
          <p:cNvSpPr/>
          <p:nvPr/>
        </p:nvSpPr>
        <p:spPr>
          <a:xfrm>
            <a:off x="1166760" y="3922560"/>
            <a:ext cx="719280" cy="72072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20720"/>
              <a:gd name="textAreaBottom" fmla="*/ 685800 h 720720"/>
            </a:gdLst>
            <a:ahLst/>
            <a:rect l="textAreaLeft" t="textAreaTop" r="textAreaRight" b="textAreaBottom"/>
            <a:pathLst>
              <a:path w="21600" h="21643">
                <a:moveTo>
                  <a:pt x="3600" y="0"/>
                </a:moveTo>
                <a:arcTo wR="3600" hR="3600" stAng="16200000" swAng="-5400000"/>
                <a:lnTo>
                  <a:pt x="0" y="18043"/>
                </a:lnTo>
                <a:arcTo wR="3600" hR="3600" stAng="10800000" swAng="-5400000"/>
                <a:lnTo>
                  <a:pt x="18000" y="21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3"/>
          <p:cNvSpPr/>
          <p:nvPr/>
        </p:nvSpPr>
        <p:spPr>
          <a:xfrm>
            <a:off x="2050920" y="39337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4"/>
          <p:cNvSpPr/>
          <p:nvPr/>
        </p:nvSpPr>
        <p:spPr>
          <a:xfrm>
            <a:off x="2916360" y="39337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5"/>
          <p:cNvSpPr/>
          <p:nvPr/>
        </p:nvSpPr>
        <p:spPr>
          <a:xfrm>
            <a:off x="3743280" y="392256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6"/>
          <p:cNvSpPr/>
          <p:nvPr/>
        </p:nvSpPr>
        <p:spPr>
          <a:xfrm>
            <a:off x="4600440" y="392256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5457960" y="392256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8"/>
          <p:cNvSpPr/>
          <p:nvPr/>
        </p:nvSpPr>
        <p:spPr>
          <a:xfrm>
            <a:off x="6315120" y="392256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9"/>
          <p:cNvSpPr/>
          <p:nvPr/>
        </p:nvSpPr>
        <p:spPr>
          <a:xfrm>
            <a:off x="7172280" y="392256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10"/>
          <p:cNvSpPr/>
          <p:nvPr/>
        </p:nvSpPr>
        <p:spPr>
          <a:xfrm>
            <a:off x="8029440" y="3922560"/>
            <a:ext cx="82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1692360" y="1700280"/>
            <a:ext cx="70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. У Зайчихи было 10 зайчат. Сосчитай их всех от 1 до 10 и обратно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9"/>
          <p:cNvSpPr/>
          <p:nvPr/>
        </p:nvSpPr>
        <p:spPr>
          <a:xfrm>
            <a:off x="1763640" y="2637000"/>
            <a:ext cx="47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. От 9 до 3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1 до 10.WAV" descr=""/>
          <p:cNvPicPr/>
          <p:nvPr/>
        </p:nvPicPr>
        <p:blipFill>
          <a:blip r:embed="rId1"/>
          <a:stretch/>
        </p:blipFill>
        <p:spPr>
          <a:xfrm>
            <a:off x="-785880" y="714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от 9 до 3.WAV" descr=""/>
          <p:cNvPicPr/>
          <p:nvPr/>
        </p:nvPicPr>
        <p:blipFill>
          <a:blip r:embed="rId2"/>
          <a:stretch/>
        </p:blipFill>
        <p:spPr>
          <a:xfrm>
            <a:off x="-928800" y="16430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9"/>
          <p:cNvSpPr/>
          <p:nvPr/>
        </p:nvSpPr>
        <p:spPr>
          <a:xfrm>
            <a:off x="1619280" y="47628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Помоги Зайчихе сосчитать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своих зайча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remove" presetClass="emph" presetID="16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7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7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7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7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8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8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8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8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8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9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9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9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9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кругленный прямоугольник 2" descr=""/>
          <p:cNvPicPr/>
          <p:nvPr/>
        </p:nvPicPr>
        <p:blipFill>
          <a:blip r:embed="rId1"/>
          <a:stretch/>
        </p:blipFill>
        <p:spPr>
          <a:xfrm>
            <a:off x="3767040" y="1889280"/>
            <a:ext cx="1548000" cy="1549080"/>
          </a:xfrm>
          <a:prstGeom prst="rect">
            <a:avLst/>
          </a:prstGeom>
          <a:ln w="0">
            <a:noFill/>
          </a:ln>
        </p:spPr>
      </p:pic>
      <p:sp>
        <p:nvSpPr>
          <p:cNvPr id="60" name="Скругленный прямоугольник 3"/>
          <p:cNvSpPr/>
          <p:nvPr/>
        </p:nvSpPr>
        <p:spPr>
          <a:xfrm>
            <a:off x="2843280" y="4653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4"/>
          <p:cNvSpPr/>
          <p:nvPr/>
        </p:nvSpPr>
        <p:spPr>
          <a:xfrm>
            <a:off x="1166760" y="4643280"/>
            <a:ext cx="719280" cy="72072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20720"/>
              <a:gd name="textAreaBottom" fmla="*/ 685800 h 720720"/>
            </a:gdLst>
            <a:ahLst/>
            <a:rect l="textAreaLeft" t="textAreaTop" r="textAreaRight" b="textAreaBottom"/>
            <a:pathLst>
              <a:path w="21600" h="21643">
                <a:moveTo>
                  <a:pt x="3600" y="0"/>
                </a:moveTo>
                <a:arcTo wR="3600" hR="3600" stAng="16200000" swAng="-5400000"/>
                <a:lnTo>
                  <a:pt x="0" y="18043"/>
                </a:lnTo>
                <a:arcTo wR="3600" hR="3600" stAng="10800000" swAng="-5400000"/>
                <a:lnTo>
                  <a:pt x="18000" y="21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5"/>
          <p:cNvSpPr/>
          <p:nvPr/>
        </p:nvSpPr>
        <p:spPr>
          <a:xfrm>
            <a:off x="6286680" y="464328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7"/>
          <p:cNvSpPr/>
          <p:nvPr/>
        </p:nvSpPr>
        <p:spPr>
          <a:xfrm>
            <a:off x="5429160" y="464328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8"/>
          <p:cNvSpPr/>
          <p:nvPr/>
        </p:nvSpPr>
        <p:spPr>
          <a:xfrm>
            <a:off x="4600440" y="464328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9"/>
          <p:cNvSpPr/>
          <p:nvPr/>
        </p:nvSpPr>
        <p:spPr>
          <a:xfrm>
            <a:off x="3714840" y="464328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10"/>
          <p:cNvSpPr/>
          <p:nvPr/>
        </p:nvSpPr>
        <p:spPr>
          <a:xfrm>
            <a:off x="2000160" y="464328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1"/>
          <p:cNvSpPr/>
          <p:nvPr/>
        </p:nvSpPr>
        <p:spPr>
          <a:xfrm>
            <a:off x="7172280" y="464328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12"/>
          <p:cNvSpPr/>
          <p:nvPr/>
        </p:nvSpPr>
        <p:spPr>
          <a:xfrm>
            <a:off x="214200" y="4643280"/>
            <a:ext cx="82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6"/>
          <p:cNvSpPr/>
          <p:nvPr/>
        </p:nvSpPr>
        <p:spPr>
          <a:xfrm>
            <a:off x="8072280" y="464328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2124000" y="549360"/>
            <a:ext cx="58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Какое число стоит ПОСЛЕ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Motion origin="layout" path="M -2.22222E-006 -3.29401E-006 L -0.24896 -0.3449 E">
                                      <p:cBhvr>
                                        <p:cTn id="13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пуговицы.png"/>
          <p:cNvPicPr/>
          <p:nvPr/>
        </p:nvPicPr>
        <p:blipFill>
          <a:blip r:embed="rId1"/>
          <a:stretch/>
        </p:blipFill>
        <p:spPr>
          <a:xfrm>
            <a:off x="395280" y="1484280"/>
            <a:ext cx="8286840" cy="4483080"/>
          </a:xfrm>
          <a:prstGeom prst="rect">
            <a:avLst/>
          </a:prstGeom>
          <a:ln w="0">
            <a:noFill/>
          </a:ln>
        </p:spPr>
      </p:pic>
      <p:sp>
        <p:nvSpPr>
          <p:cNvPr id="72" name="Скругленный прямоугольник 2"/>
          <p:cNvSpPr/>
          <p:nvPr/>
        </p:nvSpPr>
        <p:spPr>
          <a:xfrm>
            <a:off x="5148360" y="32846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3"/>
          <p:cNvSpPr/>
          <p:nvPr/>
        </p:nvSpPr>
        <p:spPr>
          <a:xfrm>
            <a:off x="1042920" y="3284640"/>
            <a:ext cx="719280" cy="72072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20720"/>
              <a:gd name="textAreaBottom" fmla="*/ 685800 h 720720"/>
            </a:gdLst>
            <a:ahLst/>
            <a:rect l="textAreaLeft" t="textAreaTop" r="textAreaRight" b="textAreaBottom"/>
            <a:pathLst>
              <a:path w="21600" h="21643">
                <a:moveTo>
                  <a:pt x="3600" y="0"/>
                </a:moveTo>
                <a:arcTo wR="3600" hR="3600" stAng="16200000" swAng="-5400000"/>
                <a:lnTo>
                  <a:pt x="0" y="18043"/>
                </a:lnTo>
                <a:arcTo wR="3600" hR="3600" stAng="10800000" swAng="-5400000"/>
                <a:lnTo>
                  <a:pt x="18000" y="21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4"/>
          <p:cNvSpPr/>
          <p:nvPr/>
        </p:nvSpPr>
        <p:spPr>
          <a:xfrm>
            <a:off x="4067280" y="32846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5"/>
          <p:cNvSpPr/>
          <p:nvPr/>
        </p:nvSpPr>
        <p:spPr>
          <a:xfrm>
            <a:off x="1979640" y="32846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6"/>
          <p:cNvSpPr/>
          <p:nvPr/>
        </p:nvSpPr>
        <p:spPr>
          <a:xfrm>
            <a:off x="2987640" y="32846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7"/>
          <p:cNvSpPr/>
          <p:nvPr/>
        </p:nvSpPr>
        <p:spPr>
          <a:xfrm>
            <a:off x="7226280" y="32497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8"/>
          <p:cNvSpPr/>
          <p:nvPr/>
        </p:nvSpPr>
        <p:spPr>
          <a:xfrm>
            <a:off x="6219720" y="32497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619280" y="352440"/>
            <a:ext cx="693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Разложи цифры на соответствующие ей картинки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97 -0.06292 L 0.16562 -0.13648 E">
                                      <p:cBhvr>
                                        <p:cTn id="22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.06292 L -0.07882 0.11543 E">
                                      <p:cBhvr>
                                        <p:cTn id="22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06292 L 0.07083 0.11543 E">
                                      <p:cBhvr>
                                        <p:cTn id="22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2 -0.06292 L -0.28351 -0.12584 E">
                                      <p:cBhvr>
                                        <p:cTn id="23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6292 L 0.18108 -0.13648 E">
                                      <p:cBhvr>
                                        <p:cTn id="23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5 -0.05783 L -0.09358 -0.13139 E">
                                      <p:cBhvr>
                                        <p:cTn id="24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06801 L -0.125 0.12052 E">
                                      <p:cBhvr>
                                        <p:cTn id="245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Скругленный прямоугольник 2"/>
          <p:cNvSpPr/>
          <p:nvPr/>
        </p:nvSpPr>
        <p:spPr>
          <a:xfrm>
            <a:off x="214200" y="1643040"/>
            <a:ext cx="2857680" cy="3643200"/>
          </a:xfrm>
          <a:custGeom>
            <a:avLst/>
            <a:gdLst>
              <a:gd name="textAreaLeft" fmla="*/ 139320 w 2857680"/>
              <a:gd name="textAreaRight" fmla="*/ 2718360 w 2857680"/>
              <a:gd name="textAreaTop" fmla="*/ 139320 h 3643200"/>
              <a:gd name="textAreaBottom" fmla="*/ 3503880 h 3643200"/>
            </a:gdLst>
            <a:ahLst/>
            <a:rect l="textAreaLeft" t="textAreaTop" r="textAreaRight" b="textAreaBottom"/>
            <a:pathLst>
              <a:path w="21600" h="27537">
                <a:moveTo>
                  <a:pt x="3600" y="0"/>
                </a:moveTo>
                <a:arcTo wR="3600" hR="3600" stAng="16200000" swAng="-5400000"/>
                <a:lnTo>
                  <a:pt x="0" y="23937"/>
                </a:lnTo>
                <a:arcTo wR="3600" hR="3600" stAng="10800000" swAng="-5400000"/>
                <a:lnTo>
                  <a:pt x="18000" y="275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3"/>
          <p:cNvSpPr/>
          <p:nvPr/>
        </p:nvSpPr>
        <p:spPr>
          <a:xfrm>
            <a:off x="6072120" y="1643040"/>
            <a:ext cx="2857680" cy="3643200"/>
          </a:xfrm>
          <a:custGeom>
            <a:avLst/>
            <a:gdLst>
              <a:gd name="textAreaLeft" fmla="*/ 139320 w 2857680"/>
              <a:gd name="textAreaRight" fmla="*/ 2718360 w 2857680"/>
              <a:gd name="textAreaTop" fmla="*/ 139320 h 3643200"/>
              <a:gd name="textAreaBottom" fmla="*/ 3503880 h 3643200"/>
            </a:gdLst>
            <a:ahLst/>
            <a:rect l="textAreaLeft" t="textAreaTop" r="textAreaRight" b="textAreaBottom"/>
            <a:pathLst>
              <a:path w="21600" h="27537">
                <a:moveTo>
                  <a:pt x="3600" y="0"/>
                </a:moveTo>
                <a:arcTo wR="3600" hR="3600" stAng="16200000" swAng="-5400000"/>
                <a:lnTo>
                  <a:pt x="0" y="23937"/>
                </a:lnTo>
                <a:arcTo wR="3600" hR="3600" stAng="10800000" swAng="-5400000"/>
                <a:lnTo>
                  <a:pt x="18000" y="275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4"/>
          <p:cNvSpPr/>
          <p:nvPr/>
        </p:nvSpPr>
        <p:spPr>
          <a:xfrm rot="19993200">
            <a:off x="3499920" y="15714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5"/>
          <p:cNvSpPr/>
          <p:nvPr/>
        </p:nvSpPr>
        <p:spPr>
          <a:xfrm rot="1656600">
            <a:off x="4197240" y="248256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6"/>
          <p:cNvSpPr/>
          <p:nvPr/>
        </p:nvSpPr>
        <p:spPr>
          <a:xfrm rot="20231400">
            <a:off x="3325320" y="31111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7"/>
          <p:cNvSpPr/>
          <p:nvPr/>
        </p:nvSpPr>
        <p:spPr>
          <a:xfrm rot="20557800">
            <a:off x="3233880" y="45907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9"/>
          <p:cNvSpPr/>
          <p:nvPr/>
        </p:nvSpPr>
        <p:spPr>
          <a:xfrm rot="19818600">
            <a:off x="4271760" y="4986000"/>
            <a:ext cx="718920" cy="71928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719280"/>
              <a:gd name="textAreaBottom" fmla="*/ 684360 h 71928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0"/>
          <p:cNvSpPr/>
          <p:nvPr/>
        </p:nvSpPr>
        <p:spPr>
          <a:xfrm rot="1764600">
            <a:off x="915840" y="57020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1"/>
          <p:cNvSpPr/>
          <p:nvPr/>
        </p:nvSpPr>
        <p:spPr>
          <a:xfrm rot="19504200">
            <a:off x="2284200" y="57132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12"/>
          <p:cNvSpPr/>
          <p:nvPr/>
        </p:nvSpPr>
        <p:spPr>
          <a:xfrm rot="1539000">
            <a:off x="5427720" y="5691240"/>
            <a:ext cx="8650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13"/>
          <p:cNvSpPr/>
          <p:nvPr/>
        </p:nvSpPr>
        <p:spPr>
          <a:xfrm rot="1746000">
            <a:off x="4416480" y="3844800"/>
            <a:ext cx="718920" cy="71928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719280"/>
              <a:gd name="textAreaBottom" fmla="*/ 684360 h 71928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14"/>
          <p:cNvSpPr/>
          <p:nvPr/>
        </p:nvSpPr>
        <p:spPr>
          <a:xfrm rot="20622000">
            <a:off x="5159520" y="1587240"/>
            <a:ext cx="71892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15"/>
          <p:cNvSpPr/>
          <p:nvPr/>
        </p:nvSpPr>
        <p:spPr>
          <a:xfrm rot="20557800">
            <a:off x="5148360" y="2997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1079640" y="260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Положи карточки с цифрами БОЛЬШЕ 5 на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красный </a:t>
            </a:r>
            <a:r>
              <a:rPr b="0" i="1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стол, а карточки с цифрами МЕНЬШЕ 5 на </a:t>
            </a:r>
            <a:r>
              <a:rPr b="0" i="1" lang="ru-RU" sz="2400" spc="-1" strike="noStrike">
                <a:solidFill>
                  <a:srgbClr val="33cc33"/>
                </a:solidFill>
                <a:latin typeface="Times New Roman"/>
                <a:ea typeface="Arial"/>
              </a:rPr>
              <a:t>зеленый</a:t>
            </a:r>
            <a:r>
              <a:rPr b="0" i="1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 сто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07 -0.01273 L -0.36319 -0.00232 E">
                                      <p:cBhvr>
                                        <p:cTn id="251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45 0.0377 L -0.42639 -0.0044 E">
                                      <p:cBhvr>
                                        <p:cTn id="25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65 -0.00903 L -0.42361 0.02243 E">
                                      <p:cBhvr>
                                        <p:cTn id="25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5.26486E-006 L -0.16528 -0.0317 E">
                                      <p:cBhvr>
                                        <p:cTn id="26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69813E-006 L -0.40955 0.02105 E">
                                      <p:cBhvr>
                                        <p:cTn id="26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53 -0.01203 L -0.14497 -0.0539 E">
                                      <p:cBhvr>
                                        <p:cTn id="27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3245E-007 L 0.08664 -0.13624 E">
                                      <p:cBhvr>
                                        <p:cTn id="27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-3.94402E-006 L 0.34653 -0.37775 E">
                                      <p:cBhvr>
                                        <p:cTn id="279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97641E-006 L 0.55903 -0.34629 E">
                                      <p:cBhvr>
                                        <p:cTn id="28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7 -0.06014 L 0.5809 -0.36433 E">
                                      <p:cBhvr>
                                        <p:cTn id="28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5.26949E-006 L 0.12604 -0.16795 E">
                                      <p:cBhvr>
                                        <p:cTn id="291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572000" y="5715000"/>
            <a:ext cx="762120" cy="7621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638680" y="5715000"/>
            <a:ext cx="762120" cy="7621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105520" y="4952880"/>
            <a:ext cx="76176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6781680" y="571500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848720" y="5715000"/>
            <a:ext cx="76176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248520" y="4952880"/>
            <a:ext cx="76176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5638680" y="4191120"/>
            <a:ext cx="76212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7467480" y="4952880"/>
            <a:ext cx="762120" cy="762120"/>
          </a:xfrm>
          <a:prstGeom prst="rect">
            <a:avLst/>
          </a:prstGeom>
          <a:solidFill>
            <a:srgbClr val="3185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6934320" y="4191120"/>
            <a:ext cx="761760" cy="7617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1835280" y="404640"/>
            <a:ext cx="69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Сколько понадобилось зайцу кубиков для башни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6172200" y="22860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6324480" y="342900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i"/>
          <p:cNvPicPr/>
          <p:nvPr/>
        </p:nvPicPr>
        <p:blipFill>
          <a:blip r:embed="rId1"/>
          <a:stretch/>
        </p:blipFill>
        <p:spPr>
          <a:xfrm>
            <a:off x="1692360" y="3068640"/>
            <a:ext cx="2673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mph" presetID="35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763640" y="26028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Сколько зайцев в корзине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img069"/>
          <p:cNvPicPr/>
          <p:nvPr/>
        </p:nvPicPr>
        <p:blipFill>
          <a:blip r:embed="rId1"/>
          <a:stretch/>
        </p:blipFill>
        <p:spPr>
          <a:xfrm>
            <a:off x="1692360" y="1844640"/>
            <a:ext cx="5543640" cy="4680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7740720" y="3429000"/>
            <a:ext cx="4554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1860480" y="325440"/>
            <a:ext cx="69595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У крышки стола 4 угла. Сколько останется углов, если 1 угол отпилить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76480" y="3492360"/>
            <a:ext cx="5329080" cy="30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 flipV="1" rot="5512800">
            <a:off x="6142680" y="3171600"/>
            <a:ext cx="1228680" cy="158256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"/>
          <p:cNvSpPr/>
          <p:nvPr/>
        </p:nvSpPr>
        <p:spPr>
          <a:xfrm>
            <a:off x="1932120" y="334980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6037200" y="334980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7261200" y="442908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9"/>
          <p:cNvSpPr/>
          <p:nvPr/>
        </p:nvSpPr>
        <p:spPr>
          <a:xfrm>
            <a:off x="1932120" y="63007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7261200" y="63007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11"/>
          <p:cNvSpPr txBox="1"/>
          <p:nvPr/>
        </p:nvSpPr>
        <p:spPr>
          <a:xfrm>
            <a:off x="2771640" y="1628640"/>
            <a:ext cx="50421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5 углов</a:t>
            </a:r>
            <a:endParaRPr b="1" i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19" name="Picture 12" descr="W12"/>
          <p:cNvPicPr/>
          <p:nvPr/>
        </p:nvPicPr>
        <p:blipFill>
          <a:blip r:embed="rId3"/>
          <a:stretch/>
        </p:blipFill>
        <p:spPr>
          <a:xfrm flipH="1" rot="1402200">
            <a:off x="4984920" y="3644640"/>
            <a:ext cx="4159080" cy="2004840"/>
          </a:xfrm>
          <a:prstGeom prst="rect">
            <a:avLst/>
          </a:prstGeom>
          <a:ln w="0">
            <a:noFill/>
          </a:ln>
        </p:spPr>
      </p:pic>
      <p:pic>
        <p:nvPicPr>
          <p:cNvPr id="120" name="ПИЛА1628.WAV" descr=""/>
          <p:cNvPicPr/>
          <p:nvPr/>
        </p:nvPicPr>
        <p:blipFill>
          <a:blip r:embed="rId4"/>
          <a:stretch/>
        </p:blipFill>
        <p:spPr>
          <a:xfrm>
            <a:off x="10032840" y="716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5.92593E-006 C -0.00589 -0.01203 -0.01319 -0.01689 -0.02083 -0.02592 C -0.02638 -0.0324 -0.03211 -0.04004 -0.03888 -0.04444 C -0.04339 -0.04745 -0.04878 -0.04745 -0.05277 -0.05184 C -0.05589 -0.05508 -0.0578 -0.05995 -0.0611 -0.06296 C -0.06249 -0.06411 -0.06388 -0.0655 -0.06527 -0.06666 C -0.06926 -0.07453 -0.07551 -0.08032 -0.08055 -0.08703 C -0.08541 -0.09351 -0.0901 -0.10231 -0.09583 -0.1074 C -0.0967 -0.10925 -0.10017 -0.11249 -0.0986 -0.11296 C -0.0986 -0.11296 -0.08819 -0.10833 -0.0861 -0.1074 C -0.08472 -0.10671 -0.08194 -0.10555 -0.08194 -0.10555 C -0.07882 -0.10231 -0.07482 -0.10022 -0.07221 -0.09629 C -0.06683 -0.08819 -0.06336 -0.07569 -0.05694 -0.06851 C -0.05537 -0.06666 -0.05312 -0.06643 -0.05138 -0.06481 C -0.0493 -0.06272 -0.04792 -0.05948 -0.04583 -0.0574 C -0.0401 -0.05138 -0.03367 -0.04791 -0.02777 -0.04258 C -0.02378 -0.03448 -0.01475 -0.02175 -0.01249 -0.01296 C -0.0111 -0.0074 -0.01128 -0.00671 -0.00833 -0.00184 C -0.00711 0.00024 -0.00572 0.00209 -0.00416 0.00371 C -0.00155 0.00649 0.00417 0.01112 0.00417 0.01112 C 0.00869 0.02015 0.0172 0.02617 0.02362 0.03334 C 0.02518 0.03496 0.02622 0.03728 0.02779 0.0389 C 0.03039 0.04167 0.03612 0.0463 0.03612 0.0463 C 0.03803 0.05001 0.03924 0.05417 0.04167 0.05742 C 0.04445 0.06112 0.05001 0.06853 0.05001 0.06853 C 0.04827 0.05973 0.04411 0.05117 0.03751 0.04816 C 0.03334 0.03982 0.02692 0.03404 0.02223 0.02593 C 0.01286 0.00927 0.00417 -0.00925 -0.00694 -0.02407 C -0.0099 -0.03958 -0.00572 -0.02499 -0.01249 -0.03518 C -0.01579 -0.04027 -0.01735 -0.04721 -0.02083 -0.05184 C -0.0236 -0.05555 -0.02586 -0.05995 -0.02916 -0.06296 C -0.03055 -0.06411 -0.03211 -0.06527 -0.03333 -0.06666 C -0.04027 -0.0743 -0.03437 -0.07083 -0.04166 -0.07407 C -0.04739 -0.08171 -0.05468 -0.08772 -0.0611 -0.09444 C -0.0651 -0.0986 -0.07013 -0.10092 -0.0736 -0.10555 C -0.07621 -0.10902 -0.07794 -0.11319 -0.08055 -0.11666 C -0.08177 -0.11828 -0.08472 -0.12036 -0.08472 -0.12036 E">
                                      <p:cBhvr>
                                        <p:cTn id="36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186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Группа 6"/>
          <p:cNvGrpSpPr/>
          <p:nvPr/>
        </p:nvGrpSpPr>
        <p:grpSpPr>
          <a:xfrm>
            <a:off x="1714680" y="1071720"/>
            <a:ext cx="6786360" cy="4922640"/>
            <a:chOff x="1714680" y="1071720"/>
            <a:chExt cx="6786360" cy="4922640"/>
          </a:xfrm>
        </p:grpSpPr>
        <p:grpSp>
          <p:nvGrpSpPr>
            <p:cNvPr id="122" name="Группа 1"/>
            <p:cNvGrpSpPr/>
            <p:nvPr/>
          </p:nvGrpSpPr>
          <p:grpSpPr>
            <a:xfrm>
              <a:off x="1714680" y="1071720"/>
              <a:ext cx="6786360" cy="4007160"/>
              <a:chOff x="1714680" y="1071720"/>
              <a:chExt cx="6786360" cy="4007160"/>
            </a:xfrm>
          </p:grpSpPr>
          <p:sp>
            <p:nvSpPr>
              <p:cNvPr id="123" name="Прямоугольник 4"/>
              <p:cNvSpPr/>
              <p:nvPr/>
            </p:nvSpPr>
            <p:spPr>
              <a:xfrm>
                <a:off x="1714680" y="1071720"/>
                <a:ext cx="67863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Прямоугольник 3"/>
              <p:cNvSpPr/>
              <p:nvPr/>
            </p:nvSpPr>
            <p:spPr>
              <a:xfrm>
                <a:off x="2363760" y="4680000"/>
                <a:ext cx="555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  <a:ea typeface="Arial"/>
                  </a:rPr>
                  <a:t> 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  <a:ea typeface="Arial"/>
                  </a:rPr>
                  <a:t> 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Box 3"/>
            <p:cNvSpPr/>
            <p:nvPr/>
          </p:nvSpPr>
          <p:spPr>
            <a:xfrm>
              <a:off x="5121360" y="56278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Рисунок 1" descr="ПАРОВОЗ.png"/>
          <p:cNvPicPr/>
          <p:nvPr/>
        </p:nvPicPr>
        <p:blipFill>
          <a:blip r:embed="rId1"/>
          <a:stretch/>
        </p:blipFill>
        <p:spPr>
          <a:xfrm rot="151200">
            <a:off x="0" y="1844280"/>
            <a:ext cx="8964720" cy="2728800"/>
          </a:xfrm>
          <a:prstGeom prst="rect">
            <a:avLst/>
          </a:prstGeom>
          <a:ln w="0">
            <a:noFill/>
          </a:ln>
        </p:spPr>
      </p:pic>
      <p:sp>
        <p:nvSpPr>
          <p:cNvPr id="127" name="Скругленный прямоугольник 2"/>
          <p:cNvSpPr/>
          <p:nvPr/>
        </p:nvSpPr>
        <p:spPr>
          <a:xfrm>
            <a:off x="32400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3"/>
          <p:cNvSpPr/>
          <p:nvPr/>
        </p:nvSpPr>
        <p:spPr>
          <a:xfrm>
            <a:off x="1187280" y="4869000"/>
            <a:ext cx="719280" cy="720720"/>
          </a:xfrm>
          <a:custGeom>
            <a:avLst/>
            <a:gdLst>
              <a:gd name="textAreaLeft" fmla="*/ 27000 w 719280"/>
              <a:gd name="textAreaRight" fmla="*/ 692280 w 719280"/>
              <a:gd name="textAreaTop" fmla="*/ 27000 h 720720"/>
              <a:gd name="textAreaBottom" fmla="*/ 693720 h 720720"/>
            </a:gdLst>
            <a:ahLst/>
            <a:rect l="textAreaLeft" t="textAreaTop" r="textAreaRight" b="textAreaBottom"/>
            <a:pathLst>
              <a:path w="21600" h="21643">
                <a:moveTo>
                  <a:pt x="2768" y="0"/>
                </a:moveTo>
                <a:arcTo wR="2768" hR="2768" stAng="16200000" swAng="-5400000"/>
                <a:lnTo>
                  <a:pt x="0" y="18875"/>
                </a:lnTo>
                <a:arcTo wR="2768" hR="2768" stAng="10800000" swAng="-5400000"/>
                <a:lnTo>
                  <a:pt x="18832" y="21643"/>
                </a:lnTo>
                <a:arcTo wR="2768" hR="2768" stAng="5400000" swAng="-5400000"/>
                <a:lnTo>
                  <a:pt x="21600" y="2768"/>
                </a:lnTo>
                <a:arcTo wR="2768" hR="2768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4"/>
          <p:cNvSpPr/>
          <p:nvPr/>
        </p:nvSpPr>
        <p:spPr>
          <a:xfrm>
            <a:off x="2028960" y="48578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5"/>
          <p:cNvSpPr/>
          <p:nvPr/>
        </p:nvSpPr>
        <p:spPr>
          <a:xfrm>
            <a:off x="3743280" y="48578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6"/>
          <p:cNvSpPr/>
          <p:nvPr/>
        </p:nvSpPr>
        <p:spPr>
          <a:xfrm>
            <a:off x="457200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7"/>
          <p:cNvSpPr/>
          <p:nvPr/>
        </p:nvSpPr>
        <p:spPr>
          <a:xfrm>
            <a:off x="543564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8"/>
          <p:cNvSpPr/>
          <p:nvPr/>
        </p:nvSpPr>
        <p:spPr>
          <a:xfrm>
            <a:off x="630072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9"/>
          <p:cNvSpPr/>
          <p:nvPr/>
        </p:nvSpPr>
        <p:spPr>
          <a:xfrm>
            <a:off x="716436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0"/>
          <p:cNvSpPr/>
          <p:nvPr/>
        </p:nvSpPr>
        <p:spPr>
          <a:xfrm>
            <a:off x="8029440" y="4857840"/>
            <a:ext cx="82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1"/>
          <p:cNvSpPr/>
          <p:nvPr/>
        </p:nvSpPr>
        <p:spPr>
          <a:xfrm>
            <a:off x="291636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1619280" y="4968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Реши примеры, прибавляя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1</a:t>
            </a:r>
            <a:r>
              <a:rPr b="0" i="1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 к следующему числу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5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96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97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07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08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7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18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19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29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30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40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41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92 -0.07171 L -0.26302 -0.22924 E">
                                      <p:cBhvr>
                                        <p:cTn id="45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0.06292 L -0.20468 -0.23086 E">
                                      <p:cBhvr>
                                        <p:cTn id="45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-0.06315 L -0.15764 -0.22045 E">
                                      <p:cBhvr>
                                        <p:cTn id="458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79 -0.03169 L -0.10243 -0.22045 E">
                                      <p:cBhvr>
                                        <p:cTn id="462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9 -0.00879 L -0.0533 -0.20819 E">
                                      <p:cBhvr>
                                        <p:cTn id="46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9T13:05:35Z</dcterms:created>
  <dc:creator>User</dc:creator>
  <dc:description/>
  <dc:language>en-US</dc:language>
  <cp:lastModifiedBy>Татьяна</cp:lastModifiedBy>
  <dcterms:modified xsi:type="dcterms:W3CDTF">2024-01-15T13:54:52Z</dcterms:modified>
  <cp:revision>15</cp:revision>
  <dc:subject/>
  <dc:title>Слайд 1</dc:title>
</cp:coreProperties>
</file>