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36.wmf" ContentType="image/x-wmf"/>
  <Override PartName="/ppt/media/image3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49.gif" ContentType="image/gif"/>
  <Override PartName="/ppt/media/image50.jpeg" ContentType="image/jpeg"/>
  <Override PartName="/ppt/media/image13.png" ContentType="image/png"/>
  <Override PartName="/ppt/media/image40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6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4CA-F3F8-4694-9BD3-954BD60A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35D-1A16-4F4B-ACF4-4C1AF607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451-4062-4F56-BE04-67BD9FA7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22F-5098-4C9D-AA1D-662015D9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B53-9DEF-4AEE-9331-4AC62996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D08-BC81-4E34-B626-16C4B05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DFA-30DD-4083-9A99-388FE78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CC7-2829-4EEA-B73C-D72D325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578-99F0-41A4-A1C7-A32D19DE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50B-AD0F-49CB-ADB4-D3E8529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DE-3351-4BA5-B1F2-50F86E9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E5E-6E4E-49D9-89D8-33747E9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B56BB-4E4B-4248-9B9C-D049E34721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5940360"/>
            <a:ext cx="9360000" cy="1619280"/>
          </a:xfrm>
          <a:custGeom>
            <a:avLst/>
            <a:gdLst>
              <a:gd name="textAreaLeft" fmla="*/ 2340000 w 9360000"/>
              <a:gd name="textAreaRight" fmla="*/ 7020000 w 9360000"/>
              <a:gd name="textAreaTop" fmla="*/ 202320 h 1619280"/>
              <a:gd name="textAreaBottom" fmla="*/ 1619640 h 16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24360" y="6300720"/>
            <a:ext cx="40320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рвокласс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спользуй портфель по назначени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13080" y="1767960"/>
            <a:ext cx="4459320" cy="53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ртфелем слон не расставал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ём с горы зимой кат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, как мячом, в футбол игра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ём удар трениров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фель терпел, трещал, крепи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на части развалил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сем теперь не годен он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с чем же в школу завтра, Слон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этом и веду я речь,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м нужно свой портфель береч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3280" y="1619280"/>
            <a:ext cx="4513320" cy="36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360" y="5327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Хорошо веди себя в школьной столов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онок! Все дружною гурьб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оловую летят стрел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здесь есть правила сво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мни их и повтори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 аккуратно, не спеш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рызгай, на пол не крош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еб береги и уваж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повсюду не брос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ел – и убери, друг м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ю посуду за собо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3280" y="3564000"/>
            <a:ext cx="4416480" cy="372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40000" y="471636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800360" y="399564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664000" y="471636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79640" y="3995640"/>
            <a:ext cx="936720" cy="6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60360" y="1258920"/>
            <a:ext cx="30243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девай подходящую для школы одежд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95640" y="1767960"/>
            <a:ext cx="4676760" cy="53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сичка в школу собирала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, как для бала, одевала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яд блестел, переливался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ь класс гурьбой смотреть сбежал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платье! Заглядень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! Но при чём же здесь ученье?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в школе всем учиться над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не рассматривать наря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, чтоб не отвлекать друз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 одежду поскромн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7280" y="1763640"/>
            <a:ext cx="4444920" cy="558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9280" y="356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44800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511280" y="4643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871640" y="4211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бери в школу игруш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13080" y="1476360"/>
            <a:ext cx="44593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уждал печально Хрюш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Грустно в школе без игру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быть, машинку взя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д партой покатат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олдатикам скуча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занять себя – не зна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, посвистеть в свист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 подумали: «Звонок!»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от что, детво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а – это не иг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трудиться надо честн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ждому известно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датикам не место ту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ушки дома подождут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03640" y="1332000"/>
            <a:ext cx="271764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508720"/>
            <a:ext cx="2808360" cy="178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7280" y="3635280"/>
            <a:ext cx="2016360" cy="172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52720" y="52927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отовься к уроку на переме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13080" y="1767960"/>
            <a:ext cx="4459320" cy="56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 заливисто звон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чинается ур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отчего же еле-е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достают свои портфе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чинают там иск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, ручку и тетрад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оворит суров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пять к уроку не готовы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у, зверята, вам сказат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ыдитесь время зря терять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шу к занятиям без ле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иться на перемен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только прозвенит звон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разу же начнём ур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195640"/>
            <a:ext cx="4726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рисуй на парт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13080" y="1476000"/>
            <a:ext cx="44593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сидит за парто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е Носор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а разрисова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оль и поперё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ики прекрас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ья слож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ашинки раз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фигурки с рожам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езобраз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кратить желатель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у парту вычисти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обязательно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отныне выгляд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а аккурат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за ней учиться ва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так приятн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0360" y="3921120"/>
            <a:ext cx="4680000" cy="363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3280" y="39528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24000"/>
            <a:ext cx="90694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сегда записывай домашнее задание в дне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нёнок за партой крут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ласса уйти тороп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фель поскорее собр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не записа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дома не знает, как быт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будет уроки учи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 поскорей вспомин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ужно читать и писать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мнит! Друзьям позвонил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у звонок не реши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зья убежали в ки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и готовы давн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он заданье узн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очи его выполня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л и не выспался он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ни, пожалуйста, Сло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урока бежать не спеш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ье в дневник запиши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0360" y="5435640"/>
            <a:ext cx="1982880" cy="21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7280" y="1332000"/>
            <a:ext cx="49690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иши в тетради красиво, грамотно и аккурат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13080" y="1619280"/>
            <a:ext cx="4459320" cy="51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за тетрадь у Бегемот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сюду пятна от чего-т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сем противно в руки бр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ую грязную тетрад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ишет в ней неровно, кри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вершенно некраси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ок там полным-пол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Бегемоту всё равн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только, братцы, не год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безалаберно учи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традь для школьников важ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аккуратной быть должна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и тетрадки береги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ез ошибок в них пиши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ё старайтесь не спеши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иво буквы вывод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41560" y="1692360"/>
            <a:ext cx="3787560" cy="424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87280" y="56149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жадничай в клас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13080" y="1476000"/>
            <a:ext cx="4459320" cy="57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ёлку рисов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андашик свой слом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дом с ней Енот сид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тихо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моги, товарищ м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й мне карандаш друг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тебя же много их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ватит и на пятерых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Енот в ответ: – Не дам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друг свои сломаю сам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наша загруст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помощь не просила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Ёлку не дорисов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ихонько плакать ст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у вас, ребята, кто-т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похожий на Енота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ыдно жадничать, поймит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 другу помог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7280" y="5148360"/>
            <a:ext cx="1800360" cy="214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3280" y="118728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19280" y="4140360"/>
            <a:ext cx="25290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болтай на урок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24360" y="2050920"/>
            <a:ext cx="489744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е хвостатые Соро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лтались на уро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 «двойке» получи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а близких огорчил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, пусть теперь узнаю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роках не болтаю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с не просят отвечат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, лучше помолчать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6000" y="5054760"/>
            <a:ext cx="2857320" cy="250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3280" y="790560"/>
            <a:ext cx="2808360" cy="26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71640" y="2700360"/>
            <a:ext cx="29196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9212400" cy="11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опаздывай на уро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332000"/>
            <a:ext cx="4457520" cy="59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спит в кроватк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учебники, тетрад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инать не хочет он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трит свой десятый со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хотя будильник звон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ит соню-Медвежо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не вста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у утром не идё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уроки он проспал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к обеду соня встал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это плохо, братцы,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поздно просыпаться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ра вам начин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будильнику вста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начали учи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ть так долго не годит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11640" y="6156360"/>
            <a:ext cx="439272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96000" y="5651640"/>
            <a:ext cx="431640" cy="165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1080" y="5724360"/>
            <a:ext cx="719280" cy="165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4720" y="4859280"/>
            <a:ext cx="410544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977080" y="1547640"/>
            <a:ext cx="2309760" cy="26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мей рассчитывать время на сборы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13080" y="1763280"/>
            <a:ext cx="44593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ом столько разных дел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ы умылся и по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еваешься, спешиш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весело бежиш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запомнить надо все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тро без пробл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ло, нужно в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ираться по часа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ь минут – на умывань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ь минут – на одевань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м на завтрак семь мину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и – убрать постель, и тут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ить уже по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ирайся, детвор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нужно рассчи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в класс не опоз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640" y="1763640"/>
            <a:ext cx="4608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арайся хорошо учи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кажу вам в заключень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 вовсе не в везень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ятёрки тот получ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сидит и честно учи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работы не бо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у нравится уч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т, кто лень прогонит проч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готов друзьям помоч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т, кто хочет умным ст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о всё на свете знать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31640" y="3274920"/>
            <a:ext cx="4443480" cy="401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7280" y="755640"/>
            <a:ext cx="2354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60360" y="324000"/>
            <a:ext cx="9072720" cy="7014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03280" y="637236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95280"/>
            <a:ext cx="90694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отовь школьную одежду зара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360" y="1332000"/>
            <a:ext cx="44575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сь по комнате мет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утром собирал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чему рубашка смят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дил я её когда-то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штаны запропастились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сквозь землю провалили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лстук, где ты? Отзови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на шее появись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нь долго Гусь стар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етился, одев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аков же был финал?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уроки опоздал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ить хочу я сн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школе надо быть готовы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тром ранним вс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даром не терять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нужды не суети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вовремя явитьс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0360" y="3203640"/>
            <a:ext cx="3411720" cy="410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36720" y="1258920"/>
            <a:ext cx="2283120" cy="239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7640" y="1476360"/>
            <a:ext cx="2089080" cy="190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311640" y="6156360"/>
            <a:ext cx="161928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озавтракай перед школ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3640" y="1582200"/>
            <a:ext cx="51800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чик сидит над тарелкой с капуст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 у него недовольный и грустны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ама, послушай, я в школу пой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 дороге травинку найд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поем, а пока не хочу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ря за столом я так долго торчу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-Зайчиха ему отвеча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аждый малыш обязательно знает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у голодным ходить не годит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но там будет отлично учи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т все мысли твои не о то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о учиться с пустым живот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289080" y="3595680"/>
            <a:ext cx="4753080" cy="3963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3280" y="140328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обери с собой всё, что необходимо для уро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489276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тышка за партою в классе сид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ихо соседке своей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Вчера не до школы, подружка, мне бы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я свой портфель не сложи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утром сегодняшним в класс торопила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что же в итоге, смотри, получило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фель свой Мартышка тихонько дост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 нём нет линейки, тетрадок, пена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оседка, прошу, ты меня выруча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учку, листочек, линейку мне да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чно, соседка Мартышку спас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просьбе такой отказать не смог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всё-таки в будущем, дети, учтит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ртфеле с собою всегда приноси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вещи, что в школе бывают нуж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их никогда забывать не должны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11280" y="2266920"/>
            <a:ext cx="3065400" cy="374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419800"/>
            <a:ext cx="2808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ереги школьные учеб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3640" y="1768320"/>
            <a:ext cx="510876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помощник в учёбе – учеб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молчаливый и добрый волшебн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я мудрые вечно хран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 сбереги его праздничный вид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зу в обложку его оберн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чкой не пачкай, не рви и не м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вный учебник научит всему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 благодарен за это ему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48720" y="5580000"/>
            <a:ext cx="155556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1619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24360" y="5148360"/>
            <a:ext cx="2232000" cy="2152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ереги школьное имуще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чонок в классе развлек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уле без конца кач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енах мелом рисова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верь ногою открыв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ребята окружи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чонку строго объяснил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ам школа – это дом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у здесь учат нас с тоб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ы беречь её должны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 хулиганы не нужны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3280" y="3635280"/>
            <a:ext cx="2622600" cy="364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03280" y="140328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иди за партой спокойно, не вертис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дит за партою Лисиц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ей спокойно не сиди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то шубку поправля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время по часам сверя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обернётся посмотре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ишет в дневнике Медвед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 извертелась, искрутила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ичему не научила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потому-то, как Лисиц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м отвлекаться не годи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03640" y="1619280"/>
            <a:ext cx="3616200" cy="361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360" y="2266920"/>
            <a:ext cx="259236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529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скрывай от родителей плохие отмет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53080" y="1619280"/>
            <a:ext cx="48196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чик «двойку» получ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рыть её от всех реш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 маме не сказа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в секрете и держ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 всё равно узна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на сильно отруга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казала: – Так и зн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«двойка» – не скрывай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прячь, как мышка в нор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лужи быстрей «пятёрку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огда довольна бу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 «двойке» позабуд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216000" y="3708360"/>
            <a:ext cx="3560760" cy="41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664000" y="1763640"/>
            <a:ext cx="180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/>
  <dc:description/>
  <dc:language>en-US</dc:language>
  <cp:lastModifiedBy>Admin</cp:lastModifiedBy>
  <dcterms:modified xsi:type="dcterms:W3CDTF">2015-01-11T12:19:12Z</dcterms:modified>
  <cp:revision>29</cp:revision>
  <dc:subject/>
  <dc:title>Слайд 1</dc:title>
</cp:coreProperties>
</file>