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6.png" ContentType="image/pn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39.png" ContentType="image/png"/>
  <Override PartName="/ppt/media/image41.jpeg" ContentType="image/jpeg"/>
  <Override PartName="/ppt/media/image42.png" ContentType="image/png"/>
  <Override PartName="/ppt/media/image43.png" ContentType="image/png"/>
  <Override PartName="/ppt/media/image36.wmf" ContentType="image/x-wmf"/>
  <Override PartName="/ppt/media/image3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8.jpeg" ContentType="image/jpeg"/>
  <Override PartName="/ppt/media/image49.gif" ContentType="image/gif"/>
  <Override PartName="/ppt/media/image50.jpeg" ContentType="image/jpeg"/>
  <Override PartName="/ppt/media/image13.png" ContentType="image/png"/>
  <Override PartName="/ppt/media/image40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34.jpeg" ContentType="image/jpeg"/>
  <Override PartName="/ppt/media/image7.png" ContentType="image/png"/>
  <Override PartName="/ppt/media/image27.gif" ContentType="image/gif"/>
  <Override PartName="/ppt/media/image6.png" ContentType="image/png"/>
  <Override PartName="/ppt/media/image4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37A-82FE-4C94-8A77-64999AAF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40A-2E04-4ABF-8CA8-11E306C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46ED-34BA-4023-802D-4386B4A7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333-9428-43A6-8782-280025E6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588E-1EDB-45D8-A188-F5E17092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D7A-3D7D-47E4-B9A4-F8F217B8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A10-BC43-40F1-8D69-E1A9741D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698-7DE9-4546-8010-67CA5DDE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6CD-EB38-4B79-89AC-77CDF8C2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B2B-5D5C-41C4-B44E-241C99A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EA2-5CB1-46D9-8CB8-F05BB8AA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E84-49AC-4374-9114-BE4DAEAF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9AAF2-FB26-4ECD-863E-1DCE067F51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5940360"/>
            <a:ext cx="9360000" cy="1619280"/>
          </a:xfrm>
          <a:custGeom>
            <a:avLst/>
            <a:gdLst>
              <a:gd name="textAreaLeft" fmla="*/ 2340000 w 9360000"/>
              <a:gd name="textAreaRight" fmla="*/ 7020000 w 9360000"/>
              <a:gd name="textAreaTop" fmla="*/ 202320 h 1619280"/>
              <a:gd name="textAreaBottom" fmla="*/ 1619640 h 16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b8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24360" y="6300720"/>
            <a:ext cx="40320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рвокласс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Используй портфель по назначению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13080" y="1767960"/>
            <a:ext cx="4459320" cy="53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ртфелем слон не расставал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ём с горы зимой кат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, как мячом, в футбол игра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нём удар трениров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тфель терпел, трещал, крепи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м на части развалил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всем теперь не годен он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с чем же в школу завтра, Слон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этом и веду я речь,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м нужно свой портфель беречь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3280" y="1619280"/>
            <a:ext cx="4513320" cy="3670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60360" y="5327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Хорошо веди себя в школьной столов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онок! Все дружною гурьб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толовую летят стрело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здесь есть правила сво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мни их и повтори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шь аккуратно, не спеш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брызгай, на пол не крош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еб береги и уваж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повсюду не брос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ел – и убери, друг м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ю посуду за собо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03280" y="3564000"/>
            <a:ext cx="4416480" cy="372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40000" y="471636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800360" y="399564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664000" y="4716360"/>
            <a:ext cx="936360" cy="611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79640" y="3995640"/>
            <a:ext cx="936720" cy="6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360360" y="1258920"/>
            <a:ext cx="30243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адевай подходящую для школы одежд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95640" y="1767960"/>
            <a:ext cx="4676760" cy="53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сичка в школу собирала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, как для бала, одевала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яд блестел, переливался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ь класс гурьбой смотреть сбежал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ое платье! Заглядень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! Но при чём же здесь ученье?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дь в школе всем учиться над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не рассматривать наряд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, чтоб не отвлекать друзе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 одежду поскромне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87280" y="1763640"/>
            <a:ext cx="4444920" cy="558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9280" y="356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44800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511280" y="4643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1871640" y="42116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бери в школу игруш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13080" y="1476360"/>
            <a:ext cx="44593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уждал печально Хрюша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Грустно в школе без игру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 быть, машинку взя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д партой покатат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солдатикам скуча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занять себя – не знаю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ет, посвистеть в свист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 подумали: «Звонок!»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вот что, детво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а – это не игр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трудиться надо честн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аждому известно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датикам не место ту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грушки дома подождут.</a:t>
            </a:r>
            <a:br>
              <a:rPr sz="24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303640" y="1332000"/>
            <a:ext cx="2717640" cy="3809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0" y="5508720"/>
            <a:ext cx="2808360" cy="1788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87280" y="3635280"/>
            <a:ext cx="2016360" cy="1722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52720" y="52927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Готовься к уроку на перемен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13080" y="1767960"/>
            <a:ext cx="4459320" cy="561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венит заливисто звон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чинается ур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отчего же еле-ел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достают свои портфел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чинают там иск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ик, ручку и тетрадь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оворит суров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Опять к уроку не готовы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у, зверята, вам сказать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ыдитесь время зря терять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шу к занятиям без ле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иться на перемене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только прозвенит звоно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ы сразу же начнём уро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195640"/>
            <a:ext cx="4726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рисуй на парт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13080" y="1476000"/>
            <a:ext cx="4459320" cy="58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сидит за парто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е Носор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а разрисова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доль и поперёк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ветики прекрас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ья слож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ашинки разны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фигурки с рожам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безобраз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кратить желатель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у парту вычисти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жно обязательно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ь отныне выгляд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та аккурат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за ней учиться ва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так приятн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60360" y="3921120"/>
            <a:ext cx="4680000" cy="3638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3280" y="39528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24000"/>
            <a:ext cx="906948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Всегда записывай домашнее задание в дне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13080" y="1403280"/>
            <a:ext cx="4459320" cy="59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онёнок за партой крут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класса уйти торопи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фель поскорее собр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ие не записа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дома не знает, как быт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будет уроки учить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вай поскорей вспомин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ужно читать и писать…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 помнит! Друзьям позвонил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у звонок не решил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зья убежали в ки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роки готовы давн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он заданье узна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ночи его выполнял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ал и не выспался он…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ни, пожалуйста, Слон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урока бежать не спеш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нье в дневник запиши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0360" y="5435640"/>
            <a:ext cx="1982880" cy="21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7280" y="1332000"/>
            <a:ext cx="496908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иши в тетради красиво, грамотно и аккуратн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13080" y="1619280"/>
            <a:ext cx="4459320" cy="51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за тетрадь у Бегемот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сюду пятна от чего-т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сем противно в руки бра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ую грязную тетрад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 пишет в ней неровно, кри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совершенно некраси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шибок там полным-полн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Бегемоту всё равно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только, братцы, не год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безалаберно учи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традь для школьников важн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аккуратной быть должна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и тетрадки береги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без ошибок в них пиши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щё старайтесь не спеши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сиво буквы вывод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41560" y="1692360"/>
            <a:ext cx="3787560" cy="424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87280" y="56149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жадничай в клас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13080" y="1476000"/>
            <a:ext cx="4459320" cy="57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ёлку рисов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андашик свой слом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ядом с ней Енот сиди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тихо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моги, товарищ м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й мне карандаш друго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тебя же много их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ватит и на пятерых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Енот в ответ: – Не дам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друг свои сломаю сам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ка наша загрусти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ольше помощь не просила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Ёлку не дорисов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тихонько плакать ст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у вас, ребята, кто-т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ть похожий на Енота?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ыдно жадничать, поймит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учше другу помоги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7280" y="5148360"/>
            <a:ext cx="1800360" cy="21477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3280" y="118728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2519280" y="4140360"/>
            <a:ext cx="252900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болтай на урока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24360" y="2050920"/>
            <a:ext cx="489744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ве хвостатые Соро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олтались на урок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о «двойке» получил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ма близких огорчил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же, пусть теперь узнают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уроках не болтаю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с не просят отвечат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, лучше помолчать!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16000" y="5054760"/>
            <a:ext cx="2857320" cy="250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03280" y="790560"/>
            <a:ext cx="2808360" cy="2682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1871640" y="2700360"/>
            <a:ext cx="29196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360" y="301680"/>
            <a:ext cx="9212400" cy="11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опаздывай на уро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1332000"/>
            <a:ext cx="4457520" cy="59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спит в кроватк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 учебники, тетрад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поминать не хочет он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трит свой десятый сон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хотя будильник звон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ит соню-Медвежон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вежонок не встаё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у утром не идё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 уроки он проспал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шь к обеду соня встал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лько это плохо, братцы,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поздно просыпаться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ра вам начин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будильнику вста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начали учи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ать так долго не годитс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11640" y="6156360"/>
            <a:ext cx="4392720" cy="1008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96000" y="5651640"/>
            <a:ext cx="431640" cy="165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1080" y="5724360"/>
            <a:ext cx="719280" cy="165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4720" y="4859280"/>
            <a:ext cx="4105440" cy="216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977080" y="1547640"/>
            <a:ext cx="2309760" cy="26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69480" cy="12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Умей рассчитывать время на сборы в шк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13080" y="1763280"/>
            <a:ext cx="445932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ром столько разных дел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ы умылся и пое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деваешься, спешиш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весело бежишь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запомнить надо всем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тро без пробле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ходило, нужно ва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ираться по часам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ь минут – на умывань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ять минут – на одевань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м на завтрак семь минут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и – убрать постель, и тут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ходить уже пор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ирайся, детвора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нужно рассчи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в класс не опозд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640" y="1763640"/>
            <a:ext cx="46087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тарайся хорошо учить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кажу вам в заключень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ло вовсе не в везень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ятёрки тот получи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сидит и честно учит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работы не боит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у нравится учить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т, кто лень прогонит проч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готов друзьям помоч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т, кто хочет умным ста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про всё на свете знать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31640" y="3274920"/>
            <a:ext cx="4443480" cy="401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87280" y="755640"/>
            <a:ext cx="2354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60360" y="324000"/>
            <a:ext cx="9072720" cy="7014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503280" y="6372360"/>
            <a:ext cx="309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пасиб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95280"/>
            <a:ext cx="906948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Готовь школьную одежду заран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360" y="1332000"/>
            <a:ext cx="44575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усь по комнате мет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утром собирался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Почему рубашка смят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ладил я её когда-то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штаны запропастились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 сквозь землю провалили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лстук, где ты? Отзови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на шее появись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чень долго Гусь стар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етился, одевал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каков же был финал? –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уроки опоздал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вторить хочу я снова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школе надо быть готовы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бы утром ранним встат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 даром не терять,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 нужды не суетить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школу вовремя явитьс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60360" y="3203640"/>
            <a:ext cx="3411720" cy="4108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736720" y="1258920"/>
            <a:ext cx="2283120" cy="2397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7640" y="1476360"/>
            <a:ext cx="2089080" cy="190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3311640" y="6156360"/>
            <a:ext cx="1619280" cy="10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озавтракай перед школ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463640" y="1582200"/>
            <a:ext cx="518004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чик сидит над тарелкой с капуст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д у него недовольный и грустны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Мама, послушай, я в школу пой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 дороге травинку найд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и поем, а пока не хочу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ря за столом я так долго торчу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-Зайчиха ему отвечает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аждый малыш обязательно знает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школу голодным ходить не годит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удно там будет отлично учить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ут все мысли твои не о то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ожно учиться с пустым живото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-289080" y="3595680"/>
            <a:ext cx="4753080" cy="3963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03280" y="1403280"/>
            <a:ext cx="22334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обери с собой всё, что необходимо для урок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9640" y="1618920"/>
            <a:ext cx="4892760" cy="59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ртышка за партою в классе сиди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тихо соседке своей говорит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Вчера не до школы, подружка, мне был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этому я свой портфель не сложи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утром сегодняшним в класс торопилас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что же в итоге, смотри, получилось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тфель свой Мартышка тихонько достал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 нём нет линейки, тетрадок, пена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Соседка, прошу, ты меня выруча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ручку, листочек, линейку мне да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чно, соседка Мартышку спас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в просьбе такой отказать не смогл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всё-таки в будущем, дети, учтите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портфеле с собою всегда приноси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 вещи, что в школе бывают нужн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 их никогда забывать не должны!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11280" y="2266920"/>
            <a:ext cx="3065400" cy="3743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5419800"/>
            <a:ext cx="2808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ереги школьные учеб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63640" y="1768320"/>
            <a:ext cx="510876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ый помощник в учёбе – учеб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молчаливый и добрый волшебник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я мудрые вечно храни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ы сбереги его праздничный вид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азу в обложку его оберн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чкой не пачкай, не рви и не мн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вный учебник научит всему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ь благодарен за это ему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848720" y="5580000"/>
            <a:ext cx="1555560" cy="165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0" y="1619280"/>
            <a:ext cx="4608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24360" y="5148360"/>
            <a:ext cx="2232000" cy="2152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ереги школьное имуществ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чонок в классе развлек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уле без конца качалс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енах мелом рисова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дверь ногою открыв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го ребята окружи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лчонку строго объяснил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ам школа – это дом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му здесь учат нас с тоб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ы беречь её должны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м хулиганы не нужны!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3280" y="3635280"/>
            <a:ext cx="2622600" cy="3645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03280" y="1403280"/>
            <a:ext cx="4537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иди за партой спокойно, не вертись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дит за партою Лисиц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ей спокойно не сиди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то шубку поправля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время по часам сверя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обернётся посмотре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пишет в дневнике Медведь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я извертелась, искрутилас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ичему не научилас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т потому-то, как Лисиц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м отвлекаться не годи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303640" y="1619280"/>
            <a:ext cx="3616200" cy="3616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6360" y="2266920"/>
            <a:ext cx="2592360" cy="2522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0" y="4572000"/>
            <a:ext cx="252900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Не скрывай от родителей плохие отмет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53080" y="1619280"/>
            <a:ext cx="4819680" cy="56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йчик «двойку» получ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рыть её от всех реши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а маме не сказа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в секрете и держа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ма всё равно узнал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ына сильно отругал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сказала: – Так и зна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«двойка» – не скрывай,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е прячь, как мышка в нор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служи быстрей «пятёрку»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тогда довольна буду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о «двойке» позабуду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-216000" y="3708360"/>
            <a:ext cx="3560760" cy="414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664000" y="1763640"/>
            <a:ext cx="180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/>
  <dc:description/>
  <dc:language>en-US</dc:language>
  <cp:lastModifiedBy>Admin</cp:lastModifiedBy>
  <dcterms:modified xsi:type="dcterms:W3CDTF">2015-01-11T12:19:12Z</dcterms:modified>
  <cp:revision>29</cp:revision>
  <dc:subject/>
  <dc:title>Слайд 1</dc:title>
</cp:coreProperties>
</file>