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7D0-520D-4D76-9E06-10EE675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6C5-5151-4C18-8AEB-7BB5730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0F2-B5E1-4797-BACB-E79B393E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EAE-9F95-46F4-8745-BBB00997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B2B-C36B-4508-B5A7-5371D5C1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BF6-A9A7-4A65-8D4A-703EABB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8FCC-FEC6-4EEA-9782-008E188C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830-3CDC-48B4-8340-6A4CE5E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01AE-283F-4A19-9B54-825DD6AA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DDF9-6D27-4895-A5F2-5BF3FB0F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71F-C2C5-42CE-83FD-3FB9D5F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80F-A094-4741-9ACB-3967BC5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9B5E-254D-41B3-A570-35C342D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BB46-38C2-456C-95BA-79284F3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1C0-23B3-4428-9AB1-E49F4A6C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B381-ED77-4146-83E5-2DD30BC3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F8F-7B14-40B2-84CD-54313A74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39FA-8C6E-42F0-BA34-3A936600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FB39-D636-42BC-BF02-52CDE860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6366-0900-409F-80AB-F3DD2D7E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667D-6DCD-427C-8D9A-2D2BEC4C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6B08-A771-4FE1-98C7-5819F74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215-02C4-49FD-8FF5-589C1445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326D-F7FA-4B25-B17B-7DA5B2A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EFF9-CDD1-44F7-8E0F-5EBBEC3E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5DD2-87C1-404B-9DB0-A1C3BF0A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5DB1-B7C4-4B2F-80FE-8954CF2C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AC68-2D5D-4290-9C0F-ECDADC74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E238-89C3-47C7-8F21-384F47EA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E7114-D3AB-4729-9F94-833B39C2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2AB4-CACD-40D6-A882-83CF69A2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26AC0-20B2-4C89-A079-FDF62AC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6595A-5D81-4DF7-9C03-635D315E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844-612C-4322-8227-4FF7AE3D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2FCC-8749-48F9-BA52-A3D36F23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1921-3D5F-4A46-8302-7CE620A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BD7E-D0AD-45DA-939A-0E0AAB80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E34F-429B-4BDF-A18B-4150DF5A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A5B4-B617-44A5-BC00-792042A7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090D-5CDC-436B-A82A-C3BFB6B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2F06-74EE-4693-B010-76F6930E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CF2C-369C-4A74-9C3F-433E97FE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84455-0A0D-44FA-967D-1571C83C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1460-B5CD-4C84-886A-14C4C1CD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713-6549-40E3-AC37-E0A49F73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FEDC2-C1E6-4029-A631-571CE4B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B055-A1D6-4867-A71E-12A8A36D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7762-8FDE-4255-9ADC-D45355A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08ED-A96E-4FB4-A48E-77AE5CD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0BD1C-ED52-4CA7-A58C-28337C5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5405-D538-4099-97A1-E43AD87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806F4-56EA-4412-925F-49B7EB6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5F705-4378-493C-A971-F2481F7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8EC3-C487-4DEB-878D-05354AF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B338-46CD-4854-AB63-FD363056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1AF-A166-43CC-B4C3-A76556CF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EA3FB-1F78-4288-AFE4-F375A3A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B60C-9CC1-4169-B4EA-834FCCE4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793B-EBAC-427B-9815-1B29BBE1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BB86-CE7E-4239-BCB8-D7234181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68D5-2A03-42C0-8815-83752383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435F6-1C81-40DA-AA03-2CD0C81F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34B3-61B4-41A5-AAF1-FB784C18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B020E-40D5-48D4-A1EF-6EBB693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F4EBD-4BC1-438F-9CE3-6603D2C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4017F-C0DC-4AF5-9861-457E01D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78E-4D04-4F54-8F45-3497B705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7799-960A-4EAC-9FB7-96A8FAF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BCD91-0B9D-4EF0-9602-42224361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F06C-5773-4368-858F-47EC9C7F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368C4-DCCE-44F0-A334-4AC8172D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251E-458B-4D70-830A-D60FED65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F8D84-C6EE-4A77-8839-E9594BC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B9A1-B738-48E0-819D-2AF50BEC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82C6D-A237-4F88-A41F-F95209A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70650-6EF3-4995-B480-0EB5BCA4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418B-9500-426D-A43C-3C43E573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E0B-ACA5-4B30-AEB9-61E5BEC9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863FF-75D1-4DFB-9192-4B5E5F0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C9B6-F1C2-4A25-B6CC-A9F0CA57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77A70-6752-4158-9876-16D69EA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FDD0-6EE8-4D09-97A9-623CA942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750E5-7AE6-413B-8B9B-1420A380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140-53CD-4EEF-9329-BE9EBAF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DFE-C2D2-42BA-B4DB-54BE7F101CD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F959-253D-4A49-9B44-D29FC0274AC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3419-A066-411A-86A5-4FFFB9AA7A5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8BD3-6DFA-4735-B353-3275BF9A63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325-0B68-4941-92BD-16DFF1B90C1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29D1-D0B3-45AE-8C84-C082661128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DC0-AF2F-4BC8-A920-B29F744816D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3329"/>
                </a:solidFill>
                <a:latin typeface="Arial"/>
              </a:rPr>
              <a:t>Курс  неорганической хим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по содержанию О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(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по содержанию Н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762120" y="2590920"/>
            <a:ext cx="320040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кисло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952880" y="2590920"/>
            <a:ext cx="335304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слородсодер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52280" y="5410080"/>
            <a:ext cx="259092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, 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276720" y="5410080"/>
            <a:ext cx="27432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6400800" y="5410080"/>
            <a:ext cx="25146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200040" y="20574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5105520" y="20574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 flipH="1">
            <a:off x="2362320" y="48006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46483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5105520" y="480060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( по растворим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( по кислотност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85800" y="2438280"/>
            <a:ext cx="350532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воримые ще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, KOH, B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4800600" y="2438280"/>
            <a:ext cx="3200400" cy="10670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створи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n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 flipH="1">
            <a:off x="2819520" y="17524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4572000" y="17524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533520" y="4495680"/>
            <a:ext cx="327636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о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, KOH, Li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2"/>
          <p:cNvSpPr/>
          <p:nvPr/>
        </p:nvSpPr>
        <p:spPr>
          <a:xfrm>
            <a:off x="5791320" y="4572000"/>
            <a:ext cx="312408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3"/>
          <p:cNvSpPr/>
          <p:nvPr/>
        </p:nvSpPr>
        <p:spPr>
          <a:xfrm>
            <a:off x="2971800" y="5638680"/>
            <a:ext cx="335268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х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 flipH="1">
            <a:off x="2590920" y="40384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4419720" y="4038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4876920" y="40384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62120" y="2666880"/>
            <a:ext cx="3124080" cy="1600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ный 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вод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KH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5181480" y="2666880"/>
            <a:ext cx="3353040" cy="15242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су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дроксо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(OH)C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Zn(OH)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2895480" y="4724280"/>
            <a:ext cx="3200400" cy="13716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 flipH="1">
            <a:off x="2514600" y="17524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4648320" y="17524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4267080" y="1828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(строение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Агрегатное состояни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228600" y="2819520"/>
            <a:ext cx="2743200" cy="12189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образ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ко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209680" y="4343400"/>
            <a:ext cx="4572000" cy="14479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изко, но относ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334120" y="2590920"/>
            <a:ext cx="335268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находятся близ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строгом поряд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7"/>
          <p:cNvSpPr/>
          <p:nvPr/>
        </p:nvSpPr>
        <p:spPr>
          <a:xfrm flipH="1">
            <a:off x="2057400" y="1981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4648320" y="1828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5867280" y="1981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(строение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верд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Кристаллические решетк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762120" y="2514600"/>
            <a:ext cx="342900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орф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атомами  нет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724280" y="2514600"/>
            <a:ext cx="3962520" cy="1295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сталличе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молекул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ами другими част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гий поря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8"/>
          <p:cNvSpPr/>
          <p:nvPr/>
        </p:nvSpPr>
        <p:spPr>
          <a:xfrm flipH="1">
            <a:off x="2819520" y="17524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9"/>
          <p:cNvSpPr/>
          <p:nvPr/>
        </p:nvSpPr>
        <p:spPr>
          <a:xfrm>
            <a:off x="5486400" y="18288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228600" y="4876920"/>
            <a:ext cx="19810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362320" y="4876920"/>
            <a:ext cx="15238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4114800" y="4876920"/>
            <a:ext cx="243828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629400" y="4876920"/>
            <a:ext cx="236232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4"/>
          <p:cNvSpPr/>
          <p:nvPr/>
        </p:nvSpPr>
        <p:spPr>
          <a:xfrm flipH="1">
            <a:off x="1523520" y="4343400"/>
            <a:ext cx="2210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5"/>
          <p:cNvSpPr/>
          <p:nvPr/>
        </p:nvSpPr>
        <p:spPr>
          <a:xfrm>
            <a:off x="6019920" y="43434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 flipH="1">
            <a:off x="3809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5029200" y="4343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Основные оксид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+ вода          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+ кислота 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Основной оксид  + кислотный оксид         сол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слотный окси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+ вода        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  + основание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ный оксид  + основной оксид         соль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Амфотерный окси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Амфотерный оксид  + кислота                  соль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Амфотерный оксид   +  основание           соль  +  вода</a:t>
            </a:r>
            <a:r>
              <a:rPr b="0" lang="ru-RU" sz="20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388620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4191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54864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39625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8"/>
          <p:cNvSpPr/>
          <p:nvPr/>
        </p:nvSpPr>
        <p:spPr>
          <a:xfrm>
            <a:off x="48006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"/>
          <p:cNvSpPr/>
          <p:nvPr/>
        </p:nvSpPr>
        <p:spPr>
          <a:xfrm>
            <a:off x="54864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>
            <a:off x="47242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1"/>
          <p:cNvSpPr/>
          <p:nvPr/>
        </p:nvSpPr>
        <p:spPr>
          <a:xfrm>
            <a:off x="52578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основание          соль   +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основной оксид           соль 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металл               соль   +   водород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а   +  соль               новая соль + новая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Растворимые основания  (щелоч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+ кислота       соль 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  +   кислотный оксид        Соль  + 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ние   +  соль               новая соль  +  новое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ерастворимые основани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 основания  + кислота          соль  +  вод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астворимые основания         Оксид   +  вода  (нагрева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Line 4"/>
          <p:cNvSpPr/>
          <p:nvPr/>
        </p:nvSpPr>
        <p:spPr>
          <a:xfrm>
            <a:off x="3809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449568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33526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7"/>
          <p:cNvSpPr/>
          <p:nvPr/>
        </p:nvSpPr>
        <p:spPr>
          <a:xfrm>
            <a:off x="31240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35812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51055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34290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571500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4419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r>
              <a:rPr b="1" lang="en-US" sz="2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войства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кислота         новая соль   +   новая кисло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основание         новая соль   +  новое основание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 + соль       2новые 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ь  + металл        соль  +   метал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Правил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лл должен быть активнее метала находящегося в сол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акциях обмена должен выпасть осадок или газ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алл вытеснит водород из кислоты, если в ряду активности будет стоять перед водородо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сид будет реагировать с водой, если образуется растворимое соедине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29718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>
            <a:off x="3352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25909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27432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ипы химических реакци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единения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из двух или нескольких простых или сложных веществ образуется одно новое  сложное веществ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Разложени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-  из одного сложного вещества образуется два или несколько простых или сложных вещест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мещени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в реакцию вступаю одно простое и одно сложное вещество, атомы простого вещества замещают один из атомов сложног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бмен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в реакцию вступаю два сложных вещества и обмениваются своими составными частями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химические законы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кон сохранения массы веществ (Ломоносо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асса веществ вступивших в химическую реакцию, равна массе веществ, получившихся в результате е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Закон постоянства состава (Ж.Л.Пруст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Молекулярные соединения независимо от способа получения имеют постоянный соста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ериодический закон (Д.И. Менделее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Химические свойства  элементов и образованных ими веществ находятся в периодической зависимости от зарядов их атомных ядер. (увеличения их атомных масс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воначальные химические понятия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Химия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- это наука о веществах, их свойствах и превращен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Вещество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то, из чего состоят  физические те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Химический элемент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это определенный вид атом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том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химически неделимая частички из которых состоят веществ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еории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еория электролитической диссоциац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Диссоциация это распад веществ при растворении и расплавлении на ио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62120" y="4267080"/>
            <a:ext cx="3429000" cy="1676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ли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адаются на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с ионн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валентной 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724280" y="4267080"/>
            <a:ext cx="3581640" cy="17528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электроли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спадаются на 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с ковален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полярной и слабополя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438280" y="3505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4419720" y="3505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Теории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кислительно-восстановительные реакции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, это те реакции при которых меняется степень окисления химических элем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Количество отданных и принятых электронов всегда одинаков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Подсчет отданных и принятых электронов  производится электронным балансо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Элементы, которые отдают электроны являются восстановители, сами при этом окисляют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Элементы, которые принимают электроны являются окислителями, сами при этом восстанавливаются</a:t>
            </a:r>
            <a:r>
              <a:rPr b="0" lang="ru-RU" sz="24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Это надо знать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Моль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это такое количество вещества, в котором находится 6*10     молекул этого веществ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Число Авогадро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- 6*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В одинаковых объемах различных газов находится одинаковое число молекул при одних и тех же условиях ( таких, как температура и давление). При нормальных условиях это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бъем 1 моля газа равен 22.4 литра.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(закон Авогадр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тепень окисления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условный заряд атомов химического элемента в соединении, вычисленный на основе предположения, что все соединения (ионные и ковалентные полярные) состоят из ион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Oval 5"/>
          <p:cNvSpPr/>
          <p:nvPr/>
        </p:nvSpPr>
        <p:spPr>
          <a:xfrm>
            <a:off x="3124080" y="1905120"/>
            <a:ext cx="381240" cy="228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7"/>
          <p:cNvSpPr/>
          <p:nvPr/>
        </p:nvSpPr>
        <p:spPr>
          <a:xfrm>
            <a:off x="4191120" y="2286000"/>
            <a:ext cx="304560" cy="228600"/>
          </a:xfrm>
          <a:prstGeom prst="ellipse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Атом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-это мельчайшая, химически неделимая частица, это шар, в котором есть маленькое ядро состоящее и протонов и нейтронов и пространство в котором двигаются невесомые электрон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ротон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частицы имеющие массу 1 атомную единицу, и положительный заря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ейтрон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частицы имеющие массу 1 атомную единицу и  не имеющие заряд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Электрон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частицы не имеющие массы, но имеют отрицательный заря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Масса атом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это сумма масс протонов и нейтрон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ядро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Количество протонов  стабильно в атомах одного и того же вида, а количество нейтронов может манятс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Изотоп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атомы имеющие одинаковы заряд ядра но разную массу, из- за разного количества нейтрон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Масса , которая стоит в периодической системе возле элемента это средняя масса всех изотопов данного элемент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расположение электронов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ы располагаются относительно ядра на энергетических уровнях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Ближе всего от ядра находится первый уровень на котором находится одно сферическое облако, на котором может находится не более двух электро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1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2 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2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-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8 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лектронов, одно сферическое облако и 3 пэ облака, имеющие форму объемной восьмер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3 уровен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-до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18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электронов, одно сферическое облако и 3 пэ облака, имеющие форму объемной восьмерки и 5 де облаков, имеющие четырехлепистковую форм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энергетический уровень у атома последний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, то на нем может располагаться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е более 8 электрон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( расположение электронов)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Энергетический уровень состоит из облаков</a:t>
            </a:r>
            <a:r>
              <a:rPr b="1" lang="en-US" sz="2000" spc="-1" strike="noStrike">
                <a:solidFill>
                  <a:srgbClr val="4e3b30"/>
                </a:solidFill>
                <a:latin typeface="Arial"/>
              </a:rPr>
              <a:t> s,p,d,f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s-1, p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3, d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5, f -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d1f1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на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внешнем (последнем) находится 8 электронов он считается завершенны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а внешнем (последнем) находится от 1до7 электронов –незавершенным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омы стремятся  приобрести 8 –электронный завершенный уровень, поэтому могут отдавать или принимать электроны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авая приобретают положительный заряд, проявляют восстановительные свой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имая электроны  приобретают отрицательный заряд, проявляют окислительные свой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1" name="Picture 4" descr="таблица"/>
          <p:cNvPicPr/>
          <p:nvPr/>
        </p:nvPicPr>
        <p:blipFill>
          <a:blip r:embed="rId1"/>
          <a:stretch/>
        </p:blipFill>
        <p:spPr>
          <a:xfrm>
            <a:off x="990720" y="1143000"/>
            <a:ext cx="7772400" cy="5356080"/>
          </a:xfrm>
          <a:prstGeom prst="rect">
            <a:avLst/>
          </a:prstGeom>
          <a:ln w="0">
            <a:noFill/>
          </a:ln>
        </p:spPr>
      </p:pic>
      <p:sp>
        <p:nvSpPr>
          <p:cNvPr id="492" name="Line 5"/>
          <p:cNvSpPr/>
          <p:nvPr/>
        </p:nvSpPr>
        <p:spPr>
          <a:xfrm>
            <a:off x="1219320" y="838080"/>
            <a:ext cx="6553080" cy="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6"/>
          <p:cNvSpPr/>
          <p:nvPr/>
        </p:nvSpPr>
        <p:spPr>
          <a:xfrm>
            <a:off x="914400" y="1143000"/>
            <a:ext cx="0" cy="419112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>
            <a:off x="2743200" y="2362320"/>
            <a:ext cx="2209680" cy="213336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8"/>
          <p:cNvSpPr/>
          <p:nvPr/>
        </p:nvSpPr>
        <p:spPr>
          <a:xfrm>
            <a:off x="1523880" y="4572000"/>
            <a:ext cx="533520" cy="380880"/>
          </a:xfrm>
          <a:prstGeom prst="ellipse">
            <a:avLst/>
          </a:prstGeom>
          <a:noFill/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2"/>
          <p:cNvSpPr/>
          <p:nvPr/>
        </p:nvSpPr>
        <p:spPr>
          <a:xfrm flipV="1">
            <a:off x="4724280" y="2133720"/>
            <a:ext cx="533520" cy="380880"/>
          </a:xfrm>
          <a:prstGeom prst="ellipse">
            <a:avLst/>
          </a:prstGeom>
          <a:noFill/>
          <a:ln w="28440">
            <a:solidFill>
              <a:srgbClr val="ad1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609480" y="2286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Металлические , основные свойства, радиус атомов уменьш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0" y="457200"/>
            <a:ext cx="729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металлические, основные свой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радиус атомов 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троение атома и периодическая система 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ериод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ая  строчка. Начинается щелочным металлом и заканчивается инертным газо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Группа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тикальная строчка. Находятся элементы со сходными свойствам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орядковый номер элемент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это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оличество протонов и электронов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. В свободном состоянии атом нейтральная частиц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омер периода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 - показывае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колько энергетических уровней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находится в атом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омер групп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показывает 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оличество электронов на внешнем уровне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атомов главных подгрупп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 групп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 пределах одной группы (главной подгруппы) с увеличением порядкового номера элемента неметаллические свойства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лабевают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, а металлические свойства –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силиваются,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1)заряды атомных ядер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ютс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2)число электронов на внешнем уровн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не изменяется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 (оно равно номеру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группы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3)число энергетических уровней в атомах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ется </a:t>
            </a: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(оно равно номеру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иода)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4)радиус атомов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увеличивает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9"/>
          <p:cNvSpPr/>
          <p:nvPr/>
        </p:nvSpPr>
        <p:spPr>
          <a:xfrm>
            <a:off x="4572000" y="4952880"/>
            <a:ext cx="426708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4876920" y="3200400"/>
            <a:ext cx="365760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609480" y="4952880"/>
            <a:ext cx="381024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3716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18280" y="24382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533520" y="3200400"/>
            <a:ext cx="3809880" cy="1191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 ато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го хи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48769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ы ато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 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 flipH="1">
            <a:off x="1981080" y="2057400"/>
            <a:ext cx="1828800" cy="45720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4724280" y="2057400"/>
            <a:ext cx="1143000" cy="457200"/>
          </a:xfrm>
          <a:prstGeom prst="line">
            <a:avLst/>
          </a:prstGeom>
          <a:ln w="28440">
            <a:solidFill>
              <a:srgbClr val="ad1f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6248520" y="28195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68580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ислор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4572000" y="4952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аренная со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5146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68580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1"/>
          <p:cNvSpPr/>
          <p:nvPr/>
        </p:nvSpPr>
        <p:spPr>
          <a:xfrm flipH="1">
            <a:off x="1828440" y="28954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 период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1) заряды атомных ядер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величиваются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2)число электронов на внешнем уровне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величива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3) число энергетических уровней в пределах периода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не увеличивается</a:t>
            </a: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 (оно равно номеру периода)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Arial"/>
              </a:rPr>
              <a:t>4)радиус атомов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уменьшает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Запомнит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пределах одной и той ж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группы (главной подгруппы)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металлические свойства усиливаются, неметаллические – ослабевают, 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а) увеличиваются заряды атомных яде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б) число электронов на внешнем уровне постоянн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)увеличивается число энергетических уровней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г) увеличивается радиус атом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Запомните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пределах одного и того же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ериода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еталлические свойства ослабевают, а неметаллические свойства усиливаются, так к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а) увеличиваются заряды атомных ядер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б) увеличивается число электронов на внешнем уровне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в) число энергетических уровней постоянн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"/>
              </a:rPr>
              <a:t>г)радиус атома уменьш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Номенклатура кислот и сол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533520" y="1752480"/>
            <a:ext cx="3886200" cy="4267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 фто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хло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бром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  иод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серо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ер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се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азо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 азот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 фосфо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 уго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кремни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952880" y="1752480"/>
            <a:ext cx="3657600" cy="41911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F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т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бром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иод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сульф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ульф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льф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ит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т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сф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б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ил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838080" y="1066680"/>
            <a:ext cx="3353040" cy="533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5334120" y="1066680"/>
            <a:ext cx="3047760" cy="457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9360">
            <a:solidFill>
              <a:srgbClr val="ad1f1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Прост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144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617220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не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124080" y="4038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 flipH="1">
            <a:off x="1905120" y="2133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>
            <a:off x="5181480" y="21337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 flipH="1">
            <a:off x="4267080" y="2209680"/>
            <a:ext cx="763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380880" y="4038480"/>
            <a:ext cx="205740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Na, Mg,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6248520" y="4038480"/>
            <a:ext cx="198108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P,Si, 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3124080" y="4952880"/>
            <a:ext cx="205740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Zn, Cr,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175248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70102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типы химических связ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Ион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это связь между ионами (+,-) (электростатическое притяже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оли, растворимые основания, оксиды активных металл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вязь за счет перекрывания электронных облаков и образования общих электронных па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 неполярная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это связь между одинаковыми неметаллами с одинаковой электроотрицательностью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Простые веще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овалентная полярная связь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вязь между неметаллами с разной электроотрицательностью со смещением электронной пары к более электроотрицательному элементу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Кислоты, оксиды неметаллов и неактивных металлов, органические веществ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сновные типы химических связей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Металлическая связ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вязь в металлах и сплавах между атом-ионами посредством обобществленных электрон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У всех металлов и сплав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Водородная связ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Связь между водородом и сильно электроотрицательными элементами (электростатическое притяжение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Вода, органические кислоты, спирты, ДНК, бел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Электроотрицательность (ЭО)</a:t>
            </a:r>
            <a:r>
              <a:rPr b="1" lang="ru-RU" sz="2000" spc="-1" strike="noStrike">
                <a:solidFill>
                  <a:srgbClr val="4e3b30"/>
                </a:solidFill>
                <a:latin typeface="Arial"/>
              </a:rPr>
              <a:t> – это способность атомов химического элемента смещать к себе общие электронные пары, участвующие в образовании химической свз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Сложные веществ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80880" y="2590920"/>
            <a:ext cx="18288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2590920" y="2590920"/>
            <a:ext cx="16002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4572000" y="2590920"/>
            <a:ext cx="175248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7010280" y="2590920"/>
            <a:ext cx="1371600" cy="7617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1828440" y="205740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3885840" y="20574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5181480" y="20574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60199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457200" y="3809880"/>
            <a:ext cx="1676520" cy="1828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2514600" y="3809880"/>
            <a:ext cx="1600200" cy="18288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4648320" y="3809880"/>
            <a:ext cx="1676160" cy="17528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7010280" y="3809880"/>
            <a:ext cx="1447920" cy="16765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4"/>
          <p:cNvSpPr/>
          <p:nvPr/>
        </p:nvSpPr>
        <p:spPr>
          <a:xfrm>
            <a:off x="12193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5"/>
          <p:cNvSpPr/>
          <p:nvPr/>
        </p:nvSpPr>
        <p:spPr>
          <a:xfrm>
            <a:off x="3429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54100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7"/>
          <p:cNvSpPr/>
          <p:nvPr/>
        </p:nvSpPr>
        <p:spPr>
          <a:xfrm>
            <a:off x="7772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3200400" y="6172200"/>
            <a:ext cx="2590920" cy="4572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окс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0"/>
          <p:cNvSpPr/>
          <p:nvPr/>
        </p:nvSpPr>
        <p:spPr>
          <a:xfrm>
            <a:off x="3276720" y="5715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1"/>
          <p:cNvSpPr/>
          <p:nvPr/>
        </p:nvSpPr>
        <p:spPr>
          <a:xfrm flipH="1">
            <a:off x="4952520" y="56386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Определения сложных веществ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ксиды 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– сложные вещества состоящие из двух элементов один из которых кислород со степенью оксиления -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ислоты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ящие из водорода и кислотного остат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Основания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оящие из металла и одной или нескольких гидроксогрупп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Соли</a:t>
            </a:r>
            <a:r>
              <a:rPr b="1" lang="ru-RU" sz="2400" spc="-1" strike="noStrike">
                <a:solidFill>
                  <a:srgbClr val="4e3b30"/>
                </a:solidFill>
                <a:latin typeface="Arial"/>
              </a:rPr>
              <a:t> – сложные вещества состоящие из металла и кислотного остат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1f1f"/>
                </a:solidFill>
                <a:latin typeface="Arial"/>
              </a:rPr>
              <a:t>вещества </a:t>
            </a:r>
            <a:r>
              <a:rPr b="1" lang="en-US" sz="2400" spc="-1" strike="noStrike">
                <a:solidFill>
                  <a:srgbClr val="ad1f1f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ad1f1f"/>
                </a:solidFill>
                <a:latin typeface="Arial"/>
              </a:rPr>
              <a:t>классификация)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ad1f1f"/>
                </a:solidFill>
                <a:latin typeface="Arial"/>
              </a:rPr>
              <a:t>оксид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533520" y="2590920"/>
            <a:ext cx="3124080" cy="9144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800600" y="2590920"/>
            <a:ext cx="358128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талл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828800" y="3733920"/>
            <a:ext cx="5638680" cy="10666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фо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фотерный элемент + 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 flipH="1">
            <a:off x="30481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5105520" y="20574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495680" y="2133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609480" y="5181480"/>
            <a:ext cx="2057400" cy="1143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7086600" y="5181480"/>
            <a:ext cx="1828800" cy="12193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3733920" y="5257800"/>
            <a:ext cx="2133360" cy="990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21932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924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4-01-17T11:02:18Z</dcterms:modified>
  <cp:revision>29</cp:revision>
  <dc:subject/>
  <dc:title>Классификация и номенклатура органических соединений</dc:title>
</cp:coreProperties>
</file>