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2FD-1336-41C6-B1D1-35C579C0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9DF-F323-494D-B639-A14C2E1E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7ED-D2D1-4C94-B008-39904282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1BF-7338-4A21-8B48-2EA5A4D6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FD58-4630-4361-B7C1-D3A4960B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1609-4A10-43B0-B5BB-F554C65E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3BAD-54D1-46D7-B215-567314EE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747C-C598-4B2A-8644-63F3C0BA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57FE-5ADA-41F8-B377-6F799C86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81B1-85CA-4F56-8828-B5BECAFF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AADD-0168-46DA-9519-C4A8968C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EBF-6ACC-496F-82BA-5301668A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B7C7-C3F6-4762-9C08-05676404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0C64-5741-4D30-9F83-32FFB610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618A-F869-488A-B09D-6CE382EC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07CF-A7E2-40F9-9E6F-C841CCF7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323C-BF8B-4FDA-B3E2-9FC0A9FF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711C8-EDC8-43F3-BABD-18149CF8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57BA-8A28-4219-96E2-F6A8D175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7D338-C418-4907-820D-23058E2A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514F1-8DFB-4A5D-9D79-F4F2C7DD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105B0-0B63-4219-82B5-81AF96BD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B48-3D97-4F1E-BED5-12CFCF9F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0259C-14B8-470A-AC53-BDBB1971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8584E-381F-4FA8-8FEA-7777C0F0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7B4EA-BB21-4D60-970B-102AC184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AF7CF-9951-40C2-9309-9EA734E4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E219D-C83B-4618-A4B0-D0DB8AD8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50E0-1E1B-45F3-AF35-AA8372FC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82B66-1BFB-4E3E-8607-CE16E183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C9858-3543-4216-BD80-1BC8BF94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B0293-67F6-4C18-AB6B-10818DE7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AEEC9-1A8B-44F6-B20E-2DCA18D4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79F-0891-4BFD-BF30-F65DA8D2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870A3-67E1-4B70-85C8-BD70907C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FBB21-DF9C-4128-9B58-1DFB5759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C4542-DCF3-4ECA-9922-F66FAF36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F0198-116A-4624-93C4-1F045ACD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A95C9-DD9E-4A49-A496-151FF0E5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11110-90B0-4912-9DB4-FF3E314F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D13F7-DEAC-4E56-8C45-A5EDF616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21EE7-7C4C-4333-AED4-6493B3D9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20DDA-703B-482D-A16A-95B274FF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2D930-4CB1-4B80-8B7C-D8E02C7B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B2E-2E5E-4232-BC57-A7B4BD8F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C681C-C4BC-4601-A40C-FE997365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E890A-571B-411D-9E8E-DA84C9B3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8C262-4F7F-4C47-B200-2C51E81F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33380-7E3B-490A-8B82-06021693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C7B8A-6471-47B3-A94C-1204627C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4D19F-4EB0-4EEA-93FA-415A4199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FBB89-178C-456A-AF20-41D3D614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B59FB-937B-4222-8376-7B2683D8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B818B-0395-4B59-B61F-F68DCCBB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7ECDD-8AE3-43A6-B840-BC2EBA90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1A2-6391-4417-94D3-6285629E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9E69F-16E7-496A-B5CE-5D49CA3C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07812-5AF3-41BB-A1D9-34937BD7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B1BD6-640C-43DA-A8AA-C8E3DFC6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C1D1E-2AE9-45BF-87FD-CB5F4931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288F4-1772-4E1D-8806-3EEAFD41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8F244-F2F5-4FFF-9CB4-809C6B1A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3C04C-299C-4DAC-9C38-12116B3C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63ED4-08A0-42EE-B729-13C0CBB7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84604-CBB1-4FFB-9C1C-F4351ABA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DB46F-81F5-46DA-86AF-B529FFBA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0BF-0F0A-453D-B091-7961D7CC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BDECF-FB72-4D7C-B3C1-C539C2C5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F7572-8FEF-41E4-9F7E-A401E94D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7F1D1-3803-4A87-8128-7591A789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7A11E-96B2-42B7-A2D9-4266D451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FE6EC-BECD-4842-B382-47321092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A95E0-CB51-4113-8E5F-9C7F956C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864E4-CE78-461C-A269-27A80AA0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60DB9-A103-40A9-9962-2215FA61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83FD3-734A-4E6E-8DBC-3643900F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8E7E1-6A7A-4C43-B174-7AEA5278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3E8-CDC0-4706-B0AE-F1F721EB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805C3-528E-4088-AE28-204564B0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BD1A7-73A0-4EF8-989B-564E56CF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B526E-9881-4C95-B87A-DDE03CD3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06637-6884-4440-BE6B-CEB3A4B2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D684D-5D65-4BC0-9585-222BB432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DFC7-8AF4-4451-BFD3-C02AE027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DF21-9102-4F15-AAFB-4A507C33912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87CB-B82B-42BE-BAB8-7DCAAD25B8B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0DE7-197B-40FE-9EE8-C806FEDC346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3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1C4E-CAA1-452E-A809-4DCE2CE097A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8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4228-5733-4913-A36E-2A507C5959A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520E-856B-4676-BCE0-933AB0712C2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FC70-A2CB-47C2-B0B9-AF4F1A35C12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523880" y="32004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3329"/>
                </a:solidFill>
                <a:latin typeface="Arial"/>
              </a:rPr>
              <a:t>Курс  неорганической хими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r>
              <a:rPr b="1" lang="en-US" sz="28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d1f1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классификация)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ad1f1f"/>
                </a:solidFill>
                <a:latin typeface="Arial"/>
              </a:rPr>
              <a:t>кислоты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по содержанию О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                          </a:t>
            </a:r>
            <a:r>
              <a:rPr b="1" lang="ru-RU" sz="3200" spc="-1" strike="noStrike">
                <a:solidFill>
                  <a:srgbClr val="ad1f1f"/>
                </a:solidFill>
                <a:latin typeface="Arial"/>
              </a:rPr>
              <a:t>кислоты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( 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по содержанию Н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762120" y="2590920"/>
            <a:ext cx="3200400" cy="12952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кислор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l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, H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952880" y="2590920"/>
            <a:ext cx="3353040" cy="12952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слородсодержа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152280" y="5410080"/>
            <a:ext cx="2590920" cy="10670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l, H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276720" y="5410080"/>
            <a:ext cx="2743200" cy="10670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6400800" y="5410080"/>
            <a:ext cx="2514600" cy="10670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х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H="1">
            <a:off x="3200040" y="20574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5105520" y="205740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 flipH="1">
            <a:off x="2362320" y="480060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>
            <a:off x="46483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>
            <a:off x="5105520" y="480060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r>
              <a:rPr b="1" lang="en-US" sz="28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d1f1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классификация)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Основания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( по растворимости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Основания</a:t>
            </a: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( по кислотности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685800" y="2438280"/>
            <a:ext cx="3505320" cy="10670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воримые щел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H, KOH, Ba(OH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4800600" y="2438280"/>
            <a:ext cx="3200400" cy="10670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аствори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Zn(OH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 flipH="1">
            <a:off x="2819520" y="175248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4572000" y="17524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533520" y="4495680"/>
            <a:ext cx="3276360" cy="9907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кисл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H, KOH, Li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5791320" y="4572000"/>
            <a:ext cx="3124080" cy="9907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кисл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(OH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a(OH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2971800" y="5638680"/>
            <a:ext cx="3352680" cy="9907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хкисл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(OH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 flipH="1">
            <a:off x="2590920" y="403848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8"/>
          <p:cNvSpPr/>
          <p:nvPr/>
        </p:nvSpPr>
        <p:spPr>
          <a:xfrm>
            <a:off x="4419720" y="4038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4876920" y="403848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r>
              <a:rPr b="1" lang="en-US" sz="28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d1f1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классификация)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Сол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762120" y="2666880"/>
            <a:ext cx="3124080" cy="16002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слотный оста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ит вод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KH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5181480" y="2666880"/>
            <a:ext cx="3353040" cy="15242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сут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дроксо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(OH)C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Zn(OH)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2895480" y="4724280"/>
            <a:ext cx="3200400" cy="13716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7"/>
          <p:cNvSpPr/>
          <p:nvPr/>
        </p:nvSpPr>
        <p:spPr>
          <a:xfrm flipH="1">
            <a:off x="2514600" y="175248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>
            <a:off x="4648320" y="1752480"/>
            <a:ext cx="1295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4267080" y="18288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 (строение)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Агрегатное состоя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228600" y="2819520"/>
            <a:ext cx="2743200" cy="12189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зообраз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ы находя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ко друг от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2209680" y="4343400"/>
            <a:ext cx="4572000" cy="14479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д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ы находя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изко, но относ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бо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5334120" y="2590920"/>
            <a:ext cx="3352680" cy="12952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д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ы находятся близ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 строгом поряд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7"/>
          <p:cNvSpPr/>
          <p:nvPr/>
        </p:nvSpPr>
        <p:spPr>
          <a:xfrm flipH="1">
            <a:off x="2057400" y="198108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8"/>
          <p:cNvSpPr/>
          <p:nvPr/>
        </p:nvSpPr>
        <p:spPr>
          <a:xfrm>
            <a:off x="4648320" y="1828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9"/>
          <p:cNvSpPr/>
          <p:nvPr/>
        </p:nvSpPr>
        <p:spPr>
          <a:xfrm>
            <a:off x="5867280" y="1981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 (строение)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твердые вещест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Кристаллические решетк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762120" y="2514600"/>
            <a:ext cx="3429000" cy="12952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орф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атомами  нет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4724280" y="2514600"/>
            <a:ext cx="3962520" cy="12952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сталл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 молекул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омами другими част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гий поря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8"/>
          <p:cNvSpPr/>
          <p:nvPr/>
        </p:nvSpPr>
        <p:spPr>
          <a:xfrm flipH="1">
            <a:off x="2819520" y="17524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9"/>
          <p:cNvSpPr/>
          <p:nvPr/>
        </p:nvSpPr>
        <p:spPr>
          <a:xfrm>
            <a:off x="5486400" y="18288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228600" y="4876920"/>
            <a:ext cx="1981080" cy="1143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ом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ень пр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1"/>
          <p:cNvSpPr/>
          <p:nvPr/>
        </p:nvSpPr>
        <p:spPr>
          <a:xfrm>
            <a:off x="2362320" y="4876920"/>
            <a:ext cx="1523880" cy="1143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4114800" y="4876920"/>
            <a:ext cx="2438280" cy="1143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р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6629400" y="4876920"/>
            <a:ext cx="2362320" cy="1143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4"/>
          <p:cNvSpPr/>
          <p:nvPr/>
        </p:nvSpPr>
        <p:spPr>
          <a:xfrm flipH="1">
            <a:off x="1523520" y="4343400"/>
            <a:ext cx="2210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5"/>
          <p:cNvSpPr/>
          <p:nvPr/>
        </p:nvSpPr>
        <p:spPr>
          <a:xfrm>
            <a:off x="6019920" y="434340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6"/>
          <p:cNvSpPr/>
          <p:nvPr/>
        </p:nvSpPr>
        <p:spPr>
          <a:xfrm flipH="1">
            <a:off x="3809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7"/>
          <p:cNvSpPr/>
          <p:nvPr/>
        </p:nvSpPr>
        <p:spPr>
          <a:xfrm>
            <a:off x="5029200" y="43434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r>
              <a:rPr b="1" lang="en-US" sz="28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d1f1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войства)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Основные оксид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Основной оксид + вода           основани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Основной оксид + кислота        соль   +  вод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Основной оксид  + кислотный оксид         соль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Кислотный оксид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Кислотный оксид + вода         кислот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Кислотный оксид   + основание       соль   +  вод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Кислотный оксид  + основной оксид         соль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Амфотерный оксид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Амфотерный оксид  + кислота                  соль  +   вод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Амфотерный оксид   +  основание           соль  +  вода</a:t>
            </a:r>
            <a:r>
              <a:rPr b="0" lang="ru-RU" sz="20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388620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"/>
          <p:cNvSpPr/>
          <p:nvPr/>
        </p:nvSpPr>
        <p:spPr>
          <a:xfrm>
            <a:off x="419112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6"/>
          <p:cNvSpPr/>
          <p:nvPr/>
        </p:nvSpPr>
        <p:spPr>
          <a:xfrm>
            <a:off x="54864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7"/>
          <p:cNvSpPr/>
          <p:nvPr/>
        </p:nvSpPr>
        <p:spPr>
          <a:xfrm>
            <a:off x="39625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8"/>
          <p:cNvSpPr/>
          <p:nvPr/>
        </p:nvSpPr>
        <p:spPr>
          <a:xfrm>
            <a:off x="48006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9"/>
          <p:cNvSpPr/>
          <p:nvPr/>
        </p:nvSpPr>
        <p:spPr>
          <a:xfrm>
            <a:off x="548640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0"/>
          <p:cNvSpPr/>
          <p:nvPr/>
        </p:nvSpPr>
        <p:spPr>
          <a:xfrm>
            <a:off x="47242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1"/>
          <p:cNvSpPr/>
          <p:nvPr/>
        </p:nvSpPr>
        <p:spPr>
          <a:xfrm>
            <a:off x="525780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r>
              <a:rPr b="1" lang="en-US" sz="28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d1f1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войства)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Кислота   +  основание          соль   + вод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Кислота   +  основной оксид           соль   +   вод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Кислота   +  металл               соль   +   водород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Кислота   +  соль               новая соль + новая кислот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Растворимые основания  (щелочи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ние  + кислота       соль   +  вод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ние    +   кислотный оксид        Соль  +   вод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ние   +  соль               новая соль  +  новое основани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Нерастворимые основан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створимые основания  + кислота          соль  +  вод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створимые основания         Оксид   +  вода  (нагревание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Line 4"/>
          <p:cNvSpPr/>
          <p:nvPr/>
        </p:nvSpPr>
        <p:spPr>
          <a:xfrm>
            <a:off x="38098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449568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6"/>
          <p:cNvSpPr/>
          <p:nvPr/>
        </p:nvSpPr>
        <p:spPr>
          <a:xfrm>
            <a:off x="33526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7"/>
          <p:cNvSpPr/>
          <p:nvPr/>
        </p:nvSpPr>
        <p:spPr>
          <a:xfrm>
            <a:off x="3124080" y="3276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8"/>
          <p:cNvSpPr/>
          <p:nvPr/>
        </p:nvSpPr>
        <p:spPr>
          <a:xfrm>
            <a:off x="35812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9"/>
          <p:cNvSpPr/>
          <p:nvPr/>
        </p:nvSpPr>
        <p:spPr>
          <a:xfrm>
            <a:off x="5105520" y="4343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342900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571500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2"/>
          <p:cNvSpPr/>
          <p:nvPr/>
        </p:nvSpPr>
        <p:spPr>
          <a:xfrm>
            <a:off x="4419720" y="5791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r>
              <a:rPr b="1" lang="en-US" sz="28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d1f1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войства)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Сол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ь   + кислота         новая соль   +   новая кислот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ь   + основание         новая соль   +  новое основани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ь   + соль       2новые сол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ь  + металл        соль  +   метал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Правил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алл должен быть активнее метала находящегося в сол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акциях обмена должен выпасть осадок или газ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алл вытеснит водород из кислоты, если в ряду активности будет стоять перед водородом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сид будет реагировать с водой, если образуется растворимое соединени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Line 4"/>
          <p:cNvSpPr/>
          <p:nvPr/>
        </p:nvSpPr>
        <p:spPr>
          <a:xfrm>
            <a:off x="29718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"/>
          <p:cNvSpPr/>
          <p:nvPr/>
        </p:nvSpPr>
        <p:spPr>
          <a:xfrm>
            <a:off x="3352680" y="251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6"/>
          <p:cNvSpPr/>
          <p:nvPr/>
        </p:nvSpPr>
        <p:spPr>
          <a:xfrm>
            <a:off x="2590920" y="2895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7"/>
          <p:cNvSpPr/>
          <p:nvPr/>
        </p:nvSpPr>
        <p:spPr>
          <a:xfrm>
            <a:off x="27432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Типы химических реакций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оединения 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– из двух или нескольких простых или сложных веществ образуется одно новое  сложное вещество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Разложение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-  из одного сложного вещества образуется два или несколько простых или сложных вещест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Замещение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в реакцию вступаю одно простое и одно сложное вещество, атомы простого вещества замещают один из атомов сложного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Обмена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в реакцию вступаю два сложных вещества и обмениваются своими составными частями.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Основные химические законы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Закон сохранения массы веществ (Ломоносов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Масса веществ вступивших в химическую реакцию, равна массе веществ, получившихся в результате е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Закон постоянства состава (Ж.Л.Пруст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Молекулярные соединения независимо от способа получения имеют постоянный соста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Периодический закон (Д.И. Менделеев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Химические свойства  элементов и образованных ими веществ находятся в периодической зависимости от зарядов их атомных ядер. (увеличения их атомных масс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Первоначальные химические понятия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Химия 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- это наука о веществах, их свойствах и превращениях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Вещество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 это то, из чего состоят  физические тел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Химический элемент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это определенный вид атомо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Атомы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химически неделимая частички из которых состоят веществ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Теории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Теория электролитической диссоциаци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Диссоциация это распад веществ при растворении и расплавлении на ионы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762120" y="4267080"/>
            <a:ext cx="3429000" cy="16765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ли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адаются на 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 с ионно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валентной поля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724280" y="4267080"/>
            <a:ext cx="3581640" cy="17528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электроли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распадаются на 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 с ковалент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полярной и слабополя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 flipH="1">
            <a:off x="2438280" y="3505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4419720" y="35053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Теории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Окислительно-восстановительные реакции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, это те реакции при которых меняется степень окисления химических элемент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Количество отданных и принятых электронов всегда одинаково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Подсчет отданных и принятых электронов  производится электронным балансо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Элементы, которые отдают электроны являются восстановители, сами при этом окисляютс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Элементы, которые принимают электроны являются окислителями, сами при этом восстанавливаются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Это надо знать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Моль 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– это такое количество вещества, в котором находится 6*10     молекул этого веществ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Число Авогадро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- 6*10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В одинаковых объемах различных газов находится одинаковое число молекул при одних и тех же условиях ( таких, как температура и давление). При нормальных условиях этот 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объем 1 моля газа равен 22.4 литра.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 (закон Авогадро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тепень окисления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 это условный заряд атомов химического элемента в соединении, вычисленный на основе предположения, что все соединения (ионные и ковалентные полярные) состоят из ионо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Oval 5"/>
          <p:cNvSpPr/>
          <p:nvPr/>
        </p:nvSpPr>
        <p:spPr>
          <a:xfrm>
            <a:off x="3124080" y="1905120"/>
            <a:ext cx="381240" cy="22860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7"/>
          <p:cNvSpPr/>
          <p:nvPr/>
        </p:nvSpPr>
        <p:spPr>
          <a:xfrm>
            <a:off x="4191120" y="2286000"/>
            <a:ext cx="304560" cy="22860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Строение атома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Атом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 -это мельчайшая, химически неделимая частица, это шар, в котором есть маленькое ядро состоящее и протонов и нейтронов и пространство в котором двигаются невесомые электрон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Протоны 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–частицы имеющие массу 1 атомную единицу, и положительный заряд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Нейтроны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 частицы имеющие массу 1 атомную единицу и  не имеющие заряд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Электроны 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– частицы не имеющие массы, но имеют отрицательный заряд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Масса атома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 это сумма масс протонов и нейтроно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Строение атома ( ядро)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Количество протонов  стабильно в атомах одного и того же вида, а количество нейтронов может манятс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Изотопы 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– атомы имеющие одинаковы заряд ядра но разную массу, из- за разного количества нейтрон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Масса , которая стоит в периодической системе возле элемента это средняя масса всех изотопов данного элемент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Строение атома ( расположение электронов)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Электроны располагаются относительно ядра на энергетических уровня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Ближе всего от ядра находится первый уровень на котором находится одно сферическое облако, на котором может находится не более двух электроно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1 уровень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 –до 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2 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электрон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2 уровень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 -до 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8 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электронов, одно сферическое облако и 3 пэ облака, имеющие форму объемной восьмер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3 уровень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 -до 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18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 электронов, одно сферическое облако и 3 пэ облака, имеющие форму объемной восьмерки и 5 де облаков, имеющие четырехлепистковую форму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Если 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энергетический уровень у атома последний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, то на нем может располагаться 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не более 8 электрон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Строение атома ( расположение электронов)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Энергетический уровень состоит из облаков</a:t>
            </a:r>
            <a:r>
              <a:rPr b="1" lang="en-US" sz="2000" spc="-1" strike="noStrike">
                <a:solidFill>
                  <a:srgbClr val="4e3b30"/>
                </a:solidFill>
                <a:latin typeface="Arial"/>
              </a:rPr>
              <a:t> s,p,d,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d1f1f"/>
                </a:solidFill>
                <a:latin typeface="Arial"/>
              </a:rPr>
              <a:t>s-1, p -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d1f1f"/>
                </a:solidFill>
                <a:latin typeface="Arial"/>
              </a:rPr>
              <a:t>3, d -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d1f1f"/>
                </a:solidFill>
                <a:latin typeface="Arial"/>
              </a:rPr>
              <a:t>5, f -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d1f1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Если на 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внешнем (последнем) находится 8 электронов он считается завершенны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Если 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на внешнем (последнем) находится от 1до7 электронов –незавершенным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омы стремятся  приобрести 8 –электронный завершенный уровень, поэтому могут отдавать или принимать электроны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давая приобретают положительный заряд, проявляют восстановительные свойств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имая электроны  приобретают отрицательный заряд, проявляют окислительные свойств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1" name="Picture 4" descr="таблица"/>
          <p:cNvPicPr/>
          <p:nvPr/>
        </p:nvPicPr>
        <p:blipFill>
          <a:blip r:embed="rId1"/>
          <a:stretch/>
        </p:blipFill>
        <p:spPr>
          <a:xfrm>
            <a:off x="990720" y="1143000"/>
            <a:ext cx="7772400" cy="5356080"/>
          </a:xfrm>
          <a:prstGeom prst="rect">
            <a:avLst/>
          </a:prstGeom>
          <a:ln w="0">
            <a:noFill/>
          </a:ln>
        </p:spPr>
      </p:pic>
      <p:sp>
        <p:nvSpPr>
          <p:cNvPr id="492" name="Line 5"/>
          <p:cNvSpPr/>
          <p:nvPr/>
        </p:nvSpPr>
        <p:spPr>
          <a:xfrm>
            <a:off x="1219320" y="838080"/>
            <a:ext cx="6553080" cy="0"/>
          </a:xfrm>
          <a:prstGeom prst="line">
            <a:avLst/>
          </a:prstGeom>
          <a:ln w="28440">
            <a:solidFill>
              <a:srgbClr val="ad1f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6"/>
          <p:cNvSpPr/>
          <p:nvPr/>
        </p:nvSpPr>
        <p:spPr>
          <a:xfrm>
            <a:off x="914400" y="1143000"/>
            <a:ext cx="0" cy="4191120"/>
          </a:xfrm>
          <a:prstGeom prst="line">
            <a:avLst/>
          </a:prstGeom>
          <a:ln w="28440">
            <a:solidFill>
              <a:srgbClr val="ad1f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7"/>
          <p:cNvSpPr/>
          <p:nvPr/>
        </p:nvSpPr>
        <p:spPr>
          <a:xfrm>
            <a:off x="2743200" y="2362320"/>
            <a:ext cx="2209680" cy="2133360"/>
          </a:xfrm>
          <a:prstGeom prst="line">
            <a:avLst/>
          </a:prstGeom>
          <a:ln w="28440">
            <a:solidFill>
              <a:srgbClr val="ad1f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8"/>
          <p:cNvSpPr/>
          <p:nvPr/>
        </p:nvSpPr>
        <p:spPr>
          <a:xfrm>
            <a:off x="1523880" y="4572000"/>
            <a:ext cx="533520" cy="380880"/>
          </a:xfrm>
          <a:prstGeom prst="ellipse">
            <a:avLst/>
          </a:prstGeom>
          <a:noFill/>
          <a:ln w="284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2"/>
          <p:cNvSpPr/>
          <p:nvPr/>
        </p:nvSpPr>
        <p:spPr>
          <a:xfrm flipV="1">
            <a:off x="4724280" y="2133720"/>
            <a:ext cx="533520" cy="380880"/>
          </a:xfrm>
          <a:prstGeom prst="ellipse">
            <a:avLst/>
          </a:prstGeom>
          <a:noFill/>
          <a:ln w="284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609480" y="2286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Металлические , основные свойства, радиус атомов уменьш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4"/>
          <p:cNvSpPr/>
          <p:nvPr/>
        </p:nvSpPr>
        <p:spPr>
          <a:xfrm>
            <a:off x="0" y="457200"/>
            <a:ext cx="729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металлические, основные свой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радиус атомов увели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Строение атома и периодическая система 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Период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изонтальная  строчка. Начинается щелочным металлом и заканчивается инертным газо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Группа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тикальная строчка. Находятся элементы со сходными свойствам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Порядковый номер элемента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это 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количество протонов и электронов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. В свободном состоянии атом нейтральная частиц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Номер периода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 - показывает 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колько энергетических уровней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находится в атом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Номер группы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 показывает 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количество электронов на внешнем уровне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атомов главных подгрупп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 группе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В пределах одной группы (главной подгруппы) с увеличением порядкового номера элемента неметаллические свойства 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ослабевают</a:t>
            </a: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, а металлические свойства –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усиливаются, </a:t>
            </a: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так как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1)заряды атомных ядер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увеличиваются</a:t>
            </a: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2)число электронов на внешнем уровне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не изменяется</a:t>
            </a: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 (оно равно номеру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группы</a:t>
            </a: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3)число энергетических уровней в атомах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увеличивается </a:t>
            </a: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(оно равно номеру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периода)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4)радиус атомов 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увеличиваетс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9"/>
          <p:cNvSpPr/>
          <p:nvPr/>
        </p:nvSpPr>
        <p:spPr>
          <a:xfrm>
            <a:off x="4572000" y="4952880"/>
            <a:ext cx="4267080" cy="12193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8"/>
          <p:cNvSpPr/>
          <p:nvPr/>
        </p:nvSpPr>
        <p:spPr>
          <a:xfrm>
            <a:off x="4876920" y="3200400"/>
            <a:ext cx="3657600" cy="1143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609480" y="4952880"/>
            <a:ext cx="3810240" cy="12193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37160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про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5318280" y="243828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ло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533520" y="3200400"/>
            <a:ext cx="3809880" cy="11912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ы ато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го хим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4876920" y="32004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ы атом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х хим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8"/>
          <p:cNvSpPr/>
          <p:nvPr/>
        </p:nvSpPr>
        <p:spPr>
          <a:xfrm flipH="1">
            <a:off x="1981080" y="2057400"/>
            <a:ext cx="1828800" cy="457200"/>
          </a:xfrm>
          <a:prstGeom prst="line">
            <a:avLst/>
          </a:prstGeom>
          <a:ln w="28440">
            <a:solidFill>
              <a:srgbClr val="ad1f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9"/>
          <p:cNvSpPr/>
          <p:nvPr/>
        </p:nvSpPr>
        <p:spPr>
          <a:xfrm>
            <a:off x="4724280" y="2057400"/>
            <a:ext cx="1143000" cy="457200"/>
          </a:xfrm>
          <a:prstGeom prst="line">
            <a:avLst/>
          </a:prstGeom>
          <a:ln w="28440">
            <a:solidFill>
              <a:srgbClr val="ad1f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>
            <a:off x="6248520" y="28195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685800" y="4952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ислор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о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572000" y="49528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аренная со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кисл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5146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685800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0"/>
          <p:cNvSpPr/>
          <p:nvPr/>
        </p:nvSpPr>
        <p:spPr>
          <a:xfrm>
            <a:off x="25146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1"/>
          <p:cNvSpPr/>
          <p:nvPr/>
        </p:nvSpPr>
        <p:spPr>
          <a:xfrm flipH="1">
            <a:off x="1828440" y="28954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 периоде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</a:rPr>
              <a:t>1) заряды атомных ядер  </a:t>
            </a:r>
            <a:r>
              <a:rPr b="1" lang="ru-RU" sz="3200" spc="-1" strike="noStrike">
                <a:solidFill>
                  <a:srgbClr val="ad1f1f"/>
                </a:solidFill>
                <a:latin typeface="Arial"/>
              </a:rPr>
              <a:t>увеличиваются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</a:rPr>
              <a:t>2)число электронов на внешнем уровне </a:t>
            </a:r>
            <a:r>
              <a:rPr b="1" lang="ru-RU" sz="3200" spc="-1" strike="noStrike">
                <a:solidFill>
                  <a:srgbClr val="ad1f1f"/>
                </a:solidFill>
                <a:latin typeface="Arial"/>
              </a:rPr>
              <a:t>увеличиваетс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</a:rPr>
              <a:t>3) число энергетических уровней в пределах периода </a:t>
            </a:r>
            <a:r>
              <a:rPr b="1" lang="ru-RU" sz="3200" spc="-1" strike="noStrike">
                <a:solidFill>
                  <a:srgbClr val="ad1f1f"/>
                </a:solidFill>
                <a:latin typeface="Arial"/>
              </a:rPr>
              <a:t>не увеличивается</a:t>
            </a:r>
            <a:r>
              <a:rPr b="1" lang="ru-RU" sz="3200" spc="-1" strike="noStrike">
                <a:solidFill>
                  <a:srgbClr val="4e3b30"/>
                </a:solidFill>
                <a:latin typeface="Arial"/>
              </a:rPr>
              <a:t> (оно равно номеру периода)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</a:rPr>
              <a:t>4)радиус атомов </a:t>
            </a:r>
            <a:r>
              <a:rPr b="1" lang="ru-RU" sz="3200" spc="-1" strike="noStrike">
                <a:solidFill>
                  <a:srgbClr val="ad1f1f"/>
                </a:solidFill>
                <a:latin typeface="Arial"/>
              </a:rPr>
              <a:t>уменьшаетс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Запомните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 пределах одной и той же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группы (главной подгруппы)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металлические свойства усиливаются, неметаллические – ослабевают, так как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а) увеличиваются заряды атомных ядер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б) число электронов на внешнем уровне постоянн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в)увеличивается число энергетических уровне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г) увеличивается радиус атом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Запомните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 пределах одного и того же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периода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металлические свойства ослабевают, а неметаллические свойства усиливаются, так как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а) увеличиваются заряды атомных ядер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б) увеличивается число электронов на внешнем уровне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в) число энергетических уровней постоянн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г)радиус атома уменьшаетс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Номенклатура кислот и солей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533520" y="1752480"/>
            <a:ext cx="3886200" cy="42674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   фтороводо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 хлороводо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 бромоводо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    иодоводо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 сероводо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серн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 се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  азо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  азот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  фосф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 уго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кремние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952880" y="1752480"/>
            <a:ext cx="3657600" cy="41911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F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то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C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хло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бром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иод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сульф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ульф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льф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ит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т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сф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бо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илик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838080" y="1066680"/>
            <a:ext cx="3353040" cy="5335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5334120" y="1066680"/>
            <a:ext cx="3047760" cy="4572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9360">
            <a:solidFill>
              <a:srgbClr val="ad1f1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Простые вещест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14400" y="3124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6172200" y="3124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немет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124080" y="4038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мфот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7"/>
          <p:cNvSpPr/>
          <p:nvPr/>
        </p:nvSpPr>
        <p:spPr>
          <a:xfrm flipH="1">
            <a:off x="1905120" y="2133720"/>
            <a:ext cx="1752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5181480" y="213372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9"/>
          <p:cNvSpPr/>
          <p:nvPr/>
        </p:nvSpPr>
        <p:spPr>
          <a:xfrm flipH="1">
            <a:off x="4267080" y="2209680"/>
            <a:ext cx="763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380880" y="4038480"/>
            <a:ext cx="2057400" cy="9144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,Na, Mg,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6248520" y="4038480"/>
            <a:ext cx="1981080" cy="9144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,P,Si, 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4"/>
          <p:cNvSpPr/>
          <p:nvPr/>
        </p:nvSpPr>
        <p:spPr>
          <a:xfrm>
            <a:off x="3124080" y="4952880"/>
            <a:ext cx="2057400" cy="9144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, Zn, Cr,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6"/>
          <p:cNvSpPr/>
          <p:nvPr/>
        </p:nvSpPr>
        <p:spPr>
          <a:xfrm>
            <a:off x="175248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7"/>
          <p:cNvSpPr/>
          <p:nvPr/>
        </p:nvSpPr>
        <p:spPr>
          <a:xfrm>
            <a:off x="42670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8"/>
          <p:cNvSpPr/>
          <p:nvPr/>
        </p:nvSpPr>
        <p:spPr>
          <a:xfrm>
            <a:off x="70102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Основные типы химических связей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Ионная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 –это связь между ионами (+,-) (электростатическое притяжение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Соли, растворимые основания, оксиды активных металл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Ковалентная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 – это связь за счет перекрывания электронных облаков и образования общих электронных па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Ковалентная неполярная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 это связь между одинаковыми неметаллами с одинаковой электроотрицательностью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Простые веществ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Ковалентная полярная связь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 – это связь между неметаллами с разной электроотрицательностью со смещением электронной пары к более электроотрицательному элементу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Кислоты, оксиды неметаллов и неактивных металлов, органические веществ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Основные типы химических связей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Металлическая связь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Связь в металлах и сплавах между атом-ионами посредством обобществленных электроно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У всех металлов и сплав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Водородная связь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Связь между водородом и сильно электроотрицательными элементами (электростатическое притяжение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Вода, органические кислоты, спирты, ДНК, белк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Электроотрицательность (ЭО)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 – это способность атомов химического элемента смещать к себе общие электронные пары, участвующие в образовании химической свз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Сложные вещест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380880" y="2590920"/>
            <a:ext cx="1828800" cy="7617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с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2590920" y="2590920"/>
            <a:ext cx="1600200" cy="7617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4572000" y="2590920"/>
            <a:ext cx="1752480" cy="7617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7010280" y="2590920"/>
            <a:ext cx="1371600" cy="7617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 flipH="1">
            <a:off x="1828440" y="2057400"/>
            <a:ext cx="2057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3885840" y="20574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5181480" y="20574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>
            <a:off x="6019920" y="20574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457200" y="3809880"/>
            <a:ext cx="1676520" cy="18288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8"/>
          <p:cNvSpPr/>
          <p:nvPr/>
        </p:nvSpPr>
        <p:spPr>
          <a:xfrm>
            <a:off x="2514600" y="3809880"/>
            <a:ext cx="1600200" cy="18288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0"/>
          <p:cNvSpPr/>
          <p:nvPr/>
        </p:nvSpPr>
        <p:spPr>
          <a:xfrm>
            <a:off x="4648320" y="3809880"/>
            <a:ext cx="1676160" cy="17528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2"/>
          <p:cNvSpPr/>
          <p:nvPr/>
        </p:nvSpPr>
        <p:spPr>
          <a:xfrm>
            <a:off x="7010280" y="3809880"/>
            <a:ext cx="1447920" cy="16765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4"/>
          <p:cNvSpPr/>
          <p:nvPr/>
        </p:nvSpPr>
        <p:spPr>
          <a:xfrm>
            <a:off x="12193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5"/>
          <p:cNvSpPr/>
          <p:nvPr/>
        </p:nvSpPr>
        <p:spPr>
          <a:xfrm>
            <a:off x="34290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6"/>
          <p:cNvSpPr/>
          <p:nvPr/>
        </p:nvSpPr>
        <p:spPr>
          <a:xfrm>
            <a:off x="54100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7"/>
          <p:cNvSpPr/>
          <p:nvPr/>
        </p:nvSpPr>
        <p:spPr>
          <a:xfrm>
            <a:off x="77724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3200400" y="6172200"/>
            <a:ext cx="2590920" cy="4572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дрокс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0"/>
          <p:cNvSpPr/>
          <p:nvPr/>
        </p:nvSpPr>
        <p:spPr>
          <a:xfrm>
            <a:off x="3276720" y="5715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1"/>
          <p:cNvSpPr/>
          <p:nvPr/>
        </p:nvSpPr>
        <p:spPr>
          <a:xfrm flipH="1">
            <a:off x="4952520" y="56386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Определения сложных веществ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Оксиды 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– сложные вещества состоящие из двух элементов один из которых кислород со степенью оксиления -2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Кислоты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 сложные вещества состящие из водорода и кислотного остат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Основания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 сложные вещества состоящие из металла и одной или нескольких гидроксогрупп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оли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 сложные вещества состоящие из металла и кислотного остат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 </a:t>
            </a:r>
            <a:r>
              <a:rPr b="1" lang="en-US" sz="2400" spc="-1" strike="noStrike">
                <a:solidFill>
                  <a:srgbClr val="ad1f1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классификация)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ad1f1f"/>
                </a:solidFill>
                <a:latin typeface="Arial"/>
              </a:rPr>
              <a:t>оксид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533520" y="2590920"/>
            <a:ext cx="3124080" cy="9144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 + кисл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4800600" y="2590920"/>
            <a:ext cx="3581280" cy="838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талл + кисл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1828800" y="3733920"/>
            <a:ext cx="5638680" cy="10666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мфот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мфотерный элемент + кисл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0"/>
          <p:cNvSpPr/>
          <p:nvPr/>
        </p:nvSpPr>
        <p:spPr>
          <a:xfrm flipH="1">
            <a:off x="3048120" y="20574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1"/>
          <p:cNvSpPr/>
          <p:nvPr/>
        </p:nvSpPr>
        <p:spPr>
          <a:xfrm>
            <a:off x="5105520" y="20574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"/>
          <p:cNvSpPr/>
          <p:nvPr/>
        </p:nvSpPr>
        <p:spPr>
          <a:xfrm>
            <a:off x="4495680" y="21337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609480" y="5181480"/>
            <a:ext cx="2057400" cy="1143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4"/>
          <p:cNvSpPr/>
          <p:nvPr/>
        </p:nvSpPr>
        <p:spPr>
          <a:xfrm>
            <a:off x="7086600" y="5181480"/>
            <a:ext cx="1828800" cy="12193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3733920" y="5257800"/>
            <a:ext cx="2133360" cy="9907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121932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792468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4-01-17T11:02:18Z</dcterms:modified>
  <cp:revision>29</cp:revision>
  <dc:subject/>
  <dc:title>Классификация и номенклатура органических соединений</dc:title>
</cp:coreProperties>
</file>